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7E48-846D-4CDD-B352-6419F6F47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DF7E-8C51-4FD8-A9D8-78E8067A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B41E-C45D-4CF3-A6DE-106CAA6CF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B7DD-0700-4619-AE13-8D9747A4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7963-1031-44E0-82BD-9E5AEB54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CC4F-C7F5-4300-9F2E-9322C855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E1B6-77BD-40C6-9C6A-ACC73B60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1769-DC96-47C0-9B97-C2B9161A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458D-58E0-4F2B-86D0-53855903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024E-1BEE-4592-859D-0752774C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A036-AAEE-424C-9048-5825B350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8F90-1ABB-42AF-9B67-400A4069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52C4-8341-4AD3-8388-04A07F2A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77C0-5BF3-4BA4-ADB1-B6F892D0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781D-018F-4F6F-8732-C65A6C8A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B1BF-4807-4299-B426-D1FEE301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C4C0-08BD-41ED-9B69-296600A0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3D85-D0EC-4CE5-98A4-E4188998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5D6A-6D21-4C9A-91CE-7F032A17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D28E-AAC4-4C91-B847-64830E52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376D-1E7F-48CA-8F5B-D39B5C66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2967-1AC4-46AC-9F11-CD49E01E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42F1-1B71-4DDF-A3D6-04A6F30A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1E7D-5689-48DC-80A1-2B9B8193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DB78-2BC6-4A8A-A7FC-19AF9C63C7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3649-1B1D-4F6D-AAC0-567E00A8A5A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Сложное дополнени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66"/>
                </a:solidFill>
                <a:latin typeface="Verdana"/>
              </a:rPr>
              <a:t>(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Complex Object</a:t>
            </a:r>
            <a:r>
              <a:rPr b="0" lang="ru-RU" sz="2900" spc="-1" strike="noStrike">
                <a:solidFill>
                  <a:srgbClr val="006666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Личные местоимения в объектном падеж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m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yo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hi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h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76360" y="184464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yo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the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 want </a:t>
            </a: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him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to help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m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’d like </a:t>
            </a: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John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to help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m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 expect </a:t>
            </a: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him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to com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 know </a:t>
            </a: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Pam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to b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a good pupi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y mother wants </a:t>
            </a: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m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to stud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well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нфинитив с частицей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“to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Инфинитив без частицы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“to”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и причастие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(-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ing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 saw </a:t>
            </a:r>
            <a:br>
              <a:rPr sz="2500"/>
            </a:b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him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Verdana"/>
              </a:rPr>
              <a:t>cheat</a:t>
            </a: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t the test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noticed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hi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frow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heard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her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s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 saw </a:t>
            </a:r>
            <a:br>
              <a:rPr sz="2500"/>
            </a:b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him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Verdana"/>
              </a:rPr>
              <a:t>cheating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t the test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 noticed </a:t>
            </a:r>
            <a:br>
              <a:rPr sz="2500"/>
            </a:b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him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Verdana"/>
              </a:rPr>
              <a:t>frowning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 heard </a:t>
            </a:r>
            <a:br>
              <a:rPr sz="2500"/>
            </a:br>
            <a:r>
              <a:rPr b="0" lang="en-US" sz="2500" spc="-1" strike="noStrike">
                <a:solidFill>
                  <a:srgbClr val="ff3300"/>
                </a:solidFill>
                <a:latin typeface="Verdana"/>
              </a:rPr>
              <a:t>her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Verdana"/>
              </a:rPr>
              <a:t>singing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Глаголы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ke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”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et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”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 сложном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дополнени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76360" y="1484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dog made </a:t>
            </a: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the kitten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climb up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the tre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y mum lets</a:t>
            </a:r>
            <a:br>
              <a:rPr sz="2900"/>
            </a:b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m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hav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my pocket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ne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96000" y="2205000"/>
            <a:ext cx="3114720" cy="4143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19047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o have something do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 must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hav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my hair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cu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 must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hav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my car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repaire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 want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to hav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ff3300"/>
                </a:solidFill>
                <a:latin typeface="Verdana"/>
              </a:rPr>
              <a:t>my photo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ff"/>
                </a:solidFill>
                <a:latin typeface="Verdana"/>
              </a:rPr>
              <a:t>taken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3744720" cy="3159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88000" y="3573360"/>
            <a:ext cx="3970080" cy="3065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4:43:11Z</dcterms:created>
  <dc:creator>Home</dc:creator>
  <dc:description/>
  <dc:language>en-US</dc:language>
  <cp:lastModifiedBy>Home</cp:lastModifiedBy>
  <dcterms:modified xsi:type="dcterms:W3CDTF">2009-12-08T03:37:53Z</dcterms:modified>
  <cp:revision>9</cp:revision>
  <dc:subject/>
  <dc:title>Сложное дополнение</dc:title>
</cp:coreProperties>
</file>