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F4D-8CE4-456B-AD28-CB6205F6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D1A-83D9-4730-883D-E792071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CC1-A223-4C27-8252-412462CE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1DE-9443-4526-8DFF-9EC55B5D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8A1-6A69-4347-92C2-3B9FA939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7FC-7E4E-4638-A84A-6A7EF92A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BD74-FDE6-4CC3-A834-DF688473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DFF4-8950-43B3-866A-4E165603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2E1D-5859-470C-8BC2-D2C12F95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5C4-30E3-412C-B78A-D58FCED2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6263-82C2-4E69-909C-AF10398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6FF-B021-4A65-B986-8FC241D5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F010-BCE7-423B-B513-F714B58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DFDA-1CEF-4BB9-A1E4-D08289D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48E3-5616-4A4D-BED9-365B1114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43A-CD39-4ABE-BB82-D27047D0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82CA-4791-4841-956C-5D537293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2B9-FE9E-4E51-B43B-E3FDB39E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6F9-E713-476A-8DC2-F7A19F9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F71-2D13-401C-B474-9F6B0E1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900-AF41-41BD-A1BC-1FD5E007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643-09B3-4C39-92B5-1F5D4CFF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E4E-95F5-469D-A90A-E3FFAF7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C6D-FDDC-4A16-BDE5-313DA4A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BA5-F6FE-490E-818F-949C8FFD5E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A49-0B24-4067-8586-764967EE00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ложное дополн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mplex Object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ичные местоимения в объектном падеж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6360" y="184464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ant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el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’d like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Joh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el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expect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co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know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a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b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 good pupi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y mother wants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stud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el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инитив с частицей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“to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нфинитив без частицы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to”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 причастие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-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g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saw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cheat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 the tes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notice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r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ear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er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saw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cheating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 the tes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noticed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frown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heard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sing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Глаголы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k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сложном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ополнен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dog made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the kitte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climb 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 tre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y mum lets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y pocket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1147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 have something do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mus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hai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cu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mus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ca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repair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an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phot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ake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744720" cy="315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97008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3:11Z</dcterms:created>
  <dc:creator>Home</dc:creator>
  <dc:description/>
  <dc:language>en-US</dc:language>
  <cp:lastModifiedBy>Home</cp:lastModifiedBy>
  <dcterms:modified xsi:type="dcterms:W3CDTF">2009-12-08T03:37:53Z</dcterms:modified>
  <cp:revision>9</cp:revision>
  <dc:subject/>
  <dc:title>Сложное дополнение</dc:title>
</cp:coreProperties>
</file>