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6B7-A8C8-4F67-AF96-8E063731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352-5B65-49FA-A45F-6BC978AD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E39-F13D-4857-896C-C9336A6D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720-8921-4F8B-812B-CC135B93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DD1E-49BF-4245-A720-4716E678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6152-69A6-483B-9654-C329E10F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88D6-BF82-46B1-B527-B01E29DF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4F67-CF27-4785-80A5-2DC7D2E7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BA4B-5064-4300-8988-D50B6B2E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8D75-0AF6-4ACC-A813-C1ED2E99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B846-8266-49CF-AE9D-5C474835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706-5FA4-4029-876F-EB3FE1B7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06DE-F99E-469D-AF80-A13C5109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4AF0-6608-48A5-85F3-73914D48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E636-AF14-4EE2-80A2-D126351C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A7CD-2743-47CD-8C39-9EE310F8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9967-0E2C-455E-905D-B9185573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63A-4AC3-4B7C-A614-EF5C30FA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907-9F36-4761-AC3F-5E6C506F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BA7-8E9C-4BBF-845D-DC3E5027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985-3558-4F0F-B8C2-93F98BCD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159-E7E8-4865-94A3-35CAC9D8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273-1725-4F62-ACDC-8DA6DBFC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D32-626F-4879-94ED-965B2A49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0DFD-5152-4FBC-A11B-7982BCF102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412C-3AC5-48D2-9B6D-BF7B2607A5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ложное дополне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Complex Object</a:t>
            </a: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Личные местоимения в объектном падеж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y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76360" y="184464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y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th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want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hel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’d like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Joh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hel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expect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co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know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Pa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b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 good pupi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y mother wants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stud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well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инитив с частицей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“to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нфинитив без частицы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“to”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 причастие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-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g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saw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cheat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t the tes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noticed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frow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heard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er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saw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cheating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t the tes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noticed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frowning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heard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e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singing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Глаголы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ke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”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t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”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 сложном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ополнен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dog made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the kitte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climb u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he tre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y mum lets</a:t>
            </a:r>
            <a:br>
              <a:rPr sz="2900"/>
            </a:b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y pocket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3114720" cy="414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 have something do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must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y hai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cu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must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y ca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repair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want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y phot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ake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3744720" cy="315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3970080" cy="3065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43:11Z</dcterms:created>
  <dc:creator>Home</dc:creator>
  <dc:description/>
  <dc:language>en-US</dc:language>
  <cp:lastModifiedBy>Home</cp:lastModifiedBy>
  <dcterms:modified xsi:type="dcterms:W3CDTF">2009-12-08T03:37:53Z</dcterms:modified>
  <cp:revision>9</cp:revision>
  <dc:subject/>
  <dc:title>Сложное дополнение</dc:title>
</cp:coreProperties>
</file>