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56CB-54F9-4A32-A497-B256420C71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53F4-37E6-41D3-8A0C-605E18B02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570-1269-475B-BA87-1B23E43A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FB0-6AEF-4610-A7F1-F43244B0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001-FCAE-4DD5-A362-176F0932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A2E-0C64-45C2-9065-A74D0D3B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1D69-BCE1-4F9F-BFBC-21AE6588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E236-2797-4E06-85AC-E82C7547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229C-9A5E-4446-8041-67103CD8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4FEF-3FE2-48C3-9F73-8DF77907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B9C0-0CE7-453A-BB8F-F0A02603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A2AF-7C5D-4932-B961-6029D62B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4DC0-EE5F-46C2-A711-9C718331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280-26DB-4E3E-9B1A-7760DCA5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4DCE-B236-4F9D-9115-DC3E3B5D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9281-EBEB-4C00-A0A0-55DF0F8F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B91F-F951-4502-8A87-83728247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BE17-994A-4488-84B5-E743A38E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2547-AD8F-4122-AA27-693F1AF1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DEF4-A194-4BAD-9171-B66F0810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8ECF8-C304-4AE6-A3A6-4F88B2BB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14372-F4B9-4944-927B-C3BAAFDF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B1DC-1029-469E-ADDE-AE229D43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19779-3A8F-4F7F-99EA-4421019B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945-23DA-420D-9E36-68C83318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F961D-19F4-482F-BF27-B8DC91C6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6880-684F-40D0-B1D6-137E29F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03CB-ECBA-4E1E-A494-88D94B7B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BD89-D0B7-4829-8415-C7E30A45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B84F-2E36-4414-B1B3-4D7E0BEA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E83E5-7125-4D8D-91A4-74493B5C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0700-3E8F-4714-AE4E-83516BF3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10082-38FB-4069-BFF6-D17FE2B2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ECE81-80EF-4A02-9790-23B00699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28DC-CB61-469C-93F9-E5F13256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3BC-E77E-427E-A086-003B1554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0BFC4-A721-442D-8D5C-9282199D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D6A1B-6214-4F36-BC22-0BCEEFC6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A137F-C7F7-4624-A690-489F147A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2AB3-7C46-4C3E-8FA1-FDF2EB6F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40560-597B-41EE-BA58-EC5E2EB6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D0349-A8FB-4A17-B500-BA0A4421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520AB-433C-4477-B2EB-4A29091B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91727-B485-4251-B5EE-034FB06A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05596-A3F3-4888-A2AA-EF7FA069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DB3-4584-4FC8-8180-A61770DD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C8B-A9E1-48A9-B3B4-6A093ED3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CD0-C2CB-4FDB-AED2-3F5C8913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25D-9546-4178-A487-9A99911F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A45-4F20-4BD9-97BD-FDAA633E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71C0-7BBE-4A96-A875-2E181722775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3C15-A757-4C76-9CBD-F184D3A9C32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A87E-74D3-4211-B8A2-4034AC88E6B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5A71-29B8-44C0-A6DF-BD19F3535BC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14360" y="566640"/>
            <a:ext cx="8242200" cy="1274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00040" y="2356920"/>
            <a:ext cx="8072640" cy="3799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в космосе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Биографический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очерк о Ю.Гагарине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Автор: Яковенко Елена Викторовн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Picture 2" descr="C:\Documents and Settings\рнр\Рабочий стол\гагарин презентация\300PX-~2.JPG"/>
          <p:cNvPicPr/>
          <p:nvPr/>
        </p:nvPicPr>
        <p:blipFill>
          <a:blip r:embed="rId1"/>
          <a:stretch/>
        </p:blipFill>
        <p:spPr>
          <a:xfrm>
            <a:off x="785880" y="857160"/>
            <a:ext cx="7429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С ГАГАРИН В ДОРОГУ ПОЗВА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росят внуки: - Как было в начале? –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Одержимость, мечта, космодром…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вёзды тайною в небо позвал!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ытала судьба на излом…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пахнулись вселенские дал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еловечеству стало светле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земляне с волненьем познали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лу мысли свободной свое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когда на орбите был создан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вездолет деду правнук сказал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Манят светом непознанным звезды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дальний космос Гагарин позвал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64328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Юрий Алексеевич Гагарин родился 9 марта 1934 года в деревне Клушино Гжатского района (ныне Гагаринский район Смоленской области), неподалёку от города Гжатск (ныне Гагарин). Там провел своё детство ( на фото родной дом Гагари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Documents and Settings\рнр\Рабочий стол\гагарин презентация\1_6.jpg"/>
          <p:cNvPicPr/>
          <p:nvPr/>
        </p:nvPicPr>
        <p:blipFill>
          <a:blip r:embed="rId1"/>
          <a:stretch/>
        </p:blipFill>
        <p:spPr>
          <a:xfrm>
            <a:off x="500040" y="642960"/>
            <a:ext cx="7572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85840" y="274320"/>
            <a:ext cx="3900600" cy="586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 сентября 1941 года мальчик пошёл в школу, но 12 октября деревню оккупировали фашисты, и его учёба прервалась. 9 апреля 1943 года деревню освободила Красная армия, и учёба в школе возобновилась. 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 1949 года Гагарин ,окончив шестой класс Гжатской средней школы, поступает в Люберецкое ремесленное училище № 10 и  вечернюю школу рабочей молодежи, которые оканчивает с отличием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14" descr="16536_49e034cc514f2"/>
          <p:cNvPicPr/>
          <p:nvPr/>
        </p:nvPicPr>
        <p:blipFill>
          <a:blip r:embed="rId1"/>
          <a:stretch/>
        </p:blipFill>
        <p:spPr>
          <a:xfrm>
            <a:off x="4524480" y="4060800"/>
            <a:ext cx="95040" cy="138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16536_49e034cc514f2"/>
          <p:cNvPicPr/>
          <p:nvPr/>
        </p:nvPicPr>
        <p:blipFill>
          <a:blip r:embed="rId2"/>
          <a:stretch/>
        </p:blipFill>
        <p:spPr>
          <a:xfrm>
            <a:off x="539640" y="785880"/>
            <a:ext cx="38894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3008160" cy="5626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августе 1951 года Гагарин поступает в Саратовский индустриальный техникум, и  с октября 1954 года   посещает занятия для начинающих летчиков в Саратовском аэроклуб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1955 году Юрий Гагарин закончил с отличием учёбу и совершил первый полёт на самолёте Як-18. Всего в аэроклубе Юрий Гагарин выполнил 196 полётов и налетал 42 часа 23 ми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15" descr="163640088"/>
          <p:cNvPicPr/>
          <p:nvPr/>
        </p:nvPicPr>
        <p:blipFill>
          <a:blip r:embed="rId1"/>
          <a:stretch/>
        </p:blipFill>
        <p:spPr>
          <a:xfrm>
            <a:off x="3929040" y="1571760"/>
            <a:ext cx="4643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929120" y="785880"/>
            <a:ext cx="331632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 октября 1955 года Гагарин был призван в армию  и направлен для учебы в Оренбург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оенно-авиационное училище лётчиков имени К. Е. Ворошилов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57 года Гагарин  закончил училище с отличием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ечение двух лет служит в  авиационном полку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16" descr="img"/>
          <p:cNvPicPr/>
          <p:nvPr/>
        </p:nvPicPr>
        <p:blipFill>
          <a:blip r:embed="rId1"/>
          <a:stretch/>
        </p:blipFill>
        <p:spPr>
          <a:xfrm>
            <a:off x="539640" y="476280"/>
            <a:ext cx="418320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9 декабря 1959 года Гагарин написал заявление с просьбой зачислить его в группу кандидатов в космонавты. Специальная медкомиссия признала старшего лейтенанта Гагарина годным для космических полётов. 3 марта 1960 года  он зачислен в группу кандидатов в космонавты. Сразу же начались регулярные занятия по программе подготовки космонавтов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16" descr="B3A17A29-ADDC-44EA-9CB8-8714D0D9144E_mw800_mh600_s"/>
          <p:cNvPicPr/>
          <p:nvPr/>
        </p:nvPicPr>
        <p:blipFill>
          <a:blip r:embed="rId1"/>
          <a:stretch/>
        </p:blipFill>
        <p:spPr>
          <a:xfrm>
            <a:off x="2332080" y="2928960"/>
            <a:ext cx="44226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499680"/>
            <a:ext cx="368136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786200" y="285840"/>
            <a:ext cx="360216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апреля 1961 года в 9 часов 7 минут по московскому времени с космодрома Байконур стартовал космический корабль "Восток" с пилотом-космонавтом Юрием Алексеевичем Гагариным на борту. Спустя всего 108 минут космонавт приземлился неподалеку от деревни Смеловки в Саратовской области. Всего 108 минут продолжался первый полет (сравните с длительностью современных полетов, продолжающихся месяцами), но этим минутам суждено было стать звездными в биографии Гагарин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Picture 2" descr="C:\Documents and Settings\рнр\Рабочий стол\гагарин презентация\i.jpg"/>
          <p:cNvPicPr/>
          <p:nvPr/>
        </p:nvPicPr>
        <p:blipFill>
          <a:blip r:embed="rId1"/>
          <a:stretch/>
        </p:blipFill>
        <p:spPr>
          <a:xfrm>
            <a:off x="857160" y="1285920"/>
            <a:ext cx="32148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397188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 этот подвиг  Юрию  Гагарину было присвоено звание Героя Советского Союза. С 12 апреля 1962 года день полёта Гагарина в космос был объявлен праздником —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нём Космонавтики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18" descr="001"/>
          <p:cNvPicPr/>
          <p:nvPr/>
        </p:nvPicPr>
        <p:blipFill>
          <a:blip r:embed="rId1"/>
          <a:stretch/>
        </p:blipFill>
        <p:spPr>
          <a:xfrm>
            <a:off x="4786200" y="785880"/>
            <a:ext cx="39290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9:40:44Z</dcterms:created>
  <dc:creator>яковенко Е.В</dc:creator>
  <dc:description/>
  <dc:language>en-US</dc:language>
  <cp:lastModifiedBy>User</cp:lastModifiedBy>
  <dcterms:modified xsi:type="dcterms:W3CDTF">2011-06-21T06:52:53Z</dcterms:modified>
  <cp:revision>17</cp:revision>
  <dc:subject>первый в космосе</dc:subject>
  <dc:title>Слайд 1</dc:title>
</cp:coreProperties>
</file>