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8FC-C35F-4F39-8B4E-9F800E4973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47B-E7F3-4E13-AF99-57B36EE05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45E-C773-4328-9EC8-FF4634D8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4DF-3980-4A2D-9DBC-C4DED5E9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A3A-F810-481E-96A4-39B142E9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0A1-021F-4DC2-8484-36FE9EB8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1E0C-9717-46F8-B6A2-C86D7592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130F-374B-4056-9B72-4F5E9E9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B00F-DCA4-4ECE-9B56-57D9CA2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1C59-2388-4A3C-9E7B-CCC019E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18EC-4025-41FA-9AFF-29328637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314F-3953-4AB4-95F8-EFB158F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EB33-84CD-49BC-A3ED-63B51BF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C41-0AAD-48B0-8D74-AB8BC74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E776-A791-4F4C-AC48-B86A895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CBC6-04E4-42DB-B3D2-22BD782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B85D-2A8B-4D4B-B8CE-BC2613B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11FF-C7DB-4740-941E-23263001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8911-DC54-4BEF-9D54-6A194CCC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DD00-5C95-480A-A393-F404E3E0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47D2-8646-470F-8A7F-1FAF8A2C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F965-76CE-4EED-A0F0-A281823A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A605-29C5-4E34-A1E5-4CB1E5DB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70C4-253C-4576-932C-726AECCA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F72-A6E4-41DA-930B-C02CBE9F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9C04-4321-4948-8482-0DAAA196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B052-4F1B-45F9-BB25-4F988FF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A640-C40B-4E80-8CF1-347EA2A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8DF3-AB77-4CCA-A1A3-8973F2F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725A-311E-4615-84C4-09985D1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101C-6E91-4670-8A62-F5D1D995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DF32-0D80-433C-9CC6-4502C4D5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612E8-E0E9-44E6-9508-EA03AB10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BEB2-81E5-4A9F-80B2-F66E6385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43BD-823A-4640-B585-76AF42A3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651-E678-4DBD-BF27-E2115CB3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035E-BEB9-43B0-9CA9-F9BFD77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843F-27D4-43D1-B609-1EBE8AA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D460-C5DF-4974-84FA-91720C4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C974-094B-4750-9027-E64531D6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1843-8F74-49D5-B8D4-EC1CC5A3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9738-CDF0-4393-AFA6-4956D1E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8D22-49C1-4EAC-BEC0-EE73B85E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8D31F-018E-4EC4-B8DF-685496FA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3C208-A41F-4C16-A0AD-D6A43E10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945-32C3-4015-94BE-88BA03B5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7B0-37AB-4302-AEB4-0E84818A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935-C347-4D9A-8155-63D61E60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20A-0625-4ED3-BAC2-CFBC12B1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B25-C954-410B-B084-629ACBD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1D21-5356-4821-B756-D3F8FD4FD3C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FF79-103A-4106-A0D0-B3DB29DE1A3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D68B-E609-4E7C-9EDC-A1980167C38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620-E33F-4894-9DB2-D3EBCCF15F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14360" y="566640"/>
            <a:ext cx="8242200" cy="1274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0040" y="2356920"/>
            <a:ext cx="8072640" cy="3799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в космос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Биографический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очерк о Ю.Гагарин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Автор: Яковенко Елена Викторовн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2" descr="C:\Documents and Settings\рнр\Рабочий стол\гагарин презентация\300PX-~2.JPG"/>
          <p:cNvPicPr/>
          <p:nvPr/>
        </p:nvPicPr>
        <p:blipFill>
          <a:blip r:embed="rId1"/>
          <a:stretch/>
        </p:blipFill>
        <p:spPr>
          <a:xfrm>
            <a:off x="785880" y="857160"/>
            <a:ext cx="7429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С ГАГАРИН В ДОРОГУ ПОЗВА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росят внуки: - Как было в начале? –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держимость, мечта, космодром…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вёзды тайною в небо позвал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ытала судьба на излом…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ахнулись вселенские дал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еловечеству стало светле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земляне с волненьем познал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у мысли свободной свое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когда на орбите был создан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вездолет деду правнук сказал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Манят светом непознанным звезд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альний космос Гагарин позвал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64328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Юрий Алексеевич Гагарин родился 9 марта 1934 года в деревне Клушино Гжатского района (ныне Гагаринский район Смоленской области), неподалёку от города Гжатск (ныне Гагарин). Там провел своё детство ( на фото родной дом Гагари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рнр\Рабочий стол\гагарин презентация\1_6.jpg"/>
          <p:cNvPicPr/>
          <p:nvPr/>
        </p:nvPicPr>
        <p:blipFill>
          <a:blip r:embed="rId1"/>
          <a:stretch/>
        </p:blipFill>
        <p:spPr>
          <a:xfrm>
            <a:off x="500040" y="642960"/>
            <a:ext cx="7572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85840" y="274320"/>
            <a:ext cx="390060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 сентября 1941 года мальчик пошёл в школу, но 12 октября деревню оккупировали фашисты, и его учёба прервалась. 9 апреля 1943 года деревню освободила Красная армия, и учёба в школе возобновилась.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 1949 года Гагарин ,окончив шестой класс Гжатской средней школы, поступает в Люберецкое ремесленное училище № 10 и  вечернюю школу рабочей молодежи, которые оканчивает с отличие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14" descr="16536_49e034cc514f2"/>
          <p:cNvPicPr/>
          <p:nvPr/>
        </p:nvPicPr>
        <p:blipFill>
          <a:blip r:embed="rId1"/>
          <a:stretch/>
        </p:blipFill>
        <p:spPr>
          <a:xfrm>
            <a:off x="4524480" y="4060800"/>
            <a:ext cx="95040" cy="138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16536_49e034cc514f2"/>
          <p:cNvPicPr/>
          <p:nvPr/>
        </p:nvPicPr>
        <p:blipFill>
          <a:blip r:embed="rId2"/>
          <a:stretch/>
        </p:blipFill>
        <p:spPr>
          <a:xfrm>
            <a:off x="539640" y="785880"/>
            <a:ext cx="38894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3008160" cy="5626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августе 1951 года Гагарин поступает в Саратовский индустриальный техникум, и  с октября 1954 года   посещает занятия для начинающих летчиков в Саратовском аэроклуб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1955 году Юрий Гагарин закончил с отличием учёбу и совершил первый полёт на самолёте Як-18. Всего в аэроклубе Юрий Гагарин выполнил 196 полётов и налетал 42 часа 23 ми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15" descr="163640088"/>
          <p:cNvPicPr/>
          <p:nvPr/>
        </p:nvPicPr>
        <p:blipFill>
          <a:blip r:embed="rId1"/>
          <a:stretch/>
        </p:blipFill>
        <p:spPr>
          <a:xfrm>
            <a:off x="3929040" y="1571760"/>
            <a:ext cx="4643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29120" y="785880"/>
            <a:ext cx="331632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 октября 1955 года Гагарин был призван в армию  и направлен для учебы в Оренбург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енно-авиационное училище лётчиков имени К. Е. Ворошилов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57 года Гагарин  закончил училище с отличие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ечение двух лет служит в  авиационном полку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16" descr="img"/>
          <p:cNvPicPr/>
          <p:nvPr/>
        </p:nvPicPr>
        <p:blipFill>
          <a:blip r:embed="rId1"/>
          <a:stretch/>
        </p:blipFill>
        <p:spPr>
          <a:xfrm>
            <a:off x="539640" y="476280"/>
            <a:ext cx="418320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9 декабря 1959 года Гагарин написал заявление с просьбой зачислить его в группу кандидатов в космонавты. Специальная медкомиссия признала старшего лейтенанта Гагарина годным для космических полётов. 3 марта 1960 года  он зачислен в группу кандидатов в космонавты. Сразу же начались регулярные занятия по программе подготовки космонавтов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16" descr="B3A17A29-ADDC-44EA-9CB8-8714D0D9144E_mw800_mh600_s"/>
          <p:cNvPicPr/>
          <p:nvPr/>
        </p:nvPicPr>
        <p:blipFill>
          <a:blip r:embed="rId1"/>
          <a:stretch/>
        </p:blipFill>
        <p:spPr>
          <a:xfrm>
            <a:off x="2332080" y="2928960"/>
            <a:ext cx="4422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499680"/>
            <a:ext cx="368136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786200" y="285840"/>
            <a:ext cx="3602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ода в 9 часов 7 минут по московскому времени с космодрома Байконур стартовал космический корабль "Восток" с пилотом-космонавтом Юрием Алексеевичем Гагариным на борту. Спустя всего 108 минут космонавт приземлился неподалеку от деревни Смеловки в Саратовской области. Всего 108 минут продолжался первый полет (сравните с длительностью современных полетов, продолжающихся месяцами), но этим минутам суждено было стать звездными в биографии Гагарин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2" descr="C:\Documents and Settings\рнр\Рабочий стол\гагарин презентация\i.jpg"/>
          <p:cNvPicPr/>
          <p:nvPr/>
        </p:nvPicPr>
        <p:blipFill>
          <a:blip r:embed="rId1"/>
          <a:stretch/>
        </p:blipFill>
        <p:spPr>
          <a:xfrm>
            <a:off x="857160" y="1285920"/>
            <a:ext cx="3214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97188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этот подвиг  Юрию  Гагарину было присвоено звание Героя Советского Союза. С 12 апреля 1962 года день полёта Гагарина в космос был объявлен праздником —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нём Космонавтики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18" descr="001"/>
          <p:cNvPicPr/>
          <p:nvPr/>
        </p:nvPicPr>
        <p:blipFill>
          <a:blip r:embed="rId1"/>
          <a:stretch/>
        </p:blipFill>
        <p:spPr>
          <a:xfrm>
            <a:off x="4786200" y="785880"/>
            <a:ext cx="39290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9:40:44Z</dcterms:created>
  <dc:creator>яковенко Е.В</dc:creator>
  <dc:description/>
  <dc:language>en-US</dc:language>
  <cp:lastModifiedBy>User</cp:lastModifiedBy>
  <dcterms:modified xsi:type="dcterms:W3CDTF">2011-06-21T06:52:53Z</dcterms:modified>
  <cp:revision>17</cp:revision>
  <dc:subject>первый в космосе</dc:subject>
  <dc:title>Слайд 1</dc:title>
</cp:coreProperties>
</file>