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EEB-80E4-4B26-9E33-B9290E06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833-A18A-4A6D-8FEA-41C3DD41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006-629C-4297-ADCB-71611940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1E5-B684-47F5-A2CF-814A612A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5D6-3940-41E2-BE12-0FF4619E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902-320A-4822-87CB-9A62195B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027-764F-40AD-A406-3634FC57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D90-624F-47E8-8722-4264A5E3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ED9-D095-479D-9C1D-6D79203F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62E-CF20-4B0B-8451-E289B9F6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BA6-FC5B-45B8-BEFD-815DD2C7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BA6-4C93-4125-9EFB-3658630C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1202-F60B-4055-894B-A0A07F7161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6/89/979/89979871_large_1276231415365423624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6/89/979/89979870_large_8951576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6/89/979/89979871_large_1276231415365423624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"/>
          <p:cNvSpPr txBox="1"/>
          <p:nvPr/>
        </p:nvSpPr>
        <p:spPr>
          <a:xfrm>
            <a:off x="857160" y="785880"/>
            <a:ext cx="524844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епим  транспорт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2" descr="12762314153654236243 (490x700, 159Kb)">
            <a:hlinkClick r:id="rId1"/>
          </p:cNvPr>
          <p:cNvPicPr/>
          <p:nvPr/>
        </p:nvPicPr>
        <p:blipFill>
          <a:blip r:embed="rId2"/>
          <a:srcRect l="12079" t="64199" r="7405" b="11528"/>
          <a:stretch/>
        </p:blipFill>
        <p:spPr>
          <a:xfrm>
            <a:off x="357120" y="3500280"/>
            <a:ext cx="61390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8951576 (502x700, 208K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2200" y="285840"/>
            <a:ext cx="5840280" cy="81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2762314153654236243 (490x700, 159K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320" y="0"/>
            <a:ext cx="6387840" cy="912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2762315061379313399 (478x700, 147Kb)"/>
          <p:cNvPicPr/>
          <p:nvPr/>
        </p:nvPicPr>
        <p:blipFill>
          <a:blip r:embed="rId1"/>
          <a:stretch/>
        </p:blipFill>
        <p:spPr>
          <a:xfrm>
            <a:off x="584280" y="0"/>
            <a:ext cx="6000840" cy="87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2762315631987123636 (491x700, 143Kb)"/>
          <p:cNvPicPr/>
          <p:nvPr/>
        </p:nvPicPr>
        <p:blipFill>
          <a:blip r:embed="rId1"/>
          <a:stretch/>
        </p:blipFill>
        <p:spPr>
          <a:xfrm>
            <a:off x="289080" y="214200"/>
            <a:ext cx="626400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1"/>
          <p:cNvSpPr txBox="1"/>
          <p:nvPr/>
        </p:nvSpPr>
        <p:spPr>
          <a:xfrm>
            <a:off x="1000080" y="6500880"/>
            <a:ext cx="524844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14:25:45Z</dcterms:created>
  <dc:creator>Helen</dc:creator>
  <dc:description/>
  <dc:language>en-US</dc:language>
  <cp:lastModifiedBy>Helen</cp:lastModifiedBy>
  <dcterms:modified xsi:type="dcterms:W3CDTF">2012-09-12T14:58:20Z</dcterms:modified>
  <cp:revision>4</cp:revision>
  <dc:subject/>
  <dc:title>Слайд 1</dc:title>
</cp:coreProperties>
</file>