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F9C-4ABE-4A28-8497-F263894C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B35-9C93-42CC-BA42-B47D8C7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AA8-C60E-47DC-90D1-04422B1D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0F8-6491-4CF7-B556-74B254A6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091-7CFC-48E0-86B6-D7F44BF3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23D-8297-429A-A0C2-A8209E6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C5B-68C3-4B73-9783-89A1C30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0E8-85DA-41AA-B628-5278FBBD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E87-AD88-4147-A84D-3CE91216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4EE-362F-4DBC-9F99-A0236AF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5F9-DA88-4D5A-BF10-B18CD55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EEB-6D10-4073-B036-FA37687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1D1-05E1-418E-B9C3-E0490AE4D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6/89/979/89979870_large_89515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857160" y="785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пим  транспорт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2" descr="12762314153654236243 (490x700, 159Kb)">
            <a:hlinkClick r:id="rId1"/>
          </p:cNvPr>
          <p:cNvPicPr/>
          <p:nvPr/>
        </p:nvPicPr>
        <p:blipFill>
          <a:blip r:embed="rId2"/>
          <a:srcRect l="12079" t="64199" r="7405" b="11528"/>
          <a:stretch/>
        </p:blipFill>
        <p:spPr>
          <a:xfrm>
            <a:off x="357120" y="3500280"/>
            <a:ext cx="6139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8951576 (502x700, 208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200" y="285840"/>
            <a:ext cx="5840280" cy="81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2762314153654236243 (490x700, 159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0"/>
            <a:ext cx="6387840" cy="91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762315061379313399 (478x700, 147Kb)"/>
          <p:cNvPicPr/>
          <p:nvPr/>
        </p:nvPicPr>
        <p:blipFill>
          <a:blip r:embed="rId1"/>
          <a:stretch/>
        </p:blipFill>
        <p:spPr>
          <a:xfrm>
            <a:off x="584280" y="0"/>
            <a:ext cx="6000840" cy="87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2762315631987123636 (491x700, 143Kb)"/>
          <p:cNvPicPr/>
          <p:nvPr/>
        </p:nvPicPr>
        <p:blipFill>
          <a:blip r:embed="rId1"/>
          <a:stretch/>
        </p:blipFill>
        <p:spPr>
          <a:xfrm>
            <a:off x="289080" y="214200"/>
            <a:ext cx="62640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"/>
          <p:cNvSpPr txBox="1"/>
          <p:nvPr/>
        </p:nvSpPr>
        <p:spPr>
          <a:xfrm>
            <a:off x="1000080" y="6500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4:25:45Z</dcterms:created>
  <dc:creator>Helen</dc:creator>
  <dc:description/>
  <dc:language>en-US</dc:language>
  <cp:lastModifiedBy>Helen</cp:lastModifiedBy>
  <dcterms:modified xsi:type="dcterms:W3CDTF">2012-09-12T14:58:20Z</dcterms:modified>
  <cp:revision>4</cp:revision>
  <dc:subject/>
  <dc:title>Слайд 1</dc:title>
</cp:coreProperties>
</file>