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E2C-3588-4187-9DC0-CDDE3211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7E3-4C18-4279-99FD-6F1CBF29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8E6-9F37-4ABC-931A-6630D149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60D-1722-4B33-9C46-24A1E167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BC2-4102-4C35-848E-D842521B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0BB-7531-4EAE-8BF8-B866D436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B45-705E-4EBB-9D5B-5BE25D89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B37-1279-40B9-9ADD-88D998F3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621-9478-4DBE-9E15-92156D92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703-4B06-4626-8EBE-D59B469E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2C7-9D5A-4219-BA0E-3F144002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1767-1B52-47DF-B786-2AB8E121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4174-59F3-444F-855A-C5DBEBC2C4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6/89/979/89979871_large_1276231415365423624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6/89/979/89979870_large_8951576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6/89/979/89979871_large_1276231415365423624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"/>
          <p:cNvSpPr txBox="1"/>
          <p:nvPr/>
        </p:nvSpPr>
        <p:spPr>
          <a:xfrm>
            <a:off x="857160" y="785880"/>
            <a:ext cx="524844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епим  транспорт 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2" descr="12762314153654236243 (490x700, 159Kb)">
            <a:hlinkClick r:id="rId1"/>
          </p:cNvPr>
          <p:cNvPicPr/>
          <p:nvPr/>
        </p:nvPicPr>
        <p:blipFill>
          <a:blip r:embed="rId2"/>
          <a:srcRect l="12079" t="64199" r="7405" b="11528"/>
          <a:stretch/>
        </p:blipFill>
        <p:spPr>
          <a:xfrm>
            <a:off x="357120" y="3500280"/>
            <a:ext cx="61390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8951576 (502x700, 208Kb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2200" y="285840"/>
            <a:ext cx="5840280" cy="81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12762314153654236243 (490x700, 159Kb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320" y="0"/>
            <a:ext cx="6387840" cy="912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2762315061379313399 (478x700, 147Kb)"/>
          <p:cNvPicPr/>
          <p:nvPr/>
        </p:nvPicPr>
        <p:blipFill>
          <a:blip r:embed="rId1"/>
          <a:stretch/>
        </p:blipFill>
        <p:spPr>
          <a:xfrm>
            <a:off x="584280" y="0"/>
            <a:ext cx="6000840" cy="87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2762315631987123636 (491x700, 143Kb)"/>
          <p:cNvPicPr/>
          <p:nvPr/>
        </p:nvPicPr>
        <p:blipFill>
          <a:blip r:embed="rId1"/>
          <a:stretch/>
        </p:blipFill>
        <p:spPr>
          <a:xfrm>
            <a:off x="289080" y="214200"/>
            <a:ext cx="6264000" cy="89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1"/>
          <p:cNvSpPr txBox="1"/>
          <p:nvPr/>
        </p:nvSpPr>
        <p:spPr>
          <a:xfrm>
            <a:off x="1000080" y="6500880"/>
            <a:ext cx="524844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ец 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14:25:45Z</dcterms:created>
  <dc:creator>Helen</dc:creator>
  <dc:description/>
  <dc:language>en-US</dc:language>
  <cp:lastModifiedBy>Helen</cp:lastModifiedBy>
  <dcterms:modified xsi:type="dcterms:W3CDTF">2012-09-12T14:58:20Z</dcterms:modified>
  <cp:revision>4</cp:revision>
  <dc:subject/>
  <dc:title>Слайд 1</dc:title>
</cp:coreProperties>
</file>