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B747-C5E1-4B9E-88B4-7D4C8140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046F-AE34-4EB3-B874-6113366B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887C-6280-4427-BDC7-5F324285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39EE-20E1-4ACE-B4D6-127675B1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4601-AFAB-455B-9D7B-EEC255F9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2950-AB97-4F0E-A157-75186D7A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F3C1-950F-453C-9E29-321D98C1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263D-C1B1-40B9-8BB2-EA2BEFA3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D3D6-9F9A-4651-A8C8-C56C3FB3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B029-82C2-438F-B7B1-0A93CBA4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9E13-6730-4A28-B13F-DEAF8EFA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491A-4DD9-4A90-8510-B0DBB1FD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DCF9-0F99-484B-A102-F9424FD9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AC3F-E387-4999-94A4-0808A21E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77B5-6828-4BAB-8997-1506D259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5CBD-5D32-4ED5-9FFA-0379F26A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7672-DC73-4280-873A-6AC434DC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1F13-2730-45C0-AB76-087E8AB3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D92-F1A7-4ECD-ABBE-53AD9598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8FEB-9664-4274-8149-CF9BE52E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C41B-F304-43C3-8CA8-B9449C73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A9D-3C45-4ADB-B6D8-A4551789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F998-E893-417B-99F0-CE3FA497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8AB6-B86D-4186-906A-49F1B4EF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e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9271-A3E7-478C-9D75-33106AC721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e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BD3E-2D32-4C0B-81B4-5DE86EB16C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8"/>
          <p:cNvPicPr/>
          <p:nvPr/>
        </p:nvPicPr>
        <p:blipFill>
          <a:blip r:embed="rId1"/>
          <a:stretch/>
        </p:blipFill>
        <p:spPr>
          <a:xfrm>
            <a:off x="7236000" y="3645000"/>
            <a:ext cx="1584000" cy="3095640"/>
          </a:xfrm>
          <a:prstGeom prst="rect">
            <a:avLst/>
          </a:prstGeom>
          <a:ln w="0">
            <a:noFill/>
          </a:ln>
        </p:spPr>
      </p:pic>
      <p:sp>
        <p:nvSpPr>
          <p:cNvPr id="152" name="WordArt 9"/>
          <p:cNvSpPr txBox="1"/>
          <p:nvPr/>
        </p:nvSpPr>
        <p:spPr>
          <a:xfrm>
            <a:off x="1332000" y="2276640"/>
            <a:ext cx="6264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"Я люблю то, что делаю,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и делаю то, 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что люблю."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1640880" y="333360"/>
            <a:ext cx="643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 опыта работы учителя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У «Волжская СОШ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ляниной Е.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1387080" y="4076280"/>
            <a:ext cx="60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Comic Sans MS"/>
              </a:rPr>
              <a:t>«Развитие творческих способностей учащихся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omic Sans MS"/>
              </a:rPr>
              <a:t>на уроках и во внеурочной деятельности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9752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omic Sans MS"/>
              </a:rPr>
              <a:t>Чего мы достиг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7" descr="P1000021"/>
          <p:cNvPicPr/>
          <p:nvPr/>
        </p:nvPicPr>
        <p:blipFill>
          <a:blip r:embed="rId1"/>
          <a:stretch/>
        </p:blipFill>
        <p:spPr>
          <a:xfrm>
            <a:off x="1476360" y="692280"/>
            <a:ext cx="3780000" cy="5876640"/>
          </a:xfrm>
          <a:prstGeom prst="rect">
            <a:avLst/>
          </a:prstGeom>
          <a:ln w="22320">
            <a:solidFill>
              <a:srgbClr val="800080"/>
            </a:solidFill>
            <a:miter/>
          </a:ln>
        </p:spPr>
      </p:pic>
      <p:sp>
        <p:nvSpPr>
          <p:cNvPr id="192" name="Rectangle 9"/>
          <p:cNvSpPr/>
          <p:nvPr/>
        </p:nvSpPr>
        <p:spPr>
          <a:xfrm>
            <a:off x="5594040" y="4221000"/>
            <a:ext cx="3522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Хорошо с газетою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               </a:t>
            </a: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весело нам жить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Здесь про всех и каждог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               </a:t>
            </a: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можно отразить,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Рассказать про праздники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               </a:t>
            </a: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будние дела,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Море настро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               </a:t>
            </a: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нам она дал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2" descr="P1030077"/>
          <p:cNvPicPr/>
          <p:nvPr/>
        </p:nvPicPr>
        <p:blipFill>
          <a:blip r:embed="rId1"/>
          <a:stretch/>
        </p:blipFill>
        <p:spPr>
          <a:xfrm>
            <a:off x="4643280" y="3357720"/>
            <a:ext cx="4032360" cy="3311280"/>
          </a:xfrm>
          <a:prstGeom prst="rect">
            <a:avLst/>
          </a:prstGeom>
          <a:ln w="0">
            <a:noFill/>
          </a:ln>
        </p:spPr>
      </p:pic>
      <p:sp>
        <p:nvSpPr>
          <p:cNvPr id="194" name="WordArt 7"/>
          <p:cNvSpPr txBox="1"/>
          <p:nvPr/>
        </p:nvSpPr>
        <p:spPr>
          <a:xfrm>
            <a:off x="324000" y="333360"/>
            <a:ext cx="5618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Georgia"/>
              </a:rPr>
              <a:t>"Рукописная книга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Georgia"/>
              <a:ea typeface="Georgia"/>
            </a:endParaRPr>
          </a:p>
        </p:txBody>
      </p:sp>
      <p:sp>
        <p:nvSpPr>
          <p:cNvPr id="195" name="WordArt 8"/>
          <p:cNvSpPr txBox="1"/>
          <p:nvPr/>
        </p:nvSpPr>
        <p:spPr>
          <a:xfrm>
            <a:off x="900000" y="1341360"/>
            <a:ext cx="7345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Georgia"/>
              </a:rPr>
              <a:t>Конкурс журналистских рабо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Georgia"/>
              <a:ea typeface="Georgia"/>
            </a:endParaRPr>
          </a:p>
        </p:txBody>
      </p:sp>
      <p:sp>
        <p:nvSpPr>
          <p:cNvPr id="196" name="WordArt 9"/>
          <p:cNvSpPr txBox="1"/>
          <p:nvPr/>
        </p:nvSpPr>
        <p:spPr>
          <a:xfrm>
            <a:off x="1258920" y="2349360"/>
            <a:ext cx="6732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Georgia"/>
              </a:rPr>
              <a:t>"И помнит мир спасенный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Georgia"/>
              <a:ea typeface="Georgia"/>
            </a:endParaRPr>
          </a:p>
        </p:txBody>
      </p:sp>
      <p:sp>
        <p:nvSpPr>
          <p:cNvPr id="197" name="WordArt 10"/>
          <p:cNvSpPr txBox="1"/>
          <p:nvPr/>
        </p:nvSpPr>
        <p:spPr>
          <a:xfrm>
            <a:off x="1979640" y="3213000"/>
            <a:ext cx="6769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Georgia"/>
              </a:rPr>
              <a:t>"Загляните в мамины глаза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3" descr="P1030232"/>
          <p:cNvPicPr/>
          <p:nvPr/>
        </p:nvPicPr>
        <p:blipFill>
          <a:blip r:embed="rId1"/>
          <a:stretch/>
        </p:blipFill>
        <p:spPr>
          <a:xfrm rot="5067600">
            <a:off x="549000" y="682200"/>
            <a:ext cx="3119400" cy="2274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P1030233"/>
          <p:cNvPicPr/>
          <p:nvPr/>
        </p:nvPicPr>
        <p:blipFill>
          <a:blip r:embed="rId2"/>
          <a:stretch/>
        </p:blipFill>
        <p:spPr>
          <a:xfrm rot="5917200">
            <a:off x="5406120" y="865800"/>
            <a:ext cx="3098880" cy="2176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P1030234"/>
          <p:cNvPicPr/>
          <p:nvPr/>
        </p:nvPicPr>
        <p:blipFill>
          <a:blip r:embed="rId3"/>
          <a:stretch/>
        </p:blipFill>
        <p:spPr>
          <a:xfrm>
            <a:off x="3492360" y="333360"/>
            <a:ext cx="2170080" cy="3240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P1030236"/>
          <p:cNvPicPr/>
          <p:nvPr/>
        </p:nvPicPr>
        <p:blipFill>
          <a:blip r:embed="rId4"/>
          <a:stretch/>
        </p:blipFill>
        <p:spPr>
          <a:xfrm rot="5137200">
            <a:off x="6125040" y="3491640"/>
            <a:ext cx="3330720" cy="2309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" descr="P1030237"/>
          <p:cNvPicPr/>
          <p:nvPr/>
        </p:nvPicPr>
        <p:blipFill>
          <a:blip r:embed="rId5"/>
          <a:stretch/>
        </p:blipFill>
        <p:spPr>
          <a:xfrm rot="4539600">
            <a:off x="282240" y="364932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8" descr="P1030235"/>
          <p:cNvPicPr/>
          <p:nvPr/>
        </p:nvPicPr>
        <p:blipFill>
          <a:blip r:embed="rId6"/>
          <a:stretch/>
        </p:blipFill>
        <p:spPr>
          <a:xfrm rot="4580400">
            <a:off x="1827360" y="3831120"/>
            <a:ext cx="3238560" cy="2211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9" descr="P1000025"/>
          <p:cNvPicPr/>
          <p:nvPr/>
        </p:nvPicPr>
        <p:blipFill>
          <a:blip r:embed="rId7"/>
          <a:stretch/>
        </p:blipFill>
        <p:spPr>
          <a:xfrm rot="4959600">
            <a:off x="3817080" y="3489840"/>
            <a:ext cx="36720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518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Comic Sans MS"/>
              </a:rPr>
              <a:t>Трудности в работ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-216360" y="1125360"/>
            <a:ext cx="95688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изкая заинтересованность предмет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лабая мотивация детей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ассивное участие  детей в жиз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 Слабый интерес к чтению, информацию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лучают из интерне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. Недостаточные знания о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сихологическом развитии дет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410920" y="404280"/>
            <a:ext cx="40323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Comic Sans MS"/>
              </a:rPr>
              <a:t>Творчество</a:t>
            </a:r>
            <a:r>
              <a:rPr b="0" lang="ru-RU" sz="40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Oval 8"/>
          <p:cNvSpPr/>
          <p:nvPr/>
        </p:nvSpPr>
        <p:spPr>
          <a:xfrm>
            <a:off x="611280" y="1989000"/>
            <a:ext cx="2089080" cy="1152720"/>
          </a:xfrm>
          <a:prstGeom prst="ellipse">
            <a:avLst/>
          </a:prstGeom>
          <a:solidFill>
            <a:srgbClr val="00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Oval 9"/>
          <p:cNvSpPr/>
          <p:nvPr/>
        </p:nvSpPr>
        <p:spPr>
          <a:xfrm>
            <a:off x="6156360" y="2060640"/>
            <a:ext cx="2089080" cy="1152360"/>
          </a:xfrm>
          <a:prstGeom prst="ellipse">
            <a:avLst/>
          </a:prstGeom>
          <a:solidFill>
            <a:srgbClr val="0000ff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пособност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419640" y="4508640"/>
            <a:ext cx="2089080" cy="1152360"/>
          </a:xfrm>
          <a:prstGeom prst="ellipse">
            <a:avLst/>
          </a:prstGeom>
          <a:solidFill>
            <a:srgbClr val="ffef66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нтерес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16"/>
          <p:cNvSpPr/>
          <p:nvPr/>
        </p:nvSpPr>
        <p:spPr>
          <a:xfrm rot="10800000">
            <a:off x="2987280" y="1699920"/>
            <a:ext cx="3024360" cy="2303280"/>
          </a:xfrm>
          <a:custGeom>
            <a:avLst/>
            <a:gdLst>
              <a:gd name="textAreaLeft" fmla="*/ 302400 w 3024360"/>
              <a:gd name="textAreaRight" fmla="*/ 2721960 w 3024360"/>
              <a:gd name="textAreaTop" fmla="*/ 1316160 h 2303280"/>
              <a:gd name="textAreaBottom" fmla="*/ 1974240 h 2303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close/>
              </a:path>
            </a:pathLst>
          </a:custGeom>
          <a:solidFill>
            <a:srgbClr val="ff99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3681000" y="213372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ичнос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5"/>
          <p:cNvSpPr/>
          <p:nvPr/>
        </p:nvSpPr>
        <p:spPr>
          <a:xfrm>
            <a:off x="1334880" y="907920"/>
            <a:ext cx="561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Творческая деятельность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развивае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611280" y="2708280"/>
            <a:ext cx="1873080" cy="792000"/>
          </a:xfrm>
          <a:prstGeom prst="rect">
            <a:avLst/>
          </a:prstGeom>
          <a:solidFill>
            <a:srgbClr val="ff99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амят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5724360" y="2781360"/>
            <a:ext cx="1873440" cy="792000"/>
          </a:xfrm>
          <a:prstGeom prst="rect">
            <a:avLst/>
          </a:prstGeom>
          <a:solidFill>
            <a:srgbClr val="ff99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осприят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18"/>
          <p:cNvSpPr/>
          <p:nvPr/>
        </p:nvSpPr>
        <p:spPr>
          <a:xfrm>
            <a:off x="5076720" y="4653000"/>
            <a:ext cx="1873440" cy="792000"/>
          </a:xfrm>
          <a:prstGeom prst="rect">
            <a:avLst/>
          </a:prstGeom>
          <a:solidFill>
            <a:srgbClr val="ff99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оображен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19"/>
          <p:cNvSpPr/>
          <p:nvPr/>
        </p:nvSpPr>
        <p:spPr>
          <a:xfrm>
            <a:off x="1835280" y="4581360"/>
            <a:ext cx="1873080" cy="792360"/>
          </a:xfrm>
          <a:prstGeom prst="rect">
            <a:avLst/>
          </a:prstGeom>
          <a:solidFill>
            <a:srgbClr val="ff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ышлен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20"/>
          <p:cNvSpPr/>
          <p:nvPr/>
        </p:nvSpPr>
        <p:spPr>
          <a:xfrm flipH="1">
            <a:off x="2700000" y="2349360"/>
            <a:ext cx="1079640" cy="648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21"/>
          <p:cNvSpPr/>
          <p:nvPr/>
        </p:nvSpPr>
        <p:spPr>
          <a:xfrm flipH="1">
            <a:off x="2987280" y="2637000"/>
            <a:ext cx="1079640" cy="1368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22"/>
          <p:cNvSpPr/>
          <p:nvPr/>
        </p:nvSpPr>
        <p:spPr>
          <a:xfrm>
            <a:off x="4356000" y="2637000"/>
            <a:ext cx="936720" cy="1439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23"/>
          <p:cNvSpPr/>
          <p:nvPr/>
        </p:nvSpPr>
        <p:spPr>
          <a:xfrm>
            <a:off x="4643280" y="2349360"/>
            <a:ext cx="936720" cy="719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056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...не все дети могут сами открыть дорогу к созиданию и, уж конечно, не все могут сохранить надолго творческие способности»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14" descr="DSC00195"/>
          <p:cNvPicPr/>
          <p:nvPr/>
        </p:nvPicPr>
        <p:blipFill>
          <a:blip r:embed="rId1"/>
          <a:stretch/>
        </p:blipFill>
        <p:spPr>
          <a:xfrm>
            <a:off x="1835280" y="3247920"/>
            <a:ext cx="4537080" cy="340380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172" name="Rectangle 16"/>
          <p:cNvSpPr/>
          <p:nvPr/>
        </p:nvSpPr>
        <p:spPr>
          <a:xfrm>
            <a:off x="4859280" y="2780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сихолог О. Дьяченк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5" descr="P1010126"/>
          <p:cNvPicPr/>
          <p:nvPr/>
        </p:nvPicPr>
        <p:blipFill>
          <a:blip r:embed="rId1"/>
          <a:stretch/>
        </p:blipFill>
        <p:spPr>
          <a:xfrm>
            <a:off x="3419640" y="2852640"/>
            <a:ext cx="4897440" cy="3672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152280"/>
            <a:ext cx="7920000" cy="298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Comic Sans MS"/>
              </a:rPr>
              <a:t>Цель: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развивать у учеников творческие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и интеллектуальные способности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416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                   </a:t>
            </a:r>
            <a:r>
              <a:rPr b="1" lang="ru-RU" sz="4400" spc="-1" strike="noStrike">
                <a:solidFill>
                  <a:srgbClr val="006600"/>
                </a:solidFill>
                <a:latin typeface="Comic Sans MS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) опираясь на содержание обучения, активно воздействовать на умственное развитие ребят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) осуществлять средствами предмета воспитания в разных направлениях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3) тщательно продумывать структуру урока, добиваясь того, чтобы школьникам было интересно учиться, чтобы все активно участвовали в процессе познания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4) создавать в классе обстановку взаимного доверия и уважения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10" descr="декабрь 020"/>
          <p:cNvPicPr/>
          <p:nvPr/>
        </p:nvPicPr>
        <p:blipFill>
          <a:blip r:embed="rId1"/>
          <a:stretch/>
        </p:blipFill>
        <p:spPr>
          <a:xfrm>
            <a:off x="4140360" y="3860640"/>
            <a:ext cx="3801960" cy="2853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Comic Sans MS"/>
              </a:rPr>
              <a:t>Нестандартные урок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26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3097080" cy="2362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7" descr=""/>
          <p:cNvPicPr/>
          <p:nvPr/>
        </p:nvPicPr>
        <p:blipFill>
          <a:blip r:embed="rId2"/>
          <a:stretch/>
        </p:blipFill>
        <p:spPr>
          <a:xfrm>
            <a:off x="5148360" y="981000"/>
            <a:ext cx="3316320" cy="24433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8"/>
          <p:cNvSpPr/>
          <p:nvPr/>
        </p:nvSpPr>
        <p:spPr>
          <a:xfrm>
            <a:off x="900000" y="3357720"/>
            <a:ext cx="74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итературная гостиная                Читательская конференц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льклорный праздник в 5-7 кл.        «Тема ВОвойны в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изведениях русско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итературы» 8 к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29" descr="P1030047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2050920" y="4149720"/>
            <a:ext cx="2881440" cy="252252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182" name="Text Box 30"/>
          <p:cNvSpPr/>
          <p:nvPr/>
        </p:nvSpPr>
        <p:spPr>
          <a:xfrm>
            <a:off x="5069160" y="5589720"/>
            <a:ext cx="29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асни И.А.Крылов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рок литературы в 6 кл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Comic Sans MS"/>
              </a:rPr>
              <a:t>Нестандартные задан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14" descr="Слайд8"/>
          <p:cNvPicPr/>
          <p:nvPr/>
        </p:nvPicPr>
        <p:blipFill>
          <a:blip r:embed="rId1"/>
          <a:stretch/>
        </p:blipFill>
        <p:spPr>
          <a:xfrm>
            <a:off x="250920" y="1700280"/>
            <a:ext cx="3168720" cy="237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85" name="Picture 15" descr="Слайд10"/>
          <p:cNvPicPr/>
          <p:nvPr/>
        </p:nvPicPr>
        <p:blipFill>
          <a:blip r:embed="rId2"/>
          <a:stretch/>
        </p:blipFill>
        <p:spPr>
          <a:xfrm>
            <a:off x="5076720" y="1844640"/>
            <a:ext cx="3097440" cy="2322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86" name="Picture 16" descr="Безымянный9"/>
          <p:cNvPicPr/>
          <p:nvPr/>
        </p:nvPicPr>
        <p:blipFill>
          <a:blip r:embed="rId3"/>
          <a:stretch/>
        </p:blipFill>
        <p:spPr>
          <a:xfrm>
            <a:off x="3132000" y="3213000"/>
            <a:ext cx="2360880" cy="3357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Comic Sans MS"/>
              </a:rPr>
              <a:t>Сочинение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– 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сшая форма проявления творческих способностей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064360" cy="26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бёнок должен жить в мире творчества. “Без этого, - писал В.А. Сухомлинский, - он засушенный цветок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16" descr="DSC00088"/>
          <p:cNvPicPr/>
          <p:nvPr/>
        </p:nvPicPr>
        <p:blipFill>
          <a:blip r:embed="rId1"/>
          <a:stretch/>
        </p:blipFill>
        <p:spPr>
          <a:xfrm>
            <a:off x="5003640" y="3860640"/>
            <a:ext cx="324036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6:33:08Z</dcterms:created>
  <dc:creator>Елена</dc:creator>
  <dc:description/>
  <dc:language>en-US</dc:language>
  <cp:lastModifiedBy>User</cp:lastModifiedBy>
  <dcterms:modified xsi:type="dcterms:W3CDTF">2014-02-22T08:15:42Z</dcterms:modified>
  <cp:revision>19</cp:revision>
  <dc:subject/>
  <dc:title>Слайд 1</dc:title>
</cp:coreProperties>
</file>