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636-1B6F-48D8-97F2-4057D0C2C7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BB50-6759-428B-BCA1-5D000B8415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D11F-8DC0-4C69-B81A-8810328E44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479-3082-4543-BA49-3CEB91C567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E639-89E1-43F7-9FFC-4B63B63F91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F3BB-E927-42AB-893C-400D8BBA1F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67F-6D03-4124-844B-EEC1C07DE5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9B44-145B-4985-AA7A-27EAC3F2C5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EC0-8A7D-4509-A3E2-DE969A2FBB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353D-D813-402C-BE42-EE1D1DCD81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C851-829F-4CA8-9A70-BFA09CFA2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502-C240-445F-B803-4087D43742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B9AC-A933-4E90-8EC5-71F1B1020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251-8202-4ED6-ACD1-776BFCED59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B884-9843-4D2A-887F-DE458F489D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1B69-CDD9-4125-A433-C1051C144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5339-3805-4B9B-8F0A-808DFF2122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34B9-9608-49C4-8494-0CE7CC8C02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0DAC-2D16-46B0-83E3-1004C65B6D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056-C189-493F-BD0D-CB5B211B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8E8-87B5-49D5-838D-2A685767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3B4-38CE-40FD-81C5-9B5EA86C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9AC-288F-4B0D-8CF7-A0F511C7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62F8-A2D5-40D9-8B7A-0C803C8C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585E-B705-40C0-8685-99F66DD0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6486-BD57-437B-AEB2-03E870B3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3B6E-650C-48A0-920C-65C57CAA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D8B0-8341-4568-B341-A30884B0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C395-304C-41F6-9292-1FE929D1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9F1A-529F-45B2-A089-ECDE8402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9E8-0B96-4802-B66A-421A6E5F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C8CB-409B-4F41-B41B-1AE5235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CB48-E502-497D-98FD-C5F80D5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4A44-5558-42C9-90D3-0677F351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2FC4-3B49-418A-9C98-24520DE0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5460-CC41-4007-A61D-B47CD604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6E9-22E8-40BA-91FA-ADC9F94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24E-FD89-4E7F-8626-8338CE5F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838-76DA-458B-AE43-924013B5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82C-BA35-446B-9A40-023E9A2C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2A0-0C2C-49B2-B4C4-B83A00FD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0F5-9412-4C81-9712-9566D37F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6CC-875F-4F79-A074-FB1A14C9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F7B1-0E73-4F0E-BF76-0C21B0A8A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AC2E-4B62-4E51-B818-38598043F0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52038558-d770-4df9-b49d-83cfcf895941/%5BRUS7_149%5D_%5BIA_048%5D.swf" TargetMode="External"/><Relationship Id="rId2" Type="http://schemas.openxmlformats.org/officeDocument/2006/relationships/image" Target="../media/image38.png"/><Relationship Id="rId3" Type="http://schemas.openxmlformats.org/officeDocument/2006/relationships/hyperlink" Target="http://files.school-collection.edu.ru/dlrstore/46fc5e08-60cb-4d02-8242-139f20221ebb/%5BRUS7_150%5D_%5BIA_060%5D.swf" TargetMode="External"/><Relationship Id="rId4" Type="http://schemas.openxmlformats.org/officeDocument/2006/relationships/image" Target="../media/image39.png"/><Relationship Id="rId5" Type="http://schemas.openxmlformats.org/officeDocument/2006/relationships/hyperlink" Target="http://files.school-collection.edu.ru/dlrstore/52038558-d770-4df9-b49d-83cfcf895941/%5BRUS7_149%5D_%5BIA_048%5D.swf" TargetMode="External"/><Relationship Id="rId6" Type="http://schemas.openxmlformats.org/officeDocument/2006/relationships/image" Target="../media/image40.png"/><Relationship Id="rId7" Type="http://schemas.openxmlformats.org/officeDocument/2006/relationships/hyperlink" Target="http://files.school-collection.edu.ru/dlrstore/46fc5e08-60cb-4d02-8242-139f20221ebb/%5BRUS7_150%5D_%5BIA_060%5D.swf" TargetMode="External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officeimg.vo.msecnd.net/en-us/images/MR900332680.j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files.school-collection.edu.ru/dlrstore/52038558-d770-4df9-b49d-83cfcf895941/%5BRUS7_149%5D_%5BIA_048%5D.swf" TargetMode="External"/><Relationship Id="rId3" Type="http://schemas.openxmlformats.org/officeDocument/2006/relationships/image" Target="../media/image26.png"/><Relationship Id="rId4" Type="http://schemas.openxmlformats.org/officeDocument/2006/relationships/hyperlink" Target="http://files.school-collection.edu.ru/dlrstore/46fc5e08-60cb-4d02-8242-139f20221ebb/%5BRUS7_150%5D_%5BIA_060%5D.swf" TargetMode="External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rcRect l="18986" t="0" r="0" b="53222"/>
          <a:stretch/>
        </p:blipFill>
        <p:spPr>
          <a:xfrm>
            <a:off x="1116000" y="765000"/>
            <a:ext cx="6450120" cy="7192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2" descr=""/>
          <p:cNvPicPr/>
          <p:nvPr/>
        </p:nvPicPr>
        <p:blipFill>
          <a:blip r:embed="rId2"/>
          <a:stretch/>
        </p:blipFill>
        <p:spPr>
          <a:xfrm>
            <a:off x="841320" y="3352680"/>
            <a:ext cx="5961240" cy="28720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" descr=""/>
          <p:cNvPicPr/>
          <p:nvPr/>
        </p:nvPicPr>
        <p:blipFill>
          <a:blip r:embed="rId3"/>
          <a:srcRect l="0" t="37521" r="8654" b="15702"/>
          <a:stretch/>
        </p:blipFill>
        <p:spPr>
          <a:xfrm>
            <a:off x="971640" y="1341360"/>
            <a:ext cx="7272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2" descr=""/>
          <p:cNvPicPr/>
          <p:nvPr/>
        </p:nvPicPr>
        <p:blipFill>
          <a:blip r:embed="rId1"/>
          <a:stretch/>
        </p:blipFill>
        <p:spPr>
          <a:xfrm>
            <a:off x="706320" y="158760"/>
            <a:ext cx="7804440" cy="14320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3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516720" cy="1768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06480" y="2212920"/>
            <a:ext cx="650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Когда садилось солнце, партия геологов уже подходила к ре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4"/>
          <p:cNvSpPr/>
          <p:nvPr/>
        </p:nvSpPr>
        <p:spPr>
          <a:xfrm>
            <a:off x="4716360" y="2708280"/>
            <a:ext cx="1357560" cy="78588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Прямоугольник 5" descr=""/>
          <p:cNvPicPr/>
          <p:nvPr/>
        </p:nvPicPr>
        <p:blipFill>
          <a:blip r:embed="rId3"/>
          <a:stretch/>
        </p:blipFill>
        <p:spPr>
          <a:xfrm>
            <a:off x="826920" y="4430880"/>
            <a:ext cx="7229520" cy="1768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836640" y="22068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Знания, которые не пополняются ежедневно, убывают с каждым дн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6"/>
          <p:cNvSpPr/>
          <p:nvPr/>
        </p:nvSpPr>
        <p:spPr>
          <a:xfrm>
            <a:off x="2698920" y="2060640"/>
            <a:ext cx="2160360" cy="85860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Прямоугольник 7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7230960" cy="1762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3"/>
          <p:cNvSpPr/>
          <p:nvPr/>
        </p:nvSpPr>
        <p:spPr>
          <a:xfrm>
            <a:off x="979560" y="22050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Бульвары украшают город, маленькие зеленые дворики также придают ему преле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8"/>
          <p:cNvSpPr/>
          <p:nvPr/>
        </p:nvSpPr>
        <p:spPr>
          <a:xfrm>
            <a:off x="1042920" y="3359160"/>
            <a:ext cx="1357560" cy="57132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9" descr=""/>
          <p:cNvPicPr/>
          <p:nvPr/>
        </p:nvPicPr>
        <p:blipFill>
          <a:blip r:embed="rId5"/>
          <a:stretch/>
        </p:blipFill>
        <p:spPr>
          <a:xfrm>
            <a:off x="900000" y="4149720"/>
            <a:ext cx="7223400" cy="17683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7"/>
          <p:cNvSpPr/>
          <p:nvPr/>
        </p:nvSpPr>
        <p:spPr>
          <a:xfrm>
            <a:off x="905040" y="228132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Соседний остров, где находится школа, отделяется от их острова неглубоким пролив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10"/>
          <p:cNvSpPr/>
          <p:nvPr/>
        </p:nvSpPr>
        <p:spPr>
          <a:xfrm>
            <a:off x="5076720" y="2276640"/>
            <a:ext cx="863640" cy="71568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Прямоугольник 11" descr=""/>
          <p:cNvPicPr/>
          <p:nvPr/>
        </p:nvPicPr>
        <p:blipFill>
          <a:blip r:embed="rId6"/>
          <a:stretch/>
        </p:blipFill>
        <p:spPr>
          <a:xfrm>
            <a:off x="971640" y="4581360"/>
            <a:ext cx="7229520" cy="17622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981000" y="235260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Если человек нашёл своё призвание, труд становится для него рад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2"/>
          <p:cNvSpPr/>
          <p:nvPr/>
        </p:nvSpPr>
        <p:spPr>
          <a:xfrm>
            <a:off x="971640" y="2349360"/>
            <a:ext cx="1296720" cy="64944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ямоугольник 13" descr=""/>
          <p:cNvPicPr/>
          <p:nvPr/>
        </p:nvPicPr>
        <p:blipFill>
          <a:blip r:embed="rId7"/>
          <a:stretch/>
        </p:blipFill>
        <p:spPr>
          <a:xfrm>
            <a:off x="755640" y="4581360"/>
            <a:ext cx="7223040" cy="1212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5"/>
          <p:cNvSpPr/>
          <p:nvPr/>
        </p:nvSpPr>
        <p:spPr>
          <a:xfrm>
            <a:off x="760320" y="22766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"/>
              </a:rPr>
              <a:t>Гора с горой не сходятся, а человек с человеком сойду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14"/>
          <p:cNvSpPr/>
          <p:nvPr/>
        </p:nvSpPr>
        <p:spPr>
          <a:xfrm>
            <a:off x="6659640" y="2340000"/>
            <a:ext cx="503280" cy="576360"/>
          </a:xfrm>
          <a:prstGeom prst="ellipse">
            <a:avLst/>
          </a:prstGeom>
          <a:noFill/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28760" y="1114560"/>
          <a:ext cx="8286480" cy="4698720"/>
        </p:xfrm>
        <a:graphic>
          <a:graphicData uri="http://schemas.openxmlformats.org/drawingml/2006/table">
            <a:tbl>
              <a:tblPr/>
              <a:tblGrid>
                <a:gridCol w="2714400"/>
                <a:gridCol w="3000600"/>
                <a:gridCol w="2571480"/>
              </a:tblGrid>
              <a:tr h="105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под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юзными сло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20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львары украшают город, маленькие зеленые дворик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ж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идают ему прелест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адилось солнце, партия геологов уже подходила к ре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ор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 пополняются ежедневно, убывают с каждым дне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а с горой не сходятс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с человеком сойду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нашёл своё призвание, труд становится для него радость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едний остров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ходится школа, отделяется от их острова неглубоким проливо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6360" y="981000"/>
          <a:ext cx="9144000" cy="5410440"/>
        </p:xfrm>
        <a:graphic>
          <a:graphicData uri="http://schemas.openxmlformats.org/drawingml/2006/table">
            <a:tbl>
              <a:tblPr/>
              <a:tblGrid>
                <a:gridCol w="3240360"/>
                <a:gridCol w="2759040"/>
                <a:gridCol w="3144600"/>
              </a:tblGrid>
              <a:tr h="85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ложносочинённы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ложноподчинённы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подчинительными союз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996633"/>
                          </a:solidFill>
                          <a:latin typeface="Calibri"/>
                        </a:rPr>
                        <a:t>С союзными сло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ульвары украшают город, маленькие зеленые дворик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ж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идают ему прелест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адилось солнце, партия геологов уже подходила к ре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ни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ор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 пополняются ежедневно, убывают с каждым дне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а с горой не сходятся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с человеком сойду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человек нашёл своё призвание, труд становится для него радостью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едний остров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аходится школа, отделяется от их острова неглубоким проливо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32523"/>
                      </a:solidFill>
                    </a:lnL>
                    <a:lnR w="13680">
                      <a:solidFill>
                        <a:srgbClr val="632523"/>
                      </a:solidFill>
                    </a:lnR>
                    <a:lnT w="13680">
                      <a:solidFill>
                        <a:srgbClr val="632523"/>
                      </a:solidFill>
                    </a:lnT>
                    <a:lnB w="13680">
                      <a:solidFill>
                        <a:srgbClr val="632523"/>
                      </a:solidFill>
                    </a:lnB>
                    <a:solidFill>
                      <a:srgbClr val="f0e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11"/>
          <p:cNvSpPr/>
          <p:nvPr/>
        </p:nvSpPr>
        <p:spPr>
          <a:xfrm>
            <a:off x="642960" y="500040"/>
            <a:ext cx="7929720" cy="5786640"/>
          </a:xfrm>
          <a:prstGeom prst="roundRect">
            <a:avLst>
              <a:gd name="adj" fmla="val 9023"/>
            </a:avLst>
          </a:prstGeom>
          <a:solidFill>
            <a:srgbClr val="f0e0d0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714240" y="114300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Calibri"/>
              </a:rPr>
              <a:t>Слож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Прямоугольник 3"/>
          <p:cNvGrpSpPr/>
          <p:nvPr/>
        </p:nvGrpSpPr>
        <p:grpSpPr>
          <a:xfrm>
            <a:off x="950760" y="2779560"/>
            <a:ext cx="1798920" cy="596880"/>
            <a:chOff x="950760" y="2779560"/>
            <a:chExt cx="1798920" cy="596880"/>
          </a:xfrm>
        </p:grpSpPr>
        <p:pic>
          <p:nvPicPr>
            <p:cNvPr id="196" name="Прямоугольник 3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950760" y="2779560"/>
              <a:ext cx="17989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069200" y="2786040"/>
              <a:ext cx="15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союз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Прямоугольник 4"/>
          <p:cNvGrpSpPr/>
          <p:nvPr/>
        </p:nvGrpSpPr>
        <p:grpSpPr>
          <a:xfrm>
            <a:off x="5353200" y="2779560"/>
            <a:ext cx="2419200" cy="596880"/>
            <a:chOff x="5353200" y="2779560"/>
            <a:chExt cx="2419200" cy="596880"/>
          </a:xfrm>
        </p:grpSpPr>
        <p:pic>
          <p:nvPicPr>
            <p:cNvPr id="199" name="Прямоугольник 4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353200" y="2779560"/>
              <a:ext cx="2419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522040" y="2786040"/>
              <a:ext cx="20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бессоюз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1" name="Прямая со стрелкой 5"/>
          <p:cNvCxnSpPr/>
          <p:nvPr/>
        </p:nvCxnSpPr>
        <p:spPr>
          <a:xfrm flipH="1">
            <a:off x="2214360" y="1857240"/>
            <a:ext cx="1243440" cy="92952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202" name="Прямая со стрелкой 6"/>
          <p:cNvCxnSpPr/>
          <p:nvPr/>
        </p:nvCxnSpPr>
        <p:spPr>
          <a:xfrm>
            <a:off x="5357880" y="1785960"/>
            <a:ext cx="929520" cy="100080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grpSp>
        <p:nvGrpSpPr>
          <p:cNvPr id="203" name="Прямоугольник 7"/>
          <p:cNvGrpSpPr/>
          <p:nvPr/>
        </p:nvGrpSpPr>
        <p:grpSpPr>
          <a:xfrm>
            <a:off x="633240" y="5052960"/>
            <a:ext cx="4443120" cy="598680"/>
            <a:chOff x="633240" y="5052960"/>
            <a:chExt cx="4443120" cy="598680"/>
          </a:xfrm>
        </p:grpSpPr>
        <p:pic>
          <p:nvPicPr>
            <p:cNvPr id="204" name="Прямоугольник 7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33240" y="5052960"/>
              <a:ext cx="444312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2"/>
            <p:cNvSpPr/>
            <p:nvPr/>
          </p:nvSpPr>
          <p:spPr>
            <a:xfrm>
              <a:off x="642960" y="5059440"/>
              <a:ext cx="376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сложносочинё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Прямоугольник 8"/>
          <p:cNvGrpSpPr/>
          <p:nvPr/>
        </p:nvGrpSpPr>
        <p:grpSpPr>
          <a:xfrm>
            <a:off x="4565520" y="5041800"/>
            <a:ext cx="4042080" cy="596880"/>
            <a:chOff x="4565520" y="5041800"/>
            <a:chExt cx="4042080" cy="596880"/>
          </a:xfrm>
        </p:grpSpPr>
        <p:pic>
          <p:nvPicPr>
            <p:cNvPr id="207" name="Прямоугольник 8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565520" y="5041800"/>
              <a:ext cx="40420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835520" y="5045040"/>
              <a:ext cx="350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Calibri"/>
                </a:rPr>
                <a:t>сложноподчинё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" name="Прямая со стрелкой 9"/>
          <p:cNvCxnSpPr/>
          <p:nvPr/>
        </p:nvCxnSpPr>
        <p:spPr>
          <a:xfrm flipH="1">
            <a:off x="999720" y="3429000"/>
            <a:ext cx="572400" cy="148824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210" name="Прямая со стрелкой 10"/>
          <p:cNvCxnSpPr/>
          <p:nvPr/>
        </p:nvCxnSpPr>
        <p:spPr>
          <a:xfrm>
            <a:off x="2214720" y="3500280"/>
            <a:ext cx="3358080" cy="157248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Rectangle 1"/>
          <p:cNvGrpSpPr/>
          <p:nvPr/>
        </p:nvGrpSpPr>
        <p:grpSpPr>
          <a:xfrm>
            <a:off x="493560" y="1206360"/>
            <a:ext cx="8229600" cy="4260960"/>
            <a:chOff x="493560" y="1206360"/>
            <a:chExt cx="8229600" cy="4260960"/>
          </a:xfrm>
        </p:grpSpPr>
        <p:pic>
          <p:nvPicPr>
            <p:cNvPr id="212" name="Rectangle 1" descr=""/>
            <p:cNvPicPr/>
            <p:nvPr/>
          </p:nvPicPr>
          <p:blipFill>
            <a:blip r:embed="rId1"/>
            <a:stretch/>
          </p:blipFill>
          <p:spPr>
            <a:xfrm>
              <a:off x="493560" y="1206360"/>
              <a:ext cx="822960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00040" y="1233360"/>
              <a:ext cx="8215200" cy="42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1. Какое из предложений не является сложносочинённы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Кто служит Родине, тот остаётся в памяти народ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Россия вспрянет ото сна, и на обломках самовластья напишут наши имен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Враг боек, да наш народ сто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То скрипнет дверь, то тихо откроется калит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1"/>
          <p:cNvGrpSpPr/>
          <p:nvPr/>
        </p:nvGrpSpPr>
        <p:grpSpPr>
          <a:xfrm>
            <a:off x="493560" y="1206360"/>
            <a:ext cx="8229600" cy="3706920"/>
            <a:chOff x="493560" y="1206360"/>
            <a:chExt cx="8229600" cy="3706920"/>
          </a:xfrm>
        </p:grpSpPr>
        <p:pic>
          <p:nvPicPr>
            <p:cNvPr id="215" name="Rectangle 1" descr=""/>
            <p:cNvPicPr/>
            <p:nvPr/>
          </p:nvPicPr>
          <p:blipFill>
            <a:blip r:embed="rId1"/>
            <a:stretch/>
          </p:blipFill>
          <p:spPr>
            <a:xfrm>
              <a:off x="493560" y="1206360"/>
              <a:ext cx="8229600" cy="37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00040" y="1230840"/>
              <a:ext cx="8215200" cy="365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2. Какое из предложений не является сложноподчинённы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Известно, что слоны в диковинку у нас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Андрей, когда переступил порог изб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Враг боек, да наш народ сто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То скрипнет дверь, то тихо откроется калитк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Rectangle 1"/>
          <p:cNvGrpSpPr/>
          <p:nvPr/>
        </p:nvGrpSpPr>
        <p:grpSpPr>
          <a:xfrm>
            <a:off x="420840" y="397080"/>
            <a:ext cx="8369280" cy="6249600"/>
            <a:chOff x="420840" y="397080"/>
            <a:chExt cx="8369280" cy="6249600"/>
          </a:xfrm>
        </p:grpSpPr>
        <p:pic>
          <p:nvPicPr>
            <p:cNvPr id="218" name="Rectangle 1" descr=""/>
            <p:cNvPicPr/>
            <p:nvPr/>
          </p:nvPicPr>
          <p:blipFill>
            <a:blip r:embed="rId1"/>
            <a:stretch/>
          </p:blipFill>
          <p:spPr>
            <a:xfrm>
              <a:off x="420840" y="420840"/>
              <a:ext cx="8369280" cy="61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28760" y="397080"/>
              <a:ext cx="8358120" cy="62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3. Какое из предложений не является сложносочинённым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Трагическое – это горе, страдание, гибель, ужасное в жизни человека. а комическое – это веселье, радость и сме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Весна на радость не похожа, и не от солнца жёлт песо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Моя песня была лишена мотива, но зато её хором не спе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Крестьянский уклад жизни овеян своей поэзией: песни, сказки, легенды пронизывают всю атмосферу повествования о народ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1"/>
          <p:cNvGrpSpPr/>
          <p:nvPr/>
        </p:nvGrpSpPr>
        <p:grpSpPr>
          <a:xfrm>
            <a:off x="566640" y="993600"/>
            <a:ext cx="8223480" cy="4816800"/>
            <a:chOff x="566640" y="993600"/>
            <a:chExt cx="8223480" cy="4816800"/>
          </a:xfrm>
        </p:grpSpPr>
        <p:pic>
          <p:nvPicPr>
            <p:cNvPr id="221" name="Rectangle 1" descr=""/>
            <p:cNvPicPr/>
            <p:nvPr/>
          </p:nvPicPr>
          <p:blipFill>
            <a:blip r:embed="rId1"/>
            <a:stretch/>
          </p:blipFill>
          <p:spPr>
            <a:xfrm>
              <a:off x="566640" y="993600"/>
              <a:ext cx="8223480" cy="48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71680" y="1022040"/>
              <a:ext cx="8215200" cy="47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Arial"/>
                  <a:ea typeface="Times New Roman"/>
                </a:rPr>
                <a:t>4. Какое из предложений не является сложноподчинённым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) Там, где вечно дремлет тайна, есть нездешние пол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) Матвей сидел в буфете, пил чай с лимоном и говори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) Чтобы лучше понять русское интеллигентское сознание, нашу норму, читайте Чехова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) Говорят, что я скоро стану знаменитый русский поэ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390600"/>
            <a:ext cx="7877520" cy="1305000"/>
          </a:xfrm>
          <a:prstGeom prst="rect">
            <a:avLst/>
          </a:prstGeom>
          <a:ln w="0">
            <a:noFill/>
          </a:ln>
        </p:spPr>
      </p:pic>
      <p:grpSp>
        <p:nvGrpSpPr>
          <p:cNvPr id="224" name="Rectangle 1"/>
          <p:cNvGrpSpPr/>
          <p:nvPr/>
        </p:nvGrpSpPr>
        <p:grpSpPr>
          <a:xfrm>
            <a:off x="2779560" y="2139840"/>
            <a:ext cx="3511800" cy="530280"/>
            <a:chOff x="2779560" y="2139840"/>
            <a:chExt cx="3511800" cy="530280"/>
          </a:xfrm>
        </p:grpSpPr>
        <p:pic>
          <p:nvPicPr>
            <p:cNvPr id="225" name="Rectangle 1" descr=""/>
            <p:cNvPicPr/>
            <p:nvPr/>
          </p:nvPicPr>
          <p:blipFill>
            <a:blip r:embed="rId2"/>
            <a:stretch/>
          </p:blipFill>
          <p:spPr>
            <a:xfrm>
              <a:off x="2779560" y="2139840"/>
              <a:ext cx="35118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86040" y="2144520"/>
              <a:ext cx="350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Упражнение 8 (стр.7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8193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420840"/>
            <a:ext cx="7877520" cy="1042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428760" y="1500120"/>
            <a:ext cx="82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fficeimg.vo.msecnd.net/en-us/images/MR900332680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(циф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fidel-kastro.ru/gzl/lebedev_lomonosov.files/img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(портрет М.В. Ломонос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йд 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iles.school-collection.edu.ru/dlrstore/46fc5e08-60cb-4d02-8242-139f20221ebb/%5BRUS7_150%5D_%5BIA_060%5D.sw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дчинительные союзы)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files.school-collection.edu.ru/dlrstore/52038558-d770-4df9-b49d-83cfcf895941/%5BRUS7_149%5D_%5BIA_048%5D.swf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очинительные союз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10"/>
          <p:cNvGrpSpPr/>
          <p:nvPr/>
        </p:nvGrpSpPr>
        <p:grpSpPr>
          <a:xfrm>
            <a:off x="853920" y="2992320"/>
            <a:ext cx="7796520" cy="1586160"/>
            <a:chOff x="853920" y="2992320"/>
            <a:chExt cx="7796520" cy="1586160"/>
          </a:xfrm>
        </p:grpSpPr>
        <p:pic>
          <p:nvPicPr>
            <p:cNvPr id="93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853920" y="2992320"/>
              <a:ext cx="779652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57160" y="3000240"/>
              <a:ext cx="7786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тянул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падны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ветерок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и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ухлая белая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уча заволокла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о всех сторон горизонт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Прямоугольник 11"/>
          <p:cNvGrpSpPr/>
          <p:nvPr/>
        </p:nvGrpSpPr>
        <p:grpSpPr>
          <a:xfrm>
            <a:off x="853920" y="3067200"/>
            <a:ext cx="7796520" cy="1090440"/>
            <a:chOff x="853920" y="3067200"/>
            <a:chExt cx="7796520" cy="1090440"/>
          </a:xfrm>
        </p:grpSpPr>
        <p:pic>
          <p:nvPicPr>
            <p:cNvPr id="96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853920" y="3067200"/>
              <a:ext cx="779652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57160" y="3071880"/>
              <a:ext cx="7786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Я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сегда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росыпа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часа два до зари и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любил встречат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без свечки рассвет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Прямоугольник 12"/>
          <p:cNvGrpSpPr/>
          <p:nvPr/>
        </p:nvGrpSpPr>
        <p:grpSpPr>
          <a:xfrm>
            <a:off x="853920" y="2352600"/>
            <a:ext cx="7796520" cy="3060720"/>
            <a:chOff x="853920" y="2352600"/>
            <a:chExt cx="7796520" cy="3060720"/>
          </a:xfrm>
        </p:grpSpPr>
        <p:pic>
          <p:nvPicPr>
            <p:cNvPr id="99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853920" y="2352600"/>
              <a:ext cx="77965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57160" y="2357280"/>
              <a:ext cx="77868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ж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небо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осенью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дышало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ж реже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олнышко блистало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короче станови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ден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есов таинственная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сень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 печальным шумом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обнажалась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ложи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на поля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уман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;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гусей крикливых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караван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тянулс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к югу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оугольник 13"/>
          <p:cNvGrpSpPr/>
          <p:nvPr/>
        </p:nvGrpSpPr>
        <p:grpSpPr>
          <a:xfrm>
            <a:off x="853920" y="2998800"/>
            <a:ext cx="7796520" cy="1579680"/>
            <a:chOff x="853920" y="2998800"/>
            <a:chExt cx="7796520" cy="1579680"/>
          </a:xfrm>
        </p:grpSpPr>
        <p:pic>
          <p:nvPicPr>
            <p:cNvPr id="102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853920" y="2998800"/>
              <a:ext cx="779652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57160" y="3002040"/>
              <a:ext cx="7786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есно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запах усиливается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легка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веяло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сыростью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летевший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ветер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около вас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замирае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оугольник 14"/>
          <p:cNvGrpSpPr/>
          <p:nvPr/>
        </p:nvGrpSpPr>
        <p:grpSpPr>
          <a:xfrm>
            <a:off x="853920" y="2494080"/>
            <a:ext cx="7796520" cy="2565360"/>
            <a:chOff x="853920" y="2494080"/>
            <a:chExt cx="7796520" cy="2565360"/>
          </a:xfrm>
        </p:grpSpPr>
        <p:pic>
          <p:nvPicPr>
            <p:cNvPr id="105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853920" y="2494080"/>
              <a:ext cx="7796520" cy="25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57160" y="2500200"/>
              <a:ext cx="7786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[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Помню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]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(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ак в то лето, 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(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когда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я выздоравливал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после тяжёлой болезни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)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я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целыми днями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лежал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в постели в ожидании возвращения с работы матери с отцом или очередной встречи с врачом.</a:t>
              </a:r>
              <a:r>
                <a:rPr b="1" lang="en-US" sz="3200" spc="-1" strike="noStrike">
                  <a:solidFill>
                    <a:srgbClr val="632523"/>
                  </a:solidFill>
                  <a:latin typeface="Calibri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Рисунок 15" descr="фон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1" descr=""/>
          <p:cNvPicPr/>
          <p:nvPr/>
        </p:nvPicPr>
        <p:blipFill>
          <a:blip r:embed="rId7"/>
          <a:stretch/>
        </p:blipFill>
        <p:spPr>
          <a:xfrm>
            <a:off x="1547640" y="560520"/>
            <a:ext cx="5523120" cy="104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8"/>
          <a:stretch/>
        </p:blipFill>
        <p:spPr>
          <a:xfrm>
            <a:off x="6991200" y="493560"/>
            <a:ext cx="1616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10" name="Скругленный прямоугольник 4"/>
          <p:cNvGrpSpPr/>
          <p:nvPr/>
        </p:nvGrpSpPr>
        <p:grpSpPr>
          <a:xfrm>
            <a:off x="2494080" y="5730840"/>
            <a:ext cx="657000" cy="798480"/>
            <a:chOff x="2494080" y="5730840"/>
            <a:chExt cx="657000" cy="798480"/>
          </a:xfrm>
        </p:grpSpPr>
        <p:pic>
          <p:nvPicPr>
            <p:cNvPr id="111" name="Скругленный прямоугольник 4" descr=""/>
            <p:cNvPicPr/>
            <p:nvPr/>
          </p:nvPicPr>
          <p:blipFill>
            <a:blip r:embed="rId9"/>
            <a:stretch/>
          </p:blipFill>
          <p:spPr>
            <a:xfrm>
              <a:off x="2494080" y="5730840"/>
              <a:ext cx="657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532240" y="5765760"/>
              <a:ext cx="5792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"/>
          <p:cNvGrpSpPr/>
          <p:nvPr/>
        </p:nvGrpSpPr>
        <p:grpSpPr>
          <a:xfrm>
            <a:off x="3279600" y="5730840"/>
            <a:ext cx="659160" cy="798480"/>
            <a:chOff x="3279600" y="5730840"/>
            <a:chExt cx="659160" cy="798480"/>
          </a:xfrm>
        </p:grpSpPr>
        <p:pic>
          <p:nvPicPr>
            <p:cNvPr id="114" name="Скругленный прямоугольник 5" descr=""/>
            <p:cNvPicPr/>
            <p:nvPr/>
          </p:nvPicPr>
          <p:blipFill>
            <a:blip r:embed="rId10"/>
            <a:stretch/>
          </p:blipFill>
          <p:spPr>
            <a:xfrm>
              <a:off x="3279600" y="5730840"/>
              <a:ext cx="6591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317760" y="5765760"/>
              <a:ext cx="5796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6"/>
          <p:cNvGrpSpPr/>
          <p:nvPr/>
        </p:nvGrpSpPr>
        <p:grpSpPr>
          <a:xfrm>
            <a:off x="4065480" y="5730840"/>
            <a:ext cx="652680" cy="798480"/>
            <a:chOff x="4065480" y="5730840"/>
            <a:chExt cx="652680" cy="798480"/>
          </a:xfrm>
        </p:grpSpPr>
        <p:pic>
          <p:nvPicPr>
            <p:cNvPr id="117" name="Скругленный прямоугольник 6" descr=""/>
            <p:cNvPicPr/>
            <p:nvPr/>
          </p:nvPicPr>
          <p:blipFill>
            <a:blip r:embed="rId11"/>
            <a:stretch/>
          </p:blipFill>
          <p:spPr>
            <a:xfrm>
              <a:off x="4065480" y="5730840"/>
              <a:ext cx="652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103640" y="5765760"/>
              <a:ext cx="5796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7"/>
          <p:cNvGrpSpPr/>
          <p:nvPr/>
        </p:nvGrpSpPr>
        <p:grpSpPr>
          <a:xfrm>
            <a:off x="4853160" y="5730840"/>
            <a:ext cx="652320" cy="798480"/>
            <a:chOff x="4853160" y="5730840"/>
            <a:chExt cx="652320" cy="798480"/>
          </a:xfrm>
        </p:grpSpPr>
        <p:pic>
          <p:nvPicPr>
            <p:cNvPr id="120" name="Скругленный прямоугольник 7" descr=""/>
            <p:cNvPicPr/>
            <p:nvPr/>
          </p:nvPicPr>
          <p:blipFill>
            <a:blip r:embed="rId12"/>
            <a:stretch/>
          </p:blipFill>
          <p:spPr>
            <a:xfrm>
              <a:off x="4853160" y="5730840"/>
              <a:ext cx="6523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889520" y="5765760"/>
              <a:ext cx="5792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8"/>
          <p:cNvGrpSpPr/>
          <p:nvPr/>
        </p:nvGrpSpPr>
        <p:grpSpPr>
          <a:xfrm>
            <a:off x="5638680" y="5730840"/>
            <a:ext cx="652680" cy="798480"/>
            <a:chOff x="5638680" y="5730840"/>
            <a:chExt cx="652680" cy="798480"/>
          </a:xfrm>
        </p:grpSpPr>
        <p:pic>
          <p:nvPicPr>
            <p:cNvPr id="123" name="Скругленный прямоугольник 8" descr=""/>
            <p:cNvPicPr/>
            <p:nvPr/>
          </p:nvPicPr>
          <p:blipFill>
            <a:blip r:embed="rId13"/>
            <a:stretch/>
          </p:blipFill>
          <p:spPr>
            <a:xfrm>
              <a:off x="5638680" y="5730840"/>
              <a:ext cx="652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675400" y="5765760"/>
              <a:ext cx="5792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Прямоугольник 16"/>
          <p:cNvSpPr/>
          <p:nvPr/>
        </p:nvSpPr>
        <p:spPr>
          <a:xfrm>
            <a:off x="2072160" y="1714680"/>
            <a:ext cx="16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601120" y="6600960"/>
            <a:ext cx="542880" cy="328320"/>
          </a:xfrm>
          <a:custGeom>
            <a:avLst/>
            <a:gdLst>
              <a:gd name="textAreaLeft" fmla="*/ 21240 w 542880"/>
              <a:gd name="textAreaRight" fmla="*/ 521640 w 542880"/>
              <a:gd name="textAreaTop" fmla="*/ 21240 h 328320"/>
              <a:gd name="textAreaBottom" fmla="*/ 307080 h 328320"/>
            </a:gdLst>
            <a:ahLst/>
            <a:rect l="textAreaLeft" t="textAreaTop" r="textAreaRight" b="textAreaBottom"/>
            <a:pathLst>
              <a:path w="35700" h="21600">
                <a:moveTo>
                  <a:pt x="0" y="0"/>
                </a:moveTo>
                <a:lnTo>
                  <a:pt x="35700" y="0"/>
                </a:lnTo>
                <a:lnTo>
                  <a:pt x="35700" y="21600"/>
                </a:lnTo>
                <a:lnTo>
                  <a:pt x="0" y="21600"/>
                </a:lnTo>
                <a:close/>
              </a:path>
              <a:path fill="lightenLess" w="35700" h="21600">
                <a:moveTo>
                  <a:pt x="0" y="0"/>
                </a:moveTo>
                <a:lnTo>
                  <a:pt x="35700" y="0"/>
                </a:lnTo>
                <a:lnTo>
                  <a:pt x="34300" y="1400"/>
                </a:lnTo>
                <a:lnTo>
                  <a:pt x="1400" y="1400"/>
                </a:lnTo>
                <a:close/>
              </a:path>
              <a:path fill="darken" w="35700" h="21600">
                <a:moveTo>
                  <a:pt x="35700" y="0"/>
                </a:moveTo>
                <a:lnTo>
                  <a:pt x="35700" y="21600"/>
                </a:lnTo>
                <a:lnTo>
                  <a:pt x="34300" y="20200"/>
                </a:lnTo>
                <a:lnTo>
                  <a:pt x="34300" y="1400"/>
                </a:lnTo>
                <a:close/>
              </a:path>
              <a:path fill="darkenLess" w="35700" h="21600">
                <a:moveTo>
                  <a:pt x="35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00" y="20200"/>
                </a:lnTo>
                <a:close/>
              </a:path>
              <a:path fill="lighten" w="35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00" h="21600">
                <a:moveTo>
                  <a:pt x="10844" y="3794"/>
                </a:moveTo>
                <a:lnTo>
                  <a:pt x="24857" y="10800"/>
                </a:lnTo>
                <a:lnTo>
                  <a:pt x="10844" y="17806"/>
                </a:lnTo>
                <a:close/>
              </a:path>
            </a:pathLst>
          </a:custGeom>
          <a:solidFill>
            <a:srgbClr val="e9d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3542040" y="1757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3975480" y="1743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2"/>
          <p:cNvSpPr/>
          <p:nvPr/>
        </p:nvSpPr>
        <p:spPr>
          <a:xfrm>
            <a:off x="4407120" y="17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4838760" y="17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4"/>
          <p:cNvSpPr/>
          <p:nvPr/>
        </p:nvSpPr>
        <p:spPr>
          <a:xfrm>
            <a:off x="5294520" y="1728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2389320" y="347760"/>
            <a:ext cx="438300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33" name="Rectangle 1"/>
          <p:cNvGrpSpPr/>
          <p:nvPr/>
        </p:nvGrpSpPr>
        <p:grpSpPr>
          <a:xfrm>
            <a:off x="706320" y="1133640"/>
            <a:ext cx="7944120" cy="4846320"/>
            <a:chOff x="706320" y="1133640"/>
            <a:chExt cx="7944120" cy="4846320"/>
          </a:xfrm>
        </p:grpSpPr>
        <p:pic>
          <p:nvPicPr>
            <p:cNvPr id="134" name="Rectangle 1" descr=""/>
            <p:cNvPicPr/>
            <p:nvPr/>
          </p:nvPicPr>
          <p:blipFill>
            <a:blip r:embed="rId2"/>
            <a:stretch/>
          </p:blipFill>
          <p:spPr>
            <a:xfrm>
              <a:off x="706320" y="1133640"/>
              <a:ext cx="7944120" cy="48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14240" y="1165680"/>
              <a:ext cx="792972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Туча разорвалась на мелкие клочья, и они поползли над степью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Горные вершины спят во тьме ночной; тихие долины полны свежей мглой; не пылит дорога; не дрожат листы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Птиц не было слышно: они не поют в часы зноя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d0d0d"/>
                  </a:solidFill>
                  <a:latin typeface="Arial"/>
                  <a:ea typeface="Times New Roman"/>
                </a:rPr>
                <a:t>Тут блеют овцы – там ворчит собак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Овал 4"/>
          <p:cNvSpPr/>
          <p:nvPr/>
        </p:nvSpPr>
        <p:spPr>
          <a:xfrm>
            <a:off x="7358040" y="1415880"/>
            <a:ext cx="500040" cy="500400"/>
          </a:xfrm>
          <a:prstGeom prst="ellipse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1" descr=""/>
          <p:cNvPicPr/>
          <p:nvPr/>
        </p:nvPicPr>
        <p:blipFill>
          <a:blip r:embed="rId1"/>
          <a:stretch/>
        </p:blipFill>
        <p:spPr>
          <a:xfrm>
            <a:off x="2048040" y="476280"/>
            <a:ext cx="5303520" cy="11700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" descr=""/>
          <p:cNvPicPr/>
          <p:nvPr/>
        </p:nvPicPr>
        <p:blipFill>
          <a:blip r:embed="rId2"/>
          <a:stretch/>
        </p:blipFill>
        <p:spPr>
          <a:xfrm>
            <a:off x="792000" y="1420920"/>
            <a:ext cx="2347920" cy="104112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3" descr=""/>
          <p:cNvPicPr/>
          <p:nvPr/>
        </p:nvPicPr>
        <p:blipFill>
          <a:blip r:embed="rId3"/>
          <a:stretch/>
        </p:blipFill>
        <p:spPr>
          <a:xfrm>
            <a:off x="5510160" y="1420920"/>
            <a:ext cx="2987640" cy="1041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www.fidel-kastro.ru/gzl/lebedev_lomonosov.files/img1.jpg"/>
          <p:cNvPicPr/>
          <p:nvPr/>
        </p:nvPicPr>
        <p:blipFill>
          <a:blip r:embed="rId4"/>
          <a:stretch/>
        </p:blipFill>
        <p:spPr>
          <a:xfrm>
            <a:off x="571680" y="2214720"/>
            <a:ext cx="2085840" cy="27860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7"/>
          <p:cNvSpPr/>
          <p:nvPr/>
        </p:nvSpPr>
        <p:spPr>
          <a:xfrm>
            <a:off x="428760" y="5000760"/>
            <a:ext cx="24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.В. Ломоносов, Полное собрание сочинений, т 7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. 376-3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 стрелкой 9"/>
          <p:cNvCxnSpPr/>
          <p:nvPr/>
        </p:nvCxnSpPr>
        <p:spPr>
          <a:xfrm flipH="1">
            <a:off x="2385720" y="1143000"/>
            <a:ext cx="1072080" cy="35784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143" name="Прямая со стрелкой 10"/>
          <p:cNvCxnSpPr/>
          <p:nvPr/>
        </p:nvCxnSpPr>
        <p:spPr>
          <a:xfrm>
            <a:off x="5815080" y="1142640"/>
            <a:ext cx="1000800" cy="42948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pic>
        <p:nvPicPr>
          <p:cNvPr id="144" name="Рисунок 14" descr="Рисунок1.gif"/>
          <p:cNvPicPr/>
          <p:nvPr/>
        </p:nvPicPr>
        <p:blipFill>
          <a:blip r:embed="rId5"/>
          <a:stretch/>
        </p:blipFill>
        <p:spPr>
          <a:xfrm>
            <a:off x="2448000" y="2286000"/>
            <a:ext cx="655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 1" descr=""/>
          <p:cNvPicPr/>
          <p:nvPr/>
        </p:nvPicPr>
        <p:blipFill>
          <a:blip r:embed="rId1"/>
          <a:stretch/>
        </p:blipFill>
        <p:spPr>
          <a:xfrm>
            <a:off x="974880" y="701640"/>
            <a:ext cx="646272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1"/>
          <p:cNvGrpSpPr/>
          <p:nvPr/>
        </p:nvGrpSpPr>
        <p:grpSpPr>
          <a:xfrm>
            <a:off x="920880" y="1566720"/>
            <a:ext cx="7589880" cy="4535640"/>
            <a:chOff x="920880" y="1566720"/>
            <a:chExt cx="7589880" cy="4535640"/>
          </a:xfrm>
        </p:grpSpPr>
        <p:pic>
          <p:nvPicPr>
            <p:cNvPr id="147" name="Rectangle 1" descr=""/>
            <p:cNvPicPr/>
            <p:nvPr/>
          </p:nvPicPr>
          <p:blipFill>
            <a:blip r:embed="rId1"/>
            <a:stretch/>
          </p:blipFill>
          <p:spPr>
            <a:xfrm>
              <a:off x="920880" y="1566720"/>
              <a:ext cx="758988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28800" y="1592280"/>
              <a:ext cx="75722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. На дворе холодно, и идёт мелкий дожд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. Густой туман затянул поля, резкий ветер носит груды жёлтых листье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. Сизый дымок кружит над домами -  уже топят печ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. Длинная улица пуста: все сидят дом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. Куры приютились на жерди под навесом, а воробей забился в тёплое гнездо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2" descr=""/>
          <p:cNvPicPr/>
          <p:nvPr/>
        </p:nvPicPr>
        <p:blipFill>
          <a:blip r:embed="rId2"/>
          <a:stretch/>
        </p:blipFill>
        <p:spPr>
          <a:xfrm>
            <a:off x="1322280" y="444600"/>
            <a:ext cx="66693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347760"/>
            <a:ext cx="7796160" cy="153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1000080" y="334620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Times New Roman"/>
              </a:rPr>
              <a:t>3. Инто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1009440" y="198756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Times New Roman"/>
              </a:rPr>
              <a:t>1. Сою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1015920" y="27018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  <a:ea typeface="Times New Roman"/>
              </a:rPr>
              <a:t>2. Союз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291960"/>
            <a:ext cx="7796160" cy="154944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2000" y="1420920"/>
            <a:ext cx="3286440" cy="104112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6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94440" y="1420920"/>
            <a:ext cx="3571560" cy="1041120"/>
          </a:xfrm>
          <a:prstGeom prst="rect">
            <a:avLst/>
          </a:prstGeom>
          <a:ln w="0">
            <a:noFill/>
          </a:ln>
        </p:spPr>
      </p:pic>
      <p:cxnSp>
        <p:nvCxnSpPr>
          <p:cNvPr id="157" name="Прямая со стрелкой 7"/>
          <p:cNvCxnSpPr/>
          <p:nvPr/>
        </p:nvCxnSpPr>
        <p:spPr>
          <a:xfrm flipH="1">
            <a:off x="2385720" y="1143000"/>
            <a:ext cx="1072080" cy="35784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cxnSp>
        <p:nvCxnSpPr>
          <p:cNvPr id="158" name="Прямая со стрелкой 8"/>
          <p:cNvCxnSpPr/>
          <p:nvPr/>
        </p:nvCxnSpPr>
        <p:spPr>
          <a:xfrm>
            <a:off x="5357880" y="1071720"/>
            <a:ext cx="1000800" cy="429120"/>
          </a:xfrm>
          <a:prstGeom prst="straightConnector1">
            <a:avLst/>
          </a:prstGeom>
          <a:ln w="44280">
            <a:solidFill>
              <a:srgbClr val="996633"/>
            </a:solidFill>
            <a:miter/>
            <a:tailEnd len="med" type="arrow" w="med"/>
          </a:ln>
        </p:spPr>
      </p:cxnSp>
      <p:grpSp>
        <p:nvGrpSpPr>
          <p:cNvPr id="159" name="Прямоугольник 9"/>
          <p:cNvGrpSpPr/>
          <p:nvPr/>
        </p:nvGrpSpPr>
        <p:grpSpPr>
          <a:xfrm>
            <a:off x="853920" y="2352600"/>
            <a:ext cx="3303720" cy="4041720"/>
            <a:chOff x="853920" y="2352600"/>
            <a:chExt cx="3303720" cy="4041720"/>
          </a:xfrm>
        </p:grpSpPr>
        <p:pic>
          <p:nvPicPr>
            <p:cNvPr id="160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853920" y="2352600"/>
              <a:ext cx="330372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67600" y="2357280"/>
              <a:ext cx="32727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соединитель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против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раздел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оугольник 10"/>
          <p:cNvGrpSpPr/>
          <p:nvPr/>
        </p:nvGrpSpPr>
        <p:grpSpPr>
          <a:xfrm>
            <a:off x="5425920" y="2279520"/>
            <a:ext cx="3168720" cy="4042080"/>
            <a:chOff x="5425920" y="2279520"/>
            <a:chExt cx="3168720" cy="4042080"/>
          </a:xfrm>
        </p:grpSpPr>
        <p:pic>
          <p:nvPicPr>
            <p:cNvPr id="163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5425920" y="2279520"/>
              <a:ext cx="3168720" cy="40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445360" y="2286000"/>
              <a:ext cx="312516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временны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причи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целев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усл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уступ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сравн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следстве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Calibri"/>
                </a:rPr>
                <a:t>изъяснитель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291960"/>
            <a:ext cx="7804440" cy="15494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642960" y="148680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знаем,          трудно выполнить эту рабо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знаю,    привлекает меня в этом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2632680" y="170028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2675520" y="263700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"/>
          <p:cNvSpPr/>
          <p:nvPr/>
        </p:nvSpPr>
        <p:spPr>
          <a:xfrm>
            <a:off x="2771640" y="3141720"/>
            <a:ext cx="642960" cy="144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3077640" y="2522520"/>
            <a:ext cx="119160" cy="25884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Таблица 9" descr=""/>
          <p:cNvPicPr/>
          <p:nvPr/>
        </p:nvPicPr>
        <p:blipFill>
          <a:blip r:embed="rId2"/>
          <a:stretch/>
        </p:blipFill>
        <p:spPr>
          <a:xfrm>
            <a:off x="738360" y="1268280"/>
            <a:ext cx="77166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14:08Z</dcterms:created>
  <dc:creator>Toshiba</dc:creator>
  <dc:description/>
  <dc:language>en-US</dc:language>
  <cp:lastModifiedBy>LOD2</cp:lastModifiedBy>
  <dcterms:modified xsi:type="dcterms:W3CDTF">2011-05-12T14:26:41Z</dcterms:modified>
  <cp:revision>23</cp:revision>
  <dc:subject/>
  <dc:title>Слайд 1</dc:title>
</cp:coreProperties>
</file>