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65C1-E5A0-4C46-90FF-C07864B6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D87-F8A8-44F9-AE71-22621AD9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683-898D-4856-BD23-F45C80B2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140-5745-4D63-963F-EFCAEFA0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FB55-95FC-4B9C-9A1F-87797E21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BF3C-E059-4B55-A98D-D3AF6650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4CF2-2B11-490D-9C23-5679F5C3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9D52-40EC-4937-8B11-73217E91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9A70-995D-4768-97E4-56E24C8A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19E1-9F02-4BC6-AE87-B2B5625B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8D12-45EA-4ACF-AFA0-A97A59C6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910-0C9F-4BC1-B557-47A60426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07EB-E778-4F08-99A6-A1114DCF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D1E5-8BEA-4792-AB8B-F098FD18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5F13-52C7-411C-B295-40A35520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C9A4-2627-4761-BA68-C97C9C96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8F5D-1ECD-40FD-BF68-2A625723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C6F-2E0D-47CA-85CA-932C82E0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A40-BBA1-429B-8E69-8B832443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381-0915-4E17-B3AB-87EC76D2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5EA-C9F3-4C42-8C39-CDB5D5CE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470-7FB5-4829-A240-13A492EA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314-92CD-4805-86BF-E3ACE4F1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2B7-6EDC-4097-87C7-B6E4F9D1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3D50-200B-4405-91A3-2529871667B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130A-1216-44C4-A43B-55005C6B2A7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Древние образы, единство формы и декора в народных игрушках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835280" y="3860640"/>
            <a:ext cx="6408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Есть одна удивительная профессия, которой люди посвящают всю свою жизнь, - это игрушечных дел мастера, или просто игрушечни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Как красивы и необычны по цвету каргопольские игрушки. Расписанные в ярких или приглушенных тонах, они отличаются простыми и ясными узор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910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На поверхности фигурок наведены древние символы солнца – большие огненно-красные круги, кресты, кольца, а также мотивы зерен, хлебных колосьев и веточек расте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560880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Среди русских глиняных игрушек самые знаменитые дымковск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39640" y="1832040"/>
            <a:ext cx="43927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одились они в Дымковской слободе, неподалеку от города Вят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2948040" cy="4336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28292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ымковские игрушки – настоящее чудо. Здесь можно увидеть разряженных щеголих, нянек- «кормилок» с детьми на рук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43360" y="1828800"/>
            <a:ext cx="3151440" cy="4121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41320" y="1828800"/>
            <a:ext cx="38988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Форма игрушек монолитна, а силуэт фигурок отличается мягкой плавностью и округлость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3163680" cy="4321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084640" y="1828800"/>
            <a:ext cx="334656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Как много здесь лепных деталей: изящных оборок, воланов, косичек, жгути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4329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Игрушку составляют из отдельных частей, соединяя их в определенной последователь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4321080" cy="2881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45007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 росписи дымковской игрушки присутствует, в основном. геометрический орнамент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06400" y="1828800"/>
            <a:ext cx="3529080" cy="3657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846680" y="1828800"/>
            <a:ext cx="329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2808360" cy="62643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355640" y="620640"/>
            <a:ext cx="424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А теперь внимательно рассмотри декор игруше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Необычайна ярка филимоновская игрушка-свистулька. Сплошную окраску дополняют чередующиеся радужные полос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Обрати внимание на основные элементы орнамента дымковской игрушки (круги, овалы, клетки, полоски, точки). В росписи используют желтый и синий, малиново-красный и зеленый, белый в фоне и черные цвета. Яркие цвета дополняют мягкими приглушенными: голубым, розовым, оранжевым, коричневы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Как выразительна роспись каргопольской игрушки, которая сохраняет прочную связь с древними мотив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746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200"/>
                </a:solidFill>
                <a:latin typeface="Comic Sans MS"/>
              </a:rPr>
              <a:t>ФИЛИМОНОВСКАЯ ИГРУШ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508360" y="1915920"/>
            <a:ext cx="29509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Деревн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Филимоново в Тульской области – знаменитый цент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оизводства этих игруше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496908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У филимоновских игрушек</a:t>
            </a: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вытянуты пропорции, мягкие очертания формы, они выглядят стройными, изящными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2101680" cy="3932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979640" y="2060640"/>
            <a:ext cx="2035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Высокие стройные крестьянки часто держат в руках ребенка или курицу со свистком.</a:t>
            </a:r>
            <a:br>
              <a:rPr sz="2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Мужские фигуры под стать им: статные, длинноногие, чуть смешные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2697120" cy="3657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3121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Любимые цвета филимоновских игрушек – малиново-красный, желтый и изумрудно-зеленый, Расписывают игрушки, как и раньше, куриным перышк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76720" y="1844640"/>
            <a:ext cx="5040360" cy="1838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187280" y="1916280"/>
            <a:ext cx="1657440" cy="1752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3772080" cy="1719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643280" y="3789360"/>
            <a:ext cx="37720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АРГОПОЛЬСКАЯ ИГРУШ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Родина каргопольской игрушки – Русский Север, Каргопольский район Архангельской обла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219640" y="1828800"/>
            <a:ext cx="25304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Как по-детски наивно решены приземистые фигурки людей и живот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443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Крепкие деревенские бабы и мужики рождают добрую усмешку: Большеголовые, с короткими руками и ногами, с чуть  сплющенным лицом, переходящим у мужиков в бороду-лопату. Глиняные бабы похожи на древний образ богини-матери в северной народной вышивк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08120" y="1828800"/>
            <a:ext cx="585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Конь - Полкан был одним из самых любимых образов известной игрушечницы Ульяны Бабкиной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422440" y="1844640"/>
            <a:ext cx="4545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1:43:11Z</dcterms:created>
  <dc:creator>Корнилова Н.И.</dc:creator>
  <dc:description/>
  <dc:language>en-US</dc:language>
  <cp:lastModifiedBy>comp1</cp:lastModifiedBy>
  <dcterms:modified xsi:type="dcterms:W3CDTF">2009-09-04T10:30:43Z</dcterms:modified>
  <cp:revision>16</cp:revision>
  <dc:subject/>
  <dc:title>Слайд 1</dc:title>
</cp:coreProperties>
</file>