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226-4E9E-45BF-8DFC-477E871F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15F-CF34-4872-AC84-94B3B3A5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03B-3317-44D3-912B-EB31C666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B8B8-A843-4721-B9CC-C522607C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555D-EBAF-481B-A61E-C67B7AD2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5059-EB1B-48D7-AC20-990CA11A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8631-57CD-4888-998F-3AD70815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762C-1C18-46D0-971D-92361B03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F6FD-F116-4182-B0C3-479FD42D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AC4C-6D9D-4498-AEE3-CCC72081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F1BF-EC02-4A94-859C-864CD47E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0312-8BBD-4B80-9E11-F14B93E7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EA31-1EA5-49FB-9640-E5474A3B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9A8B-A15F-4493-93CA-60912C5C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0CE9-7B67-45A6-828E-118EC54E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C0FE-1B71-4CE8-8AB9-93FE8AA6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7F50-3762-4C5A-9991-6A2F431F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D39E-7F65-4604-9F68-DB6623C2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E217-D734-4F35-9A87-A6D06041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305-B901-4146-941E-BD6E77F0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4D2-7667-4708-8B66-B0534B27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83A-6777-47B6-A326-DE0A6DD7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4E3-1729-431F-A13E-AB5E768F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712-316C-4980-AF1C-87BB7DFF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327F-E632-4728-8B00-6183E09815D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1A87-B2FF-486F-8195-410EC7E0949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Древние образы, единство формы и декора в народных игрушках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835280" y="3860640"/>
            <a:ext cx="6408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Есть одна удивительная профессия, которой люди посвящают всю свою жизнь, - это игрушечных дел мастера, или просто игрушечни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Как красивы и необычны по цвету каргопольские игрушки. Расписанные в ярких или приглушенных тонах, они отличаются простыми и ясными узор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910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На поверхности фигурок наведены древние символы солнца – большие огненно-красные круги, кресты, кольца, а также мотивы зерен, хлебных колосьев и веточек расте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560880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Среди русских глиняных игрушек самые знаменитые дымковск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39640" y="1832040"/>
            <a:ext cx="43927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одились они в Дымковской слободе, неподалеку от города Вят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2948040" cy="4336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28292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ымковские игрушки – настоящее чудо. Здесь можно увидеть разряженных щеголих, нянек- «кормилок» с детьми на рук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43360" y="1828800"/>
            <a:ext cx="3151440" cy="4121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41320" y="1828800"/>
            <a:ext cx="38988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Форма игрушек монолитна, а силуэт фигурок отличается мягкой плавностью и округлость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3163680" cy="4321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084640" y="1828800"/>
            <a:ext cx="334656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Как много здесь лепных деталей: изящных оборок, воланов, косичек, жгути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43293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Игрушку составляют из отдельных частей, соединяя их в определенной последователь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4321080" cy="2881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45007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В росписи дымковской игрушки присутствует, в основном. геометрический орнамент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06400" y="1828800"/>
            <a:ext cx="3529080" cy="3657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846680" y="1828800"/>
            <a:ext cx="329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2808360" cy="62643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355640" y="620640"/>
            <a:ext cx="4248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А теперь внимательно рассмотри декор игруше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Необычайна ярка филимоновская игрушка-свистулька. Сплошную окраску дополняют чередующиеся радужные полос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Обрати внимание на основные элементы орнамента дымковской игрушки (круги, овалы, клетки, полоски, точки). В росписи используют желтый и синий, малиново-красный и зеленый, белый в фоне и черные цвета. Яркие цвета дополняют мягкими приглушенными: голубым, розовым, оранжевым, коричневы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Как выразительна роспись каргопольской игрушки, которая сохраняет прочную связь с древними мотив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746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200"/>
                </a:solidFill>
                <a:latin typeface="Comic Sans MS"/>
              </a:rPr>
              <a:t>ФИЛИМОНОВСКАЯ ИГРУШ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508360" y="1915920"/>
            <a:ext cx="29509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Деревн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Филимоново в Тульской области – знаменитый цент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оизводства этих игруше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496908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У филимоновских игрушек</a:t>
            </a: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вытянуты пропорции, мягкие очертания формы, они выглядят стройными, изящными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148360" y="1989000"/>
            <a:ext cx="2101680" cy="3932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979640" y="2060640"/>
            <a:ext cx="2035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Высокие стройные крестьянки часто держат в руках ребенка или курицу со свистком.</a:t>
            </a:r>
            <a:br>
              <a:rPr sz="2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Мужские фигуры под стать им: статные, длинноногие, чуть смешные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2697120" cy="3657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3121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Любимые цвета филимоновских игрушек – малиново-красный, желтый и изумрудно-зеленый, Расписывают игрушки, как и раньше, куриным перышко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76720" y="1844640"/>
            <a:ext cx="5040360" cy="1838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187280" y="1916280"/>
            <a:ext cx="1657440" cy="1752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3772080" cy="1719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643280" y="3789360"/>
            <a:ext cx="377208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АРГОПОЛЬСКАЯ ИГРУШ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Родина каргопольской игрушки – Русский Север, Каргопольский район Архангельской обла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219640" y="1828800"/>
            <a:ext cx="253044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Как по-детски наивно решены приземистые фигурки людей и животны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443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Крепкие деревенские бабы и мужики рождают добрую усмешку: Большеголовые, с короткими руками и ногами, с чуть  сплющенным лицом, переходящим у мужиков в бороду-лопату. Глиняные бабы похожи на древний образ богини-матери в северной народной вышивк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08120" y="1828800"/>
            <a:ext cx="585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Конь - Полкан был одним из самых любимых образов известной игрушечницы Ульяны Бабкиной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422440" y="1844640"/>
            <a:ext cx="4545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1:43:11Z</dcterms:created>
  <dc:creator>Корнилова Н.И.</dc:creator>
  <dc:description/>
  <dc:language>en-US</dc:language>
  <cp:lastModifiedBy>comp1</cp:lastModifiedBy>
  <dcterms:modified xsi:type="dcterms:W3CDTF">2009-09-04T10:30:43Z</dcterms:modified>
  <cp:revision>16</cp:revision>
  <dc:subject/>
  <dc:title>Слайд 1</dc:title>
</cp:coreProperties>
</file>