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6E7-6224-488E-BC3E-980B2D62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764-E939-47BF-A4C4-775643E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CC8-1D84-497B-9202-6F5B0175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C2E-9699-4543-BA79-94F81C3F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ABE-DD3E-47EC-9A17-3F6776F6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129A-5081-40E0-B34E-C8E6922E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C243-BF7F-4CE8-9D4D-66F242E5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C1C5-70FE-4B18-8939-6FAFC073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7B52-FF87-4E36-998B-0CB40627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F622-BF3A-4B8E-8D12-2396EE3A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0BD3-703D-4B02-8D14-9D02250D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DD4-C072-43F9-953A-0C0DCA9D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8920-1021-4C26-8260-5695DA9F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58AF-F3C4-4E02-957D-7B1E601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436A-A789-4D8E-ACAE-6C4B81BE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EC6C-4BC3-4494-BEDC-220E52CF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0279-1C3F-497E-886B-7F8A0186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A8E-172B-4ADD-89A3-32488DD1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354-A9D8-499E-AC76-FC5B17E2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B9B-BA45-4F76-BAE0-A9492CF6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9E1-A4A6-4EF1-858C-E85384BF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E69-3DDF-4C71-88A3-FE161078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454-3595-4383-8538-0F1E13DC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351-2DB9-4E34-9B6D-7997DFA7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6C46-2E8D-4A97-ACC2-221BF678908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CCB0-B542-4A2D-B742-423C57FB6B6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Древние образы, единство формы и декора в народных игрушках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35280" y="386064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Есть одна удивительная профессия, которой люди посвящают всю свою жизнь, - это игрушечных дел мастера, или просто игрушечн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ак красивы и необычны по цвету каргопольские игрушки. Расписанные в ярких или приглушенных тонах, они отличаются простыми и ясными узор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910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На поверхности фигурок наведены древние символы солнца – большие огненно-красные круги, кресты, кольца, а также мотивы зерен, хлебных колосьев и веточек раст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60880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Среди русских глиняных игрушек самые знаменитые дымковск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39640" y="1832040"/>
            <a:ext cx="43927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одились они в Дымковской слободе, неподалеку от города Вят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2948040" cy="4336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829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ымковские игрушки – настоящее чудо. Здесь можно увидеть разряженных щеголих, нянек- «кормилок» с детьми на рука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43360" y="1828800"/>
            <a:ext cx="3151440" cy="4121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41320" y="1828800"/>
            <a:ext cx="38988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Форма игрушек монолитна, а силуэт фигурок отличается мягкой плавностью и округлость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3163680" cy="432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084640" y="1828800"/>
            <a:ext cx="334656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ак много здесь лепных деталей: изящных оборок, воланов, косичек, жгути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329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Игрушку составляют из отдельных частей, соединяя их в определенной последовате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321080" cy="2881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45007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 росписи дымковской игрушки присутствует, в основном. геометрический орнамент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06400" y="1828800"/>
            <a:ext cx="3529080" cy="3657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846680" y="1828800"/>
            <a:ext cx="329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2808360" cy="6264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355640" y="620640"/>
            <a:ext cx="42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А теперь внимательно рассмотри декор игруше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Необычайна ярка филимоновская игрушка-свистулька. Сплошную окраску дополняют чередующиеся радужные полос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Обрати внимание на основные элементы орнамента дымковской игрушки (круги, овалы, клетки, полоски, точки). В росписи используют желтый и синий, малиново-красный и зеленый, белый в фоне и черные цвета. Яркие цвета дополняют мягкими приглушенными: голубым, розовым, оранжевым, коричневы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Как выразительна роспись каргопольской игрушки, которая сохраняет прочную связь с древними мотив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74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ФИЛИМОНОВСКАЯ ИГРУШ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508360" y="1915920"/>
            <a:ext cx="29509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Деревн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Филимоново в Тульской области – знаменитый цент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оизводства этих игруше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96908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У филимоновских игрушек</a:t>
            </a:r>
            <a:r>
              <a:rPr b="0" lang="ru-RU" sz="4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вытянуты пропорции, мягкие очертания формы, они выглядят стройными, изящными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48360" y="1989000"/>
            <a:ext cx="2101680" cy="3932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203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Высокие стройные крестьянки часто держат в руках ребенка или курицу со свистком.</a:t>
            </a:r>
            <a:br>
              <a:rPr sz="2000"/>
            </a:b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Мужские фигуры под стать им: статные, длинноногие, чуть смешные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269712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121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Любимые цвета филимоновских игрушек – малиново-красный, желтый и изумрудно-зеленый, Расписывают игрушки, как и раньше, куриным перышк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040360" cy="1838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1657440" cy="1752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3772080" cy="1719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43280" y="3789360"/>
            <a:ext cx="37720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КАРГОПОЛЬСКАЯ ИГРУШ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Родина каргопольской игрушки – Русский Север, Каргопольский район Архангельской обла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19640" y="1828800"/>
            <a:ext cx="25304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Как по-детски наивно решены приземистые фигурки людей и живо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443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Крепкие деревенские бабы и мужики рождают добрую усмешку: Большеголовые, с короткими руками и ногами, с чуть  сплющенным лицом, переходящим у мужиков в бороду-лопату. Глиняные бабы похожи на древний образ богини-матери в северной народной вышивк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8120" y="1828800"/>
            <a:ext cx="585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Конь - Полкан был одним из самых любимых образов известной игрушечницы Ульяны Бабкиной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22440" y="1844640"/>
            <a:ext cx="4545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1:43:11Z</dcterms:created>
  <dc:creator>Корнилова Н.И.</dc:creator>
  <dc:description/>
  <dc:language>en-US</dc:language>
  <cp:lastModifiedBy>comp1</cp:lastModifiedBy>
  <dcterms:modified xsi:type="dcterms:W3CDTF">2009-09-04T10:30:43Z</dcterms:modified>
  <cp:revision>16</cp:revision>
  <dc:subject/>
  <dc:title>Слайд 1</dc:title>
</cp:coreProperties>
</file>