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wmf" ContentType="image/x-wmf"/>
  <Override PartName="/ppt/media/image9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wmf" ContentType="image/x-wmf"/>
  <Override PartName="/ppt/media/image16.png" ContentType="image/png"/>
  <Override PartName="/ppt/media/image21.png" ContentType="image/pn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7B70-0544-4D36-80C3-C724700A7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6F49-C4DF-47FE-B811-BA943A7A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A065-2F9B-4476-894F-ECB221420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5CD5-5A4F-448C-8C8B-371887DA3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BBCA-73DF-4B6B-BDE0-95342C7C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CEB5-0B2B-4D66-8620-671DB80A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C6C8-A65C-4826-B60B-165B2969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C807-3270-49FB-8B47-AE0B5537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6DF3-4C76-4F6C-8AD2-6CFBF9C7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8ED7-2A32-41A2-8BCF-258E0FD6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AC09-617C-40B0-8C04-DF296439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FD1F-84D5-4D0C-A89B-A6A7FFA3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5A81-3040-4CF8-BC9B-EBA732E79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elovie.ru/" TargetMode="External"/><Relationship Id="rId3" Type="http://schemas.openxmlformats.org/officeDocument/2006/relationships/hyperlink" Target="http://delovie.ru/" TargetMode="External"/><Relationship Id="rId4" Type="http://schemas.openxmlformats.org/officeDocument/2006/relationships/hyperlink" Target="http://delovie.ru/" TargetMode="External"/><Relationship Id="rId5" Type="http://schemas.openxmlformats.org/officeDocument/2006/relationships/hyperlink" Target="http://delovie.ru/" TargetMode="External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7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trud.org/" TargetMode="External"/><Relationship Id="rId3" Type="http://schemas.openxmlformats.org/officeDocument/2006/relationships/hyperlink" Target="http://www.trud.org/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4 октяб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т день отмечен в истории к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ждународный день Организации Объединенных нац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семирный день информации о развит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200400" y="0"/>
            <a:ext cx="59436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5268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Трудовые права несовершеннолетни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xit" presetID="3" presetSubtype="5">
                                  <p:stCondLst>
                                    <p:cond delay="850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24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162920" y="3657600"/>
            <a:ext cx="1743120" cy="2971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95480" cy="2568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сегодняшний день в мире насчитывается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18 миллионо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ющих дете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до 17 л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Из них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6 миллионов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ет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от 5 до 14 лет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6 миллионов дет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заняты на вредных и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опасных работах, из них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4 миллионов - дети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до 14 л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1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детей вынуждены работать  п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 и более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асов в сутки; 18%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удятся п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 и более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асов в день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162920" y="3657600"/>
            <a:ext cx="1743120" cy="2971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95480" cy="25686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,4 миллиона дете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опали в ловушку наиболее отвратительных форм детского труда. Их тяжким уделом стали рабство, работорговля, залог в рабство в счет погашения долгов, проституция, порнография и другие виды нелегальной деятельности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совместимой с возрастом, здоровьем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 психикой детей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 июня — международный день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орьбы против использования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етского труд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гласно всероссийскому опросу Фонда “Общественное мнение”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4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прошенных заработали свои первые деньги в возрасте до 15 лет, ещё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% - с 15-17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ботодателями среди видов работ, на выполнение которых привлекаются дети, называются: уборка рабочих и торговых мест (31%), торговля с лотков, в ларьке (31%), перевозка и погрузка товаров (21%), помощь на стройке (14%), охрана товаров, вещей (12%), работа «ходячей рекламой» (7%), мойка машин (5%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льшинство несовершеннолетних работают в Москве без официального оформления своего трудоустройства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2%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2%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ботают потому, что необходимо помогать своей сем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3200400" y="762120"/>
          <a:ext cx="2895480" cy="51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762120"/>
                    <a:ext cx="2895480" cy="51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Это важно знат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сковский центр труда и занятости молодежи «Перспектива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-й Пехотный пер., д. 4 (ст. метро «Щукинская»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delovie.ru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-499-190-16-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сковский городской правовой Центр «Защита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. Коровий Вал, д. 3, стр.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ст. метро «Добрынинская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59-89-40, 959-99-88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49-88-40 - «горячая ли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267080" y="304920"/>
            <a:ext cx="4038840" cy="27432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960640" cy="4419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905120" y="3048120"/>
            <a:ext cx="48765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38080" y="1708200"/>
            <a:ext cx="6477120" cy="431172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3cccc"/>
              </a:gs>
              <a:gs pos="100000">
                <a:srgbClr val="009999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038480" y="3581280"/>
            <a:ext cx="2054160" cy="2220840"/>
            <a:chOff x="4038480" y="3581280"/>
            <a:chExt cx="2054160" cy="222084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4090680" y="5257800"/>
              <a:ext cx="198144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038480" y="3581280"/>
              <a:ext cx="2054160" cy="19494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65480" y="3592440"/>
              <a:ext cx="2003400" cy="1901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86000" y="3609720"/>
              <a:ext cx="1906560" cy="17780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97240" y="3660480"/>
              <a:ext cx="1695240" cy="1441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676520" y="3276720"/>
            <a:ext cx="1828440" cy="2056680"/>
            <a:chOff x="1676520" y="3276720"/>
            <a:chExt cx="1828440" cy="2056680"/>
          </a:xfrm>
        </p:grpSpPr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1676520" y="4812120"/>
              <a:ext cx="182844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1761120" y="3276720"/>
              <a:ext cx="1719360" cy="18054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82000" y="3285360"/>
              <a:ext cx="1679400" cy="17622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01080" y="3303360"/>
              <a:ext cx="1596240" cy="164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92880" y="3349440"/>
              <a:ext cx="1421640" cy="1335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57200" y="1676520"/>
            <a:ext cx="1828440" cy="1675440"/>
            <a:chOff x="457200" y="1676520"/>
            <a:chExt cx="1828440" cy="1675440"/>
          </a:xfrm>
        </p:grpSpPr>
        <p:pic>
          <p:nvPicPr>
            <p:cNvPr id="115" name="" descr=""/>
            <p:cNvPicPr/>
            <p:nvPr/>
          </p:nvPicPr>
          <p:blipFill>
            <a:blip r:embed="rId3"/>
            <a:stretch/>
          </p:blipFill>
          <p:spPr>
            <a:xfrm>
              <a:off x="457200" y="2862360"/>
              <a:ext cx="1828440" cy="48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620280" y="1676520"/>
              <a:ext cx="1491480" cy="14166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1160" y="1684440"/>
              <a:ext cx="1453680" cy="1381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56280" y="1697040"/>
              <a:ext cx="1381680" cy="12927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6200" y="1733760"/>
              <a:ext cx="1229400" cy="1048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676520" y="3886200"/>
            <a:ext cx="20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ПОНЯ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2520" y="4267080"/>
            <a:ext cx="23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ПРОТИВ…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8040" y="213660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 МОГУ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8077320" cy="60195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2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br>
              <a:rPr sz="40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стно</a:t>
            </a:r>
            <a:br>
              <a:rPr sz="2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того чтобы люди находили счастье в своем труде, необходимы три условия: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ота должна быть им по силам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а не должна быть изнуряющей и ей обязательно должен сопутствовать успе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но ли считать данное высказывани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жона Рёскина образным выражением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еи свободного труда?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гументируйте свой ответ. </a:t>
            </a:r>
            <a:br>
              <a:rPr sz="2800"/>
            </a:b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ает все необходимое в жиз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на золото и серебро, а именн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ыло первоначально приобретены все богатства мира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/А. Смит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жить – только небо копт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 личног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не может идти вперед; не может остаться на одном месте, но должен идти назад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/К.Д. Ушинский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озволяй душе лениться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 в ступе воду не толочь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уша обязан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итьс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день и ночь, и день и ночь!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/Н. Заболоцкий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источник всякого богатства, утверждают политикоэкономы… Но он еще и нечто бесконечно большее, чем это. Он - первое основное условие всей человеческой жизни, и притом в такой степени, что мы в известном смысле должны сказать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здал самого человека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/Ф. Энгельс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380880"/>
            <a:ext cx="9144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762120"/>
            <a:ext cx="11430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1447920"/>
            <a:ext cx="914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1828800"/>
            <a:ext cx="914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4343400"/>
            <a:ext cx="8384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3657600"/>
            <a:ext cx="1600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5638680"/>
            <a:ext cx="8380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8077320" cy="60195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2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br>
              <a:rPr sz="4000"/>
            </a:br>
            <a:br>
              <a:rPr sz="40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пишите эсс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руд в наше время – это великое право и великая  обязаннос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 /Виктор Гюго/</a:t>
            </a: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или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руд - это право, которым каждый обязан воспользоватьс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ает все необходимое в жиз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на золото и серебро, а именн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ыло первоначально приобретены все богатства мира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/А. Смит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жить – только небо копт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 личног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не может идти вперед; не может остаться на одном месте, но должен идти назад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/К.Д. Ушинский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озволяй душе лениться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 в ступе воду не толочь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уша обязан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итьс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день и ночь, и день и ночь!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/Н. Заболоцкий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источник всякого богатства, утверждают политикоэкономы… Но он еще и нечто бесконечно большее, чем это. Он - первое основное условие всей человеческой жизни, и притом в такой степени, что мы в известном смысле должны сказать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здал самого человека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/Ф. Энгельс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153280" cy="16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руд: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право или обязаннос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рудовые права несовершеннолетни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43400" cy="3581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343400" y="3505320"/>
            <a:ext cx="4800600" cy="3352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343400" y="0"/>
            <a:ext cx="4800600" cy="3505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0" y="3489480"/>
            <a:ext cx="434340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8320" y="838080"/>
            <a:ext cx="4495680" cy="6019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8320" cy="3657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3354480"/>
            <a:ext cx="4648320" cy="35035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Детский труд –       жестокая реальност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629400" y="0"/>
            <a:ext cx="2514600" cy="27432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тапы большого пути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орьбы за право на тр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середины XVIII в. В Англии стали возникать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юзы рабочи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 1868 году был сформирован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гресс тред-юнион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 1906 году, на волне подъема профсоюзного движе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а принята Амьенская хартия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фсоюзы признавались единственной приемлемой формой объединения рабочи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901-1903 гг. в Москве и Санкт-Петербурге были открыты с разрешения власте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вые легальные рабочие союз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 1905-1906 гг. по всей России образовалось около ста рабочих союз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ы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российский съезд профсоюз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состоялся в январе 1918 г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ериод существования СССР профсоюзные комитеты на предприятиях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уществляли контроль за выполнением законов о труд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распределяли путевки в санатории и дома отдыха и т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фсоюзы стоят на страже права на труд и права свободного труда. Они выступают за социальные гарантии и достойный уровень жизн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www.trud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0" y="6000840"/>
            <a:ext cx="23814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РУД - ПРАВО ИЛИ ОБЯЗАННОС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1600200"/>
          <a:ext cx="1857240" cy="39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1857240" cy="39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019920" y="304920"/>
            <a:ext cx="2590560" cy="3581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4114800" cy="30477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41-194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57200" y="3505320"/>
            <a:ext cx="4038480" cy="3124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724280" y="396252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5T14:18:16Z</dcterms:created>
  <dc:creator>Acer</dc:creator>
  <dc:description/>
  <dc:language>en-US</dc:language>
  <cp:lastModifiedBy>Acer</cp:lastModifiedBy>
  <dcterms:modified xsi:type="dcterms:W3CDTF">2011-10-16T14:08:26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