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wmf" ContentType="image/x-wmf"/>
  <Override PartName="/ppt/media/image16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B4E-61A9-4529-99E3-032BA1B6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0B6-4A83-4B86-81D1-7CAB77BF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630-2A82-4B3F-B354-8DB055DD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1C4-51B5-4398-894D-5BCC9D71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AE1-389B-4D53-B227-06022234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312-2102-4E68-BE7F-7B59E993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A6B-FB5E-41A6-A66D-18D446FB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60A-9F64-4D02-9D6B-A5F57F09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E8E-B825-499E-AEBA-EB464A0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4A8-815B-4493-9ABC-3A8F5C31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3BC-9B19-42E2-B41A-156EE35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F22-CB99-45D4-B2F8-A9F689D5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B426-EB3B-4A2D-95F1-DC1F32A0D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lovie.ru/" TargetMode="External"/><Relationship Id="rId3" Type="http://schemas.openxmlformats.org/officeDocument/2006/relationships/hyperlink" Target="http://delovie.ru/" TargetMode="External"/><Relationship Id="rId4" Type="http://schemas.openxmlformats.org/officeDocument/2006/relationships/hyperlink" Target="http://delovie.ru/" TargetMode="External"/><Relationship Id="rId5" Type="http://schemas.openxmlformats.org/officeDocument/2006/relationships/hyperlink" Target="http://delovie.ru/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trud.org/" TargetMode="External"/><Relationship Id="rId3" Type="http://schemas.openxmlformats.org/officeDocument/2006/relationships/hyperlink" Target="http://www.trud.org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 октяб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день отмечен в истории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ждународный день Организации Объединенных нац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мирный день информации о разви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рудовые права несовершеннолетн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xit" presetID="3" presetSubtype="5">
                                  <p:stCondLst>
                                    <p:cond delay="85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сегодняшний день в мире насчитывается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8 миллио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ющих дет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о 17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Из них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6 миллионов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е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т 5 до 14 ле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6 миллионов де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заняты на вредных 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опасных работах, из 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4 миллионов - дет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до 14 л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детей вынуждены работать  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и боле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ов в сутки; 18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ятся 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и более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сов в ден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162920" y="3657600"/>
            <a:ext cx="174312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568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,4 миллиона дет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пали в ловушку наиболее отвратительных форм детского труда. Их тяжким уделом стали рабство, работорговля, залог в рабство в счет погашения долгов, проституция, порнография и другие виды нелегальной деятельности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овместимой с возрастом, здоровье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сихикой дете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июня — международный ден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ы против использова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тского тру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гласно всероссийскому опросу Фонда “Общественное мнение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рошенных заработали свои первые деньги в возрасте до 15 лет, ещ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- с 15-1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одателями среди видов работ, на выполнение которых привлекаются дети, называются: уборка рабочих и торговых мест (31%), торговля с лотков, в ларьке (31%), перевозка и погрузка товаров (21%), помощь на стройке (14%), охрана товаров, вещей (12%), работа «ходячей рекламой» (7%), мойка машин (5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нство несовершеннолетних работают в Москве без официального оформления своего трудоустройств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2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ют потому, что необходимо помогать своей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00400" y="762120"/>
          <a:ext cx="2895480" cy="51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762120"/>
                    <a:ext cx="28954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Это важно зна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овский центр труда и занятости молодежи «Перспектив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й Пехотный пер., д. 4 (ст. метро «Щукинская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ovie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499-190-16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сковский городской правовой Центр «Защит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. Коровий Вал, д. 3, стр.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т. метро «Добрынинская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59-89-40, 959-99-88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49-88-40 - «горячая ли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267080" y="30492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6064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3048120"/>
            <a:ext cx="4876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1708200"/>
            <a:ext cx="6477120" cy="43117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3581280"/>
            <a:ext cx="2054160" cy="2220840"/>
            <a:chOff x="4038480" y="3581280"/>
            <a:chExt cx="2054160" cy="22208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090680" y="5257800"/>
              <a:ext cx="198144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38480" y="3581280"/>
              <a:ext cx="2054160" cy="1949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65480" y="3592440"/>
              <a:ext cx="2003400" cy="1901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6000" y="3609720"/>
              <a:ext cx="1906560" cy="17780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7240" y="3660480"/>
              <a:ext cx="1695240" cy="144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76520" y="3276720"/>
            <a:ext cx="1828440" cy="2056680"/>
            <a:chOff x="1676520" y="3276720"/>
            <a:chExt cx="1828440" cy="20566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676520" y="4812120"/>
              <a:ext cx="182844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61120" y="3276720"/>
              <a:ext cx="1719360" cy="1805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82000" y="3285360"/>
              <a:ext cx="1679400" cy="1762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01080" y="3303360"/>
              <a:ext cx="1596240" cy="164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2880" y="3349440"/>
              <a:ext cx="1421640" cy="133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7200" y="1676520"/>
            <a:ext cx="1828440" cy="1675440"/>
            <a:chOff x="457200" y="1676520"/>
            <a:chExt cx="1828440" cy="167544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457200" y="2862360"/>
              <a:ext cx="1828440" cy="48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0280" y="1676520"/>
              <a:ext cx="1491480" cy="14166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160" y="1684440"/>
              <a:ext cx="1453680" cy="1381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6280" y="1697040"/>
              <a:ext cx="1381680" cy="12927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200" y="1733760"/>
              <a:ext cx="1229400" cy="1048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676520" y="3886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4267080"/>
            <a:ext cx="23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РОТИВ…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040" y="21366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 МОГУ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019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тно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того чтобы люди находили счастье в своем труде, необходимы три условия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должна быть им по силам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а не должна быть изнуряющей и ей обязательно должен сопутствовать успе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считать данное высказывани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а Рёскина образным выражение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и свободного труда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гументируйте свой ответ. 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се необходимое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 золото и серебро, а 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первоначально приобретены все богатства мир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А. Сми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ь – только небо коп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ич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может идти вперед; не может остаться на одном месте, но должен идти назад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К.Д. Ушинс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 душе лен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 ступе воду не толоч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а обяза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нь и ночь, и день и ноч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Н. Заболоц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очник всякого богатства, утверждают политикоэкономы… Но он еще и нечто бесконечно большее, чем это. Он - первое основное условие всей человеческой жизни, и притом в такой степени, что мы в известном смысле должны сказа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самого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Ф. Энгельс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762120"/>
            <a:ext cx="11430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4479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343400"/>
            <a:ext cx="8384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657600"/>
            <a:ext cx="1600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5638680"/>
            <a:ext cx="8380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01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пишите эсс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 в наше время – это великое право и великая  обяза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 /Виктор Гюго/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уд - это право, которым каждый обязан воспользо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ает все необходимое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 золото и серебро, а име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первоначально приобретены все богатства мир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А. Смит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ить – только небо коп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лич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не может идти вперед; не может остаться на одном месте, но должен идти назад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К.Д. Ушинс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зволяй душе ленить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в ступе воду не толоч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ша обяза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ить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ень и ночь, и день и ночь!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Н. Заболоцкий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очник всякого богатства, утверждают политикоэкономы… Но он еще и нечто бесконечно большее, чем это. Он - первое основное условие всей человеческой жизни, и притом в такой степени, что мы в известном смысле должны сказа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здал самого человек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Ф. Энгельс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153280" cy="16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право или обяз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овые права несовершеннолетни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3489480"/>
            <a:ext cx="434340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838080"/>
            <a:ext cx="4495680" cy="6019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3354480"/>
            <a:ext cx="4648320" cy="3503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тский труд –       жестокая реаль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пы большого пут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рьбы за 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середины XVIII в. В Англии стали возникать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юзы рабоч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1868 году был сформирова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гресс тред-юни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 1906 году, на волне подъема профсоюзного дви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ринята Амьенская харти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союзы признавались единственной приемлемой формой объединения рабоч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01-1903 гг. в Москве и Санкт-Петербурге были открыты с разрешения власт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ые легальные рабочие сою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 1905-1906 гг. по всей России образовалось около ста рабочих сою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российский съезд профсоюз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остоялся в январе 1918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существования СССР профсоюзные комитеты на предприятия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яли контроль за выполнением законов о тру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пределяли путевки в санатории и дома отдыха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фсоюзы стоят на страже права на труд и права свободного труда. Они выступают за социальные гарантии и достойный уровень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trud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6000840"/>
            <a:ext cx="2381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УД - ПРАВО ИЛИ ОБЯЗАНН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600200"/>
          <a:ext cx="1857240" cy="39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185724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114800" cy="3047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41-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403848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4:18:16Z</dcterms:created>
  <dc:creator>Acer</dc:creator>
  <dc:description/>
  <dc:language>en-US</dc:language>
  <cp:lastModifiedBy>Acer</cp:lastModifiedBy>
  <dcterms:modified xsi:type="dcterms:W3CDTF">2011-10-16T14:08:2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