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16.png" ContentType="image/png"/>
  <Override PartName="/ppt/media/image2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306-4E71-4F06-A932-0190E661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2AB-2F5A-4992-B8F0-324F7DCD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744-1FE1-43BB-9B93-723DBC14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252-4203-4F67-A748-5429C252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309-E301-42DA-A619-9F04EA13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85D-EDA7-4F40-8535-5FB4CFE6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E41-B102-4302-8573-F12C5476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69A-72BB-4766-AA35-AF470598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8D7-9879-4099-AF89-918BE0FE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242-A32C-4083-A9DE-8D140E7C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1BE-8600-495A-AC3F-7CC5B628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940-9628-4A9E-A9A9-28504D9C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DBF6-6144-47EC-B943-099169F83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lovie.ru/" TargetMode="External"/><Relationship Id="rId3" Type="http://schemas.openxmlformats.org/officeDocument/2006/relationships/hyperlink" Target="http://delovie.ru/" TargetMode="External"/><Relationship Id="rId4" Type="http://schemas.openxmlformats.org/officeDocument/2006/relationships/hyperlink" Target="http://delovie.ru/" TargetMode="External"/><Relationship Id="rId5" Type="http://schemas.openxmlformats.org/officeDocument/2006/relationships/hyperlink" Target="http://delovie.ru/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trud.org/" TargetMode="External"/><Relationship Id="rId3" Type="http://schemas.openxmlformats.org/officeDocument/2006/relationships/hyperlink" Target="http://www.trud.org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4 октяб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день отмечен в истории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ждународный день Организации Объединенных нац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мирный день информации о разви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Трудовые права несовершеннолетни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3" presetSubtype="5">
                                  <p:stCondLst>
                                    <p:cond delay="8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4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62920" y="3657600"/>
            <a:ext cx="174312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56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егодняшний день в мире насчитывается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8 миллион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ющих дет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о 17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Из них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6 миллионов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е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от 5 до 14 ле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6 миллионов де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заняты на вредных 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опасных работах, из ни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4 миллионов - дет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до 14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1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детей вынуждены работать  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и боле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ов в сутки; 18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ятся 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и более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ов в ден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62920" y="3657600"/>
            <a:ext cx="174312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568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,4 миллиона дет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пали в ловушку наиболее отвратительных форм детского труда. Их тяжким уделом стали рабство, работорговля, залог в рабство в счет погашения долгов, проституция, порнография и другие виды нелегальной деятельности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овместимой с возрастом, здоровье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сихикой детей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июня — международный ден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рьбы против использован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тского тру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гласно всероссийскому опросу Фонда “Общественное мнение”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4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прошенных заработали свои первые деньги в возрасте до 15 лет, ещё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- с 15-1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одателями среди видов работ, на выполнение которых привлекаются дети, называются: уборка рабочих и торговых мест (31%), торговля с лотков, в ларьке (31%), перевозка и погрузка товаров (21%), помощь на стройке (14%), охрана товаров, вещей (12%), работа «ходячей рекламой» (7%), мойка машин (5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инство несовершеннолетних работают в Москве без официального оформления своего трудоустройств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2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ют потому, что необходимо помогать своей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00400" y="762120"/>
          <a:ext cx="2895480" cy="51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762120"/>
                    <a:ext cx="289548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Это важно зн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овский центр труда и занятости молодежи «Перспектив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й Пехотный пер., д. 4 (ст. метро «Щукинская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lovie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499-190-16-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овский городской правовой Центр «Защит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. Коровий Вал, д. 3, стр.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. метро «Добрынинская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59-89-40, 959-99-88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49-88-40 - «горячая ли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267080" y="304920"/>
            <a:ext cx="403884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60640" cy="441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905120" y="3048120"/>
            <a:ext cx="48765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1708200"/>
            <a:ext cx="6477120" cy="431172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38480" y="3581280"/>
            <a:ext cx="2054160" cy="2220840"/>
            <a:chOff x="4038480" y="3581280"/>
            <a:chExt cx="2054160" cy="222084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090680" y="5257800"/>
              <a:ext cx="198144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038480" y="3581280"/>
              <a:ext cx="2054160" cy="1949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65480" y="3592440"/>
              <a:ext cx="2003400" cy="1901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86000" y="3609720"/>
              <a:ext cx="1906560" cy="17780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7240" y="3660480"/>
              <a:ext cx="1695240" cy="144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76520" y="3276720"/>
            <a:ext cx="1828440" cy="2056680"/>
            <a:chOff x="1676520" y="3276720"/>
            <a:chExt cx="1828440" cy="205668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676520" y="4812120"/>
              <a:ext cx="182844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761120" y="3276720"/>
              <a:ext cx="1719360" cy="1805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82000" y="3285360"/>
              <a:ext cx="1679400" cy="1762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01080" y="3303360"/>
              <a:ext cx="1596240" cy="164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2880" y="3349440"/>
              <a:ext cx="1421640" cy="133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57200" y="1676520"/>
            <a:ext cx="1828440" cy="1675440"/>
            <a:chOff x="457200" y="1676520"/>
            <a:chExt cx="1828440" cy="167544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457200" y="2862360"/>
              <a:ext cx="1828440" cy="48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0280" y="1676520"/>
              <a:ext cx="1491480" cy="14166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1160" y="1684440"/>
              <a:ext cx="1453680" cy="1381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6280" y="1697040"/>
              <a:ext cx="1381680" cy="12927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200" y="1733760"/>
              <a:ext cx="1229400" cy="1048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676520" y="38862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ПОНЯ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4267080"/>
            <a:ext cx="23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ПРОТИВ…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040" y="21366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МОГУ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6019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0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но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того чтобы люди находили счастье в своем труде, необходимы три условия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должна быть им по силам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а не должна быть изнуряющей и ей обязательно должен сопутствовать успе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считать данное высказыва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жона Рёскина образным выражением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и свободного труда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гументируйте свой ответ. 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ет все необходимое в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а золото и серебро, а име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о первоначально приобретены все богатства мир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А. Смит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ь – только небо коп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личн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не может идти вперед; не может остаться на одном месте, но должен идти назад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К.Д. Ушинский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зволяй душе ленить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в ступе воду не толоч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ша обяза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и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ень и ночь, и день и ночь!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Н. Заболоцкий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сточник всякого богатства, утверждают политикоэкономы… Но он еще и нечто бесконечно большее, чем это. Он - первое основное условие всей человеческой жизни, и притом в такой степени, что мы в известном смысле должны сказа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л самого человек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Ф. Энгельс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8088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762120"/>
            <a:ext cx="1143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4479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8288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343400"/>
            <a:ext cx="8384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657600"/>
            <a:ext cx="1600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5638680"/>
            <a:ext cx="8380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6019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000"/>
            </a:b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ишите эсс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уд в наше время – это великое право и великая  обяза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/Виктор Гюго/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уд - это право, которым каждый обязан воспользова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ет все необходимое в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а золото и серебро, а име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о первоначально приобретены все богатства мир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А. Смит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ь – только небо коп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личн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не может идти вперед; не может остаться на одном месте, но должен идти назад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К.Д. Ушинский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зволяй душе ленить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в ступе воду не толоч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ша обяза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и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ень и ночь, и день и ночь!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Н. Заболоцкий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сточник всякого богатства, утверждают политикоэкономы… Но он еще и нечто бесконечно большее, чем это. Он - первое основное условие всей человеческой жизни, и притом в такой степени, что мы в известном смысле должны сказа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л самого человек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Ф. Энгельс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153280" cy="16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уд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право или обязан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удовые права несовершеннолетн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343400" y="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3489480"/>
            <a:ext cx="434340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495680" cy="6019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3354480"/>
            <a:ext cx="4648320" cy="3503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етский труд –       жестокая реально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74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апы большого пут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рьбы за право на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середины XVIII в. В Англии стали возникать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юзы рабоч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 1868 году был сформирован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гресс тред-юнио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 1906 году, на волне подъема профсоюзного движ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принята Амьенская хартия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союзы признавались единственной приемлемой формой объединения рабоч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01-1903 гг. в Москве и Санкт-Петербурге были открыты с разрешения власт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ые легальные рабочие союз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 1905-1906 гг. по всей России образовалось около ста рабочих сою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российский съезд профсоюз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остоялся в январе 1918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иод существования СССР профсоюзные комитеты на предприятия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яли контроль за выполнением законов о тру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аспределяли путевки в санатории и дома отдыха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союзы стоят на страже права на труд и права свободного труда. Они выступают за социальные гарантии и достойный уровень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www.trud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6000840"/>
            <a:ext cx="23814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УД - ПРАВО ИЛИ ОБЯЗАН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185724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185724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590560" cy="358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114800" cy="3047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1-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4038480" cy="3124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24280" y="396252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4:18:16Z</dcterms:created>
  <dc:creator>Acer</dc:creator>
  <dc:description/>
  <dc:language>en-US</dc:language>
  <cp:lastModifiedBy>Acer</cp:lastModifiedBy>
  <dcterms:modified xsi:type="dcterms:W3CDTF">2011-10-16T14:08:2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