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A61-30A2-46E6-B96A-FAFDFA2C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EBD-9206-47B1-B715-82DF1961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C4B-84E4-4CA1-94FB-8AEDC393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823-C05C-4FE4-8C6A-2F14D9DA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6BD-3EB0-495F-B05A-18DD11A8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9AC-40DE-4E56-B23C-D7B01A16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5B4-D920-410F-A74C-23F82F4D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B87-661D-4056-A85C-FDF134A0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AB6-0C4C-4D53-A8DD-A4C535C3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B72-C178-46AC-A1F8-CE403348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C1B-D2B1-4B21-A82F-2953081B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2BA-3CE6-4C07-B198-8131997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C148-C792-4704-98A7-61F18145DB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13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908000" y="422100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0 учителей гимназий, лицеев и средних шко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них 4 учителя МОУ СОШ №4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епанова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вляшик В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ончарова Т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упцова Л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260280"/>
            <a:ext cx="55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лининградское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деление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ОПАЯз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(Kaliningrad Association of the Teachers of Engl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766240" y="1628640"/>
            <a:ext cx="61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0 преподавателей вузов (из них 9 кандидатов нау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-39240" y="278136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 преподавателей среднеспециальных образователь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C:\Documents and Settings\Admin\Рабочий стол\ЯЯЯЯЯЯЯЯЯЯЯЯЯЯЯЯЯ.jpg"/>
          <p:cNvPicPr/>
          <p:nvPr/>
        </p:nvPicPr>
        <p:blipFill>
          <a:blip r:embed="rId2"/>
          <a:stretch/>
        </p:blipFill>
        <p:spPr>
          <a:xfrm rot="21416400">
            <a:off x="394920" y="1052280"/>
            <a:ext cx="2857680" cy="56275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67" name="Picture 4" descr="C:\Documents and Settings\Admin\Рабочий стол\ААААААААААААААААА.JPG"/>
          <p:cNvPicPr/>
          <p:nvPr/>
        </p:nvPicPr>
        <p:blipFill>
          <a:blip r:embed="rId3"/>
          <a:stretch/>
        </p:blipFill>
        <p:spPr>
          <a:xfrm rot="280800">
            <a:off x="5724360" y="1125360"/>
            <a:ext cx="2695680" cy="54468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68" name="Rectangle 2"/>
          <p:cNvSpPr/>
          <p:nvPr/>
        </p:nvSpPr>
        <p:spPr>
          <a:xfrm>
            <a:off x="428760" y="504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гиональный этап Всероссийского конкурса сочинений на тему 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son I would like to Speak to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3429000" y="1857240"/>
            <a:ext cx="5572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место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Миронова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Алёна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,11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 Letter to the Girl from Nowher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395280" y="2349360"/>
            <a:ext cx="5500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место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Кулезин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Марк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11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«I would like to speak to Franklin Delano Roosevel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7720" y="288000"/>
            <a:ext cx="537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Приложение к газете « Первое сентября» №  за март 201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00040" y="1842120"/>
            <a:ext cx="8286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Разработк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урок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“My town is Beautiful All Year Round”, C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тепанов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.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Сочинение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«A Letter to the Girl from Nowhere”,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Миронов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лён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11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Путевые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заметки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“Don’t forget about Holocaust”,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Степанов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.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I:\Kate\photo students\дети\Саркисян Татевик.jpg"/>
          <p:cNvPicPr/>
          <p:nvPr/>
        </p:nvPicPr>
        <p:blipFill>
          <a:blip r:embed="rId2"/>
          <a:stretch/>
        </p:blipFill>
        <p:spPr>
          <a:xfrm rot="160800">
            <a:off x="6089400" y="1699920"/>
            <a:ext cx="2552760" cy="38386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74" name="Picture 4" descr="C:\Documents and Settings\Admin\Рабочий стол\ААААААААААААААААА.JPG"/>
          <p:cNvPicPr/>
          <p:nvPr/>
        </p:nvPicPr>
        <p:blipFill>
          <a:blip r:embed="rId3"/>
          <a:stretch/>
        </p:blipFill>
        <p:spPr>
          <a:xfrm rot="21334800">
            <a:off x="274680" y="1846440"/>
            <a:ext cx="1720800" cy="34797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75" name="Picture 4" descr="I:\Kate\photo students\дети\Халецкая Алёна.JPG"/>
          <p:cNvPicPr/>
          <p:nvPr/>
        </p:nvPicPr>
        <p:blipFill>
          <a:blip r:embed="rId4"/>
          <a:stretch/>
        </p:blipFill>
        <p:spPr>
          <a:xfrm rot="183600">
            <a:off x="2728800" y="1913040"/>
            <a:ext cx="2197080" cy="32860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76" name="Rectangle 2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ек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“Реализация личностно-ориентированного подхода на уроках иностранн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142560" y="128592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езин Марк 11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729880" y="142884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лецкая Алёна  10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5933880" y="121428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кисян Татевик 8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16000" y="178596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улис Станислав 11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5862600" y="171468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ринович Стефания 8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2790720" y="17146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нова Алёна 11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Documents and Settings\Admin\Рабочий стол\Ля-Ля_оя.JPG"/>
          <p:cNvPicPr/>
          <p:nvPr/>
        </p:nvPicPr>
        <p:blipFill>
          <a:blip r:embed="rId5"/>
          <a:stretch/>
        </p:blipFill>
        <p:spPr>
          <a:xfrm rot="168000">
            <a:off x="356760" y="2214720"/>
            <a:ext cx="2000160" cy="44672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84" name="Picture 7" descr="C:\Documents and Settings\Admin\Рабочий стол\Выаврпаоаона.JPG"/>
          <p:cNvPicPr/>
          <p:nvPr/>
        </p:nvPicPr>
        <p:blipFill>
          <a:blip r:embed="rId6"/>
          <a:stretch/>
        </p:blipFill>
        <p:spPr>
          <a:xfrm rot="21416400">
            <a:off x="6000480" y="2142720"/>
            <a:ext cx="2357280" cy="43052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85" name="Picture 8" descr="C:\Documents and Settings\Admin\Рабочий стол\ЯЯЯЯЯЯЯЯЯЯЯЯЯЯЯЯЯ.jpg"/>
          <p:cNvPicPr/>
          <p:nvPr/>
        </p:nvPicPr>
        <p:blipFill>
          <a:blip r:embed="rId7"/>
          <a:stretch/>
        </p:blipFill>
        <p:spPr>
          <a:xfrm>
            <a:off x="3000240" y="2143080"/>
            <a:ext cx="2251080" cy="44337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86" name="Прямоугольник 7"/>
          <p:cNvSpPr/>
          <p:nvPr/>
        </p:nvSpPr>
        <p:spPr>
          <a:xfrm>
            <a:off x="3492000" y="11253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а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4" descr="IMGP0178"/>
          <p:cNvPicPr/>
          <p:nvPr/>
        </p:nvPicPr>
        <p:blipFill>
          <a:blip r:embed="rId8"/>
          <a:stretch/>
        </p:blipFill>
        <p:spPr>
          <a:xfrm rot="21469200">
            <a:off x="1115640" y="1628640"/>
            <a:ext cx="6696000" cy="5021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7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" nodeType="after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85880" y="400680"/>
            <a:ext cx="7599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здание условий для формирования единого образовательного пространства средствами иностранного языка возможно только в тесном сотрудничестве с коллегами по школе и других образовательных учре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42960" y="396720"/>
            <a:ext cx="7572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о позволит реализовать основные направления работы образовательных учреждений нашего регио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модернизация институтов образования как инструментов социальн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создание объективной системы учебных и внеучебных достижени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обновление содержания и технологий образования, обеспечивающего баланс фундаментальности и компетентност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 rot="21027000">
            <a:off x="214200" y="4039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urier New"/>
              </a:rPr>
              <a:t>Семина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900000" y="2128320"/>
            <a:ext cx="720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aching Students How to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ten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”,  Девид Фэй, сотрудник Офиса английского языка и связей с общественностью Посольства США 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714680" y="1743840"/>
            <a:ext cx="664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untrystudying at the English Lessons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”,  Лиа Винк, Джойс Уайт, сотрудники Офиса английского языка и связей с общественностью Посольства США в Моск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 rot="21027000">
            <a:off x="214200" y="4755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urier New"/>
              </a:rPr>
              <a:t>Семина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 rot="20655600">
            <a:off x="171000" y="28692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285920" y="1887840"/>
            <a:ext cx="664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Инновации в преподавании английского языка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готовка к ЕГЭ.», Книжная компания «Британия в Калининграде», Галанина Н.И., ведущий методист издательства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cmil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rot="20596800">
            <a:off x="168480" y="501480"/>
            <a:ext cx="254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емина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071720" y="1589400"/>
            <a:ext cx="6670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овые учебные пособия для начальной и средней школы издательства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ngman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”, Книжная компания «Британия в Калининграде» совместно с НОУ И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-13320" y="57276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лекции по истории американской му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2080" y="136476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Истоки блюза и джаз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335040" y="258876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Золотой век Бродвейских мюзикл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-34200" y="3741120"/>
            <a:ext cx="49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ветская музыка США 19 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63640" y="538452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ктор: профессор теории музыки университета штата Айова, композитор Джеффри Прэ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857240" y="473760"/>
            <a:ext cx="5462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«Культурное многообразие Америки», Джеффи Анисман, сотрудник посольства США в Москв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071720" y="810360"/>
            <a:ext cx="6987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жегодна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ероссийска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ференци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«Strategizing and Managing Change in ELT in Russ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олее 100 преподавателей вузов, школ и колледжей Калининградской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3 представителей региональных ассоциаций преподавателей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рия Валерьевна Вербицкая, глава федеральной комиссии ЕГЭ по иностранным язы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Admin\Рабочий стол\ОРПРОПЛГПЛРП.JPG"/>
          <p:cNvPicPr/>
          <p:nvPr/>
        </p:nvPicPr>
        <p:blipFill>
          <a:blip r:embed="rId2"/>
          <a:stretch/>
        </p:blipFill>
        <p:spPr>
          <a:xfrm>
            <a:off x="539640" y="692280"/>
            <a:ext cx="1649520" cy="5651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61" name="Rectangle 2"/>
          <p:cNvSpPr/>
          <p:nvPr/>
        </p:nvSpPr>
        <p:spPr>
          <a:xfrm>
            <a:off x="2100240" y="429480"/>
            <a:ext cx="70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курс талантов на английском яз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357280" y="171468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оровкова Кристина 11а 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cause of You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IMG_1385"/>
          <p:cNvPicPr/>
          <p:nvPr/>
        </p:nvPicPr>
        <p:blipFill>
          <a:blip r:embed="rId3"/>
          <a:stretch/>
        </p:blipFill>
        <p:spPr>
          <a:xfrm>
            <a:off x="3780000" y="1844640"/>
            <a:ext cx="5018040" cy="3762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64" name="Rectangle 8"/>
          <p:cNvSpPr/>
          <p:nvPr/>
        </p:nvSpPr>
        <p:spPr>
          <a:xfrm>
            <a:off x="468360" y="256536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евин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иолетт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7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«Is it True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5363280" y="602136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яговская И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7:01:27Z</dcterms:created>
  <dc:creator>Галина</dc:creator>
  <dc:description/>
  <dc:language>en-US</dc:language>
  <cp:lastModifiedBy>Коля</cp:lastModifiedBy>
  <dcterms:modified xsi:type="dcterms:W3CDTF">2013-05-12T22:10:55Z</dcterms:modified>
  <cp:revision>25</cp:revision>
  <dc:subject/>
  <dc:title>Слайд 1</dc:title>
</cp:coreProperties>
</file>