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C44-879C-4AC8-BB56-92A613A0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9D2-A59F-4E37-991E-F513666B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5FC-3555-4B01-B13B-49464E1E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B8A-4380-4E6B-888F-E22F56BA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3DA-AC37-43E7-8AC3-9F8B24FF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A4C-5AB2-4227-9DE6-9C01C03F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7E9-55F2-4339-8858-EAB893E1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938-CA65-4AB8-9453-9C8C34B4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4E9-6D89-40B7-8BA8-A69A6BBD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125-5077-4963-9B13-4BEE5F4C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C93-F003-4F47-A22E-E085F40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1EE-5932-44F0-B5C1-45516805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38CD-39C2-42CF-96DB-97C101FC3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13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908000" y="4221000"/>
            <a:ext cx="70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0 учителей гимназий, лицеев и средних шко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них 4 учителя МОУ СОШ №4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епанова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вляшик В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нчарова Т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упцова Л.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260280"/>
            <a:ext cx="554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Калининградско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делени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ПАЯз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(Kaliningrad Association of the Teachers of Engl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766240" y="1628640"/>
            <a:ext cx="61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0 преподавателей вузов (из них 9 кандидатов нау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-39240" y="278136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 преподавателей среднеспециальных образователь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C:\Documents and Settings\Admin\Рабочий стол\ЯЯЯЯЯЯЯЯЯЯЯЯЯЯЯЯЯ.jpg"/>
          <p:cNvPicPr/>
          <p:nvPr/>
        </p:nvPicPr>
        <p:blipFill>
          <a:blip r:embed="rId2"/>
          <a:stretch/>
        </p:blipFill>
        <p:spPr>
          <a:xfrm rot="21416400">
            <a:off x="394920" y="1052280"/>
            <a:ext cx="2857680" cy="562752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67" name="Picture 4" descr="C:\Documents and Settings\Admin\Рабочий стол\ААААААААААААААААА.JPG"/>
          <p:cNvPicPr/>
          <p:nvPr/>
        </p:nvPicPr>
        <p:blipFill>
          <a:blip r:embed="rId3"/>
          <a:stretch/>
        </p:blipFill>
        <p:spPr>
          <a:xfrm rot="280800">
            <a:off x="5724360" y="1125360"/>
            <a:ext cx="2695680" cy="54468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68" name="Rectangle 2"/>
          <p:cNvSpPr/>
          <p:nvPr/>
        </p:nvSpPr>
        <p:spPr>
          <a:xfrm>
            <a:off x="428760" y="504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гиональный этап Всероссийского конкурса сочинений на тему 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I would like to Speak to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3429000" y="1857240"/>
            <a:ext cx="557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есто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иронова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Алёна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,11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 Letter to the Girl from Nowher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395280" y="2349360"/>
            <a:ext cx="5500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есто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Кулезин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Марк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11</a:t>
            </a: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«I would like to speak to Franklin Delano Roosevel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7720" y="288000"/>
            <a:ext cx="537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Приложение к газете « Первое сентября» №  за март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00040" y="1842120"/>
            <a:ext cx="8286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Разработк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урок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“My town is Beautiful All Year Round”, C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тепанов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очинение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«A Letter to the Girl from Nowhere”,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Миронов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лён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11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Путевые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заметки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“Don’t forget about Holocaust”,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Степанова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Г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I:\Kate\photo students\дети\Саркисян Татевик.jpg"/>
          <p:cNvPicPr/>
          <p:nvPr/>
        </p:nvPicPr>
        <p:blipFill>
          <a:blip r:embed="rId2"/>
          <a:stretch/>
        </p:blipFill>
        <p:spPr>
          <a:xfrm rot="160800">
            <a:off x="6089400" y="1699920"/>
            <a:ext cx="2552760" cy="38386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74" name="Picture 4" descr="C:\Documents and Settings\Admin\Рабочий стол\ААААААААААААААААА.JPG"/>
          <p:cNvPicPr/>
          <p:nvPr/>
        </p:nvPicPr>
        <p:blipFill>
          <a:blip r:embed="rId3"/>
          <a:stretch/>
        </p:blipFill>
        <p:spPr>
          <a:xfrm rot="21334800">
            <a:off x="274680" y="1846440"/>
            <a:ext cx="1720800" cy="34797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75" name="Picture 4" descr="I:\Kate\photo students\дети\Халецкая Алёна.JPG"/>
          <p:cNvPicPr/>
          <p:nvPr/>
        </p:nvPicPr>
        <p:blipFill>
          <a:blip r:embed="rId4"/>
          <a:stretch/>
        </p:blipFill>
        <p:spPr>
          <a:xfrm rot="183600">
            <a:off x="2728800" y="1913040"/>
            <a:ext cx="2197080" cy="32860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76" name="Rectangle 2"/>
          <p:cNvSpPr/>
          <p:nvPr/>
        </p:nvSpPr>
        <p:spPr>
          <a:xfrm>
            <a:off x="0" y="4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ек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“Реализация личностно-ориентированного подхода на уроках иностранн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астник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142560" y="12859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езин Марк 11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729880" y="142884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лецкая Алёна  10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5933880" y="121428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кисян Татевик 8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16000" y="178596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улис Станислав 11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5862600" y="171468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ринович Стефания 8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0"/>
          <p:cNvSpPr/>
          <p:nvPr/>
        </p:nvSpPr>
        <p:spPr>
          <a:xfrm>
            <a:off x="2790720" y="17146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нова Алёна 11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Documents and Settings\Admin\Рабочий стол\Ля-Ля_оя.JPG"/>
          <p:cNvPicPr/>
          <p:nvPr/>
        </p:nvPicPr>
        <p:blipFill>
          <a:blip r:embed="rId5"/>
          <a:stretch/>
        </p:blipFill>
        <p:spPr>
          <a:xfrm rot="168000">
            <a:off x="356760" y="2214720"/>
            <a:ext cx="2000160" cy="44672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84" name="Picture 7" descr="C:\Documents and Settings\Admin\Рабочий стол\Выаврпаоаона.JPG"/>
          <p:cNvPicPr/>
          <p:nvPr/>
        </p:nvPicPr>
        <p:blipFill>
          <a:blip r:embed="rId6"/>
          <a:stretch/>
        </p:blipFill>
        <p:spPr>
          <a:xfrm rot="21416400">
            <a:off x="6000480" y="2142720"/>
            <a:ext cx="2357280" cy="430524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85" name="Picture 8" descr="C:\Documents and Settings\Admin\Рабочий стол\ЯЯЯЯЯЯЯЯЯЯЯЯЯЯЯЯЯ.jpg"/>
          <p:cNvPicPr/>
          <p:nvPr/>
        </p:nvPicPr>
        <p:blipFill>
          <a:blip r:embed="rId7"/>
          <a:stretch/>
        </p:blipFill>
        <p:spPr>
          <a:xfrm>
            <a:off x="3000240" y="2143080"/>
            <a:ext cx="2251080" cy="443376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86" name="Прямоугольник 7"/>
          <p:cNvSpPr/>
          <p:nvPr/>
        </p:nvSpPr>
        <p:spPr>
          <a:xfrm>
            <a:off x="3492000" y="11253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4" descr="IMGP0178"/>
          <p:cNvPicPr/>
          <p:nvPr/>
        </p:nvPicPr>
        <p:blipFill>
          <a:blip r:embed="rId8"/>
          <a:stretch/>
        </p:blipFill>
        <p:spPr>
          <a:xfrm rot="21469200">
            <a:off x="1115640" y="1628640"/>
            <a:ext cx="6696000" cy="5021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8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8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8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3" presetSubtype="16">
                                  <p:stCondLst>
                                    <p:cond delay="4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1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85880" y="400680"/>
            <a:ext cx="759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здание условий для формирования единого образовательного пространства средствами иностранного языка возможно только в тесном сотрудничестве с коллегами по школе и других образовательных учре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42960" y="396720"/>
            <a:ext cx="75722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позволит реализовать основные направления работы образовательных учреждений нашего регио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модернизация институтов образования как инструментов социальн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создание объективной системы учебных и внеучебных достижени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- обновление содержания и технологий образования, обеспечивающего баланс фундаментальности и компетентнос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 rot="21027000">
            <a:off x="214200" y="4039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urier New"/>
              </a:rPr>
              <a:t>Семина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00000" y="2128320"/>
            <a:ext cx="720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aching Students How to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en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”,  Девид Фэй, сотрудник Офиса английского языка и связей с общественностью Посольства США 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714680" y="1743840"/>
            <a:ext cx="664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untrystudying at the English Lesson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”,  Лиа Винк, Джойс Уайт, сотрудники Офиса английского языка и связей с общественностью Посольства США в Моск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 rot="21027000">
            <a:off x="214200" y="4755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urier New"/>
              </a:rPr>
              <a:t>Семина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 rot="20655600">
            <a:off x="171000" y="286920"/>
            <a:ext cx="22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285920" y="1887840"/>
            <a:ext cx="6643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Инновации в преподавании английского языка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готовка к ЕГЭ.», Книжная компания «Британия в Калининграде», Галанина Н.И., ведущий методист издательства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cmil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rot="20596800">
            <a:off x="168480" y="501480"/>
            <a:ext cx="254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емина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071720" y="1589400"/>
            <a:ext cx="6670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овые учебные пособия для начальной и средней школы издательства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ongman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”, Книжная компания «Британия в Калининграде» совместно с НОУ И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-13320" y="572760"/>
            <a:ext cx="67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лекции по истории американской муз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080" y="136476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Истоки блюза и джаз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335040" y="2588760"/>
            <a:ext cx="59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Золотой век Бродвейских мюзикл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-34200" y="3741120"/>
            <a:ext cx="49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Светская музыка США 19 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863640" y="538452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ктор: профессор теории музыки университета штата Айова, композитор Джеффри Прэ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857240" y="473760"/>
            <a:ext cx="5462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Культурное многообразие Америки», Джеффи Анисман, сотрудник посольства США в Москв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071720" y="810360"/>
            <a:ext cx="6987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жегодна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ероссийска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ференци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«Strategizing and Managing Change in ELT in Russ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олее 100 преподавателей вузов, школ и колледжей Калининградской обла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3 представителей региональных ассоциаций преподава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рия Валерьевна Вербицкая, глава федеральной комиссии ЕГЭ по иностранным язы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Admin\Рабочий стол\ОРПРОПЛГПЛРП.JPG"/>
          <p:cNvPicPr/>
          <p:nvPr/>
        </p:nvPicPr>
        <p:blipFill>
          <a:blip r:embed="rId2"/>
          <a:stretch/>
        </p:blipFill>
        <p:spPr>
          <a:xfrm>
            <a:off x="539640" y="692280"/>
            <a:ext cx="1649520" cy="5651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1" name="Rectangle 2"/>
          <p:cNvSpPr/>
          <p:nvPr/>
        </p:nvSpPr>
        <p:spPr>
          <a:xfrm>
            <a:off x="2100240" y="429480"/>
            <a:ext cx="70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курс талантов на английском я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2357280" y="171468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Боровкова Кристина 11а 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cause of You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IMG_1385"/>
          <p:cNvPicPr/>
          <p:nvPr/>
        </p:nvPicPr>
        <p:blipFill>
          <a:blip r:embed="rId3"/>
          <a:stretch/>
        </p:blipFill>
        <p:spPr>
          <a:xfrm>
            <a:off x="3780000" y="1844640"/>
            <a:ext cx="5018040" cy="3762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4" name="Rectangle 8"/>
          <p:cNvSpPr/>
          <p:nvPr/>
        </p:nvSpPr>
        <p:spPr>
          <a:xfrm>
            <a:off x="468360" y="256536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Левин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иолетт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7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«Is it True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363280" y="60213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яговская И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01:27Z</dcterms:created>
  <dc:creator>Галина</dc:creator>
  <dc:description/>
  <dc:language>en-US</dc:language>
  <cp:lastModifiedBy>Коля</cp:lastModifiedBy>
  <dcterms:modified xsi:type="dcterms:W3CDTF">2013-05-12T22:10:55Z</dcterms:modified>
  <cp:revision>25</cp:revision>
  <dc:subject/>
  <dc:title>Слайд 1</dc:title>
</cp:coreProperties>
</file>