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280-4F0B-47E4-BF01-8FF46BD0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FC7-0E42-49FC-9B45-F84E3F4C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8B0-2D2C-45E6-AC22-7B38C528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56B-0B74-4C30-AB0D-86CE843D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5D9-CD3D-43FD-B103-90476CD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1BE-8ECA-4B0C-898A-A51F249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1FB-80EB-4B35-A474-3293696B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DAC-3AB8-487F-BF0D-E255E1AA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3B5-B069-4450-A21D-9696E93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F4D-9CB6-46D8-B003-85E78057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935-7DEA-441C-B7F4-63A771F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3DC-7EEF-4631-B548-E96B3C51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58CC-A2DB-470B-9FA5-4DE2414F2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3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908000" y="422100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0 учителей гимназий, лицеев и средних шко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них 4 учителя МОУ СОШ №4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епанова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вляшик В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нчарова Т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пцова Л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260280"/>
            <a:ext cx="55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лининградско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делени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ПАЯз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(Kaliningrad Association of the Teachers of Engl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766240" y="1628640"/>
            <a:ext cx="61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 преподавателей вузов (из них 9 кандидатов на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-39240" y="278136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 преподавателей среднеспециальных 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C:\Documents and Settings\Admin\Рабочий стол\ЯЯЯЯЯЯЯЯЯЯЯЯЯЯЯЯЯ.jpg"/>
          <p:cNvPicPr/>
          <p:nvPr/>
        </p:nvPicPr>
        <p:blipFill>
          <a:blip r:embed="rId2"/>
          <a:stretch/>
        </p:blipFill>
        <p:spPr>
          <a:xfrm rot="21416400">
            <a:off x="394920" y="1052280"/>
            <a:ext cx="2857680" cy="56275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67" name="Picture 4" descr="C:\Documents and Settings\Admin\Рабочий стол\ААААААААААААААААА.JPG"/>
          <p:cNvPicPr/>
          <p:nvPr/>
        </p:nvPicPr>
        <p:blipFill>
          <a:blip r:embed="rId3"/>
          <a:stretch/>
        </p:blipFill>
        <p:spPr>
          <a:xfrm rot="280800">
            <a:off x="5724360" y="1125360"/>
            <a:ext cx="2695680" cy="5446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68" name="Rectangle 2"/>
          <p:cNvSpPr/>
          <p:nvPr/>
        </p:nvSpPr>
        <p:spPr>
          <a:xfrm>
            <a:off x="428760" y="504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гиональный этап Всероссийского конкурса сочинений на тему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I would like to Speak t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429000" y="1857240"/>
            <a:ext cx="557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есто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иронов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Алён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11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Letter to the Girl from Nowher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395280" y="2349360"/>
            <a:ext cx="5500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есто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улезин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арк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11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«I would like to speak to Franklin Delano Roosevel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7720" y="288000"/>
            <a:ext cx="53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риложение к газете « Первое сентября» №  за март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00040" y="1842120"/>
            <a:ext cx="8286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Разработк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урок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“My town is Beautiful All Year Round”, C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тепа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очинение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«A Letter to the Girl from Nowhere”,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иро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лён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11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утевые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аметки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“Don’t forget about Holocaust”,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тепа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I:\Kate\photo students\дети\Саркисян Татевик.jpg"/>
          <p:cNvPicPr/>
          <p:nvPr/>
        </p:nvPicPr>
        <p:blipFill>
          <a:blip r:embed="rId2"/>
          <a:stretch/>
        </p:blipFill>
        <p:spPr>
          <a:xfrm rot="160800">
            <a:off x="6089400" y="1699920"/>
            <a:ext cx="2552760" cy="38386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74" name="Picture 4" descr="C:\Documents and Settings\Admin\Рабочий стол\ААААААААААААААААА.JPG"/>
          <p:cNvPicPr/>
          <p:nvPr/>
        </p:nvPicPr>
        <p:blipFill>
          <a:blip r:embed="rId3"/>
          <a:stretch/>
        </p:blipFill>
        <p:spPr>
          <a:xfrm rot="21334800">
            <a:off x="274680" y="1846440"/>
            <a:ext cx="1720800" cy="3479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75" name="Picture 4" descr="I:\Kate\photo students\дети\Халецкая Алёна.JPG"/>
          <p:cNvPicPr/>
          <p:nvPr/>
        </p:nvPicPr>
        <p:blipFill>
          <a:blip r:embed="rId4"/>
          <a:stretch/>
        </p:blipFill>
        <p:spPr>
          <a:xfrm rot="183600">
            <a:off x="2728800" y="1913040"/>
            <a:ext cx="2197080" cy="32860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“Реализация личностно-ориентированного подхода на уроках иностранн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42560" y="12859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езин Марк 11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729880" y="14288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ецкая Алёна  10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933880" y="12142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кисян Татевик 8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16000" y="17859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улис Станислав 1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5862600" y="171468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ринович Стефания 8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2790720" y="17146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а Алёна 1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Admin\Рабочий стол\Ля-Ля_оя.JPG"/>
          <p:cNvPicPr/>
          <p:nvPr/>
        </p:nvPicPr>
        <p:blipFill>
          <a:blip r:embed="rId5"/>
          <a:stretch/>
        </p:blipFill>
        <p:spPr>
          <a:xfrm rot="168000">
            <a:off x="356760" y="2214720"/>
            <a:ext cx="2000160" cy="4467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84" name="Picture 7" descr="C:\Documents and Settings\Admin\Рабочий стол\Выаврпаоаона.JPG"/>
          <p:cNvPicPr/>
          <p:nvPr/>
        </p:nvPicPr>
        <p:blipFill>
          <a:blip r:embed="rId6"/>
          <a:stretch/>
        </p:blipFill>
        <p:spPr>
          <a:xfrm rot="21416400">
            <a:off x="6000480" y="2142720"/>
            <a:ext cx="2357280" cy="43052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5" name="Picture 8" descr="C:\Documents and Settings\Admin\Рабочий стол\ЯЯЯЯЯЯЯЯЯЯЯЯЯЯЯЯЯ.jpg"/>
          <p:cNvPicPr/>
          <p:nvPr/>
        </p:nvPicPr>
        <p:blipFill>
          <a:blip r:embed="rId7"/>
          <a:stretch/>
        </p:blipFill>
        <p:spPr>
          <a:xfrm>
            <a:off x="3000240" y="2143080"/>
            <a:ext cx="2251080" cy="4433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86" name="Прямоугольник 7"/>
          <p:cNvSpPr/>
          <p:nvPr/>
        </p:nvSpPr>
        <p:spPr>
          <a:xfrm>
            <a:off x="3492000" y="1125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IMGP0178"/>
          <p:cNvPicPr/>
          <p:nvPr/>
        </p:nvPicPr>
        <p:blipFill>
          <a:blip r:embed="rId8"/>
          <a:stretch/>
        </p:blipFill>
        <p:spPr>
          <a:xfrm rot="21469200">
            <a:off x="1115640" y="1628640"/>
            <a:ext cx="6696000" cy="502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4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85880" y="400680"/>
            <a:ext cx="759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здание условий для формирования единого образовательного пространства средствами иностранного языка возможно только в тесном сотрудничестве с коллегами по школе и других образовательных учре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2960" y="396720"/>
            <a:ext cx="757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позволит реализовать основные направления работы образовательных учреждений нашего регио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модернизация институтов образования как инструментов социальн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создание объективной системы учебных и внеучебных достиже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обновление содержания и технологий образования, обеспечивающего баланс фундаментальности и компетент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 rot="21027000">
            <a:off x="214200" y="4039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urier New"/>
              </a:rPr>
              <a:t>Семина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0000" y="2128320"/>
            <a:ext cx="720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Students How to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”,  Девид Фэй, сотрудник Офиса английского языка и связей с общественностью Посольства США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714680" y="1743840"/>
            <a:ext cx="664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untrystudying at the English Lesson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”,  Лиа Винк, Джойс Уайт, сотрудники Офиса английского языка и связей с общественностью Посольства СШ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 rot="21027000">
            <a:off x="214200" y="4755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urier New"/>
              </a:rPr>
              <a:t>Семина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 rot="20655600">
            <a:off x="171000" y="28692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285920" y="1887840"/>
            <a:ext cx="66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Инновации в преподавании английского языка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готовка к ЕГЭ.», Книжная компания «Британия в Калининграде», Галанина Н.И., ведущий методист издательств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mi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rot="20596800">
            <a:off x="168480" y="501480"/>
            <a:ext cx="254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071720" y="1589400"/>
            <a:ext cx="6670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овые учебные пособия для начальной и средней школы издательства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ngman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”, Книжная компания «Британия в Калининграде» совместно с НОУ И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-13320" y="5727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лекции по истории американской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080" y="136476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Истоки блюза и джа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335040" y="258876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Золотой век Бродвейских мюзикл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34200" y="374112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ветская музыка США 19 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63640" y="538452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тор: профессор теории музыки университета штата Айова, композитор Джеффри Прэ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857240" y="473760"/>
            <a:ext cx="5462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Культурное многообразие Америки», Джеффи Анисман, сотрудник посольства США в Моск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071720" y="810360"/>
            <a:ext cx="698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жегодна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российска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ференци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«Strategizing and Managing Change in ELT in Russ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лее 100 преподавателей вузов, школ и колледжей Калининград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3 представителей региональных ассоциаций преподава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рия Валерьевна Вербицкая, глава федеральной комиссии ЕГЭ по иностранным язы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Admin\Рабочий стол\ОРПРОПЛГПЛРП.JPG"/>
          <p:cNvPicPr/>
          <p:nvPr/>
        </p:nvPicPr>
        <p:blipFill>
          <a:blip r:embed="rId2"/>
          <a:stretch/>
        </p:blipFill>
        <p:spPr>
          <a:xfrm>
            <a:off x="539640" y="692280"/>
            <a:ext cx="1649520" cy="565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1" name="Rectangle 2"/>
          <p:cNvSpPr/>
          <p:nvPr/>
        </p:nvSpPr>
        <p:spPr>
          <a:xfrm>
            <a:off x="2100240" y="429480"/>
            <a:ext cx="70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курс талантов на английск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357280" y="171468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оровкова Кристина 11а 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cause of You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1385"/>
          <p:cNvPicPr/>
          <p:nvPr/>
        </p:nvPicPr>
        <p:blipFill>
          <a:blip r:embed="rId3"/>
          <a:stretch/>
        </p:blipFill>
        <p:spPr>
          <a:xfrm>
            <a:off x="3780000" y="1844640"/>
            <a:ext cx="5018040" cy="376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4" name="Rectangle 8"/>
          <p:cNvSpPr/>
          <p:nvPr/>
        </p:nvSpPr>
        <p:spPr>
          <a:xfrm>
            <a:off x="468360" y="256536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вин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иолетт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7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«Is it True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363280" y="60213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яговская И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01:27Z</dcterms:created>
  <dc:creator>Галина</dc:creator>
  <dc:description/>
  <dc:language>en-US</dc:language>
  <cp:lastModifiedBy>Коля</cp:lastModifiedBy>
  <dcterms:modified xsi:type="dcterms:W3CDTF">2013-05-12T22:10:55Z</dcterms:modified>
  <cp:revision>25</cp:revision>
  <dc:subject/>
  <dc:title>Слайд 1</dc:title>
</cp:coreProperties>
</file>