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20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9.gif" ContentType="image/gif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8C0-C5B4-4DA1-8FEB-27EADD7D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452-FBA3-4CB9-BB15-AE01A4D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703-33AC-4886-A9AF-ACEF4B0A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C46-30B9-468D-B93A-A806DE1F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1C31A-6102-4A6F-A216-9FFB17A5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D5B2D-B51E-489C-A80D-F14AA656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522E3-CF44-42A8-9602-F88A7614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53409-C94F-4D57-8611-5B618F8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FD73-ADDC-4B52-9C98-F20C99C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EEBFB-3532-4F92-97D2-387A67F8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16FD1-C86C-4DD5-9703-83675CE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536-6521-4678-A4F1-9F3B686F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0B797-A0F3-4263-9891-A11C13F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C9745-EA68-4C7A-84E5-013E1D0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D844A-6708-4C32-AF9E-D3FA3947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B0110-DF6E-48E2-83C6-5E258580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ADA79-E900-421A-83CB-F5DADB30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EB3-1D05-46A2-9F6B-1815C36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808-E519-444B-8570-CDCD4012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74E-1024-4126-A1F7-4E93708C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80B-FD66-46DB-81A7-A80016D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010-7B0D-43FC-8AD8-33734C9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0FE-0875-46AB-8961-C76D048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3AA-3D7E-4425-8F2E-5578FF3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E26-A376-49E8-9BF9-55F20E48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1B6-EDE8-444E-83E4-90BEE01F61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4714560"/>
            <a:ext cx="72010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Исполнитель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Перескокова Ксения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ученица 1 класс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игирова Елена Павловн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Прямоугольник 8" descr=""/>
          <p:cNvPicPr/>
          <p:nvPr/>
        </p:nvPicPr>
        <p:blipFill>
          <a:blip r:embed="rId2"/>
          <a:stretch/>
        </p:blipFill>
        <p:spPr>
          <a:xfrm>
            <a:off x="1414440" y="-79200"/>
            <a:ext cx="7516800" cy="44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Рисунок 5" descr="big.jpeg"/>
          <p:cNvPicPr/>
          <p:nvPr/>
        </p:nvPicPr>
        <p:blipFill>
          <a:blip r:embed="rId2"/>
          <a:stretch/>
        </p:blipFill>
        <p:spPr>
          <a:xfrm>
            <a:off x="0" y="0"/>
            <a:ext cx="3929040" cy="250020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3" descr="1.jpeg"/>
          <p:cNvPicPr/>
          <p:nvPr/>
        </p:nvPicPr>
        <p:blipFill>
          <a:blip r:embed="rId3"/>
          <a:stretch/>
        </p:blipFill>
        <p:spPr>
          <a:xfrm>
            <a:off x="5357880" y="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3" descr="300px-Anvil_shaped_cumulus_panorama_edit.jpg"/>
          <p:cNvPicPr/>
          <p:nvPr/>
        </p:nvPicPr>
        <p:blipFill>
          <a:blip r:embed="rId4"/>
          <a:stretch/>
        </p:blipFill>
        <p:spPr>
          <a:xfrm>
            <a:off x="2428920" y="3429000"/>
            <a:ext cx="4572000" cy="2714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857160" y="2643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с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6286680" y="2571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ис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14800" y="63342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че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K:\облака\фото\перистые 1.jpg"/>
          <p:cNvPicPr/>
          <p:nvPr/>
        </p:nvPicPr>
        <p:blipFill>
          <a:blip r:embed="rId2"/>
          <a:srcRect l="0" t="0" r="0" b="4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Documents and Settings\ВИТЯ\Рабочий стол\Природа (136)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4"/>
          <a:srcRect l="4809" t="5794" r="4809" b="68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4440240" y="38660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K:\облака\фото\светлое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ВИТЯ\Рабочий стол\перисто-когтевые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ВИТЯ\Рабочий стол\слоистые.jpe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Documents and Settings\ВИТЯ\Рабочий стол\перисто-кучевые.jpe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Documents and Settings\ВИТЯ\Рабочий стол\кучево-дождевые.jpeg"/>
          <p:cNvPicPr/>
          <p:nvPr/>
        </p:nvPicPr>
        <p:blipFill>
          <a:blip r:embed="rId5"/>
          <a:srcRect l="0" t="6665" r="0" b="44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Documents and Settings\ВИТЯ\Рабочий стол\чистое небо.jpe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ВИТЯ\Рабочий стол\солнце из-за тучи.gif"/>
          <p:cNvPicPr/>
          <p:nvPr/>
        </p:nvPicPr>
        <p:blipFill>
          <a:blip r:embed="rId2"/>
          <a:stretch/>
        </p:blipFill>
        <p:spPr>
          <a:xfrm>
            <a:off x="2571840" y="-214200"/>
            <a:ext cx="428616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 стрелкой 5"/>
          <p:cNvCxnSpPr/>
          <p:nvPr/>
        </p:nvCxnSpPr>
        <p:spPr>
          <a:xfrm flipH="1">
            <a:off x="1428120" y="1856160"/>
            <a:ext cx="1857960" cy="1001160"/>
          </a:xfrm>
          <a:prstGeom prst="straightConnector1">
            <a:avLst/>
          </a:prstGeom>
          <a:ln w="381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36" name="Прямая со стрелкой 7"/>
          <p:cNvCxnSpPr/>
          <p:nvPr/>
        </p:nvCxnSpPr>
        <p:spPr>
          <a:xfrm flipH="1">
            <a:off x="4570200" y="1999800"/>
            <a:ext cx="3600" cy="1081800"/>
          </a:xfrm>
          <a:prstGeom prst="straightConnector1">
            <a:avLst/>
          </a:prstGeom>
          <a:ln w="38160">
            <a:solidFill>
              <a:srgbClr val="2ecbcb"/>
            </a:solidFill>
            <a:miter/>
            <a:tailEnd len="lg" type="arrow" w="lg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5785920" y="2000160"/>
            <a:ext cx="2001240" cy="1286640"/>
          </a:xfrm>
          <a:prstGeom prst="straightConnector1">
            <a:avLst/>
          </a:prstGeom>
          <a:ln w="381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38" name="TextBox 10"/>
          <p:cNvSpPr/>
          <p:nvPr/>
        </p:nvSpPr>
        <p:spPr>
          <a:xfrm>
            <a:off x="500040" y="30718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3643200" y="35002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715080" y="3571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57120" y="39290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2786040" y="41432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дяная кру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6000840" y="42861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ежные зёр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Правая фигурная скобка 17" descr=""/>
          <p:cNvPicPr/>
          <p:nvPr/>
        </p:nvPicPr>
        <p:blipFill>
          <a:blip r:embed="rId3"/>
          <a:stretch/>
        </p:blipFill>
        <p:spPr>
          <a:xfrm>
            <a:off x="1262160" y="6010200"/>
            <a:ext cx="895320" cy="30240"/>
          </a:xfrm>
          <a:prstGeom prst="rect">
            <a:avLst/>
          </a:prstGeom>
          <a:ln w="0">
            <a:noFill/>
          </a:ln>
        </p:spPr>
      </p:pic>
      <p:sp>
        <p:nvSpPr>
          <p:cNvPr id="145" name="Выгнутая вниз стрелка 18"/>
          <p:cNvSpPr/>
          <p:nvPr/>
        </p:nvSpPr>
        <p:spPr>
          <a:xfrm>
            <a:off x="714240" y="4786200"/>
            <a:ext cx="8143920" cy="1000080"/>
          </a:xfrm>
          <a:custGeom>
            <a:avLst/>
            <a:gdLst>
              <a:gd name="textAreaLeft" fmla="*/ 1942200 w 8143920"/>
              <a:gd name="textAreaRight" fmla="*/ 6077160 w 814392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303" hR="21600" stAng="10800000" swAng="-5400000"/>
                <a:lnTo>
                  <a:pt x="10967" y="21600"/>
                </a:lnTo>
                <a:arcTo wR="10303" hR="21600" stAng="5400000" swAng="-3694308"/>
                <a:lnTo>
                  <a:pt x="21273" y="5400"/>
                </a:lnTo>
                <a:lnTo>
                  <a:pt x="20937" y="0"/>
                </a:lnTo>
                <a:lnTo>
                  <a:pt x="19947" y="5400"/>
                </a:lnTo>
                <a:lnTo>
                  <a:pt x="20278" y="5400"/>
                </a:lnTo>
                <a:arcTo wR="10303" hR="21600" stAng="1705692" swAng="3641445"/>
                <a:lnTo>
                  <a:pt x="10635" y="21589"/>
                </a:lnTo>
                <a:arcTo wR="10303" hR="21600" stAng="5452863" swAng="5347137"/>
                <a:close/>
              </a:path>
              <a:path fill="darkenLess" w="21600" h="21600">
                <a:moveTo>
                  <a:pt x="0" y="0"/>
                </a:moveTo>
                <a:arcTo wR="10303" hR="21600" stAng="10800000" swAng="-5400000"/>
                <a:lnTo>
                  <a:pt x="10967" y="21600"/>
                </a:lnTo>
                <a:arcTo wR="10303" hR="21600" stAng="5400000" swAng="52863"/>
                <a:lnTo>
                  <a:pt x="10635" y="21589"/>
                </a:lnTo>
                <a:arcTo wR="10303" hR="21600" stAng="5452863" swAng="5347137"/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2857680" y="62150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00 млрд. тон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Выноска со стрелкой вниз 1"/>
          <p:cNvSpPr/>
          <p:nvPr/>
        </p:nvSpPr>
        <p:spPr>
          <a:xfrm>
            <a:off x="2500200" y="285840"/>
            <a:ext cx="4500720" cy="92844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500200" y="2858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учила литерату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Выноска со стрелкой вниз 3"/>
          <p:cNvSpPr/>
          <p:nvPr/>
        </p:nvSpPr>
        <p:spPr>
          <a:xfrm>
            <a:off x="1857240" y="1357200"/>
            <a:ext cx="5572440" cy="92880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000160" y="135720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яснила образование обла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Выноска со стрелкой вниз 5"/>
          <p:cNvSpPr/>
          <p:nvPr/>
        </p:nvSpPr>
        <p:spPr>
          <a:xfrm>
            <a:off x="1928880" y="2714760"/>
            <a:ext cx="5643360" cy="1000080"/>
          </a:xfrm>
          <a:prstGeom prst="downArrowCallout">
            <a:avLst>
              <a:gd name="adj1" fmla="val 24977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2143080" y="27147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знала виды обла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Выноска со стрелкой вниз 7"/>
          <p:cNvSpPr/>
          <p:nvPr/>
        </p:nvSpPr>
        <p:spPr>
          <a:xfrm>
            <a:off x="1785960" y="4071960"/>
            <a:ext cx="6000840" cy="1143000"/>
          </a:xfrm>
          <a:prstGeom prst="downArrowCallout">
            <a:avLst>
              <a:gd name="adj1" fmla="val 24989"/>
              <a:gd name="adj2" fmla="val 2501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1714680" y="41432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ерила, как облака влияют на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00040" y="5286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о облакам погоду предсказать можно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ВИТЯ\Рабочий стол\69_milash22.gif"/>
          <p:cNvPicPr/>
          <p:nvPr/>
        </p:nvPicPr>
        <p:blipFill>
          <a:blip r:embed="rId2"/>
          <a:stretch/>
        </p:blipFill>
        <p:spPr>
          <a:xfrm>
            <a:off x="285840" y="571680"/>
            <a:ext cx="2928960" cy="5500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4500720" y="11430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ваем каждый д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643280" y="228600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отрим на неб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4714920" y="3429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дим обл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643280" y="46432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уемся красо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Облако 1"/>
          <p:cNvSpPr/>
          <p:nvPr/>
        </p:nvSpPr>
        <p:spPr>
          <a:xfrm flipH="1" flipV="1">
            <a:off x="285480" y="285840"/>
            <a:ext cx="331128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Облако 2"/>
          <p:cNvSpPr/>
          <p:nvPr/>
        </p:nvSpPr>
        <p:spPr>
          <a:xfrm flipH="1" flipV="1">
            <a:off x="4928400" y="1143000"/>
            <a:ext cx="331164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Облако 3"/>
          <p:cNvSpPr/>
          <p:nvPr/>
        </p:nvSpPr>
        <p:spPr>
          <a:xfrm flipH="1" flipV="1">
            <a:off x="4642560" y="4214880"/>
            <a:ext cx="331164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Облако 4"/>
          <p:cNvSpPr/>
          <p:nvPr/>
        </p:nvSpPr>
        <p:spPr>
          <a:xfrm flipH="1" flipV="1">
            <a:off x="498960" y="3071880"/>
            <a:ext cx="331164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714240" y="8571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ff"/>
                </a:solidFill>
                <a:latin typeface="Tahoma"/>
              </a:rPr>
              <a:t>мыш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072040" y="185724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1071720" y="392904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фантаз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072040" y="485784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49757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7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2276640"/>
            <a:ext cx="8317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облака (1 куплет).mpg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75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OLDNI~1"/>
          <p:cNvPicPr/>
          <p:nvPr/>
        </p:nvPicPr>
        <p:blipFill>
          <a:blip r:embed="rId2"/>
          <a:srcRect l="0" t="0" r="13148" b="28586"/>
          <a:stretch/>
        </p:blipFill>
        <p:spPr>
          <a:xfrm>
            <a:off x="0" y="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LAKE SUN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bscap28"/>
          <p:cNvPicPr/>
          <p:nvPr/>
        </p:nvPicPr>
        <p:blipFill>
          <a:blip r:embed="rId4"/>
          <a:stretch/>
        </p:blipFill>
        <p:spPr>
          <a:xfrm>
            <a:off x="0" y="3375000"/>
            <a:ext cx="4786200" cy="348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KGAPL~1"/>
          <p:cNvPicPr/>
          <p:nvPr/>
        </p:nvPicPr>
        <p:blipFill>
          <a:blip r:embed="rId5"/>
          <a:stretch/>
        </p:blipFill>
        <p:spPr>
          <a:xfrm>
            <a:off x="4786200" y="335772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UNSET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64120" y="1000080"/>
            <a:ext cx="7863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знать, какую роль  обла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грают в природ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зможно ли предсказ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году по облак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57160" y="142884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зучить литератур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как образуются обла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Узнать виды обла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оверить, как облака влияют на погод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7"/>
          <p:cNvSpPr/>
          <p:nvPr/>
        </p:nvSpPr>
        <p:spPr>
          <a:xfrm>
            <a:off x="0" y="428760"/>
            <a:ext cx="1585800" cy="1726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9" descr="C:\Documents and Settings\ВИТЯ\Рабочий стол\дождь.gif"/>
          <p:cNvPicPr/>
          <p:nvPr/>
        </p:nvPicPr>
        <p:blipFill>
          <a:blip r:embed="rId2"/>
          <a:stretch/>
        </p:blipFill>
        <p:spPr>
          <a:xfrm>
            <a:off x="3786120" y="857160"/>
            <a:ext cx="1714680" cy="133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C:\Documents and Settings\ВИТЯ\Рабочий стол\дождь.gif"/>
          <p:cNvPicPr/>
          <p:nvPr/>
        </p:nvPicPr>
        <p:blipFill>
          <a:blip r:embed="rId3"/>
          <a:stretch/>
        </p:blipFill>
        <p:spPr>
          <a:xfrm>
            <a:off x="6429240" y="285840"/>
            <a:ext cx="2143440" cy="133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1" descr="C:\Documents and Settings\ВИТЯ\Рабочий стол\дождь.gif"/>
          <p:cNvPicPr/>
          <p:nvPr/>
        </p:nvPicPr>
        <p:blipFill>
          <a:blip r:embed="rId4"/>
          <a:stretch/>
        </p:blipFill>
        <p:spPr>
          <a:xfrm>
            <a:off x="571680" y="357120"/>
            <a:ext cx="2286000" cy="133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2" descr="C:\Documents and Settings\ВИТЯ\Рабочий стол\река.gif"/>
          <p:cNvPicPr/>
          <p:nvPr/>
        </p:nvPicPr>
        <p:blipFill>
          <a:blip r:embed="rId5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C:\Documents and Settings\ВИТЯ\Рабочий стол\пар.gif"/>
          <p:cNvPicPr/>
          <p:nvPr/>
        </p:nvPicPr>
        <p:blipFill>
          <a:blip r:embed="rId6"/>
          <a:stretch/>
        </p:blipFill>
        <p:spPr>
          <a:xfrm>
            <a:off x="4452840" y="3166920"/>
            <a:ext cx="73656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C:\Documents and Settings\ВИТЯ\Рабочий стол\пар.gif"/>
          <p:cNvPicPr/>
          <p:nvPr/>
        </p:nvPicPr>
        <p:blipFill>
          <a:blip r:embed="rId7"/>
          <a:stretch/>
        </p:blipFill>
        <p:spPr>
          <a:xfrm>
            <a:off x="7500960" y="3214800"/>
            <a:ext cx="62388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C:\Documents and Settings\ВИТЯ\Рабочий стол\пар.gif"/>
          <p:cNvPicPr/>
          <p:nvPr/>
        </p:nvPicPr>
        <p:blipFill>
          <a:blip r:embed="rId8"/>
          <a:stretch/>
        </p:blipFill>
        <p:spPr>
          <a:xfrm>
            <a:off x="1643040" y="3429000"/>
            <a:ext cx="682560" cy="150012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48"/>
          <p:cNvSpPr/>
          <p:nvPr/>
        </p:nvSpPr>
        <p:spPr>
          <a:xfrm>
            <a:off x="1857240" y="214200"/>
            <a:ext cx="207180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Выноска-облако 49"/>
          <p:cNvSpPr/>
          <p:nvPr/>
        </p:nvSpPr>
        <p:spPr>
          <a:xfrm>
            <a:off x="4857840" y="857160"/>
            <a:ext cx="207144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Выноска-облако 50"/>
          <p:cNvSpPr/>
          <p:nvPr/>
        </p:nvSpPr>
        <p:spPr>
          <a:xfrm>
            <a:off x="7072200" y="214200"/>
            <a:ext cx="207180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163520" y="414360"/>
            <a:ext cx="732816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J:\облака\333\DSC03721.JPG"/>
          <p:cNvPicPr/>
          <p:nvPr/>
        </p:nvPicPr>
        <p:blipFill>
          <a:blip r:embed="rId3"/>
          <a:srcRect l="27966" t="0" r="27543" b="0"/>
          <a:stretch/>
        </p:blipFill>
        <p:spPr>
          <a:xfrm>
            <a:off x="2786040" y="1500120"/>
            <a:ext cx="44290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Содержимое 3" descr="Lug_Sunse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юк Гова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ита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нопт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03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з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picture"/>
          <p:cNvPicPr/>
          <p:nvPr/>
        </p:nvPicPr>
        <p:blipFill>
          <a:blip r:embed="rId2"/>
          <a:stretch/>
        </p:blipFill>
        <p:spPr>
          <a:xfrm>
            <a:off x="-19080" y="341280"/>
            <a:ext cx="47498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18:22Z</dcterms:created>
  <dc:creator>User</dc:creator>
  <dc:description/>
  <dc:language>en-US</dc:language>
  <cp:lastModifiedBy>Shcoll12(2)</cp:lastModifiedBy>
  <dcterms:modified xsi:type="dcterms:W3CDTF">2009-02-26T03:02:39Z</dcterms:modified>
  <cp:revision>56</cp:revision>
  <dc:subject/>
  <dc:title>Слайд 1</dc:title>
</cp:coreProperties>
</file>