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5F9-FC76-4A78-8172-06F05C83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383-6AA2-4D67-8316-AF88EA62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9EC-FD75-40AE-975F-6CE3C26B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27D-FBB9-4CED-89E8-D65B473C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ABF-6801-41CE-8C6D-3899CC6D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FCD-B3B2-452A-ACFB-B0BFB9A0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A08-8442-46E3-B99E-7CC9C20A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F38-A1D2-4B9A-8D43-077380D5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C12-9FA8-4F65-85EB-3725774D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FD4-8631-4B3A-B386-C4203131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E36-593A-4501-A5D0-97CAAA1A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0DA-BD91-4AC1-B38F-E44C9F92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E43-11BF-44D4-8644-8FDCB38637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9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Великая французская буржуазная револю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55640" y="2852280"/>
            <a:ext cx="43196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на недаром называется великой. Для своего класса, для которого она работала, для буржуазии, она сделала так много, что вес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, тот век, который дал цивилизацию и культуру всему человечеству, прошел под знаком Французской революц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.И.Лен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имвол3"/>
          <p:cNvPicPr/>
          <p:nvPr/>
        </p:nvPicPr>
        <p:blipFill>
          <a:blip r:embed="rId1"/>
          <a:srcRect l="0" t="0" r="0" b="1557"/>
          <a:stretch/>
        </p:blipFill>
        <p:spPr>
          <a:xfrm>
            <a:off x="684360" y="1557360"/>
            <a:ext cx="3076560" cy="40323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250920" y="5808600"/>
            <a:ext cx="410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ны ли вы с высказыванием В.И.Ленина ?                    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Аргументируйте свой ответ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067280" y="14130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Это великое событие мировой истории или социальная катастрофа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II-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этап революции</a:t>
            </a:r>
            <a:br>
              <a:rPr sz="32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2июня 1793 г.-  27июля 1794г.)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Lafayette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796000" y="1916280"/>
            <a:ext cx="2725560" cy="388908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77" name="Text Box 6"/>
          <p:cNvSpPr/>
          <p:nvPr/>
        </p:nvSpPr>
        <p:spPr>
          <a:xfrm>
            <a:off x="324000" y="213372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арное законодательство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ятие новой Конституци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рет о «подозрительных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рет о «Революционном трибунале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дберите даты к событиям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24 июня 1793г.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10 июня1794г.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юнь-июль1793г.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17 сентября1793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г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042920" y="1700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кобинская диктатура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11280" y="234504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ранцузский политический деятель, принимавший активное участие в борьбе американцев за независимость (1775 - 1783). Во главе добровольческого отряда он отправился в Америку и принимал участие в военных действиях против англичан. Возвратившись во Францию в 1779 г., он энергично способствовал вмешательству Франции в войну и участвовал в разработке плана военных действий. Это доставило ему огромную популярность в Северо-Американских Штатах, где многие города и местечки названы его имене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627280" y="1484280"/>
            <a:ext cx="4038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ичка из биографи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908000" y="1700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055600" y="765000"/>
            <a:ext cx="51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Узнай исторический персона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Робеспьер"/>
          <p:cNvPicPr/>
          <p:nvPr/>
        </p:nvPicPr>
        <p:blipFill>
          <a:blip r:embed="rId1"/>
          <a:stretch/>
        </p:blipFill>
        <p:spPr>
          <a:xfrm>
            <a:off x="450720" y="907920"/>
            <a:ext cx="3729240" cy="46087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84" name="Text Box 5"/>
          <p:cNvSpPr/>
          <p:nvPr/>
        </p:nvSpPr>
        <p:spPr>
          <a:xfrm>
            <a:off x="4932360" y="1052640"/>
            <a:ext cx="223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500720" y="549360"/>
            <a:ext cx="396072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обеспьер Максимилиан – Мари – Изидо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6 мая 1758, Аррас – 28 июля 1794, Париж)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ин из ведущих деятелей Великой французской революции. В 1793-94 фактически возглавлял правительство республики, являясь идеологом и руководителем революционной диктатур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68360" y="595008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беспьер –палач или освободитель? 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Аргументируйте свой ответ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о - классическая тема для историографии Революции, которая, так или иначе, звучала на каждом этапе ее развития. Тем не менее, уже довольно давно не появлялось новых документов, касающихся Робеспьера. Как это происходит и с другими великими историческими деятелями, поводом для научных дискуссий, связанных с постановкой новых проблем или изменением исторической перспективы, служит комплексный анализ этой фигуры. Очевидно, что немало проблем возникает и при изучении Террора. Вне всякого сомнения, Революция не сводится к этому трагическому событию, точно также, как и роль Робеспьера в истории Революции не сводится к роли "террориста", творца Террора. Тем не менее, Террор и Робеспьер неразделимы: размышлять по поводу одного неминуемо означае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нализировать и друг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340000" y="1413000"/>
            <a:ext cx="4305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ческие факты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403280" y="620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Робеспьер и терро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символ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1090440"/>
            <a:ext cx="5041800" cy="35625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91" name="Text Box 6"/>
          <p:cNvSpPr/>
          <p:nvPr/>
        </p:nvSpPr>
        <p:spPr>
          <a:xfrm>
            <a:off x="5435640" y="476280"/>
            <a:ext cx="34192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ных этапах революции деятели, принадлежавшие к различным группировкам буржуазии, выступали с призывами остановить революцию: «Нам причиняют огромное зло. Когда продолжают до бесконечности революционное движение. В настоящий момент общий интерес заключается в том, чтобы революция остановилась»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ставитель крупной буржуазии стоявшей у власти,  Барнав, 1791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39640" y="5013360"/>
            <a:ext cx="48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ем объясняются такие призывы?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Чего мог опасаться каждый из названных выше деятелей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294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еволюция должна остановиться, иначе возникнет опасение, что она ниспровергнет вс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ирондист Бриссо, 17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2" descr="cимвол"/>
          <p:cNvPicPr/>
          <p:nvPr/>
        </p:nvPicPr>
        <p:blipFill>
          <a:blip r:embed="rId1"/>
          <a:stretch/>
        </p:blipFill>
        <p:spPr>
          <a:xfrm>
            <a:off x="3924360" y="1484280"/>
            <a:ext cx="4546440" cy="31878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95" name="Text Box 19"/>
          <p:cNvSpPr/>
          <p:nvPr/>
        </p:nvSpPr>
        <p:spPr>
          <a:xfrm>
            <a:off x="826920" y="5516640"/>
            <a:ext cx="777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равните эти  высказывания. В чем принципиальное отличие во взглядах на перспективы революции лидеров политических группировок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Франция в 1792 год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51280" y="3499920"/>
            <a:ext cx="30956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азовите по карте места побед революционной арм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кажите направления действий революционных армий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Карта3"/>
          <p:cNvPicPr/>
          <p:nvPr/>
        </p:nvPicPr>
        <p:blipFill>
          <a:blip r:embed="rId1"/>
          <a:srcRect l="2907" t="2449" r="2907" b="17183"/>
          <a:stretch/>
        </p:blipFill>
        <p:spPr>
          <a:xfrm>
            <a:off x="611280" y="1484280"/>
            <a:ext cx="4680000" cy="474048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720" y="549360"/>
            <a:ext cx="4457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Четвёртый период революции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  (27 июля - 9-10 ноября 1799г.)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рмидорианцы у вла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7640" y="2565000"/>
            <a:ext cx="40305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ойны Дирек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олдаты вы раздеты и плохо накормлены. Я поведу вас в самые плодородные равнины мира. В вашей власти будут богатые провинции и большие города вы найдёте там славу и богатство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ому из исторических личностей принадлежат эти слов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Наполеон"/>
          <p:cNvPicPr/>
          <p:nvPr/>
        </p:nvPicPr>
        <p:blipFill>
          <a:blip r:embed="rId1"/>
          <a:stretch/>
        </p:blipFill>
        <p:spPr>
          <a:xfrm>
            <a:off x="971640" y="907920"/>
            <a:ext cx="2940120" cy="50421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40000" y="25992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то 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55640" y="2206440"/>
            <a:ext cx="424836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олеон Бонапарт начал свою карьеру как революционный генер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л как император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Чем можно объяснить столь загадочное превращен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Император Наполеон"/>
          <p:cNvPicPr/>
          <p:nvPr/>
        </p:nvPicPr>
        <p:blipFill>
          <a:blip r:embed="rId1"/>
          <a:stretch/>
        </p:blipFill>
        <p:spPr>
          <a:xfrm>
            <a:off x="755640" y="765000"/>
            <a:ext cx="3232080" cy="518328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611280" y="602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аполеон - императо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Что, на ваш взгляд, можно считать символом Франци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Эйфелева башня"/>
          <p:cNvPicPr/>
          <p:nvPr/>
        </p:nvPicPr>
        <p:blipFill>
          <a:blip r:embed="rId1"/>
          <a:stretch/>
        </p:blipFill>
        <p:spPr>
          <a:xfrm>
            <a:off x="684360" y="2349360"/>
            <a:ext cx="3240000" cy="30607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pic>
        <p:nvPicPr>
          <p:cNvPr id="108" name="Picture 5" descr="казнь робеспьера"/>
          <p:cNvPicPr/>
          <p:nvPr/>
        </p:nvPicPr>
        <p:blipFill>
          <a:blip r:embed="rId2"/>
          <a:stretch/>
        </p:blipFill>
        <p:spPr>
          <a:xfrm>
            <a:off x="4859280" y="2349360"/>
            <a:ext cx="3816360" cy="30099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Абсолютная монархия во Фран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4321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ранцузский кор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дови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делая огромные траты на свои развлечения, говорил: «После нас хоть потоп».Министр Людовик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к характеризовал роль короля в стране: «Во Франции король говорит, а народ повинуется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а основе этих высказываний охарактеризуйте государственную власть во Франции в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акие слои населения страдали от гнёта абсолютной монархии? Почему буржуазия мирилась с этим при Людовике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XIV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не могла примиритьс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при Людовике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XVI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219640" y="6237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Лю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вик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XV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1" descr="Людовик16"/>
          <p:cNvPicPr/>
          <p:nvPr/>
        </p:nvPicPr>
        <p:blipFill>
          <a:blip r:embed="rId1"/>
          <a:stretch/>
        </p:blipFill>
        <p:spPr>
          <a:xfrm>
            <a:off x="5219640" y="1916280"/>
            <a:ext cx="3327480" cy="41749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овинции Франции в 1789 год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51640" y="2852280"/>
            <a:ext cx="280656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акие задачи необходимо было решить в процессе революц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Ф"/>
          <p:cNvPicPr/>
          <p:nvPr/>
        </p:nvPicPr>
        <p:blipFill>
          <a:blip r:embed="rId1"/>
          <a:srcRect l="0" t="4259" r="0" b="0"/>
          <a:stretch/>
        </p:blipFill>
        <p:spPr>
          <a:xfrm>
            <a:off x="539640" y="1268280"/>
            <a:ext cx="4791240" cy="4888080"/>
          </a:xfrm>
          <a:prstGeom prst="rect">
            <a:avLst/>
          </a:prstGeom>
          <a:ln w="57240">
            <a:solidFill>
              <a:srgbClr val="3a1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3428640"/>
            <a:ext cx="8532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тиворечия между нарождающимися капиталистическими и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рым, феодальным уклад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Основные предпосылки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е расточительство, истощившее бюджет Фран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о-промышленный кризис 178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урожайные годы, вызвавшие гол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 мая 1789г.;17 июня 1789г.; 9июля 178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акие события, предшествовавшие началу революции, произошли в эти год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триптих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404640"/>
            <a:ext cx="5616720" cy="26085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Восстание 14 июля 1789 год. Штурм и взятие Бастилии - начало револю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8000" y="2276280"/>
            <a:ext cx="3384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ятие Бастилии напугало короля и придворных. «Это бунт!»-воскликнул Людови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«Нет, сир, -ответил один из придворных, -это революция!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astille2"/>
          <p:cNvPicPr/>
          <p:nvPr/>
        </p:nvPicPr>
        <p:blipFill>
          <a:blip r:embed="rId1"/>
          <a:stretch/>
        </p:blipFill>
        <p:spPr>
          <a:xfrm>
            <a:off x="611280" y="2349360"/>
            <a:ext cx="4248000" cy="281304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58" name="Text Box 9"/>
          <p:cNvSpPr/>
          <p:nvPr/>
        </p:nvSpPr>
        <p:spPr>
          <a:xfrm>
            <a:off x="684360" y="5373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Штурм Бастил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716360" y="5805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зовите признаки револю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393336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-этап револю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(14июля1789- 10авг. 1792г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юл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ятие Бастил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щный подъём народного движения по все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онодательство Учредительного собр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реты 4-11авгус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еречислите изменения, которые произошли в результате принятия этих  декре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гильотина"/>
          <p:cNvPicPr/>
          <p:nvPr/>
        </p:nvPicPr>
        <p:blipFill>
          <a:blip r:embed="rId1"/>
          <a:stretch/>
        </p:blipFill>
        <p:spPr>
          <a:xfrm>
            <a:off x="2195640" y="549360"/>
            <a:ext cx="5128920" cy="3144600"/>
          </a:xfrm>
          <a:prstGeom prst="rect">
            <a:avLst/>
          </a:prstGeom>
          <a:ln w="57240">
            <a:solidFill>
              <a:srgbClr val="3a1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95280" y="333360"/>
            <a:ext cx="8352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Декларация прав человека и гражданин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27640" y="1413000"/>
            <a:ext cx="40305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Декларация прав"/>
          <p:cNvPicPr/>
          <p:nvPr/>
        </p:nvPicPr>
        <p:blipFill>
          <a:blip r:embed="rId1"/>
          <a:stretch/>
        </p:blipFill>
        <p:spPr>
          <a:xfrm>
            <a:off x="539640" y="1197000"/>
            <a:ext cx="338616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5" name="Text Box 7"/>
          <p:cNvSpPr/>
          <p:nvPr/>
        </p:nvSpPr>
        <p:spPr>
          <a:xfrm>
            <a:off x="324000" y="621648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995640" y="5805360"/>
            <a:ext cx="49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огда была принята Декларация прав человека   гражданина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0" y="981000"/>
            <a:ext cx="3095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ди рождаются свободными и равными в правах. Общественные различия могут быть основаны только на общей польз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Целью всякого политического союза является сохранение естественных и неотъемлемых прав человек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Свобода состоит в праве делать всё, что не вредит другому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356000" y="3716280"/>
            <a:ext cx="158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anton"/>
          <p:cNvPicPr/>
          <p:nvPr/>
        </p:nvPicPr>
        <p:blipFill>
          <a:blip r:embed="rId1"/>
          <a:stretch/>
        </p:blipFill>
        <p:spPr>
          <a:xfrm>
            <a:off x="971640" y="1557360"/>
            <a:ext cx="2744640" cy="38894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70" name="Text Box 7"/>
          <p:cNvSpPr/>
          <p:nvPr/>
        </p:nvSpPr>
        <p:spPr>
          <a:xfrm>
            <a:off x="4284720" y="476280"/>
            <a:ext cx="4176720" cy="70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II-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этап революци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10августа1792г.-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2июня1793г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тивостояние якобинцев-монтаньяров и жирондистов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креты Конвент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еречислит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оводимые  Декре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1 мая 1793г.-народное восстани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июня 1793г.-изгнание жирондистов из Конвент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971640" y="5805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то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755640" y="263700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дился 26 октября 1759 в Арси-сюр-Об, был четвертым сыном в семье провинциального прокурора. Он учился в семинарии, колледже в Труа (1772-80). Приехав в Париж, служил помощником прокурора, затем купил должность адвоката (1787). Выступая в судебных палатах парижского Парламента, быстро обрел клиентуру и известность благодаря редкому ораторскому таланту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403280" y="549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Узнай исторический персона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12"/>
          <p:cNvSpPr txBox="1"/>
          <p:nvPr/>
        </p:nvSpPr>
        <p:spPr>
          <a:xfrm>
            <a:off x="2340000" y="1268280"/>
            <a:ext cx="4971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ичка из биографии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27-9</cp:lastModifiedBy>
  <dcterms:modified xsi:type="dcterms:W3CDTF">2012-12-05T05:31:06Z</dcterms:modified>
  <cp:revision>68</cp:revision>
  <dc:subject/>
  <dc:title>PowerPoint Presentation</dc:title>
</cp:coreProperties>
</file>