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897-188C-4482-8DEB-758F189B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2D8-AF6C-4B92-BB53-4543DC07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06E-2A16-4DFC-9130-5035082C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B46-10CF-4C84-B1A4-7446E044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258-0C12-4F96-B4BA-4FCC6D7A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167-AD3B-4529-A781-DBFAEF5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E70-9EC5-4678-821F-E8DF199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34B-62C2-4F16-8BBD-BEB6EB12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1A6-76B1-40C5-846B-52F7DC4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BF2-D6AF-44B5-A3F7-FCBAD4B6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B7E-D6C4-45BA-B26D-5F5A5ED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2B0-B9D0-4223-B5B0-6C638F01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8A8-ED2E-42B0-8149-A8C935CEBC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9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еликая французская буржуазная револю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5640" y="2852280"/>
            <a:ext cx="43196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на недаром называется великой. Для своего класса, для которого она работала, для буржуазии, она сделала так много, что вес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, тот век, который дал цивилизацию и культуру всему человечеству, прошел под знаком Французской революц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И.Лен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имвол3"/>
          <p:cNvPicPr/>
          <p:nvPr/>
        </p:nvPicPr>
        <p:blipFill>
          <a:blip r:embed="rId1"/>
          <a:srcRect l="0" t="0" r="0" b="1557"/>
          <a:stretch/>
        </p:blipFill>
        <p:spPr>
          <a:xfrm>
            <a:off x="684360" y="1557360"/>
            <a:ext cx="3076560" cy="4032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250920" y="5808600"/>
            <a:ext cx="410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ны ли вы с высказыванием В.И.Ленина ?                    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067280" y="1413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Это великое событие мировой истории или социальная катастрофа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II-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2июня 1793 г.-  27июля 1794г.)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Lafayett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96000" y="1916280"/>
            <a:ext cx="2725560" cy="388908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324000" y="213372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арное законодательство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ятие новой Конститу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подозрительных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Революционном трибунале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дберите даты к событиям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4 июня 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0 июня1794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юнь-июль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7 сентября1793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г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042920" y="1700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кобинская диктатур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11280" y="23450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нцузский политический деятель, принимавший активное участие в борьбе американцев за независимость (1775 - 1783). Во главе добровольческого отряда он отправился в Америку и принимал участие в военных действиях против англичан. Возвратившись во Францию в 1779 г., он энергично способствовал вмешательству Франции в войну и участвовал в разработке плана военных действий. Это доставило ему огромную популярность в Северо-Американских Штатах, где многие города и местечки названы его имене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627280" y="1484280"/>
            <a:ext cx="403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08000" y="1700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5600" y="76500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Робеспьер"/>
          <p:cNvPicPr/>
          <p:nvPr/>
        </p:nvPicPr>
        <p:blipFill>
          <a:blip r:embed="rId1"/>
          <a:stretch/>
        </p:blipFill>
        <p:spPr>
          <a:xfrm>
            <a:off x="450720" y="907920"/>
            <a:ext cx="3729240" cy="4608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4932360" y="105264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00720" y="549360"/>
            <a:ext cx="39607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беспьер Максимилиан – Мари – Изид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6 мая 1758, Аррас – 28 июля 1794, Париж)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из ведущих деятелей Великой французской революции. В 1793-94 фактически возглавлял правительство республики, являясь идеологом и руководителем революционной дикта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68360" y="59500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беспьер –палач или освободитель?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- классическая тема для историографии Революции, которая, так или иначе, звучала на каждом этапе ее развития. Тем не менее, уже довольно давно не появлялось новых документов, касающихся Робеспьера. Как это происходит и с другими великими историческими деятелями, поводом для научных дискуссий, связанных с постановкой новых проблем или изменением исторической перспективы, служит комплексный анализ этой фигуры. Очевидно, что немало проблем возникает и при изучении Террора. Вне всякого сомнения, Революция не сводится к этому трагическому событию, точно также, как и роль Робеспьера в истории Революции не сводится к роли "террориста", творца Террора. Тем не менее, Террор и Робеспьер неразделимы: размышлять по поводу одного неминуемо означа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нализировать и друг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40000" y="1413000"/>
            <a:ext cx="4305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ие факт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03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обеспьер и терр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символ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090440"/>
            <a:ext cx="5041800" cy="35625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5435640" y="476280"/>
            <a:ext cx="34192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ных этапах революции деятели, принадлежавшие к различным группировкам буржуазии, выступали с призывами остановить революцию: «Нам причиняют огромное зло. Когда продолжают до бесконечности революционное движение. В настоящий момент общий интерес заключается в том, чтобы революция остановилась»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 крупной буржуазии стоявшей у власти,  Барнав, 1791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39640" y="5013360"/>
            <a:ext cx="48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ем объясняются такие призывы?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Чего мог опасаться каждый из названных выше деятелей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29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еволюция должна остановиться, иначе возникнет опасение, что она ниспровергнет вс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рондист Бриссо, 17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cимвол"/>
          <p:cNvPicPr/>
          <p:nvPr/>
        </p:nvPicPr>
        <p:blipFill>
          <a:blip r:embed="rId1"/>
          <a:stretch/>
        </p:blipFill>
        <p:spPr>
          <a:xfrm>
            <a:off x="3924360" y="1484280"/>
            <a:ext cx="4546440" cy="31878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5" name="Text Box 19"/>
          <p:cNvSpPr/>
          <p:nvPr/>
        </p:nvSpPr>
        <p:spPr>
          <a:xfrm>
            <a:off x="826920" y="551664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равните эти  высказывания. В чем принципиальное отличие во взглядах на перспективы революции лидеров политических группировок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Франция в 1792 год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51280" y="3499920"/>
            <a:ext cx="3095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зовите по карте места побед революционн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кажите направления действий революционных армий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Карта3"/>
          <p:cNvPicPr/>
          <p:nvPr/>
        </p:nvPicPr>
        <p:blipFill>
          <a:blip r:embed="rId1"/>
          <a:srcRect l="2907" t="2449" r="2907" b="17183"/>
          <a:stretch/>
        </p:blipFill>
        <p:spPr>
          <a:xfrm>
            <a:off x="611280" y="1484280"/>
            <a:ext cx="4680000" cy="47404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549360"/>
            <a:ext cx="445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Четвёртый период революции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 (27 июля - 9-10 ноября 1799г.)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рмидорианцы у в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2565000"/>
            <a:ext cx="40305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ойны Дирек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олдаты вы раздеты и плохо накормлены. Я поведу вас в самые плодородные равнины мира. В вашей власти будут богатые провинции и большие города вы найдёте там славу и богатство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му из исторических личностей принадлежат эти слов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Наполеон"/>
          <p:cNvPicPr/>
          <p:nvPr/>
        </p:nvPicPr>
        <p:blipFill>
          <a:blip r:embed="rId1"/>
          <a:stretch/>
        </p:blipFill>
        <p:spPr>
          <a:xfrm>
            <a:off x="971640" y="907920"/>
            <a:ext cx="2940120" cy="50421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5640" y="2206440"/>
            <a:ext cx="42483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еон Бонапарт начал свою карьеру как революционный генер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 как император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Чем можно объяснить столь загадочное превраще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Император Наполеон"/>
          <p:cNvPicPr/>
          <p:nvPr/>
        </p:nvPicPr>
        <p:blipFill>
          <a:blip r:embed="rId1"/>
          <a:stretch/>
        </p:blipFill>
        <p:spPr>
          <a:xfrm>
            <a:off x="755640" y="765000"/>
            <a:ext cx="3232080" cy="51832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11280" y="602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полеон - императо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Что, на ваш взгляд, можно считать символом Фран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Эйфелева башня"/>
          <p:cNvPicPr/>
          <p:nvPr/>
        </p:nvPicPr>
        <p:blipFill>
          <a:blip r:embed="rId1"/>
          <a:stretch/>
        </p:blipFill>
        <p:spPr>
          <a:xfrm>
            <a:off x="684360" y="2349360"/>
            <a:ext cx="3240000" cy="30607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108" name="Picture 5" descr="казнь робеспьера"/>
          <p:cNvPicPr/>
          <p:nvPr/>
        </p:nvPicPr>
        <p:blipFill>
          <a:blip r:embed="rId2"/>
          <a:stretch/>
        </p:blipFill>
        <p:spPr>
          <a:xfrm>
            <a:off x="4859280" y="2349360"/>
            <a:ext cx="3816360" cy="30099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Абсолютная монархия во Фран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432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анцузский ко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делая огромные траты на свои развлечения, говорил: «После нас хоть потоп».Министр Людови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 характеризовал роль короля в стране: «Во Франции король говорит, а народ повинуется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 основе этих высказываний охарактеризуйте государственную власть во Франции в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акие слои населения страдали от гнёта абсолютной монархии? Почему буржуазия мирилась с этим при Людовике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не могла примиритьс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при Людовике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XVI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219640" y="623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Лю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вик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XV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1" descr="Людовик16"/>
          <p:cNvPicPr/>
          <p:nvPr/>
        </p:nvPicPr>
        <p:blipFill>
          <a:blip r:embed="rId1"/>
          <a:stretch/>
        </p:blipFill>
        <p:spPr>
          <a:xfrm>
            <a:off x="5219640" y="1916280"/>
            <a:ext cx="3327480" cy="4174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овинции Франции в 1789 год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51640" y="2852280"/>
            <a:ext cx="28065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задачи необходимо было решить в процессе револю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Ф"/>
          <p:cNvPicPr/>
          <p:nvPr/>
        </p:nvPicPr>
        <p:blipFill>
          <a:blip r:embed="rId1"/>
          <a:srcRect l="0" t="4259" r="0" b="0"/>
          <a:stretch/>
        </p:blipFill>
        <p:spPr>
          <a:xfrm>
            <a:off x="539640" y="1268280"/>
            <a:ext cx="4791240" cy="488808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428640"/>
            <a:ext cx="85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речия между нарождающимися капиталистическими и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рым, феодальным уклад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Основные предпосылки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расточительство, истощившее бюджет Фран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о-промышленный кризис 178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рожайные годы, вызвавшие гол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 мая 1789г.;17 июня 1789г.; 9июля 178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события, предшествовавшие началу революции, произошли в эти г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триптих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404640"/>
            <a:ext cx="5616720" cy="2608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осстание 14 июля 1789 год. Штурм и взятие Бастилии - начало револю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8000" y="2276280"/>
            <a:ext cx="3384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ятие Бастилии напугало короля и придворных. «Это бунт!»-воскликнул Людови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«Нет, сир, -ответил один из придворных, -это революция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astille2"/>
          <p:cNvPicPr/>
          <p:nvPr/>
        </p:nvPicPr>
        <p:blipFill>
          <a:blip r:embed="rId1"/>
          <a:stretch/>
        </p:blipFill>
        <p:spPr>
          <a:xfrm>
            <a:off x="611280" y="2349360"/>
            <a:ext cx="4248000" cy="28130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8" name="Text Box 9"/>
          <p:cNvSpPr/>
          <p:nvPr/>
        </p:nvSpPr>
        <p:spPr>
          <a:xfrm>
            <a:off x="684360" y="53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Штурм Бастил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716360" y="5805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зовите признаки револю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-этап револю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(14июля1789- 10авг. 1792г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юл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Бастил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щный подъём народного движения по все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о Учредительного собр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реты 4-11авгу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еречислите изменения, которые произошли в результате принятия этих  декр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гильотина"/>
          <p:cNvPicPr/>
          <p:nvPr/>
        </p:nvPicPr>
        <p:blipFill>
          <a:blip r:embed="rId1"/>
          <a:stretch/>
        </p:blipFill>
        <p:spPr>
          <a:xfrm>
            <a:off x="2195640" y="549360"/>
            <a:ext cx="5128920" cy="314460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95280" y="333360"/>
            <a:ext cx="835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Декларация прав человека и граждани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27640" y="1413000"/>
            <a:ext cx="40305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Декларация прав"/>
          <p:cNvPicPr/>
          <p:nvPr/>
        </p:nvPicPr>
        <p:blipFill>
          <a:blip r:embed="rId1"/>
          <a:stretch/>
        </p:blipFill>
        <p:spPr>
          <a:xfrm>
            <a:off x="539640" y="1197000"/>
            <a:ext cx="338616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24000" y="621648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995640" y="580536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огда была принята Декларация прав человека   гражданина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0" y="981000"/>
            <a:ext cx="309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и рождаются свободными и равными в правах. Общественные различия могут быть основаны только на общей польз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Целью всякого политического союза является сохранение естественных и неотъемлемых прав человек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Свобода состоит в праве делать всё, что не вредит другому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356000" y="371628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anton"/>
          <p:cNvPicPr/>
          <p:nvPr/>
        </p:nvPicPr>
        <p:blipFill>
          <a:blip r:embed="rId1"/>
          <a:stretch/>
        </p:blipFill>
        <p:spPr>
          <a:xfrm>
            <a:off x="971640" y="1557360"/>
            <a:ext cx="2744640" cy="38894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4284720" y="476280"/>
            <a:ext cx="417672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I-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10августа1792г.-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июня1793г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стояние якобинцев-монтаньяров и жирондист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креты Конвент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еречислит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оводимые  Декре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1 мая 1793г.-народное восста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июня 1793г.-изгнание жирондистов из Конвен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71640" y="5805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то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755640" y="263700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ился 26 октября 1759 в Арси-сюр-Об, был четвертым сыном в семье провинциального прокурора. Он учился в семинарии, колледже в Труа (1772-80). Приехав в Париж, служил помощником прокурора, затем купил должность адвоката (1787). Выступая в судебных палатах парижского Парламента, быстро обрел клиентуру и известность благодаря редкому ораторскому талант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403280" y="5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2"/>
          <p:cNvSpPr txBox="1"/>
          <p:nvPr/>
        </p:nvSpPr>
        <p:spPr>
          <a:xfrm>
            <a:off x="2340000" y="1268280"/>
            <a:ext cx="4971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7-9</cp:lastModifiedBy>
  <dcterms:modified xsi:type="dcterms:W3CDTF">2012-12-05T05:31:06Z</dcterms:modified>
  <cp:revision>68</cp:revision>
  <dc:subject/>
  <dc:title>PowerPoint Presentation</dc:title>
</cp:coreProperties>
</file>