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10B83BB0-54F2-450B-85F0-1B8E579FC2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D06996E-0B33-4A8E-8499-B646A73EC0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C9407DFD-8BF7-49E4-81A1-5990723D37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A4F34F7A-66C1-4178-BCD1-760F4D0CA9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074688-FEFA-452D-BBCD-762BC6E141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EFC737-395F-4418-8A96-74FA450384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EF41ED-A220-44DB-957F-75576B91FD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FF8365-BA5D-44C5-84E6-BCA72E651C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118078-5479-465D-9086-0F79A64F54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815202-A44B-4FA2-A773-478B12AF46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4E0198-3073-465E-A7E9-E3A66BF793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6DBBB0B-8FF1-4E0A-9D0A-76F3F2B760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62AD94-3EF7-4339-8417-15D729B412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719FD1-B867-4D39-A722-6A50B12757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2ACAC9-11BE-49CF-A03C-ED14E21EC7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F6515E-3E19-4FD5-BCEC-99D61A9A0B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8F0015-48AE-4D50-A472-95C9C1D072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C2D1F99-1834-46F8-8954-60C20E010F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F2DA0A8-E59C-4EE2-9023-1455E6CA78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29A06EA-7EDB-491E-AA81-98AFE00C55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1C46C0D-D806-4CCD-8682-DE35023611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3223CDC-CBE5-449E-BC04-298A0AF2C2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5D56DF4-8A7A-479C-BC19-D7BC8F04CD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BC5F252-9465-4227-8751-ACA475C124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1596d"/>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15ECF-9295-4B39-B953-009F98A2F89E}"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51596d"/>
                  </a:gs>
                  <a:gs pos="100000">
                    <a:srgbClr val="4a5163"/>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51596d"/>
                  </a:gs>
                  <a:gs pos="100000">
                    <a:srgbClr val="4a516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424959"/>
                  </a:gs>
                  <a:gs pos="100000">
                    <a:srgbClr val="5159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51596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474e60"/>
                  </a:gs>
                  <a:gs pos="100000">
                    <a:srgbClr val="5159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454b5c"/>
                </a:gs>
                <a:gs pos="100000">
                  <a:srgbClr val="5159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000"/>
                </a:gs>
                <a:gs pos="100000">
                  <a:srgbClr val="5159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Garamond"/>
              </a:rPr>
              <a:t>Click to edit the title text format</a:t>
            </a:r>
            <a:endParaRPr b="1" lang="en-US" sz="4400" spc="-1" strike="noStrike">
              <a:solidFill>
                <a:srgbClr val="dddddd"/>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33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dddd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33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1596d"/>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51596d"/>
                  </a:gs>
                  <a:gs pos="100000">
                    <a:srgbClr val="4a5163"/>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51596d"/>
                  </a:gs>
                  <a:gs pos="100000">
                    <a:srgbClr val="4a516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424959"/>
                  </a:gs>
                  <a:gs pos="100000">
                    <a:srgbClr val="5159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51596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474e60"/>
                  </a:gs>
                  <a:gs pos="100000">
                    <a:srgbClr val="5159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454b5c"/>
                </a:gs>
                <a:gs pos="100000">
                  <a:srgbClr val="5159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000"/>
                </a:gs>
                <a:gs pos="100000">
                  <a:srgbClr val="5159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Garamond"/>
              </a:rPr>
              <a:t>Click to edit the title text format</a:t>
            </a:r>
            <a:endParaRPr b="1" lang="en-US" sz="4400" spc="-1" strike="noStrike">
              <a:solidFill>
                <a:srgbClr val="dddddd"/>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33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dddd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33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EBF41-8FC3-4897-8DCC-085A5A0761FD}" type="slidenum">
              <a:rPr b="0" lang="ru-RU"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 Target="slide21.xml"/><Relationship Id="rId3" Type="http://schemas.openxmlformats.org/officeDocument/2006/relationships/slide" Target="slide21.xml"/><Relationship Id="rId4" Type="http://schemas.openxmlformats.org/officeDocument/2006/relationships/slide" Target="slide21.xml"/><Relationship Id="rId5" Type="http://schemas.openxmlformats.org/officeDocument/2006/relationships/slide" Target="slide21.xml"/><Relationship Id="rId6" Type="http://schemas.openxmlformats.org/officeDocument/2006/relationships/slide" Target="slide22.xml"/><Relationship Id="rId7" Type="http://schemas.openxmlformats.org/officeDocument/2006/relationships/slide" Target="slide23.xml"/><Relationship Id="rId8" Type="http://schemas.openxmlformats.org/officeDocument/2006/relationships/slide" Target="slide24.xml"/><Relationship Id="rId9" Type="http://schemas.openxmlformats.org/officeDocument/2006/relationships/slide" Target="slide3.xml"/><Relationship Id="rId10"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 Target="slide19.xml"/><Relationship Id="rId3" Type="http://schemas.openxmlformats.org/officeDocument/2006/relationships/slide" Target="slide19.xml"/><Relationship Id="rId4" Type="http://schemas.openxmlformats.org/officeDocument/2006/relationships/slide" Target="slide19.xml"/><Relationship Id="rId5" Type="http://schemas.openxmlformats.org/officeDocument/2006/relationships/slide" Target="slide19.xml"/><Relationship Id="rId6" Type="http://schemas.openxmlformats.org/officeDocument/2006/relationships/slide" Target="slide20.xml"/><Relationship Id="rId7" Type="http://schemas.openxmlformats.org/officeDocument/2006/relationships/slide" Target="slide16.xml"/><Relationship Id="rId8"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hyperlink" Target="file:///tmp/home/.config/libreoffice/4/user/gallery/click.wav" TargetMode="External"/><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file:///tmp/home/.config/libreoffice/4/user/gallery/click.wav" TargetMode="External"/><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file:///tmp/home/.config/libreoffice/4/user/gallery/click.wav" TargetMode="External"/><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file:///tmp/home/.config/libreoffice/4/user/gallery/click.wav" TargetMode="Externa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file:///tmp/home/.config/libreoffice/4/user/gallery/click.wav" TargetMode="Externa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file:///tmp/home/.config/libreoffice/4/user/gallery/click.wav" TargetMode="Externa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6.xml"/><Relationship Id="rId3" Type="http://schemas.openxmlformats.org/officeDocument/2006/relationships/slide" Target="slide10.xml"/><Relationship Id="rId4" Type="http://schemas.openxmlformats.org/officeDocument/2006/relationships/slide" Target="slide13.xml"/><Relationship Id="rId5" Type="http://schemas.openxmlformats.org/officeDocument/2006/relationships/slide" Target="slide16.xml"/><Relationship Id="rId6" Type="http://schemas.openxmlformats.org/officeDocument/2006/relationships/slide" Target="slide25.xml"/><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280"/>
            <a:ext cx="7772400" cy="32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dddddd"/>
                </a:solidFill>
                <a:latin typeface="Garamond"/>
              </a:rPr>
              <a:t>Классификация вирусов</a:t>
            </a:r>
            <a:endParaRPr b="1" lang="en-US" sz="6000" spc="-1" strike="noStrike">
              <a:solidFill>
                <a:srgbClr val="dddddd"/>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dddddd"/>
                </a:solidFill>
                <a:latin typeface="Garamond"/>
              </a:rPr>
              <a:t>Черви</a:t>
            </a:r>
            <a:endParaRPr b="1" lang="en-US" sz="4400" spc="-1" strike="noStrike">
              <a:solidFill>
                <a:srgbClr val="dddddd"/>
              </a:solidFill>
              <a:latin typeface="Garamond"/>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322200" algn="just">
              <a:lnSpc>
                <a:spcPct val="90000"/>
              </a:lnSpc>
              <a:spcBef>
                <a:spcPts val="60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Червь</a:t>
            </a:r>
            <a:r>
              <a:rPr b="1" i="1" lang="ru-RU" sz="2400" spc="-1" strike="noStrike">
                <a:solidFill>
                  <a:srgbClr val="ffffff"/>
                </a:solidFill>
                <a:latin typeface="Garamond"/>
              </a:rPr>
              <a:t> </a:t>
            </a:r>
            <a:r>
              <a:rPr b="0" i="1" lang="ru-RU" sz="2400" spc="-1" strike="noStrike">
                <a:solidFill>
                  <a:srgbClr val="ffffff"/>
                </a:solidFill>
                <a:latin typeface="Garamond"/>
              </a:rPr>
              <a:t>(сетевой червь) – это вредоносная программа, распространяющаяся по сетевым каналам и способная к самостоятельному преодолению систем защиты компьютерных сетей, а также к созданию и дальнейшему распространению своих копий, не обязательно совпадающих с оригиналом.</a:t>
            </a:r>
            <a:endParaRPr b="0" lang="en-US" sz="2400" spc="-1" strike="noStrike">
              <a:solidFill>
                <a:srgbClr val="ffffff"/>
              </a:solidFill>
              <a:latin typeface="Garamond"/>
            </a:endParaRPr>
          </a:p>
          <a:p>
            <a:pPr marL="322200" indent="-322200" algn="just">
              <a:lnSpc>
                <a:spcPct val="90000"/>
              </a:lnSpc>
              <a:spcBef>
                <a:spcPts val="60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Жизненный цикл червей состоит из таких стадий:</a:t>
            </a:r>
            <a:endParaRPr b="0" lang="en-US" sz="2400" spc="-1" strike="noStrike">
              <a:solidFill>
                <a:srgbClr val="ffffff"/>
              </a:solidFill>
              <a:latin typeface="Garamond"/>
            </a:endParaRPr>
          </a:p>
          <a:p>
            <a:pPr marL="322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	</a:t>
            </a:r>
            <a:r>
              <a:rPr b="0" lang="ru-RU" sz="2400" spc="-1" strike="noStrike">
                <a:solidFill>
                  <a:srgbClr val="ffffff"/>
                </a:solidFill>
                <a:latin typeface="Garamond"/>
              </a:rPr>
              <a:t>	</a:t>
            </a:r>
            <a:r>
              <a:rPr b="0" lang="ru-RU" sz="2400" spc="-1" strike="noStrike">
                <a:solidFill>
                  <a:srgbClr val="ffffff"/>
                </a:solidFill>
                <a:latin typeface="Garamond"/>
              </a:rPr>
              <a:t>1. Проникновение в систему</a:t>
            </a:r>
            <a:endParaRPr b="0" lang="en-US" sz="2400" spc="-1" strike="noStrike">
              <a:solidFill>
                <a:srgbClr val="ffffff"/>
              </a:solidFill>
              <a:latin typeface="Garamond"/>
            </a:endParaRPr>
          </a:p>
          <a:p>
            <a:pPr marL="322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	</a:t>
            </a:r>
            <a:r>
              <a:rPr b="0" lang="ru-RU" sz="2400" spc="-1" strike="noStrike">
                <a:solidFill>
                  <a:srgbClr val="ffffff"/>
                </a:solidFill>
                <a:latin typeface="Garamond"/>
              </a:rPr>
              <a:t>	</a:t>
            </a:r>
            <a:r>
              <a:rPr b="0" lang="ru-RU" sz="2400" spc="-1" strike="noStrike">
                <a:solidFill>
                  <a:srgbClr val="ffffff"/>
                </a:solidFill>
                <a:latin typeface="Garamond"/>
              </a:rPr>
              <a:t>2. Активация заражения </a:t>
            </a:r>
            <a:endParaRPr b="0" lang="en-US" sz="2400" spc="-1" strike="noStrike">
              <a:solidFill>
                <a:srgbClr val="ffffff"/>
              </a:solidFill>
              <a:latin typeface="Garamond"/>
            </a:endParaRPr>
          </a:p>
          <a:p>
            <a:pPr marL="322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	</a:t>
            </a:r>
            <a:r>
              <a:rPr b="0" lang="ru-RU" sz="2400" spc="-1" strike="noStrike">
                <a:solidFill>
                  <a:srgbClr val="ffffff"/>
                </a:solidFill>
                <a:latin typeface="Garamond"/>
              </a:rPr>
              <a:t>	</a:t>
            </a:r>
            <a:r>
              <a:rPr b="0" lang="ru-RU" sz="2400" spc="-1" strike="noStrike">
                <a:solidFill>
                  <a:srgbClr val="ffffff"/>
                </a:solidFill>
                <a:latin typeface="Garamond"/>
              </a:rPr>
              <a:t>3. Поиск объектов для</a:t>
            </a:r>
            <a:endParaRPr b="0" lang="en-US" sz="2400" spc="-1" strike="noStrike">
              <a:solidFill>
                <a:srgbClr val="ffffff"/>
              </a:solidFill>
              <a:latin typeface="Garamond"/>
            </a:endParaRPr>
          </a:p>
          <a:p>
            <a:pPr marL="322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	</a:t>
            </a:r>
            <a:r>
              <a:rPr b="0" lang="ru-RU" sz="2400" spc="-1" strike="noStrike">
                <a:solidFill>
                  <a:srgbClr val="ffffff"/>
                </a:solidFill>
                <a:latin typeface="Garamond"/>
              </a:rPr>
              <a:t>	</a:t>
            </a:r>
            <a:r>
              <a:rPr b="0" lang="ru-RU" sz="2400" spc="-1" strike="noStrike">
                <a:solidFill>
                  <a:srgbClr val="ffffff"/>
                </a:solidFill>
                <a:latin typeface="Garamond"/>
              </a:rPr>
              <a:t>4. Подготовка копий</a:t>
            </a:r>
            <a:endParaRPr b="0" lang="en-US" sz="2400" spc="-1" strike="noStrike">
              <a:solidFill>
                <a:srgbClr val="ffffff"/>
              </a:solidFill>
              <a:latin typeface="Garamond"/>
            </a:endParaRPr>
          </a:p>
          <a:p>
            <a:pPr marL="322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	</a:t>
            </a:r>
            <a:r>
              <a:rPr b="0" lang="ru-RU" sz="2400" spc="-1" strike="noStrike">
                <a:solidFill>
                  <a:srgbClr val="ffffff"/>
                </a:solidFill>
                <a:latin typeface="Garamond"/>
              </a:rPr>
              <a:t>	</a:t>
            </a:r>
            <a:r>
              <a:rPr b="0" lang="ru-RU" sz="2400" spc="-1" strike="noStrike">
                <a:solidFill>
                  <a:srgbClr val="ffffff"/>
                </a:solidFill>
                <a:latin typeface="Garamond"/>
              </a:rPr>
              <a:t>5. Распространение копий</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dddddd"/>
                </a:solidFill>
                <a:latin typeface="Garamond"/>
              </a:rPr>
              <a:t>Типы червей</a:t>
            </a:r>
            <a:endParaRPr b="1" lang="en-US" sz="4400" spc="-1" strike="noStrike">
              <a:solidFill>
                <a:srgbClr val="dddddd"/>
              </a:solidFill>
              <a:latin typeface="Garamond"/>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318960" algn="just">
              <a:spcBef>
                <a:spcPts val="700"/>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Garamond"/>
              </a:rPr>
              <a:t>Сетевые черви </a:t>
            </a:r>
            <a:r>
              <a:rPr b="0" lang="ru-RU" sz="2800" spc="-1" strike="noStrike">
                <a:solidFill>
                  <a:srgbClr val="ffffff"/>
                </a:solidFill>
                <a:latin typeface="Garamond"/>
              </a:rPr>
              <a:t>используют для распространения локальные сети и Интернет.</a:t>
            </a:r>
            <a:endParaRPr b="0" lang="en-US" sz="2800" spc="-1" strike="noStrike">
              <a:solidFill>
                <a:srgbClr val="ffffff"/>
              </a:solidFill>
              <a:latin typeface="Garamond"/>
            </a:endParaRPr>
          </a:p>
          <a:p>
            <a:pPr marL="318960" indent="-318960" algn="just">
              <a:spcBef>
                <a:spcPts val="700"/>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Garamond"/>
              </a:rPr>
              <a:t>Почтовые </a:t>
            </a:r>
            <a:r>
              <a:rPr b="0" lang="ru-RU" sz="2800" spc="-1" strike="noStrike">
                <a:solidFill>
                  <a:srgbClr val="ffffff"/>
                </a:solidFill>
                <a:latin typeface="Garamond"/>
              </a:rPr>
              <a:t>– распространяются с помощью почтовых программ.</a:t>
            </a:r>
            <a:endParaRPr b="0" lang="en-US" sz="2800" spc="-1" strike="noStrike">
              <a:solidFill>
                <a:srgbClr val="ffffff"/>
              </a:solidFill>
              <a:latin typeface="Garamond"/>
            </a:endParaRPr>
          </a:p>
          <a:p>
            <a:pPr marL="318960" indent="-318960" algn="just">
              <a:spcBef>
                <a:spcPts val="700"/>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Garamond"/>
              </a:rPr>
              <a:t>P2P-черви </a:t>
            </a:r>
            <a:r>
              <a:rPr b="0" lang="ru-RU" sz="2800" spc="-1" strike="noStrike">
                <a:solidFill>
                  <a:srgbClr val="ffffff"/>
                </a:solidFill>
                <a:latin typeface="Garamond"/>
              </a:rPr>
              <a:t>– при помощи пиринговых файлообменных сетей.</a:t>
            </a:r>
            <a:endParaRPr b="0" lang="en-US" sz="2800" spc="-1" strike="noStrike">
              <a:solidFill>
                <a:srgbClr val="ffffff"/>
              </a:solidFill>
              <a:latin typeface="Garamond"/>
            </a:endParaRPr>
          </a:p>
          <a:p>
            <a:pPr marL="318960" indent="-318960" algn="just">
              <a:spcBef>
                <a:spcPts val="700"/>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Garamond"/>
              </a:rPr>
              <a:t>IM-черви </a:t>
            </a:r>
            <a:r>
              <a:rPr b="0" lang="ru-RU" sz="2800" spc="-1" strike="noStrike">
                <a:solidFill>
                  <a:srgbClr val="ffffff"/>
                </a:solidFill>
                <a:latin typeface="Garamond"/>
              </a:rPr>
              <a:t>используют системы мгновенного обмена.</a:t>
            </a:r>
            <a:endParaRPr b="0" lang="en-US" sz="2800" spc="-1" strike="noStrike">
              <a:solidFill>
                <a:srgbClr val="ffffff"/>
              </a:solidFill>
              <a:latin typeface="Garamond"/>
            </a:endParaRPr>
          </a:p>
          <a:p>
            <a:pPr marL="318960" indent="-318960" algn="just">
              <a:spcBef>
                <a:spcPts val="700"/>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Garamond"/>
              </a:rPr>
              <a:t>IRC-черви </a:t>
            </a:r>
            <a:r>
              <a:rPr b="0" lang="ru-RU" sz="2800" spc="-1" strike="noStrike">
                <a:solidFill>
                  <a:srgbClr val="ffffff"/>
                </a:solidFill>
                <a:latin typeface="Garamond"/>
              </a:rPr>
              <a:t>распространяются по каналам IRC.</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324000" y="188640"/>
            <a:ext cx="8424720" cy="6453000"/>
          </a:xfrm>
          <a:prstGeom prst="rect">
            <a:avLst/>
          </a:prstGeom>
          <a:noFill/>
          <a:ln w="0">
            <a:noFill/>
          </a:ln>
        </p:spPr>
        <p:txBody>
          <a:bodyPr anchor="t">
            <a:normAutofit fontScale="90000"/>
          </a:bodyPr>
          <a:p>
            <a:pPr marL="308520" indent="-308520" algn="just">
              <a:lnSpc>
                <a:spcPct val="90000"/>
              </a:lnSpc>
              <a:spcBef>
                <a:spcPts val="60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После проникновения на компьютер, червь должен активироваться – иными словами запуститься. По методу активации все черви можно разделить на две большие группы – на тех, которые требуют активного участия пользователя и тех, кто его не требует. На практике это означает, что бывают черви, которым необходимо, чтобы владелец компьютера обратил на них внимание и запустил зараженный файл, но встречаются и такие, которые делают это сами, например, используя ошибки в настройке или бреши в системе безопасности операционной системы. Отличительная особенность червей из первой группы – это использование обманных методов. Это проявляется, например, когда получатель инфицированного файла вводится в заблуждение текстом письма и добровольно открывает вложение с почтовым червем, тем самым его активируя.</a:t>
            </a:r>
            <a:endParaRPr b="0" lang="en-US" sz="2400" spc="-1" strike="noStrike">
              <a:solidFill>
                <a:srgbClr val="ffffff"/>
              </a:solidFill>
              <a:latin typeface="Garamond"/>
            </a:endParaRPr>
          </a:p>
          <a:p>
            <a:pPr marL="308520" indent="-308520" algn="just">
              <a:lnSpc>
                <a:spcPct val="90000"/>
              </a:lnSpc>
              <a:spcBef>
                <a:spcPts val="60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Сетевые черви могут кооперироваться с вирусами – такая пара способна самостоятельно распространяться по сети (благодаря червю) и в то же время заражать ресурсы компьютера (функции вируса).</a:t>
            </a:r>
            <a:endParaRPr b="0" lang="en-US" sz="2400" spc="-1" strike="noStrike">
              <a:solidFill>
                <a:srgbClr val="ffffff"/>
              </a:solidFill>
              <a:latin typeface="Garamond"/>
            </a:endParaRPr>
          </a:p>
        </p:txBody>
      </p:sp>
      <p:sp>
        <p:nvSpPr>
          <p:cNvPr id="120" name="AutoShape 4">
            <a:hlinkClick r:id="rId1" action="ppaction://hlinksldjump"/>
          </p:cNvPr>
          <p:cNvSpPr/>
          <p:nvPr/>
        </p:nvSpPr>
        <p:spPr>
          <a:xfrm>
            <a:off x="8604360" y="6308640"/>
            <a:ext cx="539640" cy="549360"/>
          </a:xfrm>
          <a:custGeom>
            <a:avLst/>
            <a:gdLst>
              <a:gd name="textAreaLeft" fmla="*/ 34920 w 539640"/>
              <a:gd name="textAreaRight" fmla="*/ 504720 w 539640"/>
              <a:gd name="textAreaTop" fmla="*/ 34920 h 549360"/>
              <a:gd name="textAreaBottom" fmla="*/ 514440 h 549360"/>
            </a:gdLst>
            <a:ahLst/>
            <a:rect l="textAreaLeft" t="textAreaTop" r="textAreaRight" b="textAreaBottom"/>
            <a:pathLst>
              <a:path w="21600" h="21989">
                <a:moveTo>
                  <a:pt x="0" y="0"/>
                </a:moveTo>
                <a:lnTo>
                  <a:pt x="21600" y="0"/>
                </a:lnTo>
                <a:lnTo>
                  <a:pt x="21600" y="21989"/>
                </a:lnTo>
                <a:lnTo>
                  <a:pt x="0" y="21989"/>
                </a:lnTo>
                <a:close/>
              </a:path>
              <a:path fill="lightenLess" w="21600" h="21989">
                <a:moveTo>
                  <a:pt x="0" y="0"/>
                </a:moveTo>
                <a:lnTo>
                  <a:pt x="21600" y="0"/>
                </a:lnTo>
                <a:lnTo>
                  <a:pt x="20200" y="1400"/>
                </a:lnTo>
                <a:lnTo>
                  <a:pt x="1400" y="1400"/>
                </a:lnTo>
                <a:close/>
              </a:path>
              <a:path fill="darken" w="21600" h="21989">
                <a:moveTo>
                  <a:pt x="21600" y="0"/>
                </a:moveTo>
                <a:lnTo>
                  <a:pt x="21600" y="21989"/>
                </a:lnTo>
                <a:lnTo>
                  <a:pt x="20200" y="20589"/>
                </a:lnTo>
                <a:lnTo>
                  <a:pt x="20200" y="1400"/>
                </a:lnTo>
                <a:close/>
              </a:path>
              <a:path fill="darkenLess" w="21600" h="21989">
                <a:moveTo>
                  <a:pt x="21600" y="21989"/>
                </a:moveTo>
                <a:lnTo>
                  <a:pt x="0" y="21989"/>
                </a:lnTo>
                <a:lnTo>
                  <a:pt x="1400" y="20589"/>
                </a:lnTo>
                <a:lnTo>
                  <a:pt x="20200" y="20589"/>
                </a:lnTo>
                <a:close/>
              </a:path>
              <a:path fill="lighten" w="21600" h="21989">
                <a:moveTo>
                  <a:pt x="0" y="21989"/>
                </a:moveTo>
                <a:lnTo>
                  <a:pt x="0" y="0"/>
                </a:lnTo>
                <a:lnTo>
                  <a:pt x="1400" y="1400"/>
                </a:lnTo>
                <a:lnTo>
                  <a:pt x="1400" y="20589"/>
                </a:lnTo>
                <a:close/>
              </a:path>
              <a:path fill="darken" w="21600" h="21989">
                <a:moveTo>
                  <a:pt x="3794" y="7687"/>
                </a:moveTo>
                <a:lnTo>
                  <a:pt x="7301" y="7687"/>
                </a:lnTo>
                <a:lnTo>
                  <a:pt x="7301" y="13022"/>
                </a:lnTo>
                <a:cubicBezTo>
                  <a:pt x="7301" y="13945"/>
                  <a:pt x="8102" y="14676"/>
                  <a:pt x="9138" y="14676"/>
                </a:cubicBezTo>
                <a:lnTo>
                  <a:pt x="10800" y="14676"/>
                </a:lnTo>
                <a:cubicBezTo>
                  <a:pt x="11836" y="14676"/>
                  <a:pt x="12636" y="13945"/>
                  <a:pt x="12636" y="13022"/>
                </a:cubicBezTo>
                <a:lnTo>
                  <a:pt x="12636" y="7687"/>
                </a:lnTo>
                <a:lnTo>
                  <a:pt x="10800" y="7687"/>
                </a:lnTo>
                <a:lnTo>
                  <a:pt x="14308" y="4179"/>
                </a:lnTo>
                <a:lnTo>
                  <a:pt x="17981" y="7687"/>
                </a:lnTo>
                <a:lnTo>
                  <a:pt x="16144" y="7687"/>
                </a:lnTo>
                <a:lnTo>
                  <a:pt x="16144" y="13022"/>
                </a:lnTo>
                <a:cubicBezTo>
                  <a:pt x="16144" y="15790"/>
                  <a:pt x="13568" y="18349"/>
                  <a:pt x="10800" y="18349"/>
                </a:cubicBezTo>
                <a:lnTo>
                  <a:pt x="9138" y="18349"/>
                </a:lnTo>
                <a:cubicBezTo>
                  <a:pt x="6370" y="18349"/>
                  <a:pt x="3794" y="15790"/>
                  <a:pt x="3794" y="13022"/>
                </a:cubicBezTo>
                <a:close/>
              </a:path>
            </a:pathLst>
          </a:custGeom>
          <a:solidFill>
            <a:srgbClr val="51596d"/>
          </a:solidFill>
          <a:ln w="936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dddddd"/>
                </a:solidFill>
                <a:latin typeface="Garamond"/>
              </a:rPr>
              <a:t>Трояны</a:t>
            </a:r>
            <a:endParaRPr b="1" lang="en-US" sz="4400" spc="-1" strike="noStrike">
              <a:solidFill>
                <a:srgbClr val="dddddd"/>
              </a:solidFill>
              <a:latin typeface="Garamond"/>
            </a:endParaRPr>
          </a:p>
        </p:txBody>
      </p:sp>
      <p:sp>
        <p:nvSpPr>
          <p:cNvPr id="122" name="PlaceHolder 2"/>
          <p:cNvSpPr>
            <a:spLocks noGrp="1"/>
          </p:cNvSpPr>
          <p:nvPr>
            <p:ph/>
          </p:nvPr>
        </p:nvSpPr>
        <p:spPr>
          <a:xfrm>
            <a:off x="457200" y="1600200"/>
            <a:ext cx="8229600" cy="4997520"/>
          </a:xfrm>
          <a:prstGeom prst="rect">
            <a:avLst/>
          </a:prstGeom>
          <a:noFill/>
          <a:ln w="0">
            <a:noFill/>
          </a:ln>
        </p:spPr>
        <p:txBody>
          <a:bodyPr anchor="t">
            <a:normAutofit fontScale="92000"/>
          </a:bodyPr>
          <a:p>
            <a:pPr marL="315360" indent="-315360" algn="just">
              <a:lnSpc>
                <a:spcPct val="90000"/>
              </a:lnSpc>
              <a:spcBef>
                <a:spcPts val="60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Троян</a:t>
            </a:r>
            <a:r>
              <a:rPr b="1" i="1" lang="ru-RU" sz="2400" spc="-1" strike="noStrike">
                <a:solidFill>
                  <a:srgbClr val="ffffff"/>
                </a:solidFill>
                <a:latin typeface="Garamond"/>
              </a:rPr>
              <a:t> </a:t>
            </a:r>
            <a:r>
              <a:rPr b="0" i="1" lang="ru-RU" sz="2400" spc="-1" strike="noStrike">
                <a:solidFill>
                  <a:srgbClr val="ffffff"/>
                </a:solidFill>
                <a:latin typeface="Garamond"/>
              </a:rPr>
              <a:t>(троянский конь) – программа, основной целью которой является вредоносное воздействие по отношению к компьютерной системе.</a:t>
            </a:r>
            <a:endParaRPr b="0" lang="en-US" sz="2400" spc="-1" strike="noStrike">
              <a:solidFill>
                <a:srgbClr val="ffffff"/>
              </a:solidFill>
              <a:latin typeface="Garamond"/>
            </a:endParaRPr>
          </a:p>
          <a:p>
            <a:pPr marL="315360" indent="-315360" algn="just">
              <a:lnSpc>
                <a:spcPct val="90000"/>
              </a:lnSpc>
              <a:spcBef>
                <a:spcPts val="60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Некоторые трояны способны к самостоятельному преодолению систем защиты компьютерной системы, с целью проникновения в нее. Однако в большинстве случаев они проникают на компьютеры вместе с вирусом либо червем – то есть такие трояны можно рассматривать как дополнительную вредоносную нагрузку, но не как самостоятельную программу.</a:t>
            </a:r>
            <a:endParaRPr b="0" lang="en-US" sz="2400" spc="-1" strike="noStrike">
              <a:solidFill>
                <a:srgbClr val="ffffff"/>
              </a:solidFill>
              <a:latin typeface="Garamond"/>
            </a:endParaRPr>
          </a:p>
          <a:p>
            <a:pPr marL="315360" indent="-315360">
              <a:lnSpc>
                <a:spcPct val="90000"/>
              </a:lnSpc>
              <a:spcBef>
                <a:spcPts val="60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Следовательно, жизненный цикл троянов состоит всего из двух стадий:</a:t>
            </a:r>
            <a:endParaRPr b="0" lang="en-US" sz="2400" spc="-1" strike="noStrike">
              <a:solidFill>
                <a:srgbClr val="ffffff"/>
              </a:solidFill>
              <a:latin typeface="Garamond"/>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	</a:t>
            </a:r>
            <a:r>
              <a:rPr b="0" lang="ru-RU" sz="2400" spc="-1" strike="noStrike">
                <a:solidFill>
                  <a:srgbClr val="ffffff"/>
                </a:solidFill>
                <a:latin typeface="Garamond"/>
              </a:rPr>
              <a:t>	</a:t>
            </a:r>
            <a:r>
              <a:rPr b="0" lang="ru-RU" sz="2400" spc="-1" strike="noStrike">
                <a:solidFill>
                  <a:srgbClr val="ffffff"/>
                </a:solidFill>
                <a:latin typeface="Garamond"/>
              </a:rPr>
              <a:t>1. Проникновение в систему</a:t>
            </a:r>
            <a:endParaRPr b="0" lang="en-US" sz="2400" spc="-1" strike="noStrike">
              <a:solidFill>
                <a:srgbClr val="ffffff"/>
              </a:solidFill>
              <a:latin typeface="Garamond"/>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	</a:t>
            </a:r>
            <a:r>
              <a:rPr b="0" lang="ru-RU" sz="2400" spc="-1" strike="noStrike">
                <a:solidFill>
                  <a:srgbClr val="ffffff"/>
                </a:solidFill>
                <a:latin typeface="Garamond"/>
              </a:rPr>
              <a:t>	</a:t>
            </a:r>
            <a:r>
              <a:rPr b="0" lang="ru-RU" sz="2400" spc="-1" strike="noStrike">
                <a:solidFill>
                  <a:srgbClr val="ffffff"/>
                </a:solidFill>
                <a:latin typeface="Garamond"/>
              </a:rPr>
              <a:t>2. Активация</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dddddd"/>
                </a:solidFill>
                <a:latin typeface="Garamond"/>
              </a:rPr>
              <a:t>Типы троянов</a:t>
            </a:r>
            <a:endParaRPr b="1" lang="en-US" sz="4400" spc="-1" strike="noStrike">
              <a:solidFill>
                <a:srgbClr val="dddddd"/>
              </a:solidFill>
              <a:latin typeface="Garamond"/>
            </a:endParaRPr>
          </a:p>
        </p:txBody>
      </p:sp>
      <p:sp>
        <p:nvSpPr>
          <p:cNvPr id="124" name="PlaceHolder 2"/>
          <p:cNvSpPr>
            <a:spLocks noGrp="1"/>
          </p:cNvSpPr>
          <p:nvPr>
            <p:ph/>
          </p:nvPr>
        </p:nvSpPr>
        <p:spPr>
          <a:xfrm>
            <a:off x="457200" y="1052640"/>
            <a:ext cx="8229600" cy="5472000"/>
          </a:xfrm>
          <a:prstGeom prst="rect">
            <a:avLst/>
          </a:prstGeom>
          <a:noFill/>
          <a:ln w="0">
            <a:noFill/>
          </a:ln>
        </p:spPr>
        <p:txBody>
          <a:bodyPr anchor="t">
            <a:normAutofit fontScale="90000"/>
          </a:bodyPr>
          <a:p>
            <a:pPr marL="308520" indent="-308520" algn="just">
              <a:lnSpc>
                <a:spcPct val="80000"/>
              </a:lnSpc>
              <a:spcBef>
                <a:spcPts val="60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Garamond"/>
              </a:rPr>
              <a:t>Клавиатурные шпионы</a:t>
            </a:r>
            <a:r>
              <a:rPr b="0" lang="ru-RU" sz="2400" spc="-1" strike="noStrike">
                <a:solidFill>
                  <a:srgbClr val="ffffff"/>
                </a:solidFill>
                <a:latin typeface="Garamond"/>
              </a:rPr>
              <a:t>, постоянно находясь в оперативной памяти, записывают все данные, поступающие от клавиатуры с целью последующей их передачи своему автору.</a:t>
            </a:r>
            <a:endParaRPr b="0" lang="en-US" sz="2400" spc="-1" strike="noStrike">
              <a:solidFill>
                <a:srgbClr val="ffffff"/>
              </a:solidFill>
              <a:latin typeface="Garamond"/>
            </a:endParaRPr>
          </a:p>
          <a:p>
            <a:pPr marL="308520" indent="-308520" algn="just">
              <a:lnSpc>
                <a:spcPct val="80000"/>
              </a:lnSpc>
              <a:spcBef>
                <a:spcPts val="60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Garamond"/>
              </a:rPr>
              <a:t>Похитители паролей </a:t>
            </a:r>
            <a:r>
              <a:rPr b="0" lang="ru-RU" sz="2400" spc="-1" strike="noStrike">
                <a:solidFill>
                  <a:srgbClr val="ffffff"/>
                </a:solidFill>
                <a:latin typeface="Garamond"/>
              </a:rPr>
              <a:t>предназначены для кражи паролей путем поиска на зараженном компьютере специальных файлов, которые их содержат.</a:t>
            </a:r>
            <a:endParaRPr b="0" lang="en-US" sz="2400" spc="-1" strike="noStrike">
              <a:solidFill>
                <a:srgbClr val="ffffff"/>
              </a:solidFill>
              <a:latin typeface="Garamond"/>
            </a:endParaRPr>
          </a:p>
          <a:p>
            <a:pPr marL="308520" indent="-308520" algn="just">
              <a:lnSpc>
                <a:spcPct val="80000"/>
              </a:lnSpc>
              <a:spcBef>
                <a:spcPts val="60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Garamond"/>
              </a:rPr>
              <a:t>Утилиты скрытого удаленного управления </a:t>
            </a:r>
            <a:r>
              <a:rPr b="0" lang="ru-RU" sz="2400" spc="-1" strike="noStrike">
                <a:solidFill>
                  <a:srgbClr val="ffffff"/>
                </a:solidFill>
                <a:latin typeface="Garamond"/>
              </a:rPr>
              <a:t>– это трояны, которые обеспечивают своему автору или другому осведомленному лицу несанкционированный удаленный контроль над инфицированным компьютером. Перечень действий, которые позволяет выполнять тот или иной троян, определяется его функциональностью, заложенной автором. Обычно это возможность скрыто загружать, отсылать, запускать или уничтожать файлы. Такие трояны могут быть использованы как для получения конфиденциальной информации, так и для запуска вирусов, уничтожения данных.</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374760" y="326880"/>
            <a:ext cx="8518320" cy="6126480"/>
          </a:xfrm>
          <a:prstGeom prst="rect">
            <a:avLst/>
          </a:prstGeom>
          <a:noFill/>
          <a:ln w="0">
            <a:noFill/>
          </a:ln>
        </p:spPr>
        <p:txBody>
          <a:bodyPr anchor="t">
            <a:normAutofit fontScale="91000"/>
          </a:bodyPr>
          <a:p>
            <a:pPr marL="312120" indent="-312120" algn="just">
              <a:spcBef>
                <a:spcPts val="60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Garamond"/>
              </a:rPr>
              <a:t>Анонимные SMTP-сервера и прокси-сервера </a:t>
            </a:r>
            <a:r>
              <a:rPr b="0" lang="ru-RU" sz="2400" spc="-1" strike="noStrike">
                <a:solidFill>
                  <a:srgbClr val="ffffff"/>
                </a:solidFill>
                <a:latin typeface="Garamond"/>
              </a:rPr>
              <a:t>– такие трояны на зараженном компьютере организовывают несанкционированную отправку электронной почты, часто используется для рассылки спама.</a:t>
            </a:r>
            <a:endParaRPr b="0" lang="en-US" sz="2400" spc="-1" strike="noStrike">
              <a:solidFill>
                <a:srgbClr val="ffffff"/>
              </a:solidFill>
              <a:latin typeface="Garamond"/>
            </a:endParaRPr>
          </a:p>
          <a:p>
            <a:pPr marL="312120" indent="-312120" algn="just">
              <a:spcBef>
                <a:spcPts val="60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Garamond"/>
              </a:rPr>
              <a:t>Утилиты дозвона </a:t>
            </a:r>
            <a:r>
              <a:rPr b="0" lang="ru-RU" sz="2400" spc="-1" strike="noStrike">
                <a:solidFill>
                  <a:srgbClr val="ffffff"/>
                </a:solidFill>
                <a:latin typeface="Garamond"/>
              </a:rPr>
              <a:t>в скрытом от пользователя режиме инициируют подключение к платным сервисам Интернет.</a:t>
            </a:r>
            <a:endParaRPr b="0" lang="en-US" sz="2400" spc="-1" strike="noStrike">
              <a:solidFill>
                <a:srgbClr val="ffffff"/>
              </a:solidFill>
              <a:latin typeface="Garamond"/>
            </a:endParaRPr>
          </a:p>
          <a:p>
            <a:pPr marL="312120" indent="-312120" algn="just">
              <a:spcBef>
                <a:spcPts val="60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Garamond"/>
              </a:rPr>
              <a:t>Модификаторы настроек браузера </a:t>
            </a:r>
            <a:r>
              <a:rPr b="0" lang="ru-RU" sz="2400" spc="-1" strike="noStrike">
                <a:solidFill>
                  <a:srgbClr val="ffffff"/>
                </a:solidFill>
                <a:latin typeface="Garamond"/>
              </a:rPr>
              <a:t>меняют стартовую страницу в браузере, страницу поиска или еще какие-либо настройки, открывают дополнительные окна, имитируют нажатия на рекламные баннеры и т. п.</a:t>
            </a:r>
            <a:endParaRPr b="0" lang="en-US" sz="2400" spc="-1" strike="noStrike">
              <a:solidFill>
                <a:srgbClr val="ffffff"/>
              </a:solidFill>
              <a:latin typeface="Garamond"/>
            </a:endParaRPr>
          </a:p>
          <a:p>
            <a:pPr marL="312120" indent="-312120" algn="just">
              <a:spcBef>
                <a:spcPts val="60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Garamond"/>
              </a:rPr>
              <a:t>Логические бомбы </a:t>
            </a:r>
            <a:r>
              <a:rPr b="0" lang="ru-RU" sz="2400" spc="-1" strike="noStrike">
                <a:solidFill>
                  <a:srgbClr val="ffffff"/>
                </a:solidFill>
                <a:latin typeface="Garamond"/>
              </a:rPr>
              <a:t>характеризуются способностью при срабатывании заложенных в них условий (в конкретный день, время суток, определенное действие пользователя или команды извне) выполнять какое-либо действие, например, удаление файлов.</a:t>
            </a:r>
            <a:endParaRPr b="0" lang="en-US" sz="2400" spc="-1" strike="noStrike">
              <a:solidFill>
                <a:srgbClr val="ffffff"/>
              </a:solidFill>
              <a:latin typeface="Garamond"/>
            </a:endParaRPr>
          </a:p>
        </p:txBody>
      </p:sp>
      <p:sp>
        <p:nvSpPr>
          <p:cNvPr id="126" name="AutoShape 4">
            <a:hlinkClick r:id="rId1" action="ppaction://hlinksldjump"/>
          </p:cNvPr>
          <p:cNvSpPr/>
          <p:nvPr/>
        </p:nvSpPr>
        <p:spPr>
          <a:xfrm>
            <a:off x="8604360" y="6308640"/>
            <a:ext cx="539640" cy="549360"/>
          </a:xfrm>
          <a:custGeom>
            <a:avLst/>
            <a:gdLst>
              <a:gd name="textAreaLeft" fmla="*/ 34920 w 539640"/>
              <a:gd name="textAreaRight" fmla="*/ 504720 w 539640"/>
              <a:gd name="textAreaTop" fmla="*/ 34920 h 549360"/>
              <a:gd name="textAreaBottom" fmla="*/ 514440 h 549360"/>
            </a:gdLst>
            <a:ahLst/>
            <a:rect l="textAreaLeft" t="textAreaTop" r="textAreaRight" b="textAreaBottom"/>
            <a:pathLst>
              <a:path w="21600" h="21989">
                <a:moveTo>
                  <a:pt x="0" y="0"/>
                </a:moveTo>
                <a:lnTo>
                  <a:pt x="21600" y="0"/>
                </a:lnTo>
                <a:lnTo>
                  <a:pt x="21600" y="21989"/>
                </a:lnTo>
                <a:lnTo>
                  <a:pt x="0" y="21989"/>
                </a:lnTo>
                <a:close/>
              </a:path>
              <a:path fill="lightenLess" w="21600" h="21989">
                <a:moveTo>
                  <a:pt x="0" y="0"/>
                </a:moveTo>
                <a:lnTo>
                  <a:pt x="21600" y="0"/>
                </a:lnTo>
                <a:lnTo>
                  <a:pt x="20200" y="1400"/>
                </a:lnTo>
                <a:lnTo>
                  <a:pt x="1400" y="1400"/>
                </a:lnTo>
                <a:close/>
              </a:path>
              <a:path fill="darken" w="21600" h="21989">
                <a:moveTo>
                  <a:pt x="21600" y="0"/>
                </a:moveTo>
                <a:lnTo>
                  <a:pt x="21600" y="21989"/>
                </a:lnTo>
                <a:lnTo>
                  <a:pt x="20200" y="20589"/>
                </a:lnTo>
                <a:lnTo>
                  <a:pt x="20200" y="1400"/>
                </a:lnTo>
                <a:close/>
              </a:path>
              <a:path fill="darkenLess" w="21600" h="21989">
                <a:moveTo>
                  <a:pt x="21600" y="21989"/>
                </a:moveTo>
                <a:lnTo>
                  <a:pt x="0" y="21989"/>
                </a:lnTo>
                <a:lnTo>
                  <a:pt x="1400" y="20589"/>
                </a:lnTo>
                <a:lnTo>
                  <a:pt x="20200" y="20589"/>
                </a:lnTo>
                <a:close/>
              </a:path>
              <a:path fill="lighten" w="21600" h="21989">
                <a:moveTo>
                  <a:pt x="0" y="21989"/>
                </a:moveTo>
                <a:lnTo>
                  <a:pt x="0" y="0"/>
                </a:lnTo>
                <a:lnTo>
                  <a:pt x="1400" y="1400"/>
                </a:lnTo>
                <a:lnTo>
                  <a:pt x="1400" y="20589"/>
                </a:lnTo>
                <a:close/>
              </a:path>
              <a:path fill="darken" w="21600" h="21989">
                <a:moveTo>
                  <a:pt x="3794" y="7687"/>
                </a:moveTo>
                <a:lnTo>
                  <a:pt x="7301" y="7687"/>
                </a:lnTo>
                <a:lnTo>
                  <a:pt x="7301" y="13022"/>
                </a:lnTo>
                <a:cubicBezTo>
                  <a:pt x="7301" y="13945"/>
                  <a:pt x="8102" y="14676"/>
                  <a:pt x="9138" y="14676"/>
                </a:cubicBezTo>
                <a:lnTo>
                  <a:pt x="10800" y="14676"/>
                </a:lnTo>
                <a:cubicBezTo>
                  <a:pt x="11836" y="14676"/>
                  <a:pt x="12636" y="13945"/>
                  <a:pt x="12636" y="13022"/>
                </a:cubicBezTo>
                <a:lnTo>
                  <a:pt x="12636" y="7687"/>
                </a:lnTo>
                <a:lnTo>
                  <a:pt x="10800" y="7687"/>
                </a:lnTo>
                <a:lnTo>
                  <a:pt x="14308" y="4179"/>
                </a:lnTo>
                <a:lnTo>
                  <a:pt x="17981" y="7687"/>
                </a:lnTo>
                <a:lnTo>
                  <a:pt x="16144" y="7687"/>
                </a:lnTo>
                <a:lnTo>
                  <a:pt x="16144" y="13022"/>
                </a:lnTo>
                <a:cubicBezTo>
                  <a:pt x="16144" y="15790"/>
                  <a:pt x="13568" y="18349"/>
                  <a:pt x="10800" y="18349"/>
                </a:cubicBezTo>
                <a:lnTo>
                  <a:pt x="9138" y="18349"/>
                </a:lnTo>
                <a:cubicBezTo>
                  <a:pt x="6370" y="18349"/>
                  <a:pt x="3794" y="15790"/>
                  <a:pt x="3794" y="13022"/>
                </a:cubicBezTo>
                <a:close/>
              </a:path>
            </a:pathLst>
          </a:custGeom>
          <a:solidFill>
            <a:srgbClr val="51596d"/>
          </a:solidFill>
          <a:ln w="936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dddddd"/>
                </a:solidFill>
                <a:latin typeface="Garamond"/>
              </a:rPr>
              <a:t>Другие вредоносные программы</a:t>
            </a:r>
            <a:endParaRPr b="1" lang="en-US" sz="4000" spc="-1" strike="noStrike">
              <a:solidFill>
                <a:srgbClr val="dddddd"/>
              </a:solidFill>
              <a:latin typeface="Garamond"/>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ffff"/>
                </a:solidFill>
                <a:uFillTx/>
                <a:latin typeface="Garamond"/>
                <a:hlinkClick r:id="rId1" action="ppaction://hlinksldjump"/>
              </a:rPr>
              <a:t>Условно опасные программы</a:t>
            </a:r>
            <a:r>
              <a:rPr b="0" lang="ru-RU" sz="3200" spc="-1" strike="noStrike">
                <a:solidFill>
                  <a:srgbClr val="ffffff"/>
                </a:solidFill>
                <a:latin typeface="Garamond"/>
              </a:rPr>
              <a:t>.</a:t>
            </a:r>
            <a:endParaRPr b="0" lang="en-US" sz="3200" spc="-1" strike="noStrike">
              <a:solidFill>
                <a:srgbClr val="ffffff"/>
              </a:solidFill>
              <a:latin typeface="Garamond"/>
            </a:endParaRPr>
          </a:p>
          <a:p>
            <a:pPr marL="343080" indent="-343080">
              <a:spcBef>
                <a:spcPts val="79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ffff"/>
                </a:solidFill>
                <a:uFillTx/>
                <a:latin typeface="Garamond"/>
                <a:hlinkClick r:id="rId2" action="ppaction://hlinksldjump"/>
              </a:rPr>
              <a:t>Шпионские программы </a:t>
            </a:r>
            <a:r>
              <a:rPr b="0" lang="ru-RU" sz="3200" spc="-1" strike="noStrike" u="sng">
                <a:solidFill>
                  <a:srgbClr val="00ffff"/>
                </a:solidFill>
                <a:uFillTx/>
                <a:latin typeface="Garamond"/>
                <a:hlinkClick r:id="rId3" action="ppaction://hlinksldjump"/>
              </a:rPr>
              <a:t>(</a:t>
            </a:r>
            <a:r>
              <a:rPr b="0" lang="ru-RU" sz="3200" spc="-1" strike="noStrike" u="sng">
                <a:solidFill>
                  <a:srgbClr val="00ffff"/>
                </a:solidFill>
                <a:uFillTx/>
                <a:latin typeface="Garamond"/>
                <a:hlinkClick r:id="rId4" action="ppaction://hlinksldjump"/>
              </a:rPr>
              <a:t>spyware</a:t>
            </a:r>
            <a:r>
              <a:rPr b="0" lang="ru-RU" sz="3200" spc="-1" strike="noStrike" u="sng">
                <a:solidFill>
                  <a:srgbClr val="00ffff"/>
                </a:solidFill>
                <a:uFillTx/>
                <a:latin typeface="Garamond"/>
                <a:hlinkClick r:id="rId5" action="ppaction://hlinksldjump"/>
              </a:rPr>
              <a:t>)</a:t>
            </a:r>
            <a:r>
              <a:rPr b="0" lang="ru-RU" sz="3200" spc="-1" strike="noStrike">
                <a:solidFill>
                  <a:srgbClr val="ffffff"/>
                </a:solidFill>
                <a:latin typeface="Garamond"/>
              </a:rPr>
              <a:t>.</a:t>
            </a:r>
            <a:endParaRPr b="0" lang="en-US" sz="3200" spc="-1" strike="noStrike">
              <a:solidFill>
                <a:srgbClr val="ffffff"/>
              </a:solidFill>
              <a:latin typeface="Garamond"/>
            </a:endParaRPr>
          </a:p>
          <a:p>
            <a:pPr marL="343080" indent="-343080">
              <a:spcBef>
                <a:spcPts val="79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ffff"/>
                </a:solidFill>
                <a:uFillTx/>
                <a:latin typeface="Garamond"/>
                <a:hlinkClick r:id="rId6" action="ppaction://hlinksldjump"/>
              </a:rPr>
              <a:t>Хакерские утилиты</a:t>
            </a:r>
            <a:r>
              <a:rPr b="0" lang="ru-RU" sz="3200" spc="-1" strike="noStrike">
                <a:solidFill>
                  <a:srgbClr val="ffffff"/>
                </a:solidFill>
                <a:latin typeface="Garamond"/>
              </a:rPr>
              <a:t>.</a:t>
            </a:r>
            <a:endParaRPr b="0" lang="en-US" sz="3200" spc="-1" strike="noStrike">
              <a:solidFill>
                <a:srgbClr val="ffffff"/>
              </a:solidFill>
              <a:latin typeface="Garamond"/>
            </a:endParaRPr>
          </a:p>
          <a:p>
            <a:pPr marL="343080" indent="-343080">
              <a:spcBef>
                <a:spcPts val="79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ffff"/>
                </a:solidFill>
                <a:uFillTx/>
                <a:latin typeface="Garamond"/>
                <a:hlinkClick r:id="rId7" action="ppaction://hlinksldjump"/>
              </a:rPr>
              <a:t>Злые шутки</a:t>
            </a:r>
            <a:r>
              <a:rPr b="1" lang="ru-RU" sz="3200" spc="-1" strike="noStrike">
                <a:solidFill>
                  <a:srgbClr val="ffffff"/>
                </a:solidFill>
                <a:latin typeface="Garamond"/>
              </a:rPr>
              <a:t>.</a:t>
            </a:r>
            <a:endParaRPr b="0" lang="en-US" sz="3200" spc="-1" strike="noStrike">
              <a:solidFill>
                <a:srgbClr val="ffffff"/>
              </a:solidFill>
              <a:latin typeface="Garamond"/>
            </a:endParaRPr>
          </a:p>
          <a:p>
            <a:pPr marL="343080" indent="-343080">
              <a:spcBef>
                <a:spcPts val="79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ffff"/>
                </a:solidFill>
                <a:uFillTx/>
                <a:latin typeface="Garamond"/>
                <a:hlinkClick r:id="rId8" action="ppaction://hlinksldjump"/>
              </a:rPr>
              <a:t>Шутки и мистификации</a:t>
            </a:r>
            <a:r>
              <a:rPr b="0" lang="ru-RU" sz="3200" spc="-1" strike="noStrike">
                <a:solidFill>
                  <a:srgbClr val="ffffff"/>
                </a:solidFill>
                <a:latin typeface="Garamond"/>
              </a:rPr>
              <a:t>.</a:t>
            </a:r>
            <a:endParaRPr b="0" lang="en-US" sz="3200" spc="-1" strike="noStrike">
              <a:solidFill>
                <a:srgbClr val="ffffff"/>
              </a:solidFill>
              <a:latin typeface="Garamond"/>
            </a:endParaRPr>
          </a:p>
        </p:txBody>
      </p:sp>
      <p:sp>
        <p:nvSpPr>
          <p:cNvPr id="129" name="AutoShape 4">
            <a:hlinkClick r:id="rId9" action="ppaction://hlinksldjump"/>
          </p:cNvPr>
          <p:cNvSpPr/>
          <p:nvPr/>
        </p:nvSpPr>
        <p:spPr>
          <a:xfrm>
            <a:off x="8604360" y="6308640"/>
            <a:ext cx="539640" cy="549360"/>
          </a:xfrm>
          <a:custGeom>
            <a:avLst/>
            <a:gdLst>
              <a:gd name="textAreaLeft" fmla="*/ 34920 w 539640"/>
              <a:gd name="textAreaRight" fmla="*/ 504720 w 539640"/>
              <a:gd name="textAreaTop" fmla="*/ 34920 h 549360"/>
              <a:gd name="textAreaBottom" fmla="*/ 514440 h 549360"/>
            </a:gdLst>
            <a:ahLst/>
            <a:rect l="textAreaLeft" t="textAreaTop" r="textAreaRight" b="textAreaBottom"/>
            <a:pathLst>
              <a:path w="21600" h="21989">
                <a:moveTo>
                  <a:pt x="0" y="0"/>
                </a:moveTo>
                <a:lnTo>
                  <a:pt x="21600" y="0"/>
                </a:lnTo>
                <a:lnTo>
                  <a:pt x="21600" y="21989"/>
                </a:lnTo>
                <a:lnTo>
                  <a:pt x="0" y="21989"/>
                </a:lnTo>
                <a:close/>
              </a:path>
              <a:path fill="lightenLess" w="21600" h="21989">
                <a:moveTo>
                  <a:pt x="0" y="0"/>
                </a:moveTo>
                <a:lnTo>
                  <a:pt x="21600" y="0"/>
                </a:lnTo>
                <a:lnTo>
                  <a:pt x="20200" y="1400"/>
                </a:lnTo>
                <a:lnTo>
                  <a:pt x="1400" y="1400"/>
                </a:lnTo>
                <a:close/>
              </a:path>
              <a:path fill="darken" w="21600" h="21989">
                <a:moveTo>
                  <a:pt x="21600" y="0"/>
                </a:moveTo>
                <a:lnTo>
                  <a:pt x="21600" y="21989"/>
                </a:lnTo>
                <a:lnTo>
                  <a:pt x="20200" y="20589"/>
                </a:lnTo>
                <a:lnTo>
                  <a:pt x="20200" y="1400"/>
                </a:lnTo>
                <a:close/>
              </a:path>
              <a:path fill="darkenLess" w="21600" h="21989">
                <a:moveTo>
                  <a:pt x="21600" y="21989"/>
                </a:moveTo>
                <a:lnTo>
                  <a:pt x="0" y="21989"/>
                </a:lnTo>
                <a:lnTo>
                  <a:pt x="1400" y="20589"/>
                </a:lnTo>
                <a:lnTo>
                  <a:pt x="20200" y="20589"/>
                </a:lnTo>
                <a:close/>
              </a:path>
              <a:path fill="lighten" w="21600" h="21989">
                <a:moveTo>
                  <a:pt x="0" y="21989"/>
                </a:moveTo>
                <a:lnTo>
                  <a:pt x="0" y="0"/>
                </a:lnTo>
                <a:lnTo>
                  <a:pt x="1400" y="1400"/>
                </a:lnTo>
                <a:lnTo>
                  <a:pt x="1400" y="20589"/>
                </a:lnTo>
                <a:close/>
              </a:path>
              <a:path fill="darken" w="21600" h="21989">
                <a:moveTo>
                  <a:pt x="3794" y="7687"/>
                </a:moveTo>
                <a:lnTo>
                  <a:pt x="7301" y="7687"/>
                </a:lnTo>
                <a:lnTo>
                  <a:pt x="7301" y="13022"/>
                </a:lnTo>
                <a:cubicBezTo>
                  <a:pt x="7301" y="13945"/>
                  <a:pt x="8102" y="14676"/>
                  <a:pt x="9138" y="14676"/>
                </a:cubicBezTo>
                <a:lnTo>
                  <a:pt x="10800" y="14676"/>
                </a:lnTo>
                <a:cubicBezTo>
                  <a:pt x="11836" y="14676"/>
                  <a:pt x="12636" y="13945"/>
                  <a:pt x="12636" y="13022"/>
                </a:cubicBezTo>
                <a:lnTo>
                  <a:pt x="12636" y="7687"/>
                </a:lnTo>
                <a:lnTo>
                  <a:pt x="10800" y="7687"/>
                </a:lnTo>
                <a:lnTo>
                  <a:pt x="14308" y="4179"/>
                </a:lnTo>
                <a:lnTo>
                  <a:pt x="17981" y="7687"/>
                </a:lnTo>
                <a:lnTo>
                  <a:pt x="16144" y="7687"/>
                </a:lnTo>
                <a:lnTo>
                  <a:pt x="16144" y="13022"/>
                </a:lnTo>
                <a:cubicBezTo>
                  <a:pt x="16144" y="15790"/>
                  <a:pt x="13568" y="18349"/>
                  <a:pt x="10800" y="18349"/>
                </a:cubicBezTo>
                <a:lnTo>
                  <a:pt x="9138" y="18349"/>
                </a:lnTo>
                <a:cubicBezTo>
                  <a:pt x="6370" y="18349"/>
                  <a:pt x="3794" y="15790"/>
                  <a:pt x="3794" y="13022"/>
                </a:cubicBezTo>
                <a:close/>
              </a:path>
            </a:pathLst>
          </a:custGeom>
          <a:solidFill>
            <a:srgbClr val="51596d"/>
          </a:solidFill>
          <a:ln w="936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dddddd"/>
                </a:solidFill>
                <a:latin typeface="Garamond"/>
              </a:rPr>
              <a:t>Условно опасные программы</a:t>
            </a:r>
            <a:endParaRPr b="1" lang="en-US" sz="4400" spc="-1" strike="noStrike">
              <a:solidFill>
                <a:srgbClr val="dddddd"/>
              </a:solidFill>
              <a:latin typeface="Garamond"/>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60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Garamond"/>
              </a:rPr>
              <a:t>Условно опасные программы</a:t>
            </a:r>
            <a:r>
              <a:rPr b="0" lang="ru-RU" sz="2400" spc="-1" strike="noStrike">
                <a:solidFill>
                  <a:srgbClr val="ffffff"/>
                </a:solidFill>
                <a:latin typeface="Garamond"/>
              </a:rPr>
              <a:t>, то есть такие, о которых нельзя однозначно сказать, что они вредоносны. Такие программы обычно становятся опасными только при определенных условиях или действиях пользователя. К ним относятся:</a:t>
            </a:r>
            <a:endParaRPr b="0" lang="en-US" sz="2400" spc="-1" strike="noStrike">
              <a:solidFill>
                <a:srgbClr val="ffffff"/>
              </a:solidFill>
              <a:latin typeface="Garamond"/>
            </a:endParaRPr>
          </a:p>
          <a:p>
            <a:pPr lvl="2" marL="1143000" indent="-228600">
              <a:spcBef>
                <a:spcPts val="601"/>
              </a:spcBef>
              <a:buClr>
                <a:srgbClr val="dddddd"/>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ffff"/>
                </a:solidFill>
                <a:uFillTx/>
                <a:latin typeface="Garamond"/>
                <a:hlinkClick r:id="rId1" action="ppaction://hlinksldjump"/>
              </a:rPr>
              <a:t>Riskware</a:t>
            </a:r>
            <a:endParaRPr b="0" lang="en-US" sz="2400" spc="-1" strike="noStrike">
              <a:solidFill>
                <a:srgbClr val="ffffff"/>
              </a:solidFill>
              <a:latin typeface="Garamond"/>
            </a:endParaRPr>
          </a:p>
          <a:p>
            <a:pPr lvl="2" marL="1143000" indent="-228600">
              <a:spcBef>
                <a:spcPts val="601"/>
              </a:spcBef>
              <a:buClr>
                <a:srgbClr val="dddddd"/>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ffff"/>
                </a:solidFill>
                <a:uFillTx/>
                <a:latin typeface="Garamond"/>
                <a:hlinkClick r:id="rId2" action="ppaction://hlinksldjump"/>
              </a:rPr>
              <a:t>Рекламные утилиты </a:t>
            </a:r>
            <a:r>
              <a:rPr b="0" lang="ru-RU" sz="2400" spc="-1" strike="noStrike" u="sng">
                <a:solidFill>
                  <a:srgbClr val="00ffff"/>
                </a:solidFill>
                <a:uFillTx/>
                <a:latin typeface="Garamond"/>
                <a:hlinkClick r:id="rId3" action="ppaction://hlinksldjump"/>
              </a:rPr>
              <a:t>(</a:t>
            </a:r>
            <a:r>
              <a:rPr b="0" lang="ru-RU" sz="2400" spc="-1" strike="noStrike" u="sng">
                <a:solidFill>
                  <a:srgbClr val="00ffff"/>
                </a:solidFill>
                <a:uFillTx/>
                <a:latin typeface="Garamond"/>
                <a:hlinkClick r:id="rId4" action="ppaction://hlinksldjump"/>
              </a:rPr>
              <a:t>adware</a:t>
            </a:r>
            <a:r>
              <a:rPr b="0" lang="ru-RU" sz="2400" spc="-1" strike="noStrike" u="sng">
                <a:solidFill>
                  <a:srgbClr val="00ffff"/>
                </a:solidFill>
                <a:uFillTx/>
                <a:latin typeface="Garamond"/>
                <a:hlinkClick r:id="rId5" action="ppaction://hlinksldjump"/>
              </a:rPr>
              <a:t>)</a:t>
            </a:r>
            <a:endParaRPr b="0" lang="en-US" sz="2400" spc="-1" strike="noStrike">
              <a:solidFill>
                <a:srgbClr val="ffffff"/>
              </a:solidFill>
              <a:latin typeface="Garamond"/>
            </a:endParaRPr>
          </a:p>
          <a:p>
            <a:pPr lvl="2" marL="1143000" indent="-228600">
              <a:spcBef>
                <a:spcPts val="601"/>
              </a:spcBef>
              <a:buClr>
                <a:srgbClr val="dddddd"/>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ffff"/>
                </a:solidFill>
                <a:uFillTx/>
                <a:latin typeface="Garamond"/>
                <a:hlinkClick r:id="rId6" action="ppaction://hlinksldjump"/>
              </a:rPr>
              <a:t>Pornware</a:t>
            </a:r>
            <a:endParaRPr b="0" lang="en-US" sz="2400" spc="-1" strike="noStrike">
              <a:solidFill>
                <a:srgbClr val="ffffff"/>
              </a:solidFill>
              <a:latin typeface="Garamond"/>
            </a:endParaRPr>
          </a:p>
        </p:txBody>
      </p:sp>
      <p:sp>
        <p:nvSpPr>
          <p:cNvPr id="132" name="AutoShape 4">
            <a:hlinkClick r:id="rId7" action="ppaction://hlinksldjump"/>
          </p:cNvPr>
          <p:cNvSpPr/>
          <p:nvPr/>
        </p:nvSpPr>
        <p:spPr>
          <a:xfrm>
            <a:off x="8317080" y="6453360"/>
            <a:ext cx="863280" cy="360360"/>
          </a:xfrm>
          <a:custGeom>
            <a:avLst/>
            <a:gdLst>
              <a:gd name="textAreaLeft" fmla="*/ 23040 w 863280"/>
              <a:gd name="textAreaRight" fmla="*/ 840240 w 863280"/>
              <a:gd name="textAreaTop" fmla="*/ 23040 h 360360"/>
              <a:gd name="textAreaBottom" fmla="*/ 337320 h 360360"/>
            </a:gdLst>
            <a:ahLst/>
            <a:rect l="textAreaLeft" t="textAreaTop" r="textAreaRight" b="textAreaBottom"/>
            <a:pathLst>
              <a:path w="51715" h="21600">
                <a:moveTo>
                  <a:pt x="0" y="0"/>
                </a:moveTo>
                <a:lnTo>
                  <a:pt x="51715" y="0"/>
                </a:lnTo>
                <a:lnTo>
                  <a:pt x="51715" y="21600"/>
                </a:lnTo>
                <a:lnTo>
                  <a:pt x="0" y="21600"/>
                </a:lnTo>
                <a:close/>
              </a:path>
              <a:path fill="lightenLess" w="51715" h="21600">
                <a:moveTo>
                  <a:pt x="0" y="0"/>
                </a:moveTo>
                <a:lnTo>
                  <a:pt x="51715" y="0"/>
                </a:lnTo>
                <a:lnTo>
                  <a:pt x="50315" y="1400"/>
                </a:lnTo>
                <a:lnTo>
                  <a:pt x="1400" y="1400"/>
                </a:lnTo>
                <a:close/>
              </a:path>
              <a:path fill="darken" w="51715" h="21600">
                <a:moveTo>
                  <a:pt x="51715" y="0"/>
                </a:moveTo>
                <a:lnTo>
                  <a:pt x="51715" y="21600"/>
                </a:lnTo>
                <a:lnTo>
                  <a:pt x="50315" y="20200"/>
                </a:lnTo>
                <a:lnTo>
                  <a:pt x="50315" y="1400"/>
                </a:lnTo>
                <a:close/>
              </a:path>
              <a:path fill="darkenLess" w="51715" h="21600">
                <a:moveTo>
                  <a:pt x="51715" y="21600"/>
                </a:moveTo>
                <a:lnTo>
                  <a:pt x="0" y="21600"/>
                </a:lnTo>
                <a:lnTo>
                  <a:pt x="1400" y="20200"/>
                </a:lnTo>
                <a:lnTo>
                  <a:pt x="50315" y="20200"/>
                </a:lnTo>
                <a:close/>
              </a:path>
              <a:path fill="lighten" w="51715" h="21600">
                <a:moveTo>
                  <a:pt x="0" y="21600"/>
                </a:moveTo>
                <a:lnTo>
                  <a:pt x="0" y="0"/>
                </a:lnTo>
                <a:lnTo>
                  <a:pt x="1400" y="1400"/>
                </a:lnTo>
                <a:lnTo>
                  <a:pt x="1400" y="20200"/>
                </a:lnTo>
                <a:close/>
              </a:path>
              <a:path fill="darken" w="51715" h="21600">
                <a:moveTo>
                  <a:pt x="18851" y="7493"/>
                </a:moveTo>
                <a:lnTo>
                  <a:pt x="22359" y="7493"/>
                </a:lnTo>
                <a:lnTo>
                  <a:pt x="22359" y="12828"/>
                </a:lnTo>
                <a:cubicBezTo>
                  <a:pt x="22359" y="13751"/>
                  <a:pt x="23159" y="14482"/>
                  <a:pt x="24195" y="14482"/>
                </a:cubicBezTo>
                <a:lnTo>
                  <a:pt x="25857" y="14482"/>
                </a:lnTo>
                <a:cubicBezTo>
                  <a:pt x="26893" y="14482"/>
                  <a:pt x="27694" y="13751"/>
                  <a:pt x="27694" y="12828"/>
                </a:cubicBezTo>
                <a:lnTo>
                  <a:pt x="27694" y="7493"/>
                </a:lnTo>
                <a:lnTo>
                  <a:pt x="25857" y="7493"/>
                </a:lnTo>
                <a:lnTo>
                  <a:pt x="29365" y="3985"/>
                </a:lnTo>
                <a:lnTo>
                  <a:pt x="33038" y="7493"/>
                </a:lnTo>
                <a:lnTo>
                  <a:pt x="31202" y="7493"/>
                </a:lnTo>
                <a:lnTo>
                  <a:pt x="31202" y="12828"/>
                </a:lnTo>
                <a:cubicBezTo>
                  <a:pt x="31202" y="15596"/>
                  <a:pt x="28625" y="18155"/>
                  <a:pt x="25857" y="18155"/>
                </a:cubicBezTo>
                <a:lnTo>
                  <a:pt x="24195" y="18155"/>
                </a:lnTo>
                <a:cubicBezTo>
                  <a:pt x="21427" y="18155"/>
                  <a:pt x="18851" y="15596"/>
                  <a:pt x="18851" y="12828"/>
                </a:cubicBezTo>
                <a:close/>
              </a:path>
            </a:pathLst>
          </a:custGeom>
          <a:solidFill>
            <a:srgbClr val="787e8a"/>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Garamond"/>
              </a:rPr>
              <a:t>Riskware</a:t>
            </a:r>
            <a:endParaRPr b="1" lang="en-US" sz="4400" spc="-1" strike="noStrike">
              <a:solidFill>
                <a:srgbClr val="dddddd"/>
              </a:solidFill>
              <a:latin typeface="Garamond"/>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60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Garamond"/>
              </a:rPr>
              <a:t>Riskware</a:t>
            </a:r>
            <a:r>
              <a:rPr b="0" lang="ru-RU" sz="2400" spc="-1" strike="noStrike">
                <a:solidFill>
                  <a:srgbClr val="ffffff"/>
                </a:solidFill>
                <a:latin typeface="Garamond"/>
              </a:rPr>
              <a:t> – вполне легальные программы и сами по себе не опасны, однако обладают таким функционалом, что в случае получения злоумышленником доступа к управлению ими, могут нанести серьезный вред. К riskware относятся обычные утилиты удаленного управления, которыми часто пользуются администраторы больших сетей, клиенты IRC, программы для загрузки файлов из Интернет, утилиты восстановления забытых паролей и другие.</a:t>
            </a:r>
            <a:endParaRPr b="0" lang="en-US" sz="2400" spc="-1" strike="noStrike">
              <a:solidFill>
                <a:srgbClr val="ffffff"/>
              </a:solidFill>
              <a:latin typeface="Garamond"/>
            </a:endParaRPr>
          </a:p>
        </p:txBody>
      </p:sp>
      <p:sp>
        <p:nvSpPr>
          <p:cNvPr id="135" name="AutoShape 4">
            <a:hlinkClick r:id="rId1" action="ppaction://hlinksldjump"/>
          </p:cNvPr>
          <p:cNvSpPr/>
          <p:nvPr/>
        </p:nvSpPr>
        <p:spPr>
          <a:xfrm>
            <a:off x="8532720" y="6237360"/>
            <a:ext cx="611280" cy="620640"/>
          </a:xfrm>
          <a:custGeom>
            <a:avLst/>
            <a:gdLst>
              <a:gd name="textAreaLeft" fmla="*/ 39600 w 611280"/>
              <a:gd name="textAreaRight" fmla="*/ 571680 w 611280"/>
              <a:gd name="textAreaTop" fmla="*/ 39600 h 620640"/>
              <a:gd name="textAreaBottom" fmla="*/ 581040 h 620640"/>
            </a:gdLst>
            <a:ahLst/>
            <a:rect l="textAreaLeft" t="textAreaTop" r="textAreaRight" b="textAreaBottom"/>
            <a:pathLst>
              <a:path w="21600" h="21931">
                <a:moveTo>
                  <a:pt x="0" y="0"/>
                </a:moveTo>
                <a:lnTo>
                  <a:pt x="21600" y="0"/>
                </a:lnTo>
                <a:lnTo>
                  <a:pt x="21600" y="21931"/>
                </a:lnTo>
                <a:lnTo>
                  <a:pt x="0" y="21931"/>
                </a:lnTo>
                <a:close/>
              </a:path>
              <a:path fill="lightenLess" w="21600" h="21931">
                <a:moveTo>
                  <a:pt x="0" y="0"/>
                </a:moveTo>
                <a:lnTo>
                  <a:pt x="21600" y="0"/>
                </a:lnTo>
                <a:lnTo>
                  <a:pt x="20200" y="1400"/>
                </a:lnTo>
                <a:lnTo>
                  <a:pt x="1400" y="1400"/>
                </a:lnTo>
                <a:close/>
              </a:path>
              <a:path fill="darken" w="21600" h="21931">
                <a:moveTo>
                  <a:pt x="21600" y="0"/>
                </a:moveTo>
                <a:lnTo>
                  <a:pt x="21600" y="21931"/>
                </a:lnTo>
                <a:lnTo>
                  <a:pt x="20200" y="20531"/>
                </a:lnTo>
                <a:lnTo>
                  <a:pt x="20200" y="1400"/>
                </a:lnTo>
                <a:close/>
              </a:path>
              <a:path fill="darkenLess" w="21600" h="21931">
                <a:moveTo>
                  <a:pt x="21600" y="21931"/>
                </a:moveTo>
                <a:lnTo>
                  <a:pt x="0" y="21931"/>
                </a:lnTo>
                <a:lnTo>
                  <a:pt x="1400" y="20531"/>
                </a:lnTo>
                <a:lnTo>
                  <a:pt x="20200" y="20531"/>
                </a:lnTo>
                <a:close/>
              </a:path>
              <a:path fill="lighten" w="21600" h="21931">
                <a:moveTo>
                  <a:pt x="0" y="21931"/>
                </a:moveTo>
                <a:lnTo>
                  <a:pt x="0" y="0"/>
                </a:lnTo>
                <a:lnTo>
                  <a:pt x="1400" y="1400"/>
                </a:lnTo>
                <a:lnTo>
                  <a:pt x="1400" y="20531"/>
                </a:lnTo>
                <a:close/>
              </a:path>
              <a:path fill="darken" w="21600" h="21931">
                <a:moveTo>
                  <a:pt x="3794" y="7658"/>
                </a:moveTo>
                <a:lnTo>
                  <a:pt x="7301" y="7658"/>
                </a:lnTo>
                <a:lnTo>
                  <a:pt x="7301" y="12993"/>
                </a:lnTo>
                <a:cubicBezTo>
                  <a:pt x="7301" y="13916"/>
                  <a:pt x="8102" y="14647"/>
                  <a:pt x="9138" y="14647"/>
                </a:cubicBezTo>
                <a:lnTo>
                  <a:pt x="10800" y="14647"/>
                </a:lnTo>
                <a:cubicBezTo>
                  <a:pt x="11836" y="14647"/>
                  <a:pt x="12636" y="13916"/>
                  <a:pt x="12636" y="12993"/>
                </a:cubicBezTo>
                <a:lnTo>
                  <a:pt x="12636" y="7658"/>
                </a:lnTo>
                <a:lnTo>
                  <a:pt x="10800" y="7658"/>
                </a:lnTo>
                <a:lnTo>
                  <a:pt x="14308" y="4150"/>
                </a:lnTo>
                <a:lnTo>
                  <a:pt x="17981" y="7658"/>
                </a:lnTo>
                <a:lnTo>
                  <a:pt x="16144" y="7658"/>
                </a:lnTo>
                <a:lnTo>
                  <a:pt x="16144" y="12993"/>
                </a:lnTo>
                <a:cubicBezTo>
                  <a:pt x="16144" y="15761"/>
                  <a:pt x="13568" y="18320"/>
                  <a:pt x="10800" y="18320"/>
                </a:cubicBezTo>
                <a:lnTo>
                  <a:pt x="9138" y="18320"/>
                </a:lnTo>
                <a:cubicBezTo>
                  <a:pt x="6370" y="18320"/>
                  <a:pt x="3794" y="15761"/>
                  <a:pt x="3794" y="12993"/>
                </a:cubicBezTo>
                <a:close/>
              </a:path>
            </a:pathLst>
          </a:custGeom>
          <a:solidFill>
            <a:srgbClr val="787e8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dddddd"/>
                </a:solidFill>
                <a:latin typeface="Garamond"/>
              </a:rPr>
              <a:t>Рекламные утилиты</a:t>
            </a:r>
            <a:endParaRPr b="1" lang="en-US" sz="4400" spc="-1" strike="noStrike">
              <a:solidFill>
                <a:srgbClr val="dddddd"/>
              </a:solidFill>
              <a:latin typeface="Garamond"/>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315360" algn="just">
              <a:lnSpc>
                <a:spcPct val="80000"/>
              </a:lnSpc>
              <a:spcBef>
                <a:spcPts val="60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Garamond"/>
              </a:rPr>
              <a:t>Рекламные утилиты </a:t>
            </a:r>
            <a:r>
              <a:rPr b="0" lang="ru-RU" sz="2400" spc="-1" strike="noStrike">
                <a:solidFill>
                  <a:srgbClr val="ffffff"/>
                </a:solidFill>
                <a:latin typeface="Garamond"/>
              </a:rPr>
              <a:t>(</a:t>
            </a:r>
            <a:r>
              <a:rPr b="1" lang="ru-RU" sz="2400" spc="-1" strike="noStrike">
                <a:solidFill>
                  <a:srgbClr val="ffffff"/>
                </a:solidFill>
                <a:latin typeface="Garamond"/>
              </a:rPr>
              <a:t>adware</a:t>
            </a:r>
            <a:r>
              <a:rPr b="0" lang="ru-RU" sz="2400" spc="-1" strike="noStrike">
                <a:solidFill>
                  <a:srgbClr val="ffffff"/>
                </a:solidFill>
                <a:latin typeface="Garamond"/>
              </a:rPr>
              <a:t>9) – условно-бесплатные программы, которые в качестве платы за свое использование демонстрируют пользователю рекламу, чаще всего в виде графических баннеров. После официальной оплаты и регистрации обычно показ рекламы заканчивается и программы начинают работать в обычном режиме. Проблема adware кроется в механизмах, которые используются для загрузки рекламы на компьютер. Кроме того, что для этих целей часто используются программы сторонних и не всегда проверенных производителей, даже после регистрации такие модули могут автоматически не удаляться и продолжать свою работу в скрытом режиме. Однако среди adware-программ есть и вполне заслуживающие доверия – например, клиент ICQ.</a:t>
            </a:r>
            <a:endParaRPr b="0" lang="en-US" sz="2400" spc="-1" strike="noStrike">
              <a:solidFill>
                <a:srgbClr val="ffffff"/>
              </a:solidFill>
              <a:latin typeface="Garamond"/>
            </a:endParaRPr>
          </a:p>
        </p:txBody>
      </p:sp>
      <p:sp>
        <p:nvSpPr>
          <p:cNvPr id="138" name="AutoShape 4">
            <a:hlinkClick r:id="rId1" action="ppaction://hlinksldjump"/>
          </p:cNvPr>
          <p:cNvSpPr/>
          <p:nvPr/>
        </p:nvSpPr>
        <p:spPr>
          <a:xfrm>
            <a:off x="8532720" y="6237360"/>
            <a:ext cx="611280" cy="620640"/>
          </a:xfrm>
          <a:custGeom>
            <a:avLst/>
            <a:gdLst>
              <a:gd name="textAreaLeft" fmla="*/ 39600 w 611280"/>
              <a:gd name="textAreaRight" fmla="*/ 571680 w 611280"/>
              <a:gd name="textAreaTop" fmla="*/ 39600 h 620640"/>
              <a:gd name="textAreaBottom" fmla="*/ 581040 h 620640"/>
            </a:gdLst>
            <a:ahLst/>
            <a:rect l="textAreaLeft" t="textAreaTop" r="textAreaRight" b="textAreaBottom"/>
            <a:pathLst>
              <a:path w="21600" h="21931">
                <a:moveTo>
                  <a:pt x="0" y="0"/>
                </a:moveTo>
                <a:lnTo>
                  <a:pt x="21600" y="0"/>
                </a:lnTo>
                <a:lnTo>
                  <a:pt x="21600" y="21931"/>
                </a:lnTo>
                <a:lnTo>
                  <a:pt x="0" y="21931"/>
                </a:lnTo>
                <a:close/>
              </a:path>
              <a:path fill="lightenLess" w="21600" h="21931">
                <a:moveTo>
                  <a:pt x="0" y="0"/>
                </a:moveTo>
                <a:lnTo>
                  <a:pt x="21600" y="0"/>
                </a:lnTo>
                <a:lnTo>
                  <a:pt x="20200" y="1400"/>
                </a:lnTo>
                <a:lnTo>
                  <a:pt x="1400" y="1400"/>
                </a:lnTo>
                <a:close/>
              </a:path>
              <a:path fill="darken" w="21600" h="21931">
                <a:moveTo>
                  <a:pt x="21600" y="0"/>
                </a:moveTo>
                <a:lnTo>
                  <a:pt x="21600" y="21931"/>
                </a:lnTo>
                <a:lnTo>
                  <a:pt x="20200" y="20531"/>
                </a:lnTo>
                <a:lnTo>
                  <a:pt x="20200" y="1400"/>
                </a:lnTo>
                <a:close/>
              </a:path>
              <a:path fill="darkenLess" w="21600" h="21931">
                <a:moveTo>
                  <a:pt x="21600" y="21931"/>
                </a:moveTo>
                <a:lnTo>
                  <a:pt x="0" y="21931"/>
                </a:lnTo>
                <a:lnTo>
                  <a:pt x="1400" y="20531"/>
                </a:lnTo>
                <a:lnTo>
                  <a:pt x="20200" y="20531"/>
                </a:lnTo>
                <a:close/>
              </a:path>
              <a:path fill="lighten" w="21600" h="21931">
                <a:moveTo>
                  <a:pt x="0" y="21931"/>
                </a:moveTo>
                <a:lnTo>
                  <a:pt x="0" y="0"/>
                </a:lnTo>
                <a:lnTo>
                  <a:pt x="1400" y="1400"/>
                </a:lnTo>
                <a:lnTo>
                  <a:pt x="1400" y="20531"/>
                </a:lnTo>
                <a:close/>
              </a:path>
              <a:path fill="darken" w="21600" h="21931">
                <a:moveTo>
                  <a:pt x="3794" y="7658"/>
                </a:moveTo>
                <a:lnTo>
                  <a:pt x="7301" y="7658"/>
                </a:lnTo>
                <a:lnTo>
                  <a:pt x="7301" y="12993"/>
                </a:lnTo>
                <a:cubicBezTo>
                  <a:pt x="7301" y="13916"/>
                  <a:pt x="8102" y="14647"/>
                  <a:pt x="9138" y="14647"/>
                </a:cubicBezTo>
                <a:lnTo>
                  <a:pt x="10800" y="14647"/>
                </a:lnTo>
                <a:cubicBezTo>
                  <a:pt x="11836" y="14647"/>
                  <a:pt x="12636" y="13916"/>
                  <a:pt x="12636" y="12993"/>
                </a:cubicBezTo>
                <a:lnTo>
                  <a:pt x="12636" y="7658"/>
                </a:lnTo>
                <a:lnTo>
                  <a:pt x="10800" y="7658"/>
                </a:lnTo>
                <a:lnTo>
                  <a:pt x="14308" y="4150"/>
                </a:lnTo>
                <a:lnTo>
                  <a:pt x="17981" y="7658"/>
                </a:lnTo>
                <a:lnTo>
                  <a:pt x="16144" y="7658"/>
                </a:lnTo>
                <a:lnTo>
                  <a:pt x="16144" y="12993"/>
                </a:lnTo>
                <a:cubicBezTo>
                  <a:pt x="16144" y="15761"/>
                  <a:pt x="13568" y="18320"/>
                  <a:pt x="10800" y="18320"/>
                </a:cubicBezTo>
                <a:lnTo>
                  <a:pt x="9138" y="18320"/>
                </a:lnTo>
                <a:cubicBezTo>
                  <a:pt x="6370" y="18320"/>
                  <a:pt x="3794" y="15761"/>
                  <a:pt x="3794" y="12993"/>
                </a:cubicBezTo>
                <a:close/>
              </a:path>
            </a:pathLst>
          </a:custGeom>
          <a:solidFill>
            <a:srgbClr val="787e8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78920" y="333360"/>
            <a:ext cx="8713800" cy="619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dddddd"/>
                </a:solidFill>
                <a:latin typeface="Garamond"/>
              </a:rPr>
              <a:t>Реферат</a:t>
            </a:r>
            <a:br>
              <a:rPr sz="6000"/>
            </a:br>
            <a:r>
              <a:rPr b="1" lang="ru-RU" sz="6000" spc="-1" strike="noStrike">
                <a:solidFill>
                  <a:srgbClr val="dddddd"/>
                </a:solidFill>
                <a:latin typeface="Garamond"/>
              </a:rPr>
              <a:t>по информационным системам</a:t>
            </a:r>
            <a:br>
              <a:rPr sz="6000"/>
            </a:br>
            <a:r>
              <a:rPr b="1" lang="ru-RU" sz="6000" spc="-1" strike="noStrike">
                <a:solidFill>
                  <a:srgbClr val="dddddd"/>
                </a:solidFill>
                <a:latin typeface="Garamond"/>
              </a:rPr>
              <a:t>студентки МосГУ</a:t>
            </a:r>
            <a:br>
              <a:rPr sz="6000"/>
            </a:br>
            <a:r>
              <a:rPr b="1" lang="ru-RU" sz="6000" spc="-1" strike="noStrike">
                <a:solidFill>
                  <a:srgbClr val="dddddd"/>
                </a:solidFill>
                <a:latin typeface="Garamond"/>
              </a:rPr>
              <a:t>Власенко А.В.</a:t>
            </a:r>
            <a:br>
              <a:rPr sz="6000"/>
            </a:br>
            <a:br>
              <a:rPr sz="6000"/>
            </a:br>
            <a:r>
              <a:rPr b="1" lang="ru-RU" sz="6000" spc="-1" strike="noStrike">
                <a:solidFill>
                  <a:srgbClr val="dddddd"/>
                </a:solidFill>
                <a:latin typeface="Garamond"/>
              </a:rPr>
              <a:t>Москва-2011</a:t>
            </a:r>
            <a:endParaRPr b="1" lang="en-US" sz="6000" spc="-1" strike="noStrike">
              <a:solidFill>
                <a:srgbClr val="dddddd"/>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Garamond"/>
              </a:rPr>
              <a:t>Pornware</a:t>
            </a:r>
            <a:endParaRPr b="1" lang="en-US" sz="4400" spc="-1" strike="noStrike">
              <a:solidFill>
                <a:srgbClr val="dddddd"/>
              </a:solidFill>
              <a:latin typeface="Garamond"/>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318960" algn="just">
              <a:lnSpc>
                <a:spcPct val="80000"/>
              </a:lnSpc>
              <a:spcBef>
                <a:spcPts val="60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Garamond"/>
              </a:rPr>
              <a:t>Pornware</a:t>
            </a:r>
            <a:r>
              <a:rPr b="0" lang="ru-RU" sz="2400" spc="-1" strike="noStrike">
                <a:solidFill>
                  <a:srgbClr val="ffffff"/>
                </a:solidFill>
                <a:latin typeface="Garamond"/>
              </a:rPr>
              <a:t> – к этому классу относятся утилиты, так или иначе связанные с показом пользователям информации порнографического характера. На сегодняшний день это программы, которые самостоятельно дозваниваются до порнографических телефонных служб, загружают из Интернет порнографические материалы или утилиты, предлагающие услуги по поиску и показу такой информации. Отметим, что к вредоносным программам относятся только те утилиты класса pornware, которые устанавливаются на компьютер пользователя несанкционированно – через уязвимость в операционной системы или браузера или при помощи троянов. Обычно это делается с целью насильственного показа рекламы платных порнографических сайтов или служб.</a:t>
            </a:r>
            <a:endParaRPr b="0" lang="en-US" sz="2400" spc="-1" strike="noStrike">
              <a:solidFill>
                <a:srgbClr val="ffffff"/>
              </a:solidFill>
              <a:latin typeface="Garamond"/>
            </a:endParaRPr>
          </a:p>
        </p:txBody>
      </p:sp>
      <p:sp>
        <p:nvSpPr>
          <p:cNvPr id="141" name="AutoShape 4">
            <a:hlinkClick r:id="rId1"/>
          </p:cNvPr>
          <p:cNvSpPr/>
          <p:nvPr/>
        </p:nvSpPr>
        <p:spPr>
          <a:xfrm>
            <a:off x="8532720" y="6237360"/>
            <a:ext cx="611280" cy="620640"/>
          </a:xfrm>
          <a:custGeom>
            <a:avLst/>
            <a:gdLst>
              <a:gd name="textAreaLeft" fmla="*/ 39600 w 611280"/>
              <a:gd name="textAreaRight" fmla="*/ 571680 w 611280"/>
              <a:gd name="textAreaTop" fmla="*/ 39600 h 620640"/>
              <a:gd name="textAreaBottom" fmla="*/ 581040 h 620640"/>
            </a:gdLst>
            <a:ahLst/>
            <a:rect l="textAreaLeft" t="textAreaTop" r="textAreaRight" b="textAreaBottom"/>
            <a:pathLst>
              <a:path w="21600" h="21931">
                <a:moveTo>
                  <a:pt x="0" y="0"/>
                </a:moveTo>
                <a:lnTo>
                  <a:pt x="21600" y="0"/>
                </a:lnTo>
                <a:lnTo>
                  <a:pt x="21600" y="21931"/>
                </a:lnTo>
                <a:lnTo>
                  <a:pt x="0" y="21931"/>
                </a:lnTo>
                <a:close/>
              </a:path>
              <a:path fill="lightenLess" w="21600" h="21931">
                <a:moveTo>
                  <a:pt x="0" y="0"/>
                </a:moveTo>
                <a:lnTo>
                  <a:pt x="21600" y="0"/>
                </a:lnTo>
                <a:lnTo>
                  <a:pt x="20200" y="1400"/>
                </a:lnTo>
                <a:lnTo>
                  <a:pt x="1400" y="1400"/>
                </a:lnTo>
                <a:close/>
              </a:path>
              <a:path fill="darken" w="21600" h="21931">
                <a:moveTo>
                  <a:pt x="21600" y="0"/>
                </a:moveTo>
                <a:lnTo>
                  <a:pt x="21600" y="21931"/>
                </a:lnTo>
                <a:lnTo>
                  <a:pt x="20200" y="20531"/>
                </a:lnTo>
                <a:lnTo>
                  <a:pt x="20200" y="1400"/>
                </a:lnTo>
                <a:close/>
              </a:path>
              <a:path fill="darkenLess" w="21600" h="21931">
                <a:moveTo>
                  <a:pt x="21600" y="21931"/>
                </a:moveTo>
                <a:lnTo>
                  <a:pt x="0" y="21931"/>
                </a:lnTo>
                <a:lnTo>
                  <a:pt x="1400" y="20531"/>
                </a:lnTo>
                <a:lnTo>
                  <a:pt x="20200" y="20531"/>
                </a:lnTo>
                <a:close/>
              </a:path>
              <a:path fill="lighten" w="21600" h="21931">
                <a:moveTo>
                  <a:pt x="0" y="21931"/>
                </a:moveTo>
                <a:lnTo>
                  <a:pt x="0" y="0"/>
                </a:lnTo>
                <a:lnTo>
                  <a:pt x="1400" y="1400"/>
                </a:lnTo>
                <a:lnTo>
                  <a:pt x="1400" y="20531"/>
                </a:lnTo>
                <a:close/>
              </a:path>
              <a:path fill="darken" w="21600" h="21931">
                <a:moveTo>
                  <a:pt x="3794" y="7658"/>
                </a:moveTo>
                <a:lnTo>
                  <a:pt x="7301" y="7658"/>
                </a:lnTo>
                <a:lnTo>
                  <a:pt x="7301" y="12993"/>
                </a:lnTo>
                <a:cubicBezTo>
                  <a:pt x="7301" y="13916"/>
                  <a:pt x="8102" y="14647"/>
                  <a:pt x="9138" y="14647"/>
                </a:cubicBezTo>
                <a:lnTo>
                  <a:pt x="10800" y="14647"/>
                </a:lnTo>
                <a:cubicBezTo>
                  <a:pt x="11836" y="14647"/>
                  <a:pt x="12636" y="13916"/>
                  <a:pt x="12636" y="12993"/>
                </a:cubicBezTo>
                <a:lnTo>
                  <a:pt x="12636" y="7658"/>
                </a:lnTo>
                <a:lnTo>
                  <a:pt x="10800" y="7658"/>
                </a:lnTo>
                <a:lnTo>
                  <a:pt x="14308" y="4150"/>
                </a:lnTo>
                <a:lnTo>
                  <a:pt x="17981" y="7658"/>
                </a:lnTo>
                <a:lnTo>
                  <a:pt x="16144" y="7658"/>
                </a:lnTo>
                <a:lnTo>
                  <a:pt x="16144" y="12993"/>
                </a:lnTo>
                <a:cubicBezTo>
                  <a:pt x="16144" y="15761"/>
                  <a:pt x="13568" y="18320"/>
                  <a:pt x="10800" y="18320"/>
                </a:cubicBezTo>
                <a:lnTo>
                  <a:pt x="9138" y="18320"/>
                </a:lnTo>
                <a:cubicBezTo>
                  <a:pt x="6370" y="18320"/>
                  <a:pt x="3794" y="15761"/>
                  <a:pt x="3794" y="12993"/>
                </a:cubicBezTo>
                <a:close/>
              </a:path>
            </a:pathLst>
          </a:custGeom>
          <a:solidFill>
            <a:srgbClr val="787e8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dddddd"/>
                </a:solidFill>
                <a:latin typeface="Garamond"/>
              </a:rPr>
              <a:t>Шпионские программы</a:t>
            </a:r>
            <a:endParaRPr b="1" lang="en-US" sz="4400" spc="-1" strike="noStrike">
              <a:solidFill>
                <a:srgbClr val="dddddd"/>
              </a:solidFill>
              <a:latin typeface="Garamond"/>
            </a:endParaRPr>
          </a:p>
        </p:txBody>
      </p:sp>
      <p:sp>
        <p:nvSpPr>
          <p:cNvPr id="1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60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Garamond"/>
              </a:rPr>
              <a:t>Шпионские программы </a:t>
            </a:r>
            <a:r>
              <a:rPr b="0" lang="ru-RU" sz="2400" spc="-1" strike="noStrike">
                <a:solidFill>
                  <a:srgbClr val="ffffff"/>
                </a:solidFill>
                <a:latin typeface="Garamond"/>
              </a:rPr>
              <a:t>(</a:t>
            </a:r>
            <a:r>
              <a:rPr b="1" lang="ru-RU" sz="2400" spc="-1" strike="noStrike">
                <a:solidFill>
                  <a:srgbClr val="ffffff"/>
                </a:solidFill>
                <a:latin typeface="Garamond"/>
              </a:rPr>
              <a:t>spyware</a:t>
            </a:r>
            <a:r>
              <a:rPr b="0" lang="ru-RU" sz="2400" spc="-1" strike="noStrike">
                <a:solidFill>
                  <a:srgbClr val="ffffff"/>
                </a:solidFill>
                <a:latin typeface="Garamond"/>
              </a:rPr>
              <a:t>), которые скрытно собирают различную информацию о пользователе и передают своему автору или хозяину. Spyware могут проникать на компьютер, например, под видом adware-компонентов других программ и не удаляться после регистрации основной утилиты. Отличие шпионской программы от троянов-похитителей информации методов состоит в том, что трояны проникают при помощи других вредоносных программ, обманных или используя различные уязвимости, а spyware – в виде скрытых модулей к известным программам.</a:t>
            </a:r>
            <a:endParaRPr b="0" lang="en-US" sz="2400" spc="-1" strike="noStrike">
              <a:solidFill>
                <a:srgbClr val="ffffff"/>
              </a:solidFill>
              <a:latin typeface="Garamond"/>
            </a:endParaRPr>
          </a:p>
        </p:txBody>
      </p:sp>
      <p:sp>
        <p:nvSpPr>
          <p:cNvPr id="144" name="AutoShape 4">
            <a:hlinkClick r:id="rId1"/>
          </p:cNvPr>
          <p:cNvSpPr/>
          <p:nvPr/>
        </p:nvSpPr>
        <p:spPr>
          <a:xfrm>
            <a:off x="8317080" y="6453360"/>
            <a:ext cx="863280" cy="360360"/>
          </a:xfrm>
          <a:custGeom>
            <a:avLst/>
            <a:gdLst>
              <a:gd name="textAreaLeft" fmla="*/ 23040 w 863280"/>
              <a:gd name="textAreaRight" fmla="*/ 840240 w 863280"/>
              <a:gd name="textAreaTop" fmla="*/ 23040 h 360360"/>
              <a:gd name="textAreaBottom" fmla="*/ 337320 h 360360"/>
            </a:gdLst>
            <a:ahLst/>
            <a:rect l="textAreaLeft" t="textAreaTop" r="textAreaRight" b="textAreaBottom"/>
            <a:pathLst>
              <a:path w="51715" h="21600">
                <a:moveTo>
                  <a:pt x="0" y="0"/>
                </a:moveTo>
                <a:lnTo>
                  <a:pt x="51715" y="0"/>
                </a:lnTo>
                <a:lnTo>
                  <a:pt x="51715" y="21600"/>
                </a:lnTo>
                <a:lnTo>
                  <a:pt x="0" y="21600"/>
                </a:lnTo>
                <a:close/>
              </a:path>
              <a:path fill="lightenLess" w="51715" h="21600">
                <a:moveTo>
                  <a:pt x="0" y="0"/>
                </a:moveTo>
                <a:lnTo>
                  <a:pt x="51715" y="0"/>
                </a:lnTo>
                <a:lnTo>
                  <a:pt x="50315" y="1400"/>
                </a:lnTo>
                <a:lnTo>
                  <a:pt x="1400" y="1400"/>
                </a:lnTo>
                <a:close/>
              </a:path>
              <a:path fill="darken" w="51715" h="21600">
                <a:moveTo>
                  <a:pt x="51715" y="0"/>
                </a:moveTo>
                <a:lnTo>
                  <a:pt x="51715" y="21600"/>
                </a:lnTo>
                <a:lnTo>
                  <a:pt x="50315" y="20200"/>
                </a:lnTo>
                <a:lnTo>
                  <a:pt x="50315" y="1400"/>
                </a:lnTo>
                <a:close/>
              </a:path>
              <a:path fill="darkenLess" w="51715" h="21600">
                <a:moveTo>
                  <a:pt x="51715" y="21600"/>
                </a:moveTo>
                <a:lnTo>
                  <a:pt x="0" y="21600"/>
                </a:lnTo>
                <a:lnTo>
                  <a:pt x="1400" y="20200"/>
                </a:lnTo>
                <a:lnTo>
                  <a:pt x="50315" y="20200"/>
                </a:lnTo>
                <a:close/>
              </a:path>
              <a:path fill="lighten" w="51715" h="21600">
                <a:moveTo>
                  <a:pt x="0" y="21600"/>
                </a:moveTo>
                <a:lnTo>
                  <a:pt x="0" y="0"/>
                </a:lnTo>
                <a:lnTo>
                  <a:pt x="1400" y="1400"/>
                </a:lnTo>
                <a:lnTo>
                  <a:pt x="1400" y="20200"/>
                </a:lnTo>
                <a:close/>
              </a:path>
              <a:path fill="darken" w="51715" h="21600">
                <a:moveTo>
                  <a:pt x="18851" y="7493"/>
                </a:moveTo>
                <a:lnTo>
                  <a:pt x="22359" y="7493"/>
                </a:lnTo>
                <a:lnTo>
                  <a:pt x="22359" y="12828"/>
                </a:lnTo>
                <a:cubicBezTo>
                  <a:pt x="22359" y="13751"/>
                  <a:pt x="23159" y="14482"/>
                  <a:pt x="24195" y="14482"/>
                </a:cubicBezTo>
                <a:lnTo>
                  <a:pt x="25857" y="14482"/>
                </a:lnTo>
                <a:cubicBezTo>
                  <a:pt x="26893" y="14482"/>
                  <a:pt x="27694" y="13751"/>
                  <a:pt x="27694" y="12828"/>
                </a:cubicBezTo>
                <a:lnTo>
                  <a:pt x="27694" y="7493"/>
                </a:lnTo>
                <a:lnTo>
                  <a:pt x="25857" y="7493"/>
                </a:lnTo>
                <a:lnTo>
                  <a:pt x="29365" y="3985"/>
                </a:lnTo>
                <a:lnTo>
                  <a:pt x="33038" y="7493"/>
                </a:lnTo>
                <a:lnTo>
                  <a:pt x="31202" y="7493"/>
                </a:lnTo>
                <a:lnTo>
                  <a:pt x="31202" y="12828"/>
                </a:lnTo>
                <a:cubicBezTo>
                  <a:pt x="31202" y="15596"/>
                  <a:pt x="28625" y="18155"/>
                  <a:pt x="25857" y="18155"/>
                </a:cubicBezTo>
                <a:lnTo>
                  <a:pt x="24195" y="18155"/>
                </a:lnTo>
                <a:cubicBezTo>
                  <a:pt x="21427" y="18155"/>
                  <a:pt x="18851" y="15596"/>
                  <a:pt x="18851" y="12828"/>
                </a:cubicBezTo>
                <a:close/>
              </a:path>
            </a:pathLst>
          </a:custGeom>
          <a:solidFill>
            <a:srgbClr val="787e8a"/>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dddddd"/>
                </a:solidFill>
                <a:latin typeface="Garamond"/>
              </a:rPr>
              <a:t>Хакерские утилиты</a:t>
            </a:r>
            <a:endParaRPr b="1" lang="en-US" sz="4400" spc="-1" strike="noStrike">
              <a:solidFill>
                <a:srgbClr val="dddddd"/>
              </a:solidFill>
              <a:latin typeface="Garamond"/>
            </a:endParaRPr>
          </a:p>
        </p:txBody>
      </p:sp>
      <p:sp>
        <p:nvSpPr>
          <p:cNvPr id="1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60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Garamond"/>
              </a:rPr>
              <a:t>Хакерские утилиты</a:t>
            </a:r>
            <a:r>
              <a:rPr b="0" lang="ru-RU" sz="2400" spc="-1" strike="noStrike">
                <a:solidFill>
                  <a:srgbClr val="ffffff"/>
                </a:solidFill>
                <a:latin typeface="Garamond"/>
              </a:rPr>
              <a:t>. К этому виду программ относятся программы скрытия кода зараженных файлов от антивирусной проверки (шифровальщики файлов), автоматизации создания сетевых червей, компьютерных вирусов и троянских программ (конструкторы вирусов), наборы программ, которые используют хакеры для скрытного взятия под контроль взломанной системы (RootKit) и другие подобные утилиты. То есть такие специфические программы, которые обычно используют только хакеры.</a:t>
            </a:r>
            <a:endParaRPr b="0" lang="en-US" sz="2400" spc="-1" strike="noStrike">
              <a:solidFill>
                <a:srgbClr val="ffffff"/>
              </a:solidFill>
              <a:latin typeface="Garamond"/>
            </a:endParaRPr>
          </a:p>
        </p:txBody>
      </p:sp>
      <p:sp>
        <p:nvSpPr>
          <p:cNvPr id="147" name="AutoShape 4">
            <a:hlinkClick r:id="rId1"/>
          </p:cNvPr>
          <p:cNvSpPr/>
          <p:nvPr/>
        </p:nvSpPr>
        <p:spPr>
          <a:xfrm>
            <a:off x="8317080" y="6453360"/>
            <a:ext cx="863280" cy="360360"/>
          </a:xfrm>
          <a:custGeom>
            <a:avLst/>
            <a:gdLst>
              <a:gd name="textAreaLeft" fmla="*/ 23040 w 863280"/>
              <a:gd name="textAreaRight" fmla="*/ 840240 w 863280"/>
              <a:gd name="textAreaTop" fmla="*/ 23040 h 360360"/>
              <a:gd name="textAreaBottom" fmla="*/ 337320 h 360360"/>
            </a:gdLst>
            <a:ahLst/>
            <a:rect l="textAreaLeft" t="textAreaTop" r="textAreaRight" b="textAreaBottom"/>
            <a:pathLst>
              <a:path w="51715" h="21600">
                <a:moveTo>
                  <a:pt x="0" y="0"/>
                </a:moveTo>
                <a:lnTo>
                  <a:pt x="51715" y="0"/>
                </a:lnTo>
                <a:lnTo>
                  <a:pt x="51715" y="21600"/>
                </a:lnTo>
                <a:lnTo>
                  <a:pt x="0" y="21600"/>
                </a:lnTo>
                <a:close/>
              </a:path>
              <a:path fill="lightenLess" w="51715" h="21600">
                <a:moveTo>
                  <a:pt x="0" y="0"/>
                </a:moveTo>
                <a:lnTo>
                  <a:pt x="51715" y="0"/>
                </a:lnTo>
                <a:lnTo>
                  <a:pt x="50315" y="1400"/>
                </a:lnTo>
                <a:lnTo>
                  <a:pt x="1400" y="1400"/>
                </a:lnTo>
                <a:close/>
              </a:path>
              <a:path fill="darken" w="51715" h="21600">
                <a:moveTo>
                  <a:pt x="51715" y="0"/>
                </a:moveTo>
                <a:lnTo>
                  <a:pt x="51715" y="21600"/>
                </a:lnTo>
                <a:lnTo>
                  <a:pt x="50315" y="20200"/>
                </a:lnTo>
                <a:lnTo>
                  <a:pt x="50315" y="1400"/>
                </a:lnTo>
                <a:close/>
              </a:path>
              <a:path fill="darkenLess" w="51715" h="21600">
                <a:moveTo>
                  <a:pt x="51715" y="21600"/>
                </a:moveTo>
                <a:lnTo>
                  <a:pt x="0" y="21600"/>
                </a:lnTo>
                <a:lnTo>
                  <a:pt x="1400" y="20200"/>
                </a:lnTo>
                <a:lnTo>
                  <a:pt x="50315" y="20200"/>
                </a:lnTo>
                <a:close/>
              </a:path>
              <a:path fill="lighten" w="51715" h="21600">
                <a:moveTo>
                  <a:pt x="0" y="21600"/>
                </a:moveTo>
                <a:lnTo>
                  <a:pt x="0" y="0"/>
                </a:lnTo>
                <a:lnTo>
                  <a:pt x="1400" y="1400"/>
                </a:lnTo>
                <a:lnTo>
                  <a:pt x="1400" y="20200"/>
                </a:lnTo>
                <a:close/>
              </a:path>
              <a:path fill="darken" w="51715" h="21600">
                <a:moveTo>
                  <a:pt x="18851" y="7493"/>
                </a:moveTo>
                <a:lnTo>
                  <a:pt x="22359" y="7493"/>
                </a:lnTo>
                <a:lnTo>
                  <a:pt x="22359" y="12828"/>
                </a:lnTo>
                <a:cubicBezTo>
                  <a:pt x="22359" y="13751"/>
                  <a:pt x="23159" y="14482"/>
                  <a:pt x="24195" y="14482"/>
                </a:cubicBezTo>
                <a:lnTo>
                  <a:pt x="25857" y="14482"/>
                </a:lnTo>
                <a:cubicBezTo>
                  <a:pt x="26893" y="14482"/>
                  <a:pt x="27694" y="13751"/>
                  <a:pt x="27694" y="12828"/>
                </a:cubicBezTo>
                <a:lnTo>
                  <a:pt x="27694" y="7493"/>
                </a:lnTo>
                <a:lnTo>
                  <a:pt x="25857" y="7493"/>
                </a:lnTo>
                <a:lnTo>
                  <a:pt x="29365" y="3985"/>
                </a:lnTo>
                <a:lnTo>
                  <a:pt x="33038" y="7493"/>
                </a:lnTo>
                <a:lnTo>
                  <a:pt x="31202" y="7493"/>
                </a:lnTo>
                <a:lnTo>
                  <a:pt x="31202" y="12828"/>
                </a:lnTo>
                <a:cubicBezTo>
                  <a:pt x="31202" y="15596"/>
                  <a:pt x="28625" y="18155"/>
                  <a:pt x="25857" y="18155"/>
                </a:cubicBezTo>
                <a:lnTo>
                  <a:pt x="24195" y="18155"/>
                </a:lnTo>
                <a:cubicBezTo>
                  <a:pt x="21427" y="18155"/>
                  <a:pt x="18851" y="15596"/>
                  <a:pt x="18851" y="12828"/>
                </a:cubicBezTo>
                <a:close/>
              </a:path>
            </a:pathLst>
          </a:custGeom>
          <a:solidFill>
            <a:srgbClr val="787e8a"/>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dddddd"/>
                </a:solidFill>
                <a:latin typeface="Garamond"/>
              </a:rPr>
              <a:t>Злые шутки</a:t>
            </a:r>
            <a:endParaRPr b="1" lang="en-US" sz="4400" spc="-1" strike="noStrike">
              <a:solidFill>
                <a:srgbClr val="dddddd"/>
              </a:solidFill>
              <a:latin typeface="Garamond"/>
            </a:endParaRPr>
          </a:p>
        </p:txBody>
      </p:sp>
      <p:sp>
        <p:nvSpPr>
          <p:cNvPr id="1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60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Garamond"/>
              </a:rPr>
              <a:t>Злые шутки</a:t>
            </a:r>
            <a:r>
              <a:rPr b="0" lang="ru-RU" sz="2400" spc="-1" strike="noStrike">
                <a:solidFill>
                  <a:srgbClr val="ffffff"/>
                </a:solidFill>
                <a:latin typeface="Garamond"/>
              </a:rPr>
              <a:t> – программы, которые намеренно вводят пользователя в заблуждение путем показа уведомлений о, например, форматировании диска или обнаружении вирусов, хотя на самом деле ничего не происходит. Текст таких сообщений целиком и полностью отражает фантазию автора.</a:t>
            </a:r>
            <a:endParaRPr b="0" lang="en-US" sz="2400" spc="-1" strike="noStrike">
              <a:solidFill>
                <a:srgbClr val="ffffff"/>
              </a:solidFill>
              <a:latin typeface="Garamond"/>
            </a:endParaRPr>
          </a:p>
        </p:txBody>
      </p:sp>
      <p:sp>
        <p:nvSpPr>
          <p:cNvPr id="150" name="AutoShape 4">
            <a:hlinkClick r:id="rId1"/>
          </p:cNvPr>
          <p:cNvSpPr/>
          <p:nvPr/>
        </p:nvSpPr>
        <p:spPr>
          <a:xfrm>
            <a:off x="8317080" y="6453360"/>
            <a:ext cx="863280" cy="360360"/>
          </a:xfrm>
          <a:custGeom>
            <a:avLst/>
            <a:gdLst>
              <a:gd name="textAreaLeft" fmla="*/ 23040 w 863280"/>
              <a:gd name="textAreaRight" fmla="*/ 840240 w 863280"/>
              <a:gd name="textAreaTop" fmla="*/ 23040 h 360360"/>
              <a:gd name="textAreaBottom" fmla="*/ 337320 h 360360"/>
            </a:gdLst>
            <a:ahLst/>
            <a:rect l="textAreaLeft" t="textAreaTop" r="textAreaRight" b="textAreaBottom"/>
            <a:pathLst>
              <a:path w="51715" h="21600">
                <a:moveTo>
                  <a:pt x="0" y="0"/>
                </a:moveTo>
                <a:lnTo>
                  <a:pt x="51715" y="0"/>
                </a:lnTo>
                <a:lnTo>
                  <a:pt x="51715" y="21600"/>
                </a:lnTo>
                <a:lnTo>
                  <a:pt x="0" y="21600"/>
                </a:lnTo>
                <a:close/>
              </a:path>
              <a:path fill="lightenLess" w="51715" h="21600">
                <a:moveTo>
                  <a:pt x="0" y="0"/>
                </a:moveTo>
                <a:lnTo>
                  <a:pt x="51715" y="0"/>
                </a:lnTo>
                <a:lnTo>
                  <a:pt x="50315" y="1400"/>
                </a:lnTo>
                <a:lnTo>
                  <a:pt x="1400" y="1400"/>
                </a:lnTo>
                <a:close/>
              </a:path>
              <a:path fill="darken" w="51715" h="21600">
                <a:moveTo>
                  <a:pt x="51715" y="0"/>
                </a:moveTo>
                <a:lnTo>
                  <a:pt x="51715" y="21600"/>
                </a:lnTo>
                <a:lnTo>
                  <a:pt x="50315" y="20200"/>
                </a:lnTo>
                <a:lnTo>
                  <a:pt x="50315" y="1400"/>
                </a:lnTo>
                <a:close/>
              </a:path>
              <a:path fill="darkenLess" w="51715" h="21600">
                <a:moveTo>
                  <a:pt x="51715" y="21600"/>
                </a:moveTo>
                <a:lnTo>
                  <a:pt x="0" y="21600"/>
                </a:lnTo>
                <a:lnTo>
                  <a:pt x="1400" y="20200"/>
                </a:lnTo>
                <a:lnTo>
                  <a:pt x="50315" y="20200"/>
                </a:lnTo>
                <a:close/>
              </a:path>
              <a:path fill="lighten" w="51715" h="21600">
                <a:moveTo>
                  <a:pt x="0" y="21600"/>
                </a:moveTo>
                <a:lnTo>
                  <a:pt x="0" y="0"/>
                </a:lnTo>
                <a:lnTo>
                  <a:pt x="1400" y="1400"/>
                </a:lnTo>
                <a:lnTo>
                  <a:pt x="1400" y="20200"/>
                </a:lnTo>
                <a:close/>
              </a:path>
              <a:path fill="darken" w="51715" h="21600">
                <a:moveTo>
                  <a:pt x="18851" y="7493"/>
                </a:moveTo>
                <a:lnTo>
                  <a:pt x="22359" y="7493"/>
                </a:lnTo>
                <a:lnTo>
                  <a:pt x="22359" y="12828"/>
                </a:lnTo>
                <a:cubicBezTo>
                  <a:pt x="22359" y="13751"/>
                  <a:pt x="23159" y="14482"/>
                  <a:pt x="24195" y="14482"/>
                </a:cubicBezTo>
                <a:lnTo>
                  <a:pt x="25857" y="14482"/>
                </a:lnTo>
                <a:cubicBezTo>
                  <a:pt x="26893" y="14482"/>
                  <a:pt x="27694" y="13751"/>
                  <a:pt x="27694" y="12828"/>
                </a:cubicBezTo>
                <a:lnTo>
                  <a:pt x="27694" y="7493"/>
                </a:lnTo>
                <a:lnTo>
                  <a:pt x="25857" y="7493"/>
                </a:lnTo>
                <a:lnTo>
                  <a:pt x="29365" y="3985"/>
                </a:lnTo>
                <a:lnTo>
                  <a:pt x="33038" y="7493"/>
                </a:lnTo>
                <a:lnTo>
                  <a:pt x="31202" y="7493"/>
                </a:lnTo>
                <a:lnTo>
                  <a:pt x="31202" y="12828"/>
                </a:lnTo>
                <a:cubicBezTo>
                  <a:pt x="31202" y="15596"/>
                  <a:pt x="28625" y="18155"/>
                  <a:pt x="25857" y="18155"/>
                </a:cubicBezTo>
                <a:lnTo>
                  <a:pt x="24195" y="18155"/>
                </a:lnTo>
                <a:cubicBezTo>
                  <a:pt x="21427" y="18155"/>
                  <a:pt x="18851" y="15596"/>
                  <a:pt x="18851" y="12828"/>
                </a:cubicBezTo>
                <a:close/>
              </a:path>
            </a:pathLst>
          </a:custGeom>
          <a:solidFill>
            <a:srgbClr val="787e8a"/>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dddddd"/>
                </a:solidFill>
                <a:latin typeface="Garamond"/>
              </a:rPr>
              <a:t>Шутки и мистификации</a:t>
            </a:r>
            <a:endParaRPr b="1" lang="en-US" sz="4400" spc="-1" strike="noStrike">
              <a:solidFill>
                <a:srgbClr val="dddddd"/>
              </a:solidFill>
              <a:latin typeface="Garamond"/>
            </a:endParaRPr>
          </a:p>
        </p:txBody>
      </p:sp>
      <p:sp>
        <p:nvSpPr>
          <p:cNvPr id="152" name="PlaceHolder 2"/>
          <p:cNvSpPr>
            <a:spLocks noGrp="1"/>
          </p:cNvSpPr>
          <p:nvPr>
            <p:ph/>
          </p:nvPr>
        </p:nvSpPr>
        <p:spPr>
          <a:xfrm>
            <a:off x="457200" y="1600200"/>
            <a:ext cx="8229600" cy="4525920"/>
          </a:xfrm>
          <a:prstGeom prst="rect">
            <a:avLst/>
          </a:prstGeom>
          <a:noFill/>
          <a:ln w="0">
            <a:noFill/>
          </a:ln>
        </p:spPr>
        <p:txBody>
          <a:bodyPr anchor="t">
            <a:normAutofit fontScale="88000"/>
          </a:bodyPr>
          <a:p>
            <a:pPr marL="301680" indent="-301680" algn="just">
              <a:lnSpc>
                <a:spcPct val="80000"/>
              </a:lnSpc>
              <a:spcBef>
                <a:spcPts val="60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Отдельно от перечисленных выше программ стоит также отметить такой класс вредоносных явлений как </a:t>
            </a:r>
            <a:r>
              <a:rPr b="1" lang="ru-RU" sz="2400" spc="-1" strike="noStrike">
                <a:solidFill>
                  <a:srgbClr val="ffffff"/>
                </a:solidFill>
                <a:latin typeface="Garamond"/>
              </a:rPr>
              <a:t>шутки и мистификации</a:t>
            </a:r>
            <a:r>
              <a:rPr b="0" lang="ru-RU" sz="2400" spc="-1" strike="noStrike">
                <a:solidFill>
                  <a:srgbClr val="ffffff"/>
                </a:solidFill>
                <a:latin typeface="Garamond"/>
              </a:rPr>
              <a:t>. Они представляют из себя непроверенную или даже изначально однозначно неправдивую информацию о якобы новых вирусах или вирусных угрозах, которая в виде предупреждений передается по всем друзьям и знакомым. Если не выполнять указанные в таком сообщении рекомендации, шутки и мистификации явного вреда компьютеру не несут. Однако при достижении некоторой массовости они способным существенно увеличить нагрузку на сетевое оборудование вследствие резко возросшего количества пересылаемых сообщений. К тому же при пересылке такой шутки часто страдает репутация человека и компании, в которой он работает, что для ряда организаций есть непозволительная роскошь.</a:t>
            </a:r>
            <a:endParaRPr b="0" lang="en-US" sz="2400" spc="-1" strike="noStrike">
              <a:solidFill>
                <a:srgbClr val="ffffff"/>
              </a:solidFill>
              <a:latin typeface="Garamond"/>
            </a:endParaRPr>
          </a:p>
        </p:txBody>
      </p:sp>
      <p:sp>
        <p:nvSpPr>
          <p:cNvPr id="153" name="AutoShape 4">
            <a:hlinkClick r:id="rId1"/>
          </p:cNvPr>
          <p:cNvSpPr/>
          <p:nvPr/>
        </p:nvSpPr>
        <p:spPr>
          <a:xfrm>
            <a:off x="8317080" y="6453360"/>
            <a:ext cx="863280" cy="360360"/>
          </a:xfrm>
          <a:custGeom>
            <a:avLst/>
            <a:gdLst>
              <a:gd name="textAreaLeft" fmla="*/ 23040 w 863280"/>
              <a:gd name="textAreaRight" fmla="*/ 840240 w 863280"/>
              <a:gd name="textAreaTop" fmla="*/ 23040 h 360360"/>
              <a:gd name="textAreaBottom" fmla="*/ 337320 h 360360"/>
            </a:gdLst>
            <a:ahLst/>
            <a:rect l="textAreaLeft" t="textAreaTop" r="textAreaRight" b="textAreaBottom"/>
            <a:pathLst>
              <a:path w="51715" h="21600">
                <a:moveTo>
                  <a:pt x="0" y="0"/>
                </a:moveTo>
                <a:lnTo>
                  <a:pt x="51715" y="0"/>
                </a:lnTo>
                <a:lnTo>
                  <a:pt x="51715" y="21600"/>
                </a:lnTo>
                <a:lnTo>
                  <a:pt x="0" y="21600"/>
                </a:lnTo>
                <a:close/>
              </a:path>
              <a:path fill="lightenLess" w="51715" h="21600">
                <a:moveTo>
                  <a:pt x="0" y="0"/>
                </a:moveTo>
                <a:lnTo>
                  <a:pt x="51715" y="0"/>
                </a:lnTo>
                <a:lnTo>
                  <a:pt x="50315" y="1400"/>
                </a:lnTo>
                <a:lnTo>
                  <a:pt x="1400" y="1400"/>
                </a:lnTo>
                <a:close/>
              </a:path>
              <a:path fill="darken" w="51715" h="21600">
                <a:moveTo>
                  <a:pt x="51715" y="0"/>
                </a:moveTo>
                <a:lnTo>
                  <a:pt x="51715" y="21600"/>
                </a:lnTo>
                <a:lnTo>
                  <a:pt x="50315" y="20200"/>
                </a:lnTo>
                <a:lnTo>
                  <a:pt x="50315" y="1400"/>
                </a:lnTo>
                <a:close/>
              </a:path>
              <a:path fill="darkenLess" w="51715" h="21600">
                <a:moveTo>
                  <a:pt x="51715" y="21600"/>
                </a:moveTo>
                <a:lnTo>
                  <a:pt x="0" y="21600"/>
                </a:lnTo>
                <a:lnTo>
                  <a:pt x="1400" y="20200"/>
                </a:lnTo>
                <a:lnTo>
                  <a:pt x="50315" y="20200"/>
                </a:lnTo>
                <a:close/>
              </a:path>
              <a:path fill="lighten" w="51715" h="21600">
                <a:moveTo>
                  <a:pt x="0" y="21600"/>
                </a:moveTo>
                <a:lnTo>
                  <a:pt x="0" y="0"/>
                </a:lnTo>
                <a:lnTo>
                  <a:pt x="1400" y="1400"/>
                </a:lnTo>
                <a:lnTo>
                  <a:pt x="1400" y="20200"/>
                </a:lnTo>
                <a:close/>
              </a:path>
              <a:path fill="darken" w="51715" h="21600">
                <a:moveTo>
                  <a:pt x="18851" y="7493"/>
                </a:moveTo>
                <a:lnTo>
                  <a:pt x="22359" y="7493"/>
                </a:lnTo>
                <a:lnTo>
                  <a:pt x="22359" y="12828"/>
                </a:lnTo>
                <a:cubicBezTo>
                  <a:pt x="22359" y="13751"/>
                  <a:pt x="23159" y="14482"/>
                  <a:pt x="24195" y="14482"/>
                </a:cubicBezTo>
                <a:lnTo>
                  <a:pt x="25857" y="14482"/>
                </a:lnTo>
                <a:cubicBezTo>
                  <a:pt x="26893" y="14482"/>
                  <a:pt x="27694" y="13751"/>
                  <a:pt x="27694" y="12828"/>
                </a:cubicBezTo>
                <a:lnTo>
                  <a:pt x="27694" y="7493"/>
                </a:lnTo>
                <a:lnTo>
                  <a:pt x="25857" y="7493"/>
                </a:lnTo>
                <a:lnTo>
                  <a:pt x="29365" y="3985"/>
                </a:lnTo>
                <a:lnTo>
                  <a:pt x="33038" y="7493"/>
                </a:lnTo>
                <a:lnTo>
                  <a:pt x="31202" y="7493"/>
                </a:lnTo>
                <a:lnTo>
                  <a:pt x="31202" y="12828"/>
                </a:lnTo>
                <a:cubicBezTo>
                  <a:pt x="31202" y="15596"/>
                  <a:pt x="28625" y="18155"/>
                  <a:pt x="25857" y="18155"/>
                </a:cubicBezTo>
                <a:lnTo>
                  <a:pt x="24195" y="18155"/>
                </a:lnTo>
                <a:cubicBezTo>
                  <a:pt x="21427" y="18155"/>
                  <a:pt x="18851" y="15596"/>
                  <a:pt x="18851" y="12828"/>
                </a:cubicBezTo>
                <a:close/>
              </a:path>
            </a:pathLst>
          </a:custGeom>
          <a:solidFill>
            <a:srgbClr val="787e8a"/>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15920"/>
            <a:ext cx="8229600" cy="100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Garamond"/>
              </a:rPr>
              <a:t>Eicar</a:t>
            </a:r>
            <a:endParaRPr b="1" lang="en-US" sz="4400" spc="-1" strike="noStrike">
              <a:solidFill>
                <a:srgbClr val="dddddd"/>
              </a:solidFill>
              <a:latin typeface="Garamond"/>
            </a:endParaRPr>
          </a:p>
        </p:txBody>
      </p:sp>
      <p:sp>
        <p:nvSpPr>
          <p:cNvPr id="155" name="PlaceHolder 2"/>
          <p:cNvSpPr>
            <a:spLocks noGrp="1"/>
          </p:cNvSpPr>
          <p:nvPr>
            <p:ph/>
          </p:nvPr>
        </p:nvSpPr>
        <p:spPr>
          <a:xfrm>
            <a:off x="457200" y="1052640"/>
            <a:ext cx="8229600" cy="5400720"/>
          </a:xfrm>
          <a:prstGeom prst="rect">
            <a:avLst/>
          </a:prstGeom>
          <a:noFill/>
          <a:ln w="0">
            <a:noFill/>
          </a:ln>
        </p:spPr>
        <p:txBody>
          <a:bodyPr anchor="t">
            <a:normAutofit fontScale="90000"/>
          </a:bodyPr>
          <a:p>
            <a:pPr marL="308520" indent="-308520" algn="just">
              <a:lnSpc>
                <a:spcPct val="80000"/>
              </a:lnSpc>
              <a:spcBef>
                <a:spcPts val="60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Существует еще один класс программ, имеющих прямое отношение к вредоносным, однако по действию и функциям прямо им противоположный. Это специальные программы для тестирования антивирусных средств на предмет работоспособности. То есть обнаружив такую программу, антивирус должен среагировать так, как будто нашелся вирус – тогда пользователь сможет сделать вывод, что антивирусная защита работает и компьютер в безопасности. В этот класс официально входит только одна программа – EICAR, названная так в честь своего разработчика, Европейского института компьютерных антивирусных исследований EICAR (European Institute for Computer Anti-virus Research). На сегодняшний день все известные антивирусные программы поддерживают детектирование EICAR. На ряду с EICAR некоторые антивирусные компании ввели собственные модификации тестового вируса, позволяющие более точно протестировать работу своих программ.</a:t>
            </a:r>
            <a:endParaRPr b="0" lang="en-US" sz="2400" spc="-1" strike="noStrike">
              <a:solidFill>
                <a:srgbClr val="ffffff"/>
              </a:solidFill>
              <a:latin typeface="Garamond"/>
            </a:endParaRPr>
          </a:p>
        </p:txBody>
      </p:sp>
      <p:sp>
        <p:nvSpPr>
          <p:cNvPr id="156" name="AutoShape 4">
            <a:hlinkClick r:id="rId1"/>
          </p:cNvPr>
          <p:cNvSpPr/>
          <p:nvPr/>
        </p:nvSpPr>
        <p:spPr>
          <a:xfrm>
            <a:off x="8604360" y="6308640"/>
            <a:ext cx="539640" cy="549360"/>
          </a:xfrm>
          <a:custGeom>
            <a:avLst/>
            <a:gdLst>
              <a:gd name="textAreaLeft" fmla="*/ 34920 w 539640"/>
              <a:gd name="textAreaRight" fmla="*/ 504720 w 539640"/>
              <a:gd name="textAreaTop" fmla="*/ 34920 h 549360"/>
              <a:gd name="textAreaBottom" fmla="*/ 514440 h 549360"/>
            </a:gdLst>
            <a:ahLst/>
            <a:rect l="textAreaLeft" t="textAreaTop" r="textAreaRight" b="textAreaBottom"/>
            <a:pathLst>
              <a:path w="21600" h="21989">
                <a:moveTo>
                  <a:pt x="0" y="0"/>
                </a:moveTo>
                <a:lnTo>
                  <a:pt x="21600" y="0"/>
                </a:lnTo>
                <a:lnTo>
                  <a:pt x="21600" y="21989"/>
                </a:lnTo>
                <a:lnTo>
                  <a:pt x="0" y="21989"/>
                </a:lnTo>
                <a:close/>
              </a:path>
              <a:path fill="lightenLess" w="21600" h="21989">
                <a:moveTo>
                  <a:pt x="0" y="0"/>
                </a:moveTo>
                <a:lnTo>
                  <a:pt x="21600" y="0"/>
                </a:lnTo>
                <a:lnTo>
                  <a:pt x="20200" y="1400"/>
                </a:lnTo>
                <a:lnTo>
                  <a:pt x="1400" y="1400"/>
                </a:lnTo>
                <a:close/>
              </a:path>
              <a:path fill="darken" w="21600" h="21989">
                <a:moveTo>
                  <a:pt x="21600" y="0"/>
                </a:moveTo>
                <a:lnTo>
                  <a:pt x="21600" y="21989"/>
                </a:lnTo>
                <a:lnTo>
                  <a:pt x="20200" y="20589"/>
                </a:lnTo>
                <a:lnTo>
                  <a:pt x="20200" y="1400"/>
                </a:lnTo>
                <a:close/>
              </a:path>
              <a:path fill="darkenLess" w="21600" h="21989">
                <a:moveTo>
                  <a:pt x="21600" y="21989"/>
                </a:moveTo>
                <a:lnTo>
                  <a:pt x="0" y="21989"/>
                </a:lnTo>
                <a:lnTo>
                  <a:pt x="1400" y="20589"/>
                </a:lnTo>
                <a:lnTo>
                  <a:pt x="20200" y="20589"/>
                </a:lnTo>
                <a:close/>
              </a:path>
              <a:path fill="lighten" w="21600" h="21989">
                <a:moveTo>
                  <a:pt x="0" y="21989"/>
                </a:moveTo>
                <a:lnTo>
                  <a:pt x="0" y="0"/>
                </a:lnTo>
                <a:lnTo>
                  <a:pt x="1400" y="1400"/>
                </a:lnTo>
                <a:lnTo>
                  <a:pt x="1400" y="20589"/>
                </a:lnTo>
                <a:close/>
              </a:path>
              <a:path fill="darken" w="21600" h="21989">
                <a:moveTo>
                  <a:pt x="3794" y="7687"/>
                </a:moveTo>
                <a:lnTo>
                  <a:pt x="7301" y="7687"/>
                </a:lnTo>
                <a:lnTo>
                  <a:pt x="7301" y="13022"/>
                </a:lnTo>
                <a:cubicBezTo>
                  <a:pt x="7301" y="13945"/>
                  <a:pt x="8102" y="14676"/>
                  <a:pt x="9138" y="14676"/>
                </a:cubicBezTo>
                <a:lnTo>
                  <a:pt x="10800" y="14676"/>
                </a:lnTo>
                <a:cubicBezTo>
                  <a:pt x="11836" y="14676"/>
                  <a:pt x="12636" y="13945"/>
                  <a:pt x="12636" y="13022"/>
                </a:cubicBezTo>
                <a:lnTo>
                  <a:pt x="12636" y="7687"/>
                </a:lnTo>
                <a:lnTo>
                  <a:pt x="10800" y="7687"/>
                </a:lnTo>
                <a:lnTo>
                  <a:pt x="14308" y="4179"/>
                </a:lnTo>
                <a:lnTo>
                  <a:pt x="17981" y="7687"/>
                </a:lnTo>
                <a:lnTo>
                  <a:pt x="16144" y="7687"/>
                </a:lnTo>
                <a:lnTo>
                  <a:pt x="16144" y="13022"/>
                </a:lnTo>
                <a:cubicBezTo>
                  <a:pt x="16144" y="15790"/>
                  <a:pt x="13568" y="18349"/>
                  <a:pt x="10800" y="18349"/>
                </a:cubicBezTo>
                <a:lnTo>
                  <a:pt x="9138" y="18349"/>
                </a:lnTo>
                <a:cubicBezTo>
                  <a:pt x="6370" y="18349"/>
                  <a:pt x="3794" y="15790"/>
                  <a:pt x="3794" y="13022"/>
                </a:cubicBezTo>
                <a:close/>
              </a:path>
            </a:pathLst>
          </a:custGeom>
          <a:solidFill>
            <a:srgbClr val="51596d"/>
          </a:solidFill>
          <a:ln w="936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4"/>
          <p:cNvSpPr/>
          <p:nvPr/>
        </p:nvSpPr>
        <p:spPr>
          <a:xfrm>
            <a:off x="71280" y="70560"/>
            <a:ext cx="8893440" cy="74091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Garamond"/>
              </a:rPr>
              <a:t>В Рунете началась очередная эпидемия вируса Trojan.Encoder (Trojan.Encoder.34, а также модификации 37, 38, 39, 40 и 41), шифрующего данные на компьютерах пользователей и требующего деньги за расшифровку. Последние модификации Trojan.Encoder принадлежат перу одного автора, иногда называющего себя «Корректор». Они шифруют большинство документов, делая невозможной работу с ними. Исключение составляют файлы, относящиеся к системе и установленным в ней программам — таким образом компьютер продолжает работать, позволяя жертве мошенничества связаться со злоумышленником и перечислить ему требуемую сумму денег. </a:t>
            </a:r>
            <a:endParaRPr b="0" lang="en-US" sz="2400" spc="-1" strike="noStrike">
              <a:solidFill>
                <a:srgbClr val="ffffff"/>
              </a:solidFill>
              <a:latin typeface="Garamond"/>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Garamond"/>
              </a:rPr>
              <a:t>Особенностью последних модификаций Trojan.Encoder является то, что они добавляют к зараженным файлам окончание vscrypt — к примеру, вместо pic.jpg файл получает имя pic.jpg.vscrypt.</a:t>
            </a:r>
            <a:endParaRPr b="0" lang="en-US" sz="2400" spc="-1" strike="noStrike">
              <a:solidFill>
                <a:srgbClr val="ffffff"/>
              </a:solidFill>
              <a:latin typeface="Garamond"/>
            </a:endParaRPr>
          </a:p>
        </p:txBody>
      </p:sp>
      <p:sp>
        <p:nvSpPr>
          <p:cNvPr id="158" name="Rectangle 5"/>
          <p:cNvSpPr/>
          <p:nvPr/>
        </p:nvSpPr>
        <p:spPr>
          <a:xfrm>
            <a:off x="2935440" y="122400"/>
            <a:ext cx="3792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Garamond"/>
              </a:rPr>
              <a:t>Trojan.Encoder</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4"/>
          <p:cNvSpPr/>
          <p:nvPr/>
        </p:nvSpPr>
        <p:spPr>
          <a:xfrm>
            <a:off x="468360" y="931320"/>
            <a:ext cx="8351640" cy="5214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Garamond"/>
              </a:rPr>
              <a:t>Trojan.Encoder в настоящее время распространяется посредством ссылок на вредоносный сайт в почтовых сообщениях. Пользователю предлагается просмотреть открытку, якобы присланную от имени сервиса открыток Мail.ru. При открытии соответствующей страницы предлагается установить кодек, который на самом деле оказывается троянской программой. После окончания процесса шифрования файлов Trojan.Encoder выводит на Рабочий стол Windows сообщение о том, что документы зашифрованы, а также приводит контактные данные злоумышленника.</a:t>
            </a:r>
            <a:endParaRPr b="0" lang="en-US" sz="2400" spc="-1" strike="noStrike">
              <a:solidFill>
                <a:srgbClr val="ffffff"/>
              </a:solidFill>
              <a:latin typeface="Garamond"/>
            </a:endParaRPr>
          </a:p>
        </p:txBody>
      </p:sp>
      <p:sp>
        <p:nvSpPr>
          <p:cNvPr id="160" name="Rectangle 5"/>
          <p:cNvSpPr/>
          <p:nvPr/>
        </p:nvSpPr>
        <p:spPr>
          <a:xfrm>
            <a:off x="2935440" y="122400"/>
            <a:ext cx="3792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Garamond"/>
              </a:rPr>
              <a:t>Trojan.Encoder</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4" descr="Один из вариантов отображения контактной информации злоумышленника."/>
          <p:cNvPicPr/>
          <p:nvPr/>
        </p:nvPicPr>
        <p:blipFill>
          <a:blip r:embed="rId1"/>
          <a:stretch/>
        </p:blipFill>
        <p:spPr>
          <a:xfrm>
            <a:off x="216000" y="765000"/>
            <a:ext cx="8893080" cy="5289840"/>
          </a:xfrm>
          <a:prstGeom prst="rect">
            <a:avLst/>
          </a:prstGeom>
          <a:ln w="0">
            <a:noFill/>
          </a:ln>
        </p:spPr>
      </p:pic>
      <p:sp>
        <p:nvSpPr>
          <p:cNvPr id="162" name="Rectangle 5"/>
          <p:cNvSpPr/>
          <p:nvPr/>
        </p:nvSpPr>
        <p:spPr>
          <a:xfrm>
            <a:off x="2766600" y="115200"/>
            <a:ext cx="4184280" cy="703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Garamond"/>
              </a:rPr>
              <a:t>Trojan.Encoder</a:t>
            </a:r>
            <a:endParaRPr b="0" lang="en-US" sz="4000" spc="-1" strike="noStrike">
              <a:solidFill>
                <a:srgbClr val="ffffff"/>
              </a:solidFill>
              <a:latin typeface="Garamond"/>
            </a:endParaRPr>
          </a:p>
        </p:txBody>
      </p:sp>
      <p:sp>
        <p:nvSpPr>
          <p:cNvPr id="163" name="Rectangle 6"/>
          <p:cNvSpPr/>
          <p:nvPr/>
        </p:nvSpPr>
        <p:spPr>
          <a:xfrm>
            <a:off x="0" y="6034320"/>
            <a:ext cx="8923320" cy="82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Garamond"/>
              </a:rPr>
              <a:t>Один из вариантов отображения контактной информации злоумышленника</a:t>
            </a:r>
            <a:r>
              <a:rPr b="0" lang="ru-RU" sz="1800" spc="-1" strike="noStrike">
                <a:solidFill>
                  <a:srgbClr val="ffffff"/>
                </a:solidFill>
                <a:latin typeface="Garamond"/>
              </a:rPr>
              <a:t> </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4"/>
          <p:cNvSpPr/>
          <p:nvPr/>
        </p:nvSpPr>
        <p:spPr>
          <a:xfrm>
            <a:off x="250920" y="326520"/>
            <a:ext cx="8578800" cy="68022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Garamond"/>
              </a:rPr>
              <a:t>Напомним, что в декабре, августе и сентябре 2008 года наблюдались эпидемии других модификаций того же вируса — Trojan.Encoder.33, Trojan.Encoder.20 и Trojan.Encoder.19. Большинство модификаций Trojan.Encoder предлагают пользователю воспользоваться дешифровщиком, для чего требуют перевести на счёт киберпреступников от $10 до $89. Аппетит «Корректора» сопоставим с запросами авторов предыдущих модификаций — в настоящий момент пользователи-жертвы сообщают о цене в 600 рублей за один экземпляр расшифровщика.</a:t>
            </a:r>
            <a:endParaRPr b="0" lang="en-US" sz="2000" spc="-1" strike="noStrike">
              <a:solidFill>
                <a:srgbClr val="ffffff"/>
              </a:solidFill>
              <a:latin typeface="Garamond"/>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Garamond"/>
              </a:rPr>
              <a:t>В настоящее время решение проблемы зашифрованных файлов найдено. Если вы столкнулись с Trojan.Encoder, вместо того, чтобы платить выкуп преступнику, обратитесь, например, к специалистам компании «Доктор Веб». Они предоставят вам специальные утилиты (предварительно вам нужно будет выслать образец зашифрованных файлов, чтобы специалисты могли определить версию Trojan.Encoder). При этом ни в коем случае не пытайтесь переустановить систему или восстановить её из резервных копий. А ещё лучше — всегда пользуйтесь актуальными версиями антивирусных программ. Это позволит избежать множества проблем.</a:t>
            </a:r>
            <a:endParaRPr b="0" lang="en-US" sz="2000" spc="-1" strike="noStrike">
              <a:solidFill>
                <a:srgbClr val="ffffff"/>
              </a:solidFill>
              <a:latin typeface="Garamond"/>
            </a:endParaRPr>
          </a:p>
        </p:txBody>
      </p:sp>
      <p:sp>
        <p:nvSpPr>
          <p:cNvPr id="165" name="Rectangle 5"/>
          <p:cNvSpPr/>
          <p:nvPr/>
        </p:nvSpPr>
        <p:spPr>
          <a:xfrm>
            <a:off x="2766600" y="115200"/>
            <a:ext cx="4184280" cy="703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Garamond"/>
              </a:rPr>
              <a:t>Trojan.Encoder</a:t>
            </a: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dddddd"/>
                </a:solidFill>
                <a:latin typeface="Garamond"/>
              </a:rPr>
              <a:t>Содержание</a:t>
            </a:r>
            <a:endParaRPr b="1" lang="en-US" sz="4400" spc="-1" strike="noStrike">
              <a:solidFill>
                <a:srgbClr val="dddddd"/>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ffff"/>
                </a:solidFill>
                <a:uFillTx/>
                <a:latin typeface="Garamond"/>
                <a:hlinkClick r:id="rId1" action="ppaction://hlinksldjump"/>
              </a:rPr>
              <a:t>Введение</a:t>
            </a:r>
            <a:endParaRPr b="0" lang="en-US" sz="3200" spc="-1" strike="noStrike">
              <a:solidFill>
                <a:srgbClr val="ffffff"/>
              </a:solidFill>
              <a:latin typeface="Garamond"/>
            </a:endParaRPr>
          </a:p>
          <a:p>
            <a:pPr marL="343080" indent="-343080">
              <a:spcBef>
                <a:spcPts val="79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ffff"/>
                </a:solidFill>
                <a:uFillTx/>
                <a:latin typeface="Garamond"/>
                <a:hlinkClick r:id="rId2" action="ppaction://hlinksldjump"/>
              </a:rPr>
              <a:t>Вирусы</a:t>
            </a:r>
            <a:endParaRPr b="0" lang="en-US" sz="3200" spc="-1" strike="noStrike">
              <a:solidFill>
                <a:srgbClr val="ffffff"/>
              </a:solidFill>
              <a:latin typeface="Garamond"/>
            </a:endParaRPr>
          </a:p>
          <a:p>
            <a:pPr marL="343080" indent="-343080">
              <a:spcBef>
                <a:spcPts val="79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ffff"/>
                </a:solidFill>
                <a:uFillTx/>
                <a:latin typeface="Garamond"/>
                <a:hlinkClick r:id="rId3" action="ppaction://hlinksldjump"/>
              </a:rPr>
              <a:t>Черви</a:t>
            </a:r>
            <a:endParaRPr b="0" lang="en-US" sz="3200" spc="-1" strike="noStrike">
              <a:solidFill>
                <a:srgbClr val="ffffff"/>
              </a:solidFill>
              <a:latin typeface="Garamond"/>
            </a:endParaRPr>
          </a:p>
          <a:p>
            <a:pPr marL="343080" indent="-343080">
              <a:spcBef>
                <a:spcPts val="79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ffff"/>
                </a:solidFill>
                <a:uFillTx/>
                <a:latin typeface="Garamond"/>
                <a:hlinkClick r:id="rId4" action="ppaction://hlinksldjump"/>
              </a:rPr>
              <a:t>Трояны</a:t>
            </a:r>
            <a:endParaRPr b="0" lang="en-US" sz="3200" spc="-1" strike="noStrike">
              <a:solidFill>
                <a:srgbClr val="ffffff"/>
              </a:solidFill>
              <a:latin typeface="Garamond"/>
            </a:endParaRPr>
          </a:p>
          <a:p>
            <a:pPr marL="343080" indent="-343080">
              <a:spcBef>
                <a:spcPts val="79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ffff"/>
                </a:solidFill>
                <a:uFillTx/>
                <a:latin typeface="Garamond"/>
                <a:hlinkClick r:id="rId5" action="ppaction://hlinksldjump"/>
              </a:rPr>
              <a:t>Другие вредоносные программы</a:t>
            </a:r>
            <a:endParaRPr b="0" lang="en-US" sz="3200" spc="-1" strike="noStrike">
              <a:solidFill>
                <a:srgbClr val="ffffff"/>
              </a:solidFill>
              <a:latin typeface="Garamond"/>
            </a:endParaRPr>
          </a:p>
          <a:p>
            <a:pPr marL="343080" indent="-343080">
              <a:spcBef>
                <a:spcPts val="79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ff"/>
                </a:solidFill>
                <a:uFillTx/>
                <a:latin typeface="Garamond"/>
                <a:hlinkClick r:id="rId6" action="ppaction://hlinksldjump"/>
              </a:rPr>
              <a:t>Eicar</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dddddd"/>
                </a:solidFill>
                <a:latin typeface="Garamond"/>
              </a:rPr>
              <a:t>Введение</a:t>
            </a:r>
            <a:endParaRPr b="1" lang="en-US" sz="4400" spc="-1" strike="noStrike">
              <a:solidFill>
                <a:srgbClr val="dddddd"/>
              </a:solidFill>
              <a:latin typeface="Garamond"/>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315360" algn="just">
              <a:spcBef>
                <a:spcPts val="60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Существует класс программ, которые были изначально написаны с целью уничтожения данных на чужом компьютере, похищения чужой информации, несанкционированного использования чужих ресурсов и т. п., или же приобрели такие свойства вследствие каких-либо причин. Такие программы несут вредоносную нагрузку и соответственно называются вредоносными.</a:t>
            </a:r>
            <a:endParaRPr b="0" lang="en-US" sz="2400" spc="-1" strike="noStrike">
              <a:solidFill>
                <a:srgbClr val="ffffff"/>
              </a:solidFill>
              <a:latin typeface="Garamond"/>
            </a:endParaRPr>
          </a:p>
          <a:p>
            <a:pPr marL="315360" indent="-315360" algn="just">
              <a:spcBef>
                <a:spcPts val="60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Garamond"/>
              </a:rPr>
              <a:t>Вредоносная программа1 </a:t>
            </a:r>
            <a:r>
              <a:rPr b="0" i="1" lang="ru-RU" sz="2400" spc="-1" strike="noStrike">
                <a:solidFill>
                  <a:srgbClr val="ffffff"/>
                </a:solidFill>
                <a:latin typeface="Garamond"/>
              </a:rPr>
              <a:t>– это программа, наносящая какой-либо вред компьютеру, на котором она запускаются, или другим компьютерам в сети.</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468000" y="693720"/>
            <a:ext cx="8209080" cy="5472000"/>
          </a:xfrm>
          <a:prstGeom prst="rect">
            <a:avLst/>
          </a:prstGeom>
          <a:noFill/>
          <a:ln w="0">
            <a:noFill/>
          </a:ln>
        </p:spPr>
        <p:txBody>
          <a:bodyPr anchor="t">
            <a:normAutofit fontScale="85000"/>
          </a:bodyPr>
          <a:p>
            <a:pPr marL="291600" indent="-291600" algn="just">
              <a:spcBef>
                <a:spcPts val="60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Поскольку мало пользователей в здравом уме добровольно поставят себе на компьютер заведомо вредоносную программу, их авторы вынуждены использовать различные обманные методы или специальные технологии для несанкционированного проникновения в систему. Следовательно, классифицировать вредоносные программы удобно по способу проникновения, размножения и типу вредоносной нагрузки.</a:t>
            </a:r>
            <a:endParaRPr b="0" lang="en-US" sz="2400" spc="-1" strike="noStrike">
              <a:solidFill>
                <a:srgbClr val="ffffff"/>
              </a:solidFill>
              <a:latin typeface="Garamond"/>
            </a:endParaRPr>
          </a:p>
          <a:p>
            <a:pPr marL="291600" indent="-291600" algn="just">
              <a:spcBef>
                <a:spcPts val="60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Все вредоносные программы в соответствии со способами распространения и вредоносной нагрузкой можно разделить на четыре основные типа – компьютерные вирусы, черви, трояны и другие программы.</a:t>
            </a:r>
            <a:endParaRPr b="0" lang="en-US" sz="2400" spc="-1" strike="noStrike">
              <a:solidFill>
                <a:srgbClr val="ffffff"/>
              </a:solidFill>
              <a:latin typeface="Garamond"/>
            </a:endParaRPr>
          </a:p>
          <a:p>
            <a:pPr marL="291600" indent="-291600" algn="just">
              <a:spcBef>
                <a:spcPts val="60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Далее в этом курсе, если не оговорено иначе, под термином «вирус» будет также пониматься и вредоносная программа.</a:t>
            </a:r>
            <a:endParaRPr b="0" lang="en-US" sz="2400" spc="-1" strike="noStrike">
              <a:solidFill>
                <a:srgbClr val="ffffff"/>
              </a:solidFill>
              <a:latin typeface="Garamond"/>
            </a:endParaRPr>
          </a:p>
        </p:txBody>
      </p:sp>
      <p:sp>
        <p:nvSpPr>
          <p:cNvPr id="107" name="AutoShape 4">
            <a:hlinkClick r:id="rId1" action="ppaction://hlinksldjump"/>
          </p:cNvPr>
          <p:cNvSpPr/>
          <p:nvPr/>
        </p:nvSpPr>
        <p:spPr>
          <a:xfrm>
            <a:off x="8604360" y="6308640"/>
            <a:ext cx="539640" cy="549360"/>
          </a:xfrm>
          <a:custGeom>
            <a:avLst/>
            <a:gdLst>
              <a:gd name="textAreaLeft" fmla="*/ 34920 w 539640"/>
              <a:gd name="textAreaRight" fmla="*/ 504720 w 539640"/>
              <a:gd name="textAreaTop" fmla="*/ 34920 h 549360"/>
              <a:gd name="textAreaBottom" fmla="*/ 514440 h 549360"/>
            </a:gdLst>
            <a:ahLst/>
            <a:rect l="textAreaLeft" t="textAreaTop" r="textAreaRight" b="textAreaBottom"/>
            <a:pathLst>
              <a:path w="21600" h="21989">
                <a:moveTo>
                  <a:pt x="0" y="0"/>
                </a:moveTo>
                <a:lnTo>
                  <a:pt x="21600" y="0"/>
                </a:lnTo>
                <a:lnTo>
                  <a:pt x="21600" y="21989"/>
                </a:lnTo>
                <a:lnTo>
                  <a:pt x="0" y="21989"/>
                </a:lnTo>
                <a:close/>
              </a:path>
              <a:path fill="lightenLess" w="21600" h="21989">
                <a:moveTo>
                  <a:pt x="0" y="0"/>
                </a:moveTo>
                <a:lnTo>
                  <a:pt x="21600" y="0"/>
                </a:lnTo>
                <a:lnTo>
                  <a:pt x="20200" y="1400"/>
                </a:lnTo>
                <a:lnTo>
                  <a:pt x="1400" y="1400"/>
                </a:lnTo>
                <a:close/>
              </a:path>
              <a:path fill="darken" w="21600" h="21989">
                <a:moveTo>
                  <a:pt x="21600" y="0"/>
                </a:moveTo>
                <a:lnTo>
                  <a:pt x="21600" y="21989"/>
                </a:lnTo>
                <a:lnTo>
                  <a:pt x="20200" y="20589"/>
                </a:lnTo>
                <a:lnTo>
                  <a:pt x="20200" y="1400"/>
                </a:lnTo>
                <a:close/>
              </a:path>
              <a:path fill="darkenLess" w="21600" h="21989">
                <a:moveTo>
                  <a:pt x="21600" y="21989"/>
                </a:moveTo>
                <a:lnTo>
                  <a:pt x="0" y="21989"/>
                </a:lnTo>
                <a:lnTo>
                  <a:pt x="1400" y="20589"/>
                </a:lnTo>
                <a:lnTo>
                  <a:pt x="20200" y="20589"/>
                </a:lnTo>
                <a:close/>
              </a:path>
              <a:path fill="lighten" w="21600" h="21989">
                <a:moveTo>
                  <a:pt x="0" y="21989"/>
                </a:moveTo>
                <a:lnTo>
                  <a:pt x="0" y="0"/>
                </a:lnTo>
                <a:lnTo>
                  <a:pt x="1400" y="1400"/>
                </a:lnTo>
                <a:lnTo>
                  <a:pt x="1400" y="20589"/>
                </a:lnTo>
                <a:close/>
              </a:path>
              <a:path fill="darken" w="21600" h="21989">
                <a:moveTo>
                  <a:pt x="3794" y="7687"/>
                </a:moveTo>
                <a:lnTo>
                  <a:pt x="7301" y="7687"/>
                </a:lnTo>
                <a:lnTo>
                  <a:pt x="7301" y="13022"/>
                </a:lnTo>
                <a:cubicBezTo>
                  <a:pt x="7301" y="13945"/>
                  <a:pt x="8102" y="14676"/>
                  <a:pt x="9138" y="14676"/>
                </a:cubicBezTo>
                <a:lnTo>
                  <a:pt x="10800" y="14676"/>
                </a:lnTo>
                <a:cubicBezTo>
                  <a:pt x="11836" y="14676"/>
                  <a:pt x="12636" y="13945"/>
                  <a:pt x="12636" y="13022"/>
                </a:cubicBezTo>
                <a:lnTo>
                  <a:pt x="12636" y="7687"/>
                </a:lnTo>
                <a:lnTo>
                  <a:pt x="10800" y="7687"/>
                </a:lnTo>
                <a:lnTo>
                  <a:pt x="14308" y="4179"/>
                </a:lnTo>
                <a:lnTo>
                  <a:pt x="17981" y="7687"/>
                </a:lnTo>
                <a:lnTo>
                  <a:pt x="16144" y="7687"/>
                </a:lnTo>
                <a:lnTo>
                  <a:pt x="16144" y="13022"/>
                </a:lnTo>
                <a:cubicBezTo>
                  <a:pt x="16144" y="15790"/>
                  <a:pt x="13568" y="18349"/>
                  <a:pt x="10800" y="18349"/>
                </a:cubicBezTo>
                <a:lnTo>
                  <a:pt x="9138" y="18349"/>
                </a:lnTo>
                <a:cubicBezTo>
                  <a:pt x="6370" y="18349"/>
                  <a:pt x="3794" y="15790"/>
                  <a:pt x="3794" y="13022"/>
                </a:cubicBezTo>
                <a:close/>
              </a:path>
            </a:pathLst>
          </a:custGeom>
          <a:solidFill>
            <a:srgbClr val="51596d"/>
          </a:solidFill>
          <a:ln w="936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dddddd"/>
                </a:solidFill>
                <a:latin typeface="Garamond"/>
              </a:rPr>
              <a:t>Вирусы</a:t>
            </a:r>
            <a:endParaRPr b="1" lang="en-US" sz="4400" spc="-1" strike="noStrike">
              <a:solidFill>
                <a:srgbClr val="dddddd"/>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fontScale="87000"/>
          </a:bodyPr>
          <a:p>
            <a:pPr marL="298440" indent="-298440" algn="just">
              <a:lnSpc>
                <a:spcPct val="90000"/>
              </a:lnSpc>
              <a:spcBef>
                <a:spcPts val="60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Компьютерный вирус</a:t>
            </a:r>
            <a:r>
              <a:rPr b="1" i="1" lang="ru-RU" sz="2400" spc="-1" strike="noStrike">
                <a:solidFill>
                  <a:srgbClr val="ffffff"/>
                </a:solidFill>
                <a:latin typeface="Garamond"/>
              </a:rPr>
              <a:t> </a:t>
            </a:r>
            <a:r>
              <a:rPr b="0" i="1" lang="ru-RU" sz="2400" spc="-1" strike="noStrike">
                <a:solidFill>
                  <a:srgbClr val="ffffff"/>
                </a:solidFill>
                <a:latin typeface="Garamond"/>
              </a:rPr>
              <a:t>– это программа, способная создавать свои дубликаты (не обязательно совпадающие с оригиналом) и внедрять их в вычислительные сети и/или файлы, системные области компьютера и прочие выполняемые объекты. При этом дубликаты сохраняют способность к дальнейшему распространению.</a:t>
            </a:r>
            <a:endParaRPr b="0" lang="en-US" sz="2400" spc="-1" strike="noStrike">
              <a:solidFill>
                <a:srgbClr val="ffffff"/>
              </a:solidFill>
              <a:latin typeface="Garamond"/>
            </a:endParaRPr>
          </a:p>
          <a:p>
            <a:pPr marL="298440" indent="-298440" algn="just">
              <a:lnSpc>
                <a:spcPct val="90000"/>
              </a:lnSpc>
              <a:spcBef>
                <a:spcPts val="60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Условно жизненный цикл любого компьютерного вируса можно разделить на пять стадий:</a:t>
            </a:r>
            <a:endParaRPr b="0" lang="en-US" sz="2400" spc="-1" strike="noStrike">
              <a:solidFill>
                <a:srgbClr val="ffffff"/>
              </a:solidFill>
              <a:latin typeface="Garamond"/>
            </a:endParaRPr>
          </a:p>
          <a:p>
            <a:pPr marL="2984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	</a:t>
            </a:r>
            <a:r>
              <a:rPr b="0" lang="ru-RU" sz="2400" spc="-1" strike="noStrike">
                <a:solidFill>
                  <a:srgbClr val="ffffff"/>
                </a:solidFill>
                <a:latin typeface="Garamond"/>
              </a:rPr>
              <a:t>	</a:t>
            </a:r>
            <a:r>
              <a:rPr b="0" lang="ru-RU" sz="2400" spc="-1" strike="noStrike">
                <a:solidFill>
                  <a:srgbClr val="ffffff"/>
                </a:solidFill>
                <a:latin typeface="Garamond"/>
              </a:rPr>
              <a:t>1. Проникновение на чужой компьютер</a:t>
            </a:r>
            <a:endParaRPr b="0" lang="en-US" sz="2400" spc="-1" strike="noStrike">
              <a:solidFill>
                <a:srgbClr val="ffffff"/>
              </a:solidFill>
              <a:latin typeface="Garamond"/>
            </a:endParaRPr>
          </a:p>
          <a:p>
            <a:pPr marL="2984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	</a:t>
            </a:r>
            <a:r>
              <a:rPr b="0" lang="ru-RU" sz="2400" spc="-1" strike="noStrike">
                <a:solidFill>
                  <a:srgbClr val="ffffff"/>
                </a:solidFill>
                <a:latin typeface="Garamond"/>
              </a:rPr>
              <a:t>	</a:t>
            </a:r>
            <a:r>
              <a:rPr b="0" lang="ru-RU" sz="2400" spc="-1" strike="noStrike">
                <a:solidFill>
                  <a:srgbClr val="ffffff"/>
                </a:solidFill>
                <a:latin typeface="Garamond"/>
              </a:rPr>
              <a:t>2. Активация</a:t>
            </a:r>
            <a:endParaRPr b="0" lang="en-US" sz="2400" spc="-1" strike="noStrike">
              <a:solidFill>
                <a:srgbClr val="ffffff"/>
              </a:solidFill>
              <a:latin typeface="Garamond"/>
            </a:endParaRPr>
          </a:p>
          <a:p>
            <a:pPr marL="2984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	</a:t>
            </a:r>
            <a:r>
              <a:rPr b="0" lang="ru-RU" sz="2400" spc="-1" strike="noStrike">
                <a:solidFill>
                  <a:srgbClr val="ffffff"/>
                </a:solidFill>
                <a:latin typeface="Garamond"/>
              </a:rPr>
              <a:t>	</a:t>
            </a:r>
            <a:r>
              <a:rPr b="0" lang="ru-RU" sz="2400" spc="-1" strike="noStrike">
                <a:solidFill>
                  <a:srgbClr val="ffffff"/>
                </a:solidFill>
                <a:latin typeface="Garamond"/>
              </a:rPr>
              <a:t>3. Поиск объектов для заражени</a:t>
            </a:r>
            <a:endParaRPr b="0" lang="en-US" sz="2400" spc="-1" strike="noStrike">
              <a:solidFill>
                <a:srgbClr val="ffffff"/>
              </a:solidFill>
              <a:latin typeface="Garamond"/>
            </a:endParaRPr>
          </a:p>
          <a:p>
            <a:pPr marL="2984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	</a:t>
            </a:r>
            <a:r>
              <a:rPr b="0" lang="ru-RU" sz="2400" spc="-1" strike="noStrike">
                <a:solidFill>
                  <a:srgbClr val="ffffff"/>
                </a:solidFill>
                <a:latin typeface="Garamond"/>
              </a:rPr>
              <a:t>	</a:t>
            </a:r>
            <a:r>
              <a:rPr b="0" lang="ru-RU" sz="2400" spc="-1" strike="noStrike">
                <a:solidFill>
                  <a:srgbClr val="ffffff"/>
                </a:solidFill>
                <a:latin typeface="Garamond"/>
              </a:rPr>
              <a:t>4. Подготовка копий</a:t>
            </a:r>
            <a:endParaRPr b="0" lang="en-US" sz="2400" spc="-1" strike="noStrike">
              <a:solidFill>
                <a:srgbClr val="ffffff"/>
              </a:solidFill>
              <a:latin typeface="Garamond"/>
            </a:endParaRPr>
          </a:p>
          <a:p>
            <a:pPr marL="2984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	</a:t>
            </a:r>
            <a:r>
              <a:rPr b="0" lang="ru-RU" sz="2400" spc="-1" strike="noStrike">
                <a:solidFill>
                  <a:srgbClr val="ffffff"/>
                </a:solidFill>
                <a:latin typeface="Garamond"/>
              </a:rPr>
              <a:t>	</a:t>
            </a:r>
            <a:r>
              <a:rPr b="0" lang="ru-RU" sz="2400" spc="-1" strike="noStrike">
                <a:solidFill>
                  <a:srgbClr val="ffffff"/>
                </a:solidFill>
                <a:latin typeface="Garamond"/>
              </a:rPr>
              <a:t>5. Внедрение копий</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539280" y="289080"/>
            <a:ext cx="7993080" cy="6308640"/>
          </a:xfrm>
          <a:prstGeom prst="rect">
            <a:avLst/>
          </a:prstGeom>
          <a:noFill/>
          <a:ln w="0">
            <a:noFill/>
          </a:ln>
        </p:spPr>
        <p:txBody>
          <a:bodyPr anchor="t">
            <a:normAutofit fontScale="95000"/>
          </a:bodyPr>
          <a:p>
            <a:pPr marL="325800" indent="-325800" algn="just">
              <a:spcBef>
                <a:spcPts val="60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Путями проникновения вируса могут служить как мобильные носители, так и сетевые соединения – фактически, все каналы, по которым можно скопировать файл. Однако в отличие от червей, вирусы не используют сетевые ресурсы – заражение вирусом возможно только если пользователь сам каким-либо образом его активировал. Например, скопировал или получил по почте зараженный файл и сам его запустил или просто открыл.</a:t>
            </a:r>
            <a:endParaRPr b="0" lang="en-US" sz="2400" spc="-1" strike="noStrike">
              <a:solidFill>
                <a:srgbClr val="ffffff"/>
              </a:solidFill>
              <a:latin typeface="Garamond"/>
            </a:endParaRPr>
          </a:p>
          <a:p>
            <a:pPr marL="325800" indent="-325800" algn="just">
              <a:spcBef>
                <a:spcPts val="60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После проникновения следует активация вируса. Это может происходить несколькими путями и соответствии с выбранным методом вирусы делятся на такие виды:</a:t>
            </a:r>
            <a:endParaRPr b="0" lang="en-US" sz="2400" spc="-1" strike="noStrike">
              <a:solidFill>
                <a:srgbClr val="ffffff"/>
              </a:solidFill>
              <a:latin typeface="Garamond"/>
            </a:endParaRPr>
          </a:p>
          <a:p>
            <a:pPr marL="325800" indent="-325800" algn="just">
              <a:spcBef>
                <a:spcPts val="60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Garamond"/>
              </a:rPr>
              <a:t>Загрузочные вирусы </a:t>
            </a:r>
            <a:r>
              <a:rPr b="0" lang="ru-RU" sz="2400" spc="-1" strike="noStrike">
                <a:solidFill>
                  <a:srgbClr val="ffffff"/>
                </a:solidFill>
                <a:latin typeface="Garamond"/>
              </a:rPr>
              <a:t>заражают загрузочные сектора жестких дисков и мобильных носителей.</a:t>
            </a:r>
            <a:endParaRPr b="0" lang="en-US" sz="2400" spc="-1" strike="noStrike">
              <a:solidFill>
                <a:srgbClr val="ffffff"/>
              </a:solidFill>
              <a:latin typeface="Garamond"/>
            </a:endParaRPr>
          </a:p>
          <a:p>
            <a:pPr marL="325800" indent="-325800" algn="just">
              <a:spcBef>
                <a:spcPts val="60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Garamond"/>
              </a:rPr>
              <a:t>Файловые вирусы </a:t>
            </a:r>
            <a:r>
              <a:rPr b="0" lang="ru-RU" sz="2400" spc="-1" strike="noStrike">
                <a:solidFill>
                  <a:srgbClr val="ffffff"/>
                </a:solidFill>
                <a:latin typeface="Garamond"/>
              </a:rPr>
              <a:t>– файлы.</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dddddd"/>
                </a:solidFill>
                <a:latin typeface="Garamond"/>
              </a:rPr>
              <a:t>Файловые вирусы</a:t>
            </a:r>
            <a:endParaRPr b="1" lang="en-US" sz="4400" spc="-1" strike="noStrike">
              <a:solidFill>
                <a:srgbClr val="dddddd"/>
              </a:solidFill>
              <a:latin typeface="Garamond"/>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fontScale="87000"/>
          </a:bodyPr>
          <a:p>
            <a:pPr marL="298440" indent="-298440" algn="just">
              <a:lnSpc>
                <a:spcPct val="90000"/>
              </a:lnSpc>
              <a:spcBef>
                <a:spcPts val="60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Garamond"/>
              </a:rPr>
              <a:t>Классические файловые вирусы </a:t>
            </a:r>
            <a:r>
              <a:rPr b="0" lang="ru-RU" sz="2400" spc="-1" strike="noStrike">
                <a:solidFill>
                  <a:srgbClr val="ffffff"/>
                </a:solidFill>
                <a:latin typeface="Garamond"/>
              </a:rPr>
              <a:t>– они различными способами внедряются в исполняемые файлы (внедряют свой вредоносный код или полностью их перезаписывают), создают файлы-двойники, свои копии в различных каталогах жесткого диска или используют особенности организации файловой системы</a:t>
            </a:r>
            <a:endParaRPr b="0" lang="en-US" sz="2400" spc="-1" strike="noStrike">
              <a:solidFill>
                <a:srgbClr val="ffffff"/>
              </a:solidFill>
              <a:latin typeface="Garamond"/>
            </a:endParaRPr>
          </a:p>
          <a:p>
            <a:pPr marL="298440" indent="-298440" algn="just">
              <a:lnSpc>
                <a:spcPct val="90000"/>
              </a:lnSpc>
              <a:spcBef>
                <a:spcPts val="60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Garamond"/>
              </a:rPr>
              <a:t>Макровирус </a:t>
            </a:r>
            <a:r>
              <a:rPr b="0" lang="ru-RU" sz="2400" spc="-1" strike="noStrike">
                <a:solidFill>
                  <a:srgbClr val="ffffff"/>
                </a:solidFill>
                <a:latin typeface="Garamond"/>
              </a:rPr>
              <a:t>, которые написаны на внутреннем языке так называемых макросах какого-либо приложения. Подавляющее большинство макровирусов используют макросы текстового редактора Microsoft Word</a:t>
            </a:r>
            <a:endParaRPr b="0" lang="en-US" sz="2400" spc="-1" strike="noStrike">
              <a:solidFill>
                <a:srgbClr val="ffffff"/>
              </a:solidFill>
              <a:latin typeface="Garamond"/>
            </a:endParaRPr>
          </a:p>
          <a:p>
            <a:pPr marL="298440" indent="-298440" algn="just">
              <a:lnSpc>
                <a:spcPct val="90000"/>
              </a:lnSpc>
              <a:spcBef>
                <a:spcPts val="60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Garamond"/>
              </a:rPr>
              <a:t>Скрипт-вирусы</a:t>
            </a:r>
            <a:r>
              <a:rPr b="0" lang="ru-RU" sz="2400" spc="-1" strike="noStrike">
                <a:solidFill>
                  <a:srgbClr val="ffffff"/>
                </a:solidFill>
                <a:latin typeface="Garamond"/>
              </a:rPr>
              <a:t>, написанные в виде скриптов для определенной командной оболочки – например bat-файлы для DOS или VBS и JS – скрипты для Windows Scripting Host</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457200" y="404280"/>
            <a:ext cx="8229600" cy="5721480"/>
          </a:xfrm>
          <a:prstGeom prst="rect">
            <a:avLst/>
          </a:prstGeom>
          <a:noFill/>
          <a:ln w="0">
            <a:noFill/>
          </a:ln>
        </p:spPr>
        <p:txBody>
          <a:bodyPr anchor="t">
            <a:normAutofit fontScale="88000"/>
          </a:bodyPr>
          <a:p>
            <a:pPr marL="301680" indent="-301680" algn="just">
              <a:lnSpc>
                <a:spcPct val="80000"/>
              </a:lnSpc>
              <a:spcBef>
                <a:spcPts val="60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Дополнительным отличием вирусов от других вредоносных программ служит их жесткая привязанность к операционной системе или программной оболочки, для которой каждый конкретный вирус был написан. Это означает, что вирус для Microsoft Windows не будет работать и заражать файлы на компьютере с другой установленной операционной системой, например Unix. Точно также макровирус для Microsoft Word 2003 скорее всего не будет работать в приложении Microsoft Excel 97.</a:t>
            </a:r>
            <a:endParaRPr b="0" lang="en-US" sz="2400" spc="-1" strike="noStrike">
              <a:solidFill>
                <a:srgbClr val="ffffff"/>
              </a:solidFill>
              <a:latin typeface="Garamond"/>
            </a:endParaRPr>
          </a:p>
          <a:p>
            <a:pPr marL="301680" indent="-301680" algn="just">
              <a:lnSpc>
                <a:spcPct val="80000"/>
              </a:lnSpc>
              <a:spcBef>
                <a:spcPts val="60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При подготовке своих вирусных копий для маскировки от антивирусов могут применять такие технологии как:</a:t>
            </a:r>
            <a:endParaRPr b="0" lang="en-US" sz="2400" spc="-1" strike="noStrike">
              <a:solidFill>
                <a:srgbClr val="ffffff"/>
              </a:solidFill>
              <a:latin typeface="Garamond"/>
            </a:endParaRPr>
          </a:p>
          <a:p>
            <a:pPr marL="301680" indent="-301680" algn="just">
              <a:lnSpc>
                <a:spcPct val="80000"/>
              </a:lnSpc>
              <a:spcBef>
                <a:spcPts val="60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Garamond"/>
              </a:rPr>
              <a:t>Шифрование </a:t>
            </a:r>
            <a:r>
              <a:rPr b="0" lang="ru-RU" sz="2400" spc="-1" strike="noStrike">
                <a:solidFill>
                  <a:srgbClr val="ffffff"/>
                </a:solidFill>
                <a:latin typeface="Garamond"/>
              </a:rPr>
              <a:t>– в этом случае вирус состоит из двух частей: сам вирус и шифратор.</a:t>
            </a:r>
            <a:endParaRPr b="0" lang="en-US" sz="2400" spc="-1" strike="noStrike">
              <a:solidFill>
                <a:srgbClr val="ffffff"/>
              </a:solidFill>
              <a:latin typeface="Garamond"/>
            </a:endParaRPr>
          </a:p>
          <a:p>
            <a:pPr marL="301680" indent="-301680" algn="just">
              <a:lnSpc>
                <a:spcPct val="80000"/>
              </a:lnSpc>
              <a:spcBef>
                <a:spcPts val="60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Garamond"/>
              </a:rPr>
              <a:t>Метаморфизм </a:t>
            </a:r>
            <a:r>
              <a:rPr b="0" lang="ru-RU" sz="2400" spc="-1" strike="noStrike">
                <a:solidFill>
                  <a:srgbClr val="ffffff"/>
                </a:solidFill>
                <a:latin typeface="Garamond"/>
              </a:rPr>
              <a:t>– при применении этого метода вирусные копии создаются путем замены некоторых команд на аналогичные, перестановки местами частей кода, вставки между ними дополнительного, обычно ничего не делающих команд.</a:t>
            </a:r>
            <a:endParaRPr b="0" lang="en-US" sz="2400" spc="-1" strike="noStrike">
              <a:solidFill>
                <a:srgbClr val="ffffff"/>
              </a:solidFill>
              <a:latin typeface="Garamond"/>
            </a:endParaRPr>
          </a:p>
        </p:txBody>
      </p:sp>
      <p:sp>
        <p:nvSpPr>
          <p:cNvPr id="114" name="AutoShape 4">
            <a:hlinkClick r:id="rId1" action="ppaction://hlinksldjump"/>
          </p:cNvPr>
          <p:cNvSpPr/>
          <p:nvPr/>
        </p:nvSpPr>
        <p:spPr>
          <a:xfrm>
            <a:off x="8604360" y="6308640"/>
            <a:ext cx="539640" cy="549360"/>
          </a:xfrm>
          <a:custGeom>
            <a:avLst/>
            <a:gdLst>
              <a:gd name="textAreaLeft" fmla="*/ 34920 w 539640"/>
              <a:gd name="textAreaRight" fmla="*/ 504720 w 539640"/>
              <a:gd name="textAreaTop" fmla="*/ 34920 h 549360"/>
              <a:gd name="textAreaBottom" fmla="*/ 514440 h 549360"/>
            </a:gdLst>
            <a:ahLst/>
            <a:rect l="textAreaLeft" t="textAreaTop" r="textAreaRight" b="textAreaBottom"/>
            <a:pathLst>
              <a:path w="21600" h="21989">
                <a:moveTo>
                  <a:pt x="0" y="0"/>
                </a:moveTo>
                <a:lnTo>
                  <a:pt x="21600" y="0"/>
                </a:lnTo>
                <a:lnTo>
                  <a:pt x="21600" y="21989"/>
                </a:lnTo>
                <a:lnTo>
                  <a:pt x="0" y="21989"/>
                </a:lnTo>
                <a:close/>
              </a:path>
              <a:path fill="lightenLess" w="21600" h="21989">
                <a:moveTo>
                  <a:pt x="0" y="0"/>
                </a:moveTo>
                <a:lnTo>
                  <a:pt x="21600" y="0"/>
                </a:lnTo>
                <a:lnTo>
                  <a:pt x="20200" y="1400"/>
                </a:lnTo>
                <a:lnTo>
                  <a:pt x="1400" y="1400"/>
                </a:lnTo>
                <a:close/>
              </a:path>
              <a:path fill="darken" w="21600" h="21989">
                <a:moveTo>
                  <a:pt x="21600" y="0"/>
                </a:moveTo>
                <a:lnTo>
                  <a:pt x="21600" y="21989"/>
                </a:lnTo>
                <a:lnTo>
                  <a:pt x="20200" y="20589"/>
                </a:lnTo>
                <a:lnTo>
                  <a:pt x="20200" y="1400"/>
                </a:lnTo>
                <a:close/>
              </a:path>
              <a:path fill="darkenLess" w="21600" h="21989">
                <a:moveTo>
                  <a:pt x="21600" y="21989"/>
                </a:moveTo>
                <a:lnTo>
                  <a:pt x="0" y="21989"/>
                </a:lnTo>
                <a:lnTo>
                  <a:pt x="1400" y="20589"/>
                </a:lnTo>
                <a:lnTo>
                  <a:pt x="20200" y="20589"/>
                </a:lnTo>
                <a:close/>
              </a:path>
              <a:path fill="lighten" w="21600" h="21989">
                <a:moveTo>
                  <a:pt x="0" y="21989"/>
                </a:moveTo>
                <a:lnTo>
                  <a:pt x="0" y="0"/>
                </a:lnTo>
                <a:lnTo>
                  <a:pt x="1400" y="1400"/>
                </a:lnTo>
                <a:lnTo>
                  <a:pt x="1400" y="20589"/>
                </a:lnTo>
                <a:close/>
              </a:path>
              <a:path fill="darken" w="21600" h="21989">
                <a:moveTo>
                  <a:pt x="3794" y="7687"/>
                </a:moveTo>
                <a:lnTo>
                  <a:pt x="7301" y="7687"/>
                </a:lnTo>
                <a:lnTo>
                  <a:pt x="7301" y="13022"/>
                </a:lnTo>
                <a:cubicBezTo>
                  <a:pt x="7301" y="13945"/>
                  <a:pt x="8102" y="14676"/>
                  <a:pt x="9138" y="14676"/>
                </a:cubicBezTo>
                <a:lnTo>
                  <a:pt x="10800" y="14676"/>
                </a:lnTo>
                <a:cubicBezTo>
                  <a:pt x="11836" y="14676"/>
                  <a:pt x="12636" y="13945"/>
                  <a:pt x="12636" y="13022"/>
                </a:cubicBezTo>
                <a:lnTo>
                  <a:pt x="12636" y="7687"/>
                </a:lnTo>
                <a:lnTo>
                  <a:pt x="10800" y="7687"/>
                </a:lnTo>
                <a:lnTo>
                  <a:pt x="14308" y="4179"/>
                </a:lnTo>
                <a:lnTo>
                  <a:pt x="17981" y="7687"/>
                </a:lnTo>
                <a:lnTo>
                  <a:pt x="16144" y="7687"/>
                </a:lnTo>
                <a:lnTo>
                  <a:pt x="16144" y="13022"/>
                </a:lnTo>
                <a:cubicBezTo>
                  <a:pt x="16144" y="15790"/>
                  <a:pt x="13568" y="18349"/>
                  <a:pt x="10800" y="18349"/>
                </a:cubicBezTo>
                <a:lnTo>
                  <a:pt x="9138" y="18349"/>
                </a:lnTo>
                <a:cubicBezTo>
                  <a:pt x="6370" y="18349"/>
                  <a:pt x="3794" y="15790"/>
                  <a:pt x="3794" y="13022"/>
                </a:cubicBezTo>
                <a:close/>
              </a:path>
            </a:pathLst>
          </a:custGeom>
          <a:solidFill>
            <a:srgbClr val="51596d"/>
          </a:solidFill>
          <a:ln w="936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7T06:21:03Z</dcterms:created>
  <dc:creator>User</dc:creator>
  <dc:description/>
  <dc:language>en-US</dc:language>
  <cp:lastModifiedBy>sem.708i</cp:lastModifiedBy>
  <dcterms:modified xsi:type="dcterms:W3CDTF">2011-12-26T16:39:48Z</dcterms:modified>
  <cp:revision>9</cp:revision>
  <dc:subject/>
  <dc:title>Глава 3. Классификация вирусов</dc:title>
</cp:coreProperties>
</file>