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E64-FC26-4FBE-A9B2-293046ED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809-2DE4-40C7-9889-7651DFE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4B7-7C87-4632-A0E1-99DAC925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2D6-E89D-4251-BE70-B32812DC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B73D-0AC9-46F7-995A-127C7C2A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47D-1C4F-4F37-A548-A186EF1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9460-FFA1-43CA-A7DF-96B84E14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257B-AEF2-4ABA-B478-7EE660E5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960F-A22B-4055-9F1C-ED054493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58ED-B551-4A45-8E68-88B57878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E5A-1A6F-45F9-9A75-437AFA4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BBB-D2B2-4C7F-98D2-289D6E59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A76-4936-4238-A5E7-1D9B7096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A9BB-DABB-4F74-8AEE-33B9B91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85E-20F9-41EE-B0E9-3CD8896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D109-C300-4FA1-804F-64CE4B05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8AEA-F452-4700-BC63-589390CF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1C9D-D97E-4307-A8A7-FD886CB3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725CA-FB01-40A8-963C-E8DAD2A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8177-13E6-4593-8BE2-FD6F23BE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6A0E-B600-437C-AE6C-5BD4E6E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8215-6E06-4AF6-988F-A9C96EC2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CA2-C18F-4737-83FC-FCC38D4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43904-9555-4B52-9F5A-11BE578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3A1B-68C2-4CDD-9F3A-8874F63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E24E-8EB2-4902-96AC-751646E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8F92-61AE-418E-9A29-961D56FD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E22F-D9F5-4ADC-B448-B85D674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E42E8-0C3C-4AFD-9020-D3EB096F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A3D8-799B-45F4-A643-923E8084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074-0D91-4B95-82C7-F65D3EBC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3F0-C030-4A54-903D-0466FDA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F5F-9DDE-46B8-ACB2-58B3A3D9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148-0A1D-4EB8-B6E7-D9D1C71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21F-3772-415D-9046-051A419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09B-684F-49C0-9973-5F39834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1E03-C0CD-4012-A449-13A7881AC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477-6F2E-4CA0-A348-B17A36E03C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4E68-62DA-4E43-AF8D-514AA44733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eive.by.ru/geometriia/piramida/pr3.gif" TargetMode="External"/><Relationship Id="rId2" Type="http://schemas.openxmlformats.org/officeDocument/2006/relationships/image" Target="../media/image32.png"/><Relationship Id="rId3" Type="http://schemas.openxmlformats.org/officeDocument/2006/relationships/hyperlink" Target="http://profmeter.com.ua/upload/medialibrary/ff0/pyramid4.gif" TargetMode="External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898.vkontakte.ru/u9656954/-1/x_5e819d9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sacred-destinations.com/egypt/giza-pyramids-pictures/great-pyramid-sphinx-cc-john-spier.jpg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060640"/>
            <a:ext cx="806436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66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bbd71"/>
                </a:solidFill>
                <a:latin typeface="Arial"/>
              </a:rPr>
              <a:t>ОБЪЁМНЫЕ ТЕЛА И МНОГОГРАН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3500280"/>
            <a:ext cx="73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Демонстрационный материал к уроку геометрии в 9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30"/>
          <p:cNvGrpSpPr/>
          <p:nvPr/>
        </p:nvGrpSpPr>
        <p:grpSpPr>
          <a:xfrm>
            <a:off x="1979640" y="3933720"/>
            <a:ext cx="5256000" cy="1136880"/>
            <a:chOff x="1979640" y="3933720"/>
            <a:chExt cx="5256000" cy="1136880"/>
          </a:xfrm>
        </p:grpSpPr>
        <p:pic>
          <p:nvPicPr>
            <p:cNvPr id="195" name="Picture 24" descr=""/>
            <p:cNvPicPr/>
            <p:nvPr/>
          </p:nvPicPr>
          <p:blipFill>
            <a:blip r:embed="rId1"/>
            <a:stretch/>
          </p:blipFill>
          <p:spPr>
            <a:xfrm>
              <a:off x="4177080" y="3933720"/>
              <a:ext cx="129816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6" descr=""/>
            <p:cNvPicPr/>
            <p:nvPr/>
          </p:nvPicPr>
          <p:blipFill>
            <a:blip r:embed="rId2"/>
            <a:stretch/>
          </p:blipFill>
          <p:spPr>
            <a:xfrm>
              <a:off x="5397840" y="3933720"/>
              <a:ext cx="90972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7" descr=""/>
            <p:cNvPicPr/>
            <p:nvPr/>
          </p:nvPicPr>
          <p:blipFill>
            <a:blip r:embed="rId3"/>
            <a:stretch/>
          </p:blipFill>
          <p:spPr>
            <a:xfrm>
              <a:off x="6276600" y="3933720"/>
              <a:ext cx="9590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8" descr=""/>
            <p:cNvPicPr/>
            <p:nvPr/>
          </p:nvPicPr>
          <p:blipFill>
            <a:blip r:embed="rId4"/>
            <a:stretch/>
          </p:blipFill>
          <p:spPr>
            <a:xfrm>
              <a:off x="3053880" y="3933720"/>
              <a:ext cx="1203840" cy="113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9" descr=""/>
            <p:cNvPicPr/>
            <p:nvPr/>
          </p:nvPicPr>
          <p:blipFill>
            <a:blip r:embed="rId5"/>
            <a:stretch/>
          </p:blipFill>
          <p:spPr>
            <a:xfrm>
              <a:off x="1979640" y="3933720"/>
              <a:ext cx="1152720" cy="113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58920" y="2060280"/>
            <a:ext cx="583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ирамида это многогранн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грань которого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оизвольным многоугольн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реугольником, или четырёхугольником, или пятиугольником, или шестиугольником и т.д.), а остальные грани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общей вершиной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этом, одна его грань — произвольный многоугольник —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снова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остальные грани — треугольники с общей вершиной —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Стороны боковых граней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ми рёбр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Общая вершина боковых граней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ой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пирамида2"/>
          <p:cNvPicPr/>
          <p:nvPr/>
        </p:nvPicPr>
        <p:blipFill>
          <a:blip r:embed="rId1"/>
          <a:stretch/>
        </p:blipFill>
        <p:spPr>
          <a:xfrm>
            <a:off x="250920" y="2349360"/>
            <a:ext cx="3208320" cy="276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пирамида1"/>
          <p:cNvPicPr/>
          <p:nvPr/>
        </p:nvPicPr>
        <p:blipFill>
          <a:blip r:embed="rId2"/>
          <a:stretch/>
        </p:blipFill>
        <p:spPr>
          <a:xfrm>
            <a:off x="8172360" y="5950080"/>
            <a:ext cx="657360" cy="765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пирамидка"/>
          <p:cNvPicPr/>
          <p:nvPr/>
        </p:nvPicPr>
        <p:blipFill>
          <a:blip r:embed="rId3"/>
          <a:stretch/>
        </p:blipFill>
        <p:spPr>
          <a:xfrm>
            <a:off x="324000" y="115920"/>
            <a:ext cx="1023840" cy="1808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пирамидка1"/>
          <p:cNvPicPr/>
          <p:nvPr/>
        </p:nvPicPr>
        <p:blipFill>
          <a:blip r:embed="rId4"/>
          <a:stretch/>
        </p:blipFill>
        <p:spPr>
          <a:xfrm>
            <a:off x="1547640" y="765000"/>
            <a:ext cx="976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е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55640" y="1828800"/>
            <a:ext cx="492588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XYZ — треугольная пирамид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дин треугольник в основании и три треугольника — боковые грани)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е 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основания можно рассматривать любую его грань, например, треугольник XYZ. Тогда точка H будет вершиной пирамид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е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YH, YZH и ZX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трез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H, YH и ZH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боковые 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304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ырёх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251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STQ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четырёхугольная пирам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четырёхугольник RSTQ в основании и четыре боковых грани — треугольники GRS, GST, GTQ и GQR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сем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трезки RS, ST, TQ и QR — рёбра в основании, отрезки GR, GS, GT и GQ — боковые рёбра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ка G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4592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ятиуго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55640" y="1699920"/>
            <a:ext cx="40496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KLMNO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ятиугольная пирам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неё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гра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в основании лежит пятиугольник KLMNO, а треугольники PKL, PLM, PMN, PNO и POK — боковые гра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а пирамида имеет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есять рёб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отрезки KL, LM, MN, NO и OK — рёбра в основании, отрезки PK, PL, PM, PN и PO — боковые рёбра) 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шесть вер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точки P, K, L, M, N и O). Точка P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а пирам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050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выпукл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95640" y="1989000"/>
            <a:ext cx="4454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слева располож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ятиугольная пирам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её основании лежит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евыпуклый пятиуголь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се пирамиды на рисунках выше являются выпук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876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640872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из многогранников на рисунке являются пирамидами, а некоторые — нет. Под какими номерами изображены пирами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9994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рамида называется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ь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ее основание – правильный 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ысота пирам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оф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Картинка 19 из 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365720"/>
            <a:ext cx="255276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Картинка 52 из 1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068640"/>
            <a:ext cx="3120840" cy="2766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flipV="1">
            <a:off x="2843280" y="4868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486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79640" y="494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058160" cy="2228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684072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604836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М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87640" y="1197000"/>
            <a:ext cx="5546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это многогран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щий из двух равных многоугольник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ания приз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и параллелограммов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оковые г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измы)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на рисунке справа расположе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шестиугольная п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в её основаниях — два равных шестиугольника, боковые грани — шесть параллелограммов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все боковые грани призмы не просто параллелограммы, а прямоугольники, то такой многогранник называ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рямой призм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 прямой призмы боковые рёбр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ерпендикулярны основа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зма на рисунке слева является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невыпук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Её основания — невыпуклые пятиугольники. В отличие от неё все призмы на рисунках выше являются выпук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1673280" cy="1687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rcRect l="0" t="0" r="32713" b="0"/>
          <a:stretch/>
        </p:blipFill>
        <p:spPr>
          <a:xfrm>
            <a:off x="539640" y="2781360"/>
            <a:ext cx="2181240" cy="1222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8000" y="2349360"/>
            <a:ext cx="309564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аклонная шестиугольн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403280" y="4869000"/>
            <a:ext cx="1189080" cy="1224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55640" y="4149720"/>
            <a:ext cx="1798560" cy="276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Прямая п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призмы и площадь боковой поверхности приз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58920" y="1700280"/>
            <a:ext cx="534636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верхн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а состоит из конечного числа многоугольников (граней). Площадь поверхности многогранника есть сумма площадей всех его гр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95280" y="1730520"/>
            <a:ext cx="2232000" cy="12999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539640" y="3429000"/>
            <a:ext cx="7848720" cy="1441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оверхности призм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) равна сумме площадей ее боковых граней (площади боковой поверх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) и площадей двух оснований (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) - равных многоугольников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к+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6000" y="5445000"/>
            <a:ext cx="4319640" cy="5814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в=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к+2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ёмные т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7640" y="1268280"/>
            <a:ext cx="6696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глянись вокруг себя, и ты всюду обнаружишь объёмные тела. Это такие геометрические фигуры, которые имеют три измерения: длину, ширину и высоту. Например, чтобы представить многоэтажный дом, достаточно сказать: "Этот дом длиной в три подъезда, шириной в два окна и высотой в шесть этаже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вестные тебе из начальной школы прямоугольный параллелепипед и куб полностью описываются тремя измер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 окружающие нас предметы имеют три измерения, но далеко не у всех можно назвать длину, ширину и высоту. Например, для дерева мы можем указать только высоту, для верёвки – длину, для ямы – глубину. А для шара? Имеет ли он тоже три изме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ы говорим, что тело имеет три измерения (является объёмным), если в него можно поместить кубик или шар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пирамида"/>
          <p:cNvPicPr/>
          <p:nvPr/>
        </p:nvPicPr>
        <p:blipFill>
          <a:blip r:embed="rId1"/>
          <a:stretch/>
        </p:blipFill>
        <p:spPr>
          <a:xfrm>
            <a:off x="250920" y="3716280"/>
            <a:ext cx="1547640" cy="1219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528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0404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ллелепипед и к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03280" y="1341000"/>
            <a:ext cx="5187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араллелепипе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же явля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зм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основании которой лежит параллелограмм. Противолежащие грани параллелепипеда равн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грани параллелепипеда не просто параллелограммы, 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й многогранник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ямоугольным параллелепипед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акую форму обычно имеют коробки, комнаты, книги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с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и параллелепипеда — равные квадра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 такое тело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уб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се двенадцать рёбер куба — равные отре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1800360" cy="1028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122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42847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ногогран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51280" y="188640"/>
            <a:ext cx="529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ло, которое ограничено плоскими многоугольниками, 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гранни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ногоугольни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бразующие поверхность многогранника, называются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гран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торо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х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ёб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ногоугольников 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ершины многогран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7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2008440" cy="2664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4968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Многогранники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Картинка 6 из 127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197000"/>
            <a:ext cx="77770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Элементы многогран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565360"/>
            <a:ext cx="2592720" cy="3168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76360" y="508464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6920" y="5084640"/>
            <a:ext cx="64944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912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314172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09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728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45280" y="488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6920" y="1700280"/>
            <a:ext cx="48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Грани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,  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Реб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</a:rPr>
              <a:t>Верш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С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3800" y="23493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7800" y="220500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9800" y="465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5080" y="314172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0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7"/>
          <p:cNvSpPr/>
          <p:nvPr/>
        </p:nvSpPr>
        <p:spPr>
          <a:xfrm>
            <a:off x="0" y="5734080"/>
            <a:ext cx="17636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уклые и невыпуклые многоуголь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48000" y="1125000"/>
            <a:ext cx="57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гольники, как мы уже знаем,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е и невыпукл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угольник ле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дну сторон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любой прямой, содержащей любую сторону многоугольника. А 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ыпуклого можно найти такую сторону, что содержащая её прямая "разреж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 многоугольник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исунке жёлтый многоугольник — выпуклый, а голубой — невыпукл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гран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же быв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ми и невыпуклы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ыпуклый многогранник лежит по одну сторону от любой плоскости, содержащей любую его грань. А у невыпуклого многогранника можно отыскать такую грань, что проходящая через неё плоскость "разрежет" его на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ёлтый многогранни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рисунке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уклый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лубой многогранник — невыпукл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какими номерами на рисунке изображены выпуклые многогранники, а под какими — невыпукл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413080" cy="1350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844720" cy="1167120"/>
          </a:xfrm>
          <a:prstGeom prst="rect">
            <a:avLst/>
          </a:prstGeom>
          <a:ln w="0">
            <a:noFill/>
          </a:ln>
        </p:spPr>
      </p:pic>
      <p:sp>
        <p:nvSpPr>
          <p:cNvPr id="231" name="Line 14"/>
          <p:cNvSpPr/>
          <p:nvPr/>
        </p:nvSpPr>
        <p:spPr>
          <a:xfrm>
            <a:off x="2195640" y="1125360"/>
            <a:ext cx="1008000" cy="1081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179280" y="1557360"/>
            <a:ext cx="1368360" cy="9349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324000" y="4595760"/>
            <a:ext cx="3095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2060640"/>
            <a:ext cx="734544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80600" y="4349880"/>
            <a:ext cx="645012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012000" y="40640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п3"/>
          <p:cNvPicPr/>
          <p:nvPr/>
        </p:nvPicPr>
        <p:blipFill>
          <a:blip r:embed="rId2"/>
          <a:stretch/>
        </p:blipFill>
        <p:spPr>
          <a:xfrm>
            <a:off x="4572000" y="4076640"/>
            <a:ext cx="1467000" cy="987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п4"/>
          <p:cNvPicPr/>
          <p:nvPr/>
        </p:nvPicPr>
        <p:blipFill>
          <a:blip r:embed="rId3"/>
          <a:stretch/>
        </p:blipFill>
        <p:spPr>
          <a:xfrm>
            <a:off x="3059280" y="4076640"/>
            <a:ext cx="1512720" cy="1006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п5"/>
          <p:cNvPicPr/>
          <p:nvPr/>
        </p:nvPicPr>
        <p:blipFill>
          <a:blip r:embed="rId4"/>
          <a:stretch/>
        </p:blipFill>
        <p:spPr>
          <a:xfrm>
            <a:off x="1763640" y="4076640"/>
            <a:ext cx="1327320" cy="995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9"/>
          <p:cNvSpPr/>
          <p:nvPr/>
        </p:nvSpPr>
        <p:spPr>
          <a:xfrm>
            <a:off x="1763640" y="4076640"/>
            <a:ext cx="5904000" cy="100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41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ногогранники. Пирами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19280" y="1125000"/>
            <a:ext cx="554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гранник справа имеет специальное название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авильная четырёхугольная пирами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менно такую форму имеет знаменитая пирамида Хеопса: в её основании лежит квадрат, а боковые грани — равные треуголь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колько граней, рёбер и вершин у этого многогран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оторые из фигур на картинке являются многогранниками, а некоторые — нет. Под какими номерами изображены многогранн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пирамида Хеопса"/>
          <p:cNvPicPr/>
          <p:nvPr/>
        </p:nvPicPr>
        <p:blipFill>
          <a:blip r:embed="rId1"/>
          <a:stretch/>
        </p:blipFill>
        <p:spPr>
          <a:xfrm>
            <a:off x="684360" y="4797360"/>
            <a:ext cx="1657080" cy="124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пирамида"/>
          <p:cNvPicPr/>
          <p:nvPr/>
        </p:nvPicPr>
        <p:blipFill>
          <a:blip r:embed="rId2"/>
          <a:stretch/>
        </p:blipFill>
        <p:spPr>
          <a:xfrm>
            <a:off x="826920" y="1268280"/>
            <a:ext cx="1729080" cy="1362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пирамида"/>
          <p:cNvPicPr/>
          <p:nvPr/>
        </p:nvPicPr>
        <p:blipFill>
          <a:blip r:embed="rId3"/>
          <a:stretch/>
        </p:blipFill>
        <p:spPr>
          <a:xfrm>
            <a:off x="684360" y="3068640"/>
            <a:ext cx="1871640" cy="134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4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"/>
          <p:cNvPicPr/>
          <p:nvPr/>
        </p:nvPicPr>
        <p:blipFill>
          <a:blip r:embed="rId5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6"/>
          <a:stretch/>
        </p:blipFill>
        <p:spPr>
          <a:xfrm>
            <a:off x="3780000" y="4965840"/>
            <a:ext cx="40449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779640" y="1828800"/>
            <a:ext cx="48243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́петские пирами́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величайшие архитектурные памятники Древнего Египта, среди которых одно из «семи чудес света» — пирамида Хеопс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ют собой огромные каменные соору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альной фор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вшиеся в качестве гробниц для фараонов Древнего Египта. Слово «пирамида» — греческо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нению одних исследователей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куча пше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тала прообразом пирамиды. По мнению других учёных, это слово произошло от наз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инального пир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рамидальной формы. Всего в Египте около 100 пирам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2879640" cy="16952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Картинка 0 из 17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052640"/>
            <a:ext cx="2952720" cy="1995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4"/>
          <a:stretch/>
        </p:blipFill>
        <p:spPr>
          <a:xfrm>
            <a:off x="1258920" y="5013360"/>
            <a:ext cx="28796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3:51:36Z</dcterms:created>
  <dc:creator>1</dc:creator>
  <dc:description/>
  <dc:language>en-US</dc:language>
  <cp:lastModifiedBy>анатолий</cp:lastModifiedBy>
  <dcterms:modified xsi:type="dcterms:W3CDTF">2012-03-15T11:35:19Z</dcterms:modified>
  <cp:revision>8</cp:revision>
  <dc:subject/>
  <dc:title>ОБЪЁМНЫЕ ТЕЛА И МНОГОГРАННИКИ</dc:title>
</cp:coreProperties>
</file>