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922-9A56-4274-82B5-62E7F0E2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886-1761-4E45-BF13-E3EF5AD4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1A89-8072-4884-8302-9AB731D6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783-57F9-46DD-8EAB-4FC88C46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2062-358B-4C49-8B94-06976A59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2E9E-F3DA-45B6-9E5D-D9D10D9F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8927-7B3C-431A-9A54-E03186E5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9805-6453-4A6C-9F16-19BC5FD0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59EE-6E5B-4F8D-91E2-4FAE0A1D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16B9-FA23-4C28-A4DB-78C527A6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147F-BCB9-4C22-92F3-ED547F17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2CA-07C2-40E4-84AF-0C139615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D7E0-A1B7-49F3-B9DE-AAD6A06C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6C88-5246-4C3E-AD54-27BBCFF4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5107-B4B5-42FB-8E5E-ACB124D5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DEAD-66BC-497B-8B4D-C49DCC35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C474-87FA-4C40-BAFD-4B1CA70A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EBBD6-77F0-4414-989A-32D024FB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19769-0858-4050-8C75-0F981099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2198B-39DF-4A62-ACE6-C4B4213B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6C56E-9017-4F24-B5C9-AB327886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E5332-5E53-412B-B50A-7095378F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246-FA21-4483-8007-44CC0729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C4680-0F5C-4F98-A413-B095654E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0C11C-9435-49FD-9DB7-1E7F88AB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DDBE4-D097-4957-9B3E-05ABB5D2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F89C5-59EE-4E31-A679-4DFC8D35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19A49-1C53-44D0-BFD2-01998306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C7D42-BE57-438C-AC02-C0A1FC2C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2D2CF-82FD-48D2-B610-4CF89B8B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C22-F743-4547-977F-D77C2BDD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E246-700B-4D75-85B5-8B69AEC5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588-EA8F-4F22-9BCA-670CB5CD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BFE-0531-4C7B-9D22-9F264384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8C58-F718-4BAB-A68D-36C34709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7FBE-599C-44CF-84EE-A9AC6363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AF49-C42F-4C68-9A00-0384EDFE9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0093-197E-445B-AAF7-F558A1848CC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906D-22A6-45A3-A088-BBAF6B64060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neive.by.ru/geometriia/piramida/pr3.gif" TargetMode="External"/><Relationship Id="rId2" Type="http://schemas.openxmlformats.org/officeDocument/2006/relationships/image" Target="../media/image32.png"/><Relationship Id="rId3" Type="http://schemas.openxmlformats.org/officeDocument/2006/relationships/hyperlink" Target="http://profmeter.com.ua/upload/medialibrary/ff0/pyramid4.gif" TargetMode="External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s898.vkontakte.ru/u9656954/-1/x_5e819d93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sacred-destinations.com/egypt/giza-pyramids-pictures/great-pyramid-sphinx-cc-john-spier.jpg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280" y="2060640"/>
            <a:ext cx="8064360" cy="1363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ОБЪЁМНЫЕ ТЕЛА И МНОГОГРАННИК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971640" y="350028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Демонстрационный материал к уроку геометрии в 9 клас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30"/>
          <p:cNvGrpSpPr/>
          <p:nvPr/>
        </p:nvGrpSpPr>
        <p:grpSpPr>
          <a:xfrm>
            <a:off x="1979640" y="3933720"/>
            <a:ext cx="5256000" cy="1136880"/>
            <a:chOff x="1979640" y="3933720"/>
            <a:chExt cx="5256000" cy="1136880"/>
          </a:xfrm>
        </p:grpSpPr>
        <p:pic>
          <p:nvPicPr>
            <p:cNvPr id="195" name="Picture 24" descr=""/>
            <p:cNvPicPr/>
            <p:nvPr/>
          </p:nvPicPr>
          <p:blipFill>
            <a:blip r:embed="rId1"/>
            <a:stretch/>
          </p:blipFill>
          <p:spPr>
            <a:xfrm>
              <a:off x="4177080" y="3933720"/>
              <a:ext cx="129816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26" descr=""/>
            <p:cNvPicPr/>
            <p:nvPr/>
          </p:nvPicPr>
          <p:blipFill>
            <a:blip r:embed="rId2"/>
            <a:stretch/>
          </p:blipFill>
          <p:spPr>
            <a:xfrm>
              <a:off x="5397840" y="3933720"/>
              <a:ext cx="909720" cy="113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27" descr=""/>
            <p:cNvPicPr/>
            <p:nvPr/>
          </p:nvPicPr>
          <p:blipFill>
            <a:blip r:embed="rId3"/>
            <a:stretch/>
          </p:blipFill>
          <p:spPr>
            <a:xfrm>
              <a:off x="6276600" y="3933720"/>
              <a:ext cx="95904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28" descr=""/>
            <p:cNvPicPr/>
            <p:nvPr/>
          </p:nvPicPr>
          <p:blipFill>
            <a:blip r:embed="rId4"/>
            <a:stretch/>
          </p:blipFill>
          <p:spPr>
            <a:xfrm>
              <a:off x="3053880" y="3933720"/>
              <a:ext cx="1203840" cy="113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9" descr=""/>
            <p:cNvPicPr/>
            <p:nvPr/>
          </p:nvPicPr>
          <p:blipFill>
            <a:blip r:embed="rId5"/>
            <a:stretch/>
          </p:blipFill>
          <p:spPr>
            <a:xfrm>
              <a:off x="1979640" y="3933720"/>
              <a:ext cx="1152720" cy="113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рам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58920" y="2060280"/>
            <a:ext cx="583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ирамида это многогранн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а грань которого являе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оизвольным многоугольни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треугольником, или четырёхугольником, или пятиугольником, или шестиугольником и т.д.), а остальные грани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треугольни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 общей вершиной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 этом, одна его грань — произвольный многоугольник — называе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сновани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а остальные грани — треугольники с общей вершиной — называю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боковыми граня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Стороны боковых граней называю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боковыми рёбр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Общая вершина боковых граней называе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ершиной пирам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пирамида2"/>
          <p:cNvPicPr/>
          <p:nvPr/>
        </p:nvPicPr>
        <p:blipFill>
          <a:blip r:embed="rId1"/>
          <a:stretch/>
        </p:blipFill>
        <p:spPr>
          <a:xfrm>
            <a:off x="250920" y="2349360"/>
            <a:ext cx="3208320" cy="2760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пирамида1"/>
          <p:cNvPicPr/>
          <p:nvPr/>
        </p:nvPicPr>
        <p:blipFill>
          <a:blip r:embed="rId2"/>
          <a:stretch/>
        </p:blipFill>
        <p:spPr>
          <a:xfrm>
            <a:off x="8172360" y="5950080"/>
            <a:ext cx="657360" cy="765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пирамидка"/>
          <p:cNvPicPr/>
          <p:nvPr/>
        </p:nvPicPr>
        <p:blipFill>
          <a:blip r:embed="rId3"/>
          <a:stretch/>
        </p:blipFill>
        <p:spPr>
          <a:xfrm>
            <a:off x="324000" y="115920"/>
            <a:ext cx="1023840" cy="1808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пирамидка1"/>
          <p:cNvPicPr/>
          <p:nvPr/>
        </p:nvPicPr>
        <p:blipFill>
          <a:blip r:embed="rId4"/>
          <a:stretch/>
        </p:blipFill>
        <p:spPr>
          <a:xfrm>
            <a:off x="1547640" y="765000"/>
            <a:ext cx="9763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6870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еугольная пирам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55640" y="1828800"/>
            <a:ext cx="492588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XYZ — треугольная пирамид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неё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четыре гр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один треугольник в основании и три треугольника — боковые грани)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шесть рёб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четыре верши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ачестве основания можно рассматривать любую его грань, например, треугольник XYZ. Тогда точка H будет вершиной пирамиды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Треугольни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YH, YZH и ZXH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боковые гр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ирамиды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трез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H, YH и ZH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боковые рёб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ирам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166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3040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тырёхугольная пирам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140000" y="1989000"/>
            <a:ext cx="4251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STQ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четырёхугольная пирам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неё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ять гран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четырёхугольник RSTQ в основании и четыре боковых грани — треугольники GRS, GST, GTQ и GQR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осемь рёб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отрезки RS, ST, TQ и QR — рёбра в основании, отрезки GR, GS, GT и GQ — боковые рёбра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ять верш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чка G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ершина пирам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4592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9200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ятиугольная пирам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355640" y="1699920"/>
            <a:ext cx="40496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KLMNO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ятиугольная пирами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неё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шесть гран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в основании лежит пятиугольник KLMNO, а треугольники PKL, PLM, PMN, PNO и POK — боковые гра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а пирамида имеет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десять рёб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отрезки KL, LM, MN, NO и OK — рёбра в основании, отрезки PK, PL, PM, PN и PO — боковые рёбра) и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шесть верш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точки P, K, L, M, N и O). Точка P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ершина пирам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10508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выпуклая пирам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95640" y="1989000"/>
            <a:ext cx="4454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рисунке слева расположен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евыпукл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ятиугольная пирам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её основании лежит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евыпуклый пятиуголь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се пирамиды на рисунках выше являются выпукл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8764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640872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которые из многогранников на рисунке являются пирамидами, а некоторые — нет. Под какими номерами изображены пирами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99948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равильная пирам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амида называется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равильн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сли ее основание – правильный много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сота пирам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офе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Картинка 19 из 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365720"/>
            <a:ext cx="2552760" cy="2305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Картинка 52 из 1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3068640"/>
            <a:ext cx="3120840" cy="27669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 flipV="1">
            <a:off x="2843280" y="48686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16360" y="4869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79640" y="49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2400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7058160" cy="22287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ПРИЗМ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042920" y="3573360"/>
            <a:ext cx="684072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604836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МА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987640" y="1197000"/>
            <a:ext cx="5546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 это многогран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оящий из двух равных многоугольников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снования приз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и параллелограммов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оковые гр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измы)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ример, на рисунке справа расположе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шестиугольная приз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в её основаниях — два равных шестиугольника, боковые грани — шесть параллелограммов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все боковые грани призмы не просто параллелограммы, а прямоугольники, то такой многогранник называется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ямой призм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У прямой призмы боковые рёбр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ерпендикулярны основани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зма на рисунке слева является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евыпукл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Её основания — невыпуклые пятиугольники. В отличие от неё все призмы на рисунках выше являются выпукл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1673280" cy="16873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rcRect l="0" t="0" r="32713" b="0"/>
          <a:stretch/>
        </p:blipFill>
        <p:spPr>
          <a:xfrm>
            <a:off x="539640" y="2781360"/>
            <a:ext cx="2181240" cy="1222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08000" y="2349360"/>
            <a:ext cx="3095640" cy="2764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Наклонная шестиугольная п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1403280" y="4869000"/>
            <a:ext cx="1189080" cy="1224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755640" y="4149720"/>
            <a:ext cx="1798560" cy="2764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Прямая п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9200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ощадь поверхности призмы и площадь боковой поверхности призм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58920" y="1700280"/>
            <a:ext cx="5346360" cy="14414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верхнос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гранника состоит из конечного числа многоугольников (граней). Площадь поверхности многогранника есть сумма площадей всех его гра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95280" y="1730520"/>
            <a:ext cx="2232000" cy="129996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3"/>
          <p:cNvSpPr/>
          <p:nvPr/>
        </p:nvSpPr>
        <p:spPr>
          <a:xfrm>
            <a:off x="539640" y="3429000"/>
            <a:ext cx="7848720" cy="14414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поверхности призм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) равна сумме площадей ее боковых граней (площади боковой поверх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к) и площадей двух оснований (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) - равных многоугольников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=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к+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56000" y="5445000"/>
            <a:ext cx="4319640" cy="58140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пов=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бок+2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ос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6870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ёмные те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7640" y="1268280"/>
            <a:ext cx="6696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глянись вокруг себя, и ты всюду обнаружишь объёмные тела. Это такие геометрические фигуры, которые имеют три измерения: длину, ширину и высоту. Например, чтобы представить многоэтажный дом, достаточно сказать: "Этот дом длиной в три подъезда, шириной в два окна и высотой в шесть этажей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вестные тебе из начальной школы прямоугольный параллелепипед и куб полностью описываются тремя измере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е окружающие нас предметы имеют три измерения, но далеко не у всех можно назвать длину, ширину и высоту. Например, для дерева мы можем указать только высоту, для верёвки – длину, для ямы – глубину. А для шара? Имеет ли он тоже три изме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ы говорим, что тело имеет три измерения (является объёмным), если в него можно поместить кубик или шар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пирамида"/>
          <p:cNvPicPr/>
          <p:nvPr/>
        </p:nvPicPr>
        <p:blipFill>
          <a:blip r:embed="rId1"/>
          <a:stretch/>
        </p:blipFill>
        <p:spPr>
          <a:xfrm>
            <a:off x="250920" y="3716280"/>
            <a:ext cx="1547640" cy="1219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152892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3040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раллелепипед и ку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203280" y="1341000"/>
            <a:ext cx="51879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араллелепипе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же являе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изм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основании которой лежит параллелограмм. Противолежащие грани параллелепипеда равны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все грани параллелепипеда не просто параллелограммы, а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ямоугольни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 такой многогранник называе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ямоугольным параллелепипед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Такую форму обычно имеют коробки, комнаты, книги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все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грани параллелепипеда — равные квадра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 такое тело называе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куб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се двенадцать рёбер куба — равные отре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376360" cy="8906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1800360" cy="10285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116000" y="4221000"/>
            <a:ext cx="122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4284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Многогран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51280" y="188640"/>
            <a:ext cx="5292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ло, которое ограничено плоскими многоугольниками, называ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ногограннико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Многоугольни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образующие поверхность многогранника, называю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граня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торо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их многоугольников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рёб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ногогра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ерши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ногоугольников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ершины многогранни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7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2008440" cy="2664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"/>
          <p:cNvPicPr/>
          <p:nvPr/>
        </p:nvPicPr>
        <p:blipFill>
          <a:blip r:embed="rId2"/>
          <a:stretch/>
        </p:blipFill>
        <p:spPr>
          <a:xfrm>
            <a:off x="1116000" y="4365720"/>
            <a:ext cx="49687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Многогранники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Картинка 6 из 127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197000"/>
            <a:ext cx="777708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Элементы многогран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2565360"/>
            <a:ext cx="2592720" cy="3168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2565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76360" y="508464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26920" y="5084640"/>
            <a:ext cx="649440" cy="64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912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314172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092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9728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45280" y="488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066920" y="1700280"/>
            <a:ext cx="482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50021"/>
                </a:solidFill>
                <a:uFillTx/>
                <a:latin typeface="Arial"/>
              </a:rPr>
              <a:t>Грани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 А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,    А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,  С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50021"/>
                </a:solidFill>
                <a:uFillTx/>
                <a:latin typeface="Arial"/>
              </a:rPr>
              <a:t>Реб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А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50021"/>
                </a:solidFill>
                <a:uFillTx/>
                <a:latin typeface="Arial"/>
              </a:rPr>
              <a:t>Верш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С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93800" y="23493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77800" y="220500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4980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5080" y="314172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10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10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0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7"/>
          <p:cNvSpPr/>
          <p:nvPr/>
        </p:nvSpPr>
        <p:spPr>
          <a:xfrm>
            <a:off x="0" y="5734080"/>
            <a:ext cx="176364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уклые и невыпуклые многоуголь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48000" y="1125000"/>
            <a:ext cx="5796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угольники, как мы уже знаем, быва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пуклые и невыпукл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Выпуклый многоугольник леж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одну сторон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т любой прямой, содержащей любую сторону многоугольника. А 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ыпуклого можно найти такую сторону, что содержащая её прямая "разреж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 многоугольник на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рисунке жёлтый многоугольник — выпуклый, а голубой — невыпукл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огогранник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же быва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пуклыми и невыпуклы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Выпуклый многогранник лежит по одну сторону от любой плоскости, содержащей любую его грань. А у невыпуклого многогранника можно отыскать такую грань, что проходящая через неё плоскость "разрежет" его на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ёлтый многогранни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 рисунке —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пуклый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лубой многогранник — невыпукл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 какими номерами на рисунке изображены выпуклые многогранники, а под какими — невыпуклы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1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2413080" cy="1350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2844720" cy="1167120"/>
          </a:xfrm>
          <a:prstGeom prst="rect">
            <a:avLst/>
          </a:prstGeom>
          <a:ln w="0">
            <a:noFill/>
          </a:ln>
        </p:spPr>
      </p:pic>
      <p:sp>
        <p:nvSpPr>
          <p:cNvPr id="231" name="Line 14"/>
          <p:cNvSpPr/>
          <p:nvPr/>
        </p:nvSpPr>
        <p:spPr>
          <a:xfrm>
            <a:off x="2195640" y="1125360"/>
            <a:ext cx="1008000" cy="108144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179280" y="1557360"/>
            <a:ext cx="1368360" cy="93492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6" descr=""/>
          <p:cNvPicPr/>
          <p:nvPr/>
        </p:nvPicPr>
        <p:blipFill>
          <a:blip r:embed="rId3"/>
          <a:stretch/>
        </p:blipFill>
        <p:spPr>
          <a:xfrm>
            <a:off x="324000" y="4595760"/>
            <a:ext cx="30956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640" y="2060640"/>
            <a:ext cx="7345440" cy="1363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ПИРАМИД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80600" y="4349880"/>
            <a:ext cx="6450120" cy="12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6012000" y="4064040"/>
            <a:ext cx="1655640" cy="1000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п3"/>
          <p:cNvPicPr/>
          <p:nvPr/>
        </p:nvPicPr>
        <p:blipFill>
          <a:blip r:embed="rId2"/>
          <a:stretch/>
        </p:blipFill>
        <p:spPr>
          <a:xfrm>
            <a:off x="4572000" y="4076640"/>
            <a:ext cx="1467000" cy="987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п4"/>
          <p:cNvPicPr/>
          <p:nvPr/>
        </p:nvPicPr>
        <p:blipFill>
          <a:blip r:embed="rId3"/>
          <a:stretch/>
        </p:blipFill>
        <p:spPr>
          <a:xfrm>
            <a:off x="3059280" y="4076640"/>
            <a:ext cx="1512720" cy="1006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п5"/>
          <p:cNvPicPr/>
          <p:nvPr/>
        </p:nvPicPr>
        <p:blipFill>
          <a:blip r:embed="rId4"/>
          <a:stretch/>
        </p:blipFill>
        <p:spPr>
          <a:xfrm>
            <a:off x="1763640" y="4076640"/>
            <a:ext cx="1327320" cy="995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9"/>
          <p:cNvSpPr/>
          <p:nvPr/>
        </p:nvSpPr>
        <p:spPr>
          <a:xfrm>
            <a:off x="1763640" y="4076640"/>
            <a:ext cx="5904000" cy="100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415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ногогранники. Пирамид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419280" y="1125000"/>
            <a:ext cx="554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гранник справа имеет специальное название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авильная четырёхугольная пирами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Именно такую форму имеет знаменитая пирамида Хеопса: в её основании лежит квадрат, а боковые грани — равные треуголь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колько граней, рёбер и вершин у этого многогран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которые из фигур на картинке являются многогранниками, а некоторые — нет. Под какими номерами изображены многогранни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пирамида Хеопса"/>
          <p:cNvPicPr/>
          <p:nvPr/>
        </p:nvPicPr>
        <p:blipFill>
          <a:blip r:embed="rId1"/>
          <a:stretch/>
        </p:blipFill>
        <p:spPr>
          <a:xfrm>
            <a:off x="684360" y="4797360"/>
            <a:ext cx="1657080" cy="1243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пирамида"/>
          <p:cNvPicPr/>
          <p:nvPr/>
        </p:nvPicPr>
        <p:blipFill>
          <a:blip r:embed="rId2"/>
          <a:stretch/>
        </p:blipFill>
        <p:spPr>
          <a:xfrm>
            <a:off x="826920" y="1268280"/>
            <a:ext cx="1729080" cy="1362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пирамида"/>
          <p:cNvPicPr/>
          <p:nvPr/>
        </p:nvPicPr>
        <p:blipFill>
          <a:blip r:embed="rId3"/>
          <a:stretch/>
        </p:blipFill>
        <p:spPr>
          <a:xfrm>
            <a:off x="684360" y="3068640"/>
            <a:ext cx="1871640" cy="134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"/>
          <p:cNvPicPr/>
          <p:nvPr/>
        </p:nvPicPr>
        <p:blipFill>
          <a:blip r:embed="rId4"/>
          <a:stretch/>
        </p:blipFill>
        <p:spPr>
          <a:xfrm>
            <a:off x="3780000" y="4965840"/>
            <a:ext cx="4044960" cy="1892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"/>
          <p:cNvPicPr/>
          <p:nvPr/>
        </p:nvPicPr>
        <p:blipFill>
          <a:blip r:embed="rId5"/>
          <a:stretch/>
        </p:blipFill>
        <p:spPr>
          <a:xfrm>
            <a:off x="3780000" y="4965840"/>
            <a:ext cx="4044960" cy="18921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6"/>
          <a:stretch/>
        </p:blipFill>
        <p:spPr>
          <a:xfrm>
            <a:off x="3780000" y="4965840"/>
            <a:ext cx="40449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779640" y="1828800"/>
            <a:ext cx="482436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ги́петские пирами́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величайшие архитектурные памятники Древнего Египта, среди которых одно из «семи чудес света» — пирамида Хеопса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ами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ставляют собой огромные каменные сооруже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амидальной фор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овавшиеся в качестве гробниц для фараонов Древнего Египта. Слово «пирамида» — греческое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нению одних исследователей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ая куча пшениц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стала прообразом пирамиды. По мнению других учёных, это слово произошло от назв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инального пиро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ирамидальной формы. Всего в Египте около 100 пирам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755640" y="3141720"/>
            <a:ext cx="2879640" cy="16952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Картинка 0 из 1796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052640"/>
            <a:ext cx="2952720" cy="1995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4"/>
          <a:stretch/>
        </p:blipFill>
        <p:spPr>
          <a:xfrm>
            <a:off x="1258920" y="5013360"/>
            <a:ext cx="28796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13:51:36Z</dcterms:created>
  <dc:creator>1</dc:creator>
  <dc:description/>
  <dc:language>en-US</dc:language>
  <cp:lastModifiedBy>анатолий</cp:lastModifiedBy>
  <dcterms:modified xsi:type="dcterms:W3CDTF">2012-03-15T11:35:19Z</dcterms:modified>
  <cp:revision>8</cp:revision>
  <dc:subject/>
  <dc:title>ОБЪЁМНЫЕ ТЕЛА И МНОГОГРАННИКИ</dc:title>
</cp:coreProperties>
</file>