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28.png" ContentType="image/png"/>
  <Override PartName="/ppt/media/image30.png" ContentType="image/png"/>
  <Override PartName="/ppt/media/image14.png" ContentType="image/png"/>
  <Override PartName="/ppt/media/image10.jpeg" ContentType="image/jpeg"/>
  <Override PartName="/ppt/media/image5.png" ContentType="image/png"/>
  <Override PartName="/ppt/media/image35.png" ContentType="image/png"/>
  <Override PartName="/ppt/media/image11.png" ContentType="image/png"/>
  <Override PartName="/ppt/media/image19.jpeg" ContentType="image/jpeg"/>
  <Override PartName="/ppt/media/image36.png" ContentType="image/png"/>
  <Override PartName="/ppt/media/image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EA9A-F5C4-49B8-8DBB-37A445102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B066-3FEA-4E8E-9C40-37CDB325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132C-6AED-4F68-8E6E-393915A06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B4C3-CBE7-4B75-A108-CA2B499B4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C3BF-350A-4C65-8477-88034C71A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D9C9-38A2-4F1A-8CB8-7282DEB2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E8EDC-219D-4D7B-91C7-0C5BEFF3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B06F6-D141-4497-A980-CE9C9CDC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9E81-3DEE-489D-93C2-9CAD92F0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AB9D-B0AA-4B81-859B-3EDF9135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8281A-FDAA-4249-A7BA-E39AFC58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D5AE-E457-4E90-A2FE-C84866D9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8364-AAAF-490F-8746-2EB4CCA0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7930-A541-4D93-ADDF-9A15D1EE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61269-5586-42ED-974A-77FBE152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11F7-87F6-46A9-82AF-72DF8A9F2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8A91-ECD0-4BB8-8039-DCC31A449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E80AC-C8A2-4991-998E-418A379DE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5EC50-574B-493B-91AF-0538DC3D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7ADC1-2B81-4B7C-AA57-B6D8A490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40311-F860-4AFF-AE4F-B7F84EAE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AE71E-D865-45A4-927C-5D0CF5FC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0685-3955-4281-818D-A15E32E7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18E78-C5E1-43CA-A81F-22E2E356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78237-C86C-4319-BB4A-BE4F40FE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2234E-9BFD-4CDD-A5E9-AFA3B14A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D8FA3-0936-4C1C-B131-C8CAEB23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CC391-0971-4D2E-AEBC-C0D1E1B4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89DE1-532B-4C38-B0D9-31AC2D24E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D2D4D-316C-4A96-9D9A-7D7D1FE65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5925-8E93-49C4-8957-99DFBDA5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5D81-0D5A-48C5-90E3-D4818E1F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6A5B-C682-430C-95F1-1FE8EF37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295C-F5D1-4399-9FDA-A320A2FD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8B3B-1F9A-4992-9569-B7AE6B24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25F4-EFB9-4F58-9F5B-C5370006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7D46-ADCA-4EAF-A114-A1BA4E9D4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BDA5-4385-4BF5-9C65-455F9B3B652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D465-8096-4350-A32A-2A8A5EC9435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neive.by.ru/geometriia/piramida/pr3.gif" TargetMode="External"/><Relationship Id="rId2" Type="http://schemas.openxmlformats.org/officeDocument/2006/relationships/image" Target="../media/image32.png"/><Relationship Id="rId3" Type="http://schemas.openxmlformats.org/officeDocument/2006/relationships/hyperlink" Target="http://profmeter.com.ua/upload/medialibrary/ff0/pyramid4.gif" TargetMode="External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s898.vkontakte.ru/u9656954/-1/x_5e819d93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6.png"/><Relationship Id="rId3" Type="http://schemas.openxmlformats.org/officeDocument/2006/relationships/image" Target="../media/image19.jpe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www.sacred-destinations.com/egypt/giza-pyramids-pictures/great-pyramid-sphinx-cc-john-spier.jpg" TargetMode="External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5280" y="2060640"/>
            <a:ext cx="8064360" cy="13636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6633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bbd71"/>
                </a:solidFill>
                <a:latin typeface="Arial"/>
              </a:rPr>
              <a:t>ОБЪЁМНЫЕ ТЕЛА И МНОГОГРАННИКИ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971640" y="3500280"/>
            <a:ext cx="734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Демонстрационный материал к уроку геометрии в 9 клас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30"/>
          <p:cNvGrpSpPr/>
          <p:nvPr/>
        </p:nvGrpSpPr>
        <p:grpSpPr>
          <a:xfrm>
            <a:off x="1979640" y="3933720"/>
            <a:ext cx="5256000" cy="1136880"/>
            <a:chOff x="1979640" y="3933720"/>
            <a:chExt cx="5256000" cy="1136880"/>
          </a:xfrm>
        </p:grpSpPr>
        <p:pic>
          <p:nvPicPr>
            <p:cNvPr id="195" name="Picture 24" descr=""/>
            <p:cNvPicPr/>
            <p:nvPr/>
          </p:nvPicPr>
          <p:blipFill>
            <a:blip r:embed="rId1"/>
            <a:stretch/>
          </p:blipFill>
          <p:spPr>
            <a:xfrm>
              <a:off x="4177080" y="3933720"/>
              <a:ext cx="1298160" cy="11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26" descr=""/>
            <p:cNvPicPr/>
            <p:nvPr/>
          </p:nvPicPr>
          <p:blipFill>
            <a:blip r:embed="rId2"/>
            <a:stretch/>
          </p:blipFill>
          <p:spPr>
            <a:xfrm>
              <a:off x="5397840" y="3933720"/>
              <a:ext cx="909720" cy="113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27" descr=""/>
            <p:cNvPicPr/>
            <p:nvPr/>
          </p:nvPicPr>
          <p:blipFill>
            <a:blip r:embed="rId3"/>
            <a:stretch/>
          </p:blipFill>
          <p:spPr>
            <a:xfrm>
              <a:off x="6276600" y="3933720"/>
              <a:ext cx="959040" cy="11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28" descr=""/>
            <p:cNvPicPr/>
            <p:nvPr/>
          </p:nvPicPr>
          <p:blipFill>
            <a:blip r:embed="rId4"/>
            <a:stretch/>
          </p:blipFill>
          <p:spPr>
            <a:xfrm>
              <a:off x="3053880" y="3933720"/>
              <a:ext cx="1203840" cy="113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29" descr=""/>
            <p:cNvPicPr/>
            <p:nvPr/>
          </p:nvPicPr>
          <p:blipFill>
            <a:blip r:embed="rId5"/>
            <a:stretch/>
          </p:blipFill>
          <p:spPr>
            <a:xfrm>
              <a:off x="1979640" y="3933720"/>
              <a:ext cx="1152720" cy="1132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ирами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58920" y="2060280"/>
            <a:ext cx="5833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Пирамида это многогранни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дна грань которого является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произвольным многоугольник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треугольником, или четырёхугольником, или пятиугольником, или шестиугольником и т.д.), а остальные грани —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треугольни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 общей вершиной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ри этом, одна его грань — произвольный многоугольник — называется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основани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а остальные грани — треугольники с общей вершиной — называются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боковыми граня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Стороны боковых граней называются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боковыми рёбра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Общая вершина боковых граней называется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вершиной пирами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5" descr="пирамида2"/>
          <p:cNvPicPr/>
          <p:nvPr/>
        </p:nvPicPr>
        <p:blipFill>
          <a:blip r:embed="rId1"/>
          <a:stretch/>
        </p:blipFill>
        <p:spPr>
          <a:xfrm>
            <a:off x="250920" y="2349360"/>
            <a:ext cx="3208320" cy="27608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пирамида1"/>
          <p:cNvPicPr/>
          <p:nvPr/>
        </p:nvPicPr>
        <p:blipFill>
          <a:blip r:embed="rId2"/>
          <a:stretch/>
        </p:blipFill>
        <p:spPr>
          <a:xfrm>
            <a:off x="8172360" y="5950080"/>
            <a:ext cx="657360" cy="765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пирамидка"/>
          <p:cNvPicPr/>
          <p:nvPr/>
        </p:nvPicPr>
        <p:blipFill>
          <a:blip r:embed="rId3"/>
          <a:stretch/>
        </p:blipFill>
        <p:spPr>
          <a:xfrm>
            <a:off x="324000" y="115920"/>
            <a:ext cx="1023840" cy="1808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пирамидка1"/>
          <p:cNvPicPr/>
          <p:nvPr/>
        </p:nvPicPr>
        <p:blipFill>
          <a:blip r:embed="rId4"/>
          <a:stretch/>
        </p:blipFill>
        <p:spPr>
          <a:xfrm>
            <a:off x="1547640" y="765000"/>
            <a:ext cx="9763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687060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еугольная пирами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455640" y="1828800"/>
            <a:ext cx="492588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XYZ — треугольная пирамида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неё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четыре гра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один треугольник в основании и три треугольника — боковые грани)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шесть рёб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четыре вершин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качестве основания можно рассматривать любую его грань, например, треугольник XYZ. Тогда точка H будет вершиной пирамиды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Треугольни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YH, YZH и ZXH —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боковые гра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ирамиды.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Отрезк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H, YH и ZH —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боковые рёб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ирами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31669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3040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тырёхугольная пирами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140000" y="1989000"/>
            <a:ext cx="42512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STQ —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четырёхугольная пирами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неё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пять гран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четырёхугольник RSTQ в основании и четыре боковых грани — треугольники GRS, GST, GTQ и GQR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восемь рёб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отрезки RS, ST, TQ и QR — рёбра в основании, отрезки GR, GS, GT и GQ — боковые рёбра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пять верши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чка G —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вершина пирами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345924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92000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ятиугольная пирами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355640" y="1699920"/>
            <a:ext cx="404964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KLMNO —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пятиугольная пирами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неё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шесть гран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в основании лежит пятиугольник KLMNO, а треугольники PKL, PLM, PMN, PNO и POK — боковые гра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а пирамида имеет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десять рёб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отрезки KL, LM, MN, NO и OK — рёбра в основании, отрезки PK, PL, PM, PN и PO — боковые рёбра) и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шесть верши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точки P, K, L, M, N и O). Точка P—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вершина пирами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410508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евыпуклая пирами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995640" y="1989000"/>
            <a:ext cx="44546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рисунке слева расположена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невыпукла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ятиугольная пирами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её основании лежит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невыпуклый пятиугольни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Все пирамиды на рисунках выше являются выпукл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388764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16000" y="549360"/>
            <a:ext cx="6408720" cy="18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которые из многогранников на рисунке являются пирамидами, а некоторые — нет. Под какими номерами изображены пирамид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826920" y="2492280"/>
            <a:ext cx="699948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Правильная пирами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амида называется 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правильно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если ее основание – правильный много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K 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ысота пирами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пофе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Картинка 19 из 7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4365720"/>
            <a:ext cx="2552760" cy="23050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Картинка 52 из 16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3068640"/>
            <a:ext cx="3120840" cy="27669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 flipV="1">
            <a:off x="2843280" y="486864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916360" y="4869000"/>
            <a:ext cx="71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79640" y="4941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124000" y="494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42920" y="691920"/>
            <a:ext cx="7058160" cy="22287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0000"/>
                </a:solidFill>
                <a:latin typeface="Arial"/>
              </a:rPr>
              <a:t>ПРИЗМ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042920" y="3573360"/>
            <a:ext cx="6840720" cy="24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6048360" cy="102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ЗМА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987640" y="1197000"/>
            <a:ext cx="5546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 это многогранн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стоящий из двух равных многоугольников (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основания призм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и параллелограммов (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боковые гра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ризмы)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ример, на рисунке справа расположена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шестиугольная приз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в её основаниях — два равных шестиугольника, боковые грани — шесть параллелограммов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все боковые грани призмы не просто параллелограммы, а прямоугольники, то такой многогранник называется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прямой призмо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У прямой призмы боковые рёбра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перпендикулярны основани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зма на рисунке слева является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невыпукло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Её основания — невыпуклые пятиугольники. В отличие от неё все призмы на рисунках выше являются выпукл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900000" y="476280"/>
            <a:ext cx="1673280" cy="16873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rcRect l="0" t="0" r="32713" b="0"/>
          <a:stretch/>
        </p:blipFill>
        <p:spPr>
          <a:xfrm>
            <a:off x="539640" y="2781360"/>
            <a:ext cx="2181240" cy="12222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08000" y="2349360"/>
            <a:ext cx="3095640" cy="27648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Наклонная шестиугольная пр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1403280" y="4869000"/>
            <a:ext cx="1189080" cy="12240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755640" y="4149720"/>
            <a:ext cx="1798560" cy="27648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Прямая пр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92000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ощадь поверхности призмы и площадь боковой поверхности призмы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58920" y="1700280"/>
            <a:ext cx="5346360" cy="144144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оверхност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гогранника состоит из конечного числа многоугольников (граней). Площадь поверхности многогранника есть сумма площадей всех его гран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95280" y="1730520"/>
            <a:ext cx="2232000" cy="129996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3"/>
          <p:cNvSpPr/>
          <p:nvPr/>
        </p:nvSpPr>
        <p:spPr>
          <a:xfrm>
            <a:off x="539640" y="3429000"/>
            <a:ext cx="7848720" cy="144144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щадь поверхности призм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) равна сумме площадей ее боковых граней (площади боковой поверхност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к) и площадей двух оснований (2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) - равных многоугольников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=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к+2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556000" y="5445000"/>
            <a:ext cx="4319640" cy="58140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пов=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бок+2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ос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687060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ъёмные те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07640" y="1268280"/>
            <a:ext cx="66963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глянись вокруг себя, и ты всюду обнаружишь объёмные тела. Это такие геометрические фигуры, которые имеют три измерения: длину, ширину и высоту. Например, чтобы представить многоэтажный дом, достаточно сказать: "Этот дом длиной в три подъезда, шириной в два окна и высотой в шесть этажей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вестные тебе из начальной школы прямоугольный параллелепипед и куб полностью описываются тремя измерен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се окружающие нас предметы имеют три измерения, но далеко не у всех можно назвать длину, ширину и высоту. Например, для дерева мы можем указать только высоту, для верёвки – длину, для ямы – глубину. А для шара? Имеет ли он тоже три измер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ы говорим, что тело имеет три измерения (является объёмным), если в него можно поместить кубик или шари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0" descr="пирамида"/>
          <p:cNvPicPr/>
          <p:nvPr/>
        </p:nvPicPr>
        <p:blipFill>
          <a:blip r:embed="rId1"/>
          <a:stretch/>
        </p:blipFill>
        <p:spPr>
          <a:xfrm>
            <a:off x="250920" y="3716280"/>
            <a:ext cx="1547640" cy="1219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"/>
          <p:cNvPicPr/>
          <p:nvPr/>
        </p:nvPicPr>
        <p:blipFill>
          <a:blip r:embed="rId2"/>
          <a:stretch/>
        </p:blipFill>
        <p:spPr>
          <a:xfrm>
            <a:off x="179280" y="2060640"/>
            <a:ext cx="1528920" cy="11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30404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раллелепипед и ку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203280" y="1341000"/>
            <a:ext cx="51879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Параллелепипе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же является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призмо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в основании которой лежит параллелограмм. Противолежащие грани параллелепипеда равны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все грани параллелепипеда не просто параллелограммы, а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прямоугольни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то такой многогранник называется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прямоугольным параллелепипед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Такую форму обычно имеют коробки, комнаты, книги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все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грани параллелепипеда — равные квадрат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то такое тело называется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куб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Все двенадцать рёбер куба — равные отрез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2376360" cy="89064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900000" y="2708280"/>
            <a:ext cx="1800360" cy="102852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1116000" y="4221000"/>
            <a:ext cx="1224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42847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Многогранник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51280" y="188640"/>
            <a:ext cx="529272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ло, которое ограничено плоскими многоугольниками, называе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ногограннико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Многоугольни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образующие поверхность многогранника, называются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граня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Сторон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их многоугольников —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рёб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многогран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Вершин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многоугольников —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вершины многогранник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7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2008440" cy="2664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2" descr=""/>
          <p:cNvPicPr/>
          <p:nvPr/>
        </p:nvPicPr>
        <p:blipFill>
          <a:blip r:embed="rId2"/>
          <a:stretch/>
        </p:blipFill>
        <p:spPr>
          <a:xfrm>
            <a:off x="1116000" y="4365720"/>
            <a:ext cx="496872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0021"/>
                </a:solidFill>
                <a:latin typeface="Arial"/>
              </a:rPr>
              <a:t>Многогранники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Картинка 6 из 1272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1197000"/>
            <a:ext cx="777708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Элементы многогран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6920" y="2565360"/>
            <a:ext cx="2592720" cy="31687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76360" y="256536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76360" y="508464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826920" y="5084640"/>
            <a:ext cx="649440" cy="649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19120" y="560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71640" y="3141720"/>
            <a:ext cx="4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0920" y="560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97280" y="560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45280" y="4889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066920" y="1700280"/>
            <a:ext cx="482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50021"/>
                </a:solidFill>
                <a:uFillTx/>
                <a:latin typeface="Arial"/>
              </a:rPr>
              <a:t>Грани</a:t>
            </a: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  А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,    А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С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,  СС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a50021"/>
                </a:solidFill>
                <a:uFillTx/>
                <a:latin typeface="Arial"/>
              </a:rPr>
              <a:t>Реб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 А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С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 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a50021"/>
                </a:solidFill>
                <a:uFillTx/>
                <a:latin typeface="Arial"/>
              </a:rPr>
              <a:t>Верши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,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 С,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 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493800" y="23493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77800" y="220500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49800" y="4653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5080" y="314172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10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10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0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10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10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0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1000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1000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000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7"/>
          <p:cNvSpPr/>
          <p:nvPr/>
        </p:nvSpPr>
        <p:spPr>
          <a:xfrm>
            <a:off x="0" y="5734080"/>
            <a:ext cx="1763640" cy="11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28036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пуклые и невыпуклые многоуголь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348000" y="1125000"/>
            <a:ext cx="5796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огоугольники, как мы уже знаем, бываю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пуклые и невыпукл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Выпуклый многоугольник лежи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 одну сторону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от любой прямой, содержащей любую сторону многоугольника. А у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выпуклого можно найти такую сторону, что содержащая её прямая "разреже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" многоугольник на ч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рисунке жёлтый многоугольник — выпуклый, а голубой — невыпуклы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ногогранник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же бываю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пуклыми и невыпуклым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Выпуклый многогранник лежит по одну сторону от любой плоскости, содержащей любую его грань. А у невыпуклого многогранника можно отыскать такую грань, что проходящая через неё плоскость "разрежет" его на ч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Жёлтый многогранни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а рисунке —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пуклый.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олубой многогранник — невыпукл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 какими номерами на рисунке изображены выпуклые многогранники, а под какими — невыпуклы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1" descr=""/>
          <p:cNvPicPr/>
          <p:nvPr/>
        </p:nvPicPr>
        <p:blipFill>
          <a:blip r:embed="rId1"/>
          <a:stretch/>
        </p:blipFill>
        <p:spPr>
          <a:xfrm>
            <a:off x="900000" y="2637000"/>
            <a:ext cx="2413080" cy="1350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2" descr=""/>
          <p:cNvPicPr/>
          <p:nvPr/>
        </p:nvPicPr>
        <p:blipFill>
          <a:blip r:embed="rId2"/>
          <a:stretch/>
        </p:blipFill>
        <p:spPr>
          <a:xfrm>
            <a:off x="468360" y="1125360"/>
            <a:ext cx="2844720" cy="1167120"/>
          </a:xfrm>
          <a:prstGeom prst="rect">
            <a:avLst/>
          </a:prstGeom>
          <a:ln w="0">
            <a:noFill/>
          </a:ln>
        </p:spPr>
      </p:pic>
      <p:sp>
        <p:nvSpPr>
          <p:cNvPr id="231" name="Line 14"/>
          <p:cNvSpPr/>
          <p:nvPr/>
        </p:nvSpPr>
        <p:spPr>
          <a:xfrm>
            <a:off x="2195640" y="1125360"/>
            <a:ext cx="1008000" cy="108144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5"/>
          <p:cNvSpPr/>
          <p:nvPr/>
        </p:nvSpPr>
        <p:spPr>
          <a:xfrm>
            <a:off x="179280" y="1557360"/>
            <a:ext cx="1368360" cy="93492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6" descr=""/>
          <p:cNvPicPr/>
          <p:nvPr/>
        </p:nvPicPr>
        <p:blipFill>
          <a:blip r:embed="rId3"/>
          <a:stretch/>
        </p:blipFill>
        <p:spPr>
          <a:xfrm>
            <a:off x="324000" y="4595760"/>
            <a:ext cx="309564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71640" y="2060640"/>
            <a:ext cx="7345440" cy="13636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ПИРАМИД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80600" y="4349880"/>
            <a:ext cx="6450120" cy="12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6012000" y="4064040"/>
            <a:ext cx="1655640" cy="10000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п3"/>
          <p:cNvPicPr/>
          <p:nvPr/>
        </p:nvPicPr>
        <p:blipFill>
          <a:blip r:embed="rId2"/>
          <a:stretch/>
        </p:blipFill>
        <p:spPr>
          <a:xfrm>
            <a:off x="4572000" y="4076640"/>
            <a:ext cx="1467000" cy="9874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п4"/>
          <p:cNvPicPr/>
          <p:nvPr/>
        </p:nvPicPr>
        <p:blipFill>
          <a:blip r:embed="rId3"/>
          <a:stretch/>
        </p:blipFill>
        <p:spPr>
          <a:xfrm>
            <a:off x="3059280" y="4076640"/>
            <a:ext cx="1512720" cy="10065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п5"/>
          <p:cNvPicPr/>
          <p:nvPr/>
        </p:nvPicPr>
        <p:blipFill>
          <a:blip r:embed="rId4"/>
          <a:stretch/>
        </p:blipFill>
        <p:spPr>
          <a:xfrm>
            <a:off x="1763640" y="4076640"/>
            <a:ext cx="1327320" cy="9954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9"/>
          <p:cNvSpPr/>
          <p:nvPr/>
        </p:nvSpPr>
        <p:spPr>
          <a:xfrm>
            <a:off x="1763640" y="4076640"/>
            <a:ext cx="5904000" cy="100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41528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ногогранники. Пирамид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419280" y="1125000"/>
            <a:ext cx="5545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гогранник справа имеет специальное название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правильная четырёхугольная пирами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Именно такую форму имеет знаменитая пирамида Хеопса: в её основании лежит квадрат, а боковые грани — равные треугольни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Сколько граней, рёбер и вершин у этого многогранни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которые из фигур на картинке являются многогранниками, а некоторые — нет. Под какими номерами изображены многогранни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9" descr="пирамида Хеопса"/>
          <p:cNvPicPr/>
          <p:nvPr/>
        </p:nvPicPr>
        <p:blipFill>
          <a:blip r:embed="rId1"/>
          <a:stretch/>
        </p:blipFill>
        <p:spPr>
          <a:xfrm>
            <a:off x="684360" y="4797360"/>
            <a:ext cx="1657080" cy="12430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0" descr="пирамида"/>
          <p:cNvPicPr/>
          <p:nvPr/>
        </p:nvPicPr>
        <p:blipFill>
          <a:blip r:embed="rId2"/>
          <a:stretch/>
        </p:blipFill>
        <p:spPr>
          <a:xfrm>
            <a:off x="826920" y="1268280"/>
            <a:ext cx="1729080" cy="13622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пирамида"/>
          <p:cNvPicPr/>
          <p:nvPr/>
        </p:nvPicPr>
        <p:blipFill>
          <a:blip r:embed="rId3"/>
          <a:stretch/>
        </p:blipFill>
        <p:spPr>
          <a:xfrm>
            <a:off x="684360" y="3068640"/>
            <a:ext cx="1871640" cy="1344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2" descr=""/>
          <p:cNvPicPr/>
          <p:nvPr/>
        </p:nvPicPr>
        <p:blipFill>
          <a:blip r:embed="rId4"/>
          <a:stretch/>
        </p:blipFill>
        <p:spPr>
          <a:xfrm>
            <a:off x="3780000" y="4965840"/>
            <a:ext cx="4044960" cy="18921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2" descr=""/>
          <p:cNvPicPr/>
          <p:nvPr/>
        </p:nvPicPr>
        <p:blipFill>
          <a:blip r:embed="rId5"/>
          <a:stretch/>
        </p:blipFill>
        <p:spPr>
          <a:xfrm>
            <a:off x="3780000" y="4965840"/>
            <a:ext cx="4044960" cy="18921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2" descr=""/>
          <p:cNvPicPr/>
          <p:nvPr/>
        </p:nvPicPr>
        <p:blipFill>
          <a:blip r:embed="rId6"/>
          <a:stretch/>
        </p:blipFill>
        <p:spPr>
          <a:xfrm>
            <a:off x="3780000" y="4965840"/>
            <a:ext cx="404496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рическая спра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779640" y="1828800"/>
            <a:ext cx="482436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ги́петские пирами́д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величайшие архитектурные памятники Древнего Египта, среди которых одно из «семи чудес света» — пирамида Хеопса.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рамид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едставляют собой огромные каменные сооружен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рамидальной фор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спользовавшиеся в качестве гробниц для фараонов Древнего Египта. Слово «пирамида» — греческое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мнению одних исследователей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ая куча пшениц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стала прообразом пирамиды. По мнению других учёных, это слово произошло от назван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минального пирог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ирамидальной формы. Всего в Египте около 100 пирам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755640" y="3141720"/>
            <a:ext cx="2879640" cy="16952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Картинка 0 из 1796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052640"/>
            <a:ext cx="2952720" cy="19954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"/>
          <p:cNvPicPr/>
          <p:nvPr/>
        </p:nvPicPr>
        <p:blipFill>
          <a:blip r:embed="rId4"/>
          <a:stretch/>
        </p:blipFill>
        <p:spPr>
          <a:xfrm>
            <a:off x="1258920" y="5013360"/>
            <a:ext cx="287964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3T13:51:36Z</dcterms:created>
  <dc:creator>1</dc:creator>
  <dc:description/>
  <dc:language>en-US</dc:language>
  <cp:lastModifiedBy>анатолий</cp:lastModifiedBy>
  <dcterms:modified xsi:type="dcterms:W3CDTF">2012-03-15T11:35:19Z</dcterms:modified>
  <cp:revision>8</cp:revision>
  <dc:subject/>
  <dc:title>ОБЪЁМНЫЕ ТЕЛА И МНОГОГРАННИКИ</dc:title>
</cp:coreProperties>
</file>