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Германия</a:t>
            </a:r>
            <a:br>
              <a:rPr sz="4400"/>
            </a:b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1640" y="1584360"/>
            <a:ext cx="9504360" cy="561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43704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Музей BMW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9120" y="2016000"/>
            <a:ext cx="4160880" cy="2880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5600" y="4535640"/>
            <a:ext cx="4443120" cy="2716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35640" y="2160720"/>
            <a:ext cx="254448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узей BMW — музей, посвящённый истории BMW, расположенный в Мюнхене, Германия возле здания штаб-квартиры BMW. В музее представлена экспозиция автомобилей и мотоциклов BMW за всю историю мар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056360" y="1800360"/>
            <a:ext cx="2960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Сельское хозяйство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котоводство — основная отрасль животноводства в Германии, оно дает более 2/5 всей товарной продукции сельского хозяйства, причем основная часть приходится на молоко (около ¼). Второе место по значению занимает свиноводство. Самообеспеченность страны по молоку и говядине систематически превышает 100 %, но по свинине составляет менее 4/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941720" y="2908440"/>
            <a:ext cx="4410360" cy="31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Население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Как и во многих развитых странах мира, рождаемость в Германии ниже уровня воспроизводства населения. Уже с 1972 года рождаемость в Германии стала ниже смертности. В 2008 году на 1000 жителей родились 8 человек, а умерли 1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Годовой прирост населения за 2007 год — −0,12 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Годовой прирост населения за 2008 год — −0,2 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Численность сельского населения — менее 10 %, почти 90 % населения Германии проживает в городах и прилегающих к ним урбанизированных района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Численность населения крупных городов (по данным на 2012 год): Берлин — 3531,2 тыс. чел; Гамбург — 1812,7 тыс. чел; Мюнхен — 1380,2 тыс. чел; Кельн — 1020,1 тыс. чел; Франкфурт-на-Майне — 691,6 тыс. че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09600" y="2101680"/>
            <a:ext cx="3181320" cy="4523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392720" y="2101680"/>
            <a:ext cx="4959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ольшинство немцев — христиане, при этом католики составляют 32,4 %, лютеране — 32,0 %, православные — 1,14 %. Небольшая часть верующих принадлежит к христианским деноминациям — баптисты, методисты, верующие Новоапостольской церкви — 0,46 % и приверженцы других религиозных теч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артин Люте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Флаг и герб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47880" y="2101680"/>
            <a:ext cx="3786120" cy="2271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378480" y="2101680"/>
            <a:ext cx="1747800" cy="2271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751280" y="4354560"/>
            <a:ext cx="5112000" cy="2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едеральный герб  Федеративной Республики Германия представляет собой золотой щит с чёрным, обращённым вправо (геральдически) орлом, с распростёртыми крыльями и опущенным оперением, с червлеными клювом, языком, лапами и когтями. Эта птица прославлялась людьми с древнейших времён, будучи символом мужества, жизненной силы и солнц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4373640"/>
            <a:ext cx="4653000" cy="30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лаг Германии представляет собой прямоугольное полотнище с соотношением сторон 3:5, состоящее из трёх равновеликих горизонтальных полос: верхней — чёрного, средней — красного и нижней — золотистого цвета. Был утверждён 23 мая 1949 год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41240" y="1343160"/>
            <a:ext cx="860904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асибо за внимание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3080" y="1947600"/>
            <a:ext cx="525600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ерма́ния (нем. Deutschland), официальное название — Федерати́вная Респу́блика Герма́ния, ФРГ — государство в Центральной Европе. Население, по итогам переписи 2010 года, составляет более 82 миллионов человек, территория — 357 021 км², по обоим этим показателям является крупнейшей страной региона. Занимает шестнадцатое место в мире по численности населения и шестьдесят второе по территории. Столица — Берлин. Государственный язык — немецкий. Около 64 % населения исповедует христианств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16720" y="71280"/>
            <a:ext cx="4032000" cy="3240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688000" y="2735280"/>
            <a:ext cx="339408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Государственное устройство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54080" y="2101680"/>
            <a:ext cx="3575160" cy="4762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 государственному устройству является федеративным государством, подразделяющимся на 16 административно-территориальных единиц — федеральных земель. Форма государственного правления в Германии — парламентская республика. Пост федерального канцлера ФРГ с 2005 года занимает Ангела Меркель (ХДС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2000" y="14436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Расположение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сположенная в центре Европы, Германия омывается водами Балтийского и Северного морей. Граничит с Данией на севере, Польшей и Чехией на востоке, Австрией и Швейцарией на юге, Францией, Люксембургом, Бельгией и Нидерландами на запа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24360" y="1224000"/>
            <a:ext cx="4967280" cy="597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Денежная единица.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1640" y="1938240"/>
            <a:ext cx="5040360" cy="3821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1600" y="1960200"/>
            <a:ext cx="4200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дустриальное государство с динамично развивающейся экономикой. Объём ВВП за 2009 год составил 3,24 триллиона долларов США (около 39 442 долларов США на душу населения). Денежная единица — евр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ЕС, НАТО и ООН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рмания является членом Европейского союза и НАТО, входит в «Большую восьмёрку», претендует на постоянное членство в Совете Безопасности О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19640" y="2101680"/>
            <a:ext cx="4064040" cy="4762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Реки и озера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854360"/>
            <a:ext cx="99360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 территории Германии протекает большое количество рек, наиболее крупными из которых являются Рейн, Дунай, Эльба, Везер и Одер, реки соединены каналами, наиболее известный канал — Кильский, который соединяет Балтийское и Северное моря. Кильский канал начинается в Кильской бухте и оканчивается в устье реки Эльба. Самое крупн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зеро в Германии — Боденск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19280" y="4064040"/>
            <a:ext cx="4680000" cy="342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15640"/>
            <a:ext cx="860904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Крупные города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255680"/>
            <a:ext cx="86090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мыми крупными городами Германии являются Берлин, Гамбург, Мюнхен и Кёль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31640" y="1944720"/>
            <a:ext cx="3043440" cy="4052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997360" y="3311640"/>
            <a:ext cx="2979720" cy="4103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157720" y="1800360"/>
            <a:ext cx="3049560" cy="408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792840" y="3095640"/>
            <a:ext cx="3143160" cy="44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Панорамы Кёльна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3280" y="1817640"/>
            <a:ext cx="9431280" cy="286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3280" y="2827440"/>
            <a:ext cx="9431280" cy="2860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03280" y="3887640"/>
            <a:ext cx="9431280" cy="280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03280" y="4967280"/>
            <a:ext cx="943128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9:59:23Z</dcterms:created>
  <dc:creator>Таня Ситник</dc:creator>
  <dc:description>Сиреневая область заголовка с тремя сине-зелеными элементами на левой границе; серый фон</dc:description>
  <dc:language>en-US</dc:language>
  <cp:lastModifiedBy/>
  <cp:revision>1</cp:revision>
  <dc:subject/>
  <dc:title>Тонкие акценты</dc:title>
</cp:coreProperties>
</file>