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DE06-A3A7-437C-BD38-154C33A1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646B-91C5-452A-AC76-7F1CC18D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9A6-87A2-45D1-83F9-ED67C9F4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3D3F-5B4D-4CAE-B21B-9B60A8D5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7511-3008-40A1-808F-5E53768A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3B05-6749-43C1-86C6-E9E309A4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723C-A95F-4572-B490-DF63041A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D83D-E566-4FBC-A045-A977D746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67C6-FBCA-49D0-844C-4C455207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1EC3-5999-4D7C-8441-E1A7BD81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E565-315B-4562-B4D8-0F074E7B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9630-3EC5-4E68-BEBE-68CBB650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B1BC-5442-4DF1-BDA8-70851D61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DB9E-3B0C-4513-B6EE-640CB9C2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5732-3623-43A2-845B-C9BA9FF0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12FF-200B-4DCB-8F72-E073FD90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06A4-F81A-4AB5-93FD-8750EAD1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E8732-0F3F-49EC-B3DA-53CFA4FE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00A9F-6C10-4190-BDAB-00968039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B87BB-7BD2-49AE-B713-D5D243F4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E1228-AFA8-4B37-BE61-02C5A190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47682-8E67-4E30-B355-458C74C3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9EF-584C-4988-859D-6A753EEE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14BFF-245E-4B77-A43F-70016877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39D72-9EE8-4E20-95EA-BEFD3D49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17F6D-0CDC-4CD0-9871-EFEAB128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4F852-0F28-4900-9D6A-EE444E61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D73E5-354C-4D18-973F-76AD3F24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038CC-77A7-4701-8AEF-992C4BFE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49897-E139-403E-88B3-CCA630B3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953-0516-46CC-9B57-CDDCCA76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1F08-01E0-462B-8C99-EB7C20E0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DDD5-026B-4A3F-9D7F-5070E689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153B-D644-4C0A-B287-0E0DDF69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96BA-EF8A-4902-A76C-DA39F7A8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E8F-8101-4959-B699-65FFD7DE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E1D8-BB67-49D6-AD76-F9F381D4D58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BB7E-4716-4E7C-A419-B58357FB8A5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F09E-AFDC-47F9-BB78-A90BB123E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Модульная накопительная система повышения квалификации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9080" y="2895480"/>
            <a:ext cx="60325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«</a:t>
            </a:r>
            <a:r>
              <a:rPr b="1" i="1" lang="en-US" sz="2800" spc="-1" strike="noStrike">
                <a:solidFill>
                  <a:srgbClr val="00b200"/>
                </a:solidFill>
                <a:latin typeface="Comic Sans MS"/>
              </a:rPr>
              <a:t>ДВИЖЕНИЯ ПОД МУЗЫКУ В ФИЗИЧЕСКОЙ КУЛЬТУРЕ ДОШКОЛЬНИКОВ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200"/>
                </a:solidFill>
                <a:latin typeface="Comic Sans MS"/>
              </a:rPr>
              <a:t>(36 часов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Федеральные государственные требования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к структуре основной общеобразовательной программы дошкольного образования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утв.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казом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Министерства образования и науки РФ от 23 ноября 2009 г. N 6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2.5. Программа состоит из двух част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1) обязательной ча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2) </a:t>
            </a:r>
            <a:r>
              <a:rPr b="1" lang="en-US" sz="1600" spc="-1" strike="noStrike" u="sng">
                <a:solidFill>
                  <a:srgbClr val="808000"/>
                </a:solidFill>
                <a:uFillTx/>
                <a:latin typeface="Arial"/>
              </a:rPr>
              <a:t>части, формируемой участниками образовательного процесса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2.6. Обязательная часть Программы должна быть реализована в любом образовательном учреждении, реализующем основную общеобразовательную программу дошкольного образования. Обеспечивает достижение воспитанниками готовности к школе, а именно необходимый и достаточный уровень развития ребенка для успешного освоения им основных общеобразовательных программ начального общего образо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В группах компенсирующей и комбинированной направленности обязательная часть Программы включает в себя деятельность по квалифицированной коррекции недостатков в физическом и (или) психическом развитии детей с ограниченными возможностями здор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Федеральные государственные требования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к структуре основной общеобразовательной программы дошкольного образования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утв.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казом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Министерства образования и науки РФ от 23 ноября 2009 г. N 6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83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2.7. Часть Программы, формируемая участниками образовательного процесса, отража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00"/>
              </a:spcBef>
              <a:buClr>
                <a:srgbClr val="8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видовое разнообразие учреждений, наличие приоритетных направлений деятельности, в том числе по обеспечению равных стартовых возможностей для обучения детей в общеобразовательных учреждениях, по проведению санитарно-гигиенических, профилактических и оздоровительных мероприятий и процедур, по физическому, социально-личностному, познавательно-речевому, художественно-эстетическому развитию детей (кроме деятельности по квалифицированной коррекции недостатков в физическом и (или) психическом развитии детей с ограниченными возможностями здоровь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2) специфику национально-культурных, демографических, климатических условий, в которых осуществляется образовательный процес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Федеральные государственные требования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к структуре основной общеобразовательной программы дошкольного образования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утв.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казом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Министерства образования и науки РФ от 23 ноября 2009 г. N 6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3.3.1. Содержание образовательной области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"Физическая культура"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направлено на достижение ц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формирования у детей интереса и ценностного отношения к занятиям физической культур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гармоничное физическое развитие через решение следующих специфических зада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развитие физических качеств (скоростных, силовых, гибкости, выносливости и координац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накопление и обогащение двигательного опыта детей (овладение основными движениям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формирование у воспитанников потребности в двигательной активности и физическом совершенство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Федеральные государственные требования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к структуре основной общеобразовательной программы дошкольного образования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утв.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казом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Министерства образования и науки РФ от 23 ноября 2009 г. N 6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3.3.2. Содержание образовательной области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"Здоровье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" направлено на достижение целей охраны здоровья детей и формирования основы культуры здоровья через решение следующих зада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сохранение и укрепление физического и психического здоровь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воспитание культурно-гигиенических навы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формирование начальных представлений о здоровом образе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Федеральные государственные требования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к структуре основной общеобразовательной программы дошкольного образования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утв.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казом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Министерства образования и науки РФ от 23 ноября 2009 г. N 6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251424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3.3.10. Содержание образовательной област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"Музыка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направлено на достижение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развития музыкальности де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8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способности эмоционально воспринимать музыку через решение следующих зада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развитие музыкально-художествен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приобщение к музыкальному искус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Санитарно-эпидемиологические требования к устройству, содержанию и организации режима работы в дошкольных организациях Санитарно-эпидемиологические правила и нормативы СанПиН 2.4.1.2660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12.10. Максимально допустимый объем недельной образовательной нагрузки, </a:t>
            </a:r>
            <a:r>
              <a:rPr b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включая занятия по дополнительному образованию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, для детей дошкольного возраста составля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в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младшей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группе (дети четвертого года жизни) -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1 занятий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в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средней 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группе (дети пятого года жизни) -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в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старшей 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группе (дети шестого года жизни) -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в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подготовительной 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(дети седьмого года жизни) -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7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зан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Максимально допустимое количество занятий </a:t>
            </a:r>
            <a:r>
              <a:rPr b="1" i="1" lang="en-US" sz="1800" spc="-1" strike="noStrike">
                <a:solidFill>
                  <a:srgbClr val="808000"/>
                </a:solidFill>
                <a:latin typeface="Arial"/>
              </a:rPr>
              <a:t>в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первой половине</a:t>
            </a:r>
            <a:r>
              <a:rPr b="1" i="1" lang="en-US" sz="1800" spc="-1" strike="noStrike">
                <a:solidFill>
                  <a:srgbClr val="808000"/>
                </a:solidFill>
                <a:latin typeface="Arial"/>
              </a:rPr>
              <a:t> дня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в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младшей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и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средней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группах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не должно превышать двух занятий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в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старшей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и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подготовительной 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тр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Санитарно-эпидемиологические требования к устройству, содержанию и организации режима работы в дошкольных организациях Санитарно-эпидемиологические правила и нормативы СанПиН 2.4.1.2660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12.11. Продолжительность занят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для детей 4-го года жизни -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не более 15 минут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для детей 5-го года жизни -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не более 20 минут,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для детей 6-го года жизни -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не более 25 минут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для детей 7-го года жизни -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не более 30 минут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Санитарно-эпидемиологические требования к устройству, содержанию и организации режима работы в дошкольных организациях Санитарно-эпидемиологические правила и нормативы СанПиН 2.4.1.2660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25146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12.12. Занятия для детей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среднего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и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старшего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дошкольного возраста могут проводиться во </a:t>
            </a:r>
            <a:r>
              <a:rPr b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второй половине дня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, но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не чаще 2 - 3 раз в недел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Длительность этих занятий - не более 20 - 30 минут в зависимости от возраста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Санитарно-эпидемиологические требования к устройству, содержанию и организации режима работы в дошкольных организациях Санитарно-эпидемиологические правила и нормативы СанПиН 2.4.1.2660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12.13. Занятия по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дополнительному образованию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(студии, кружки, секции и т.п.) для детей дошкольного возраста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недопустимо проводить за счет времени, отведенного на прогулку и дневной сон.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Их провод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для детей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4-го года жизни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-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не чаще 1 раза в неделю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продолжительностью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не более 15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для детей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5-го года жизни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- не чаще 2 раз в неделю продолжительностью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не более 25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для детей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6-го года жизни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- не чаще 2 раз в неделю продолжительностью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не более 25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- для детей </a:t>
            </a: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7-го года жизни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- не чаще 3 раз в неделю продолжительностью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не более 3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Санитарно-эпидемиологические требования к устройству, содержанию и организации режима работы в дошкольных организациях Санитарно-эпидемиологические правила и нормативы СанПиН 2.4.1.2660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13.2. Рациональный двигательный режим, физические упражнения и закаливающие мероприятия следует осуществлять с учетом состояния здоровья, возрастно-половых возможностей детей и сезона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Рекомендуется использовать формы двигательной деятельности: утреннюю гимнастику, физкультурные занятия в помещении и на воздухе, физкультурные минутки, подвижные игры, спортивные упражнения, </a:t>
            </a:r>
            <a:r>
              <a:rPr b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ритмическую гимнастику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, занятия на тренажерах, плавание и друг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6400800" cy="434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Тема № 1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9900"/>
                </a:solidFill>
                <a:latin typeface="Comic Sans MS"/>
              </a:rPr>
              <a:t>Нормативно-правовые основы использования содержания курса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«</a:t>
            </a:r>
            <a:r>
              <a:rPr b="1" i="1" lang="en-US" sz="2000" spc="-1" strike="noStrike">
                <a:solidFill>
                  <a:srgbClr val="ff6600"/>
                </a:solidFill>
                <a:latin typeface="Comic Sans MS"/>
              </a:rPr>
              <a:t>ДВИЖЕНИЯ ПОД МУЗЫКУ В ФИЗИЧЕСКОЙ КУЛЬТУРЕ ДОШКОЛЬНИКОВ»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549080" y="6477120"/>
            <a:ext cx="603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ЗАКОН РОССИЙСКОЙ ФЕДЕРАЦИИ</a:t>
            </a:r>
            <a:br>
              <a:rPr sz="1800"/>
            </a:b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"Об образовании"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от 10 июля 1992 г. N 3266-1</a:t>
            </a:r>
            <a:br>
              <a:rPr sz="1800"/>
            </a:br>
            <a:r>
              <a:rPr b="1" i="1" lang="en-US" sz="1600" spc="-1" strike="noStrike">
                <a:solidFill>
                  <a:srgbClr val="ff9900"/>
                </a:solidFill>
                <a:latin typeface="Arial"/>
              </a:rPr>
              <a:t>Последнее обновление: 27.12.2009 г.</a:t>
            </a: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Статья 9. Образовательны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buClr>
                <a:srgbClr val="8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Образовательная программа определяет содержание образования определенных уровня и направлен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В Российской Федерации реализуются образовательные программы, которые подразделяются на: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       1) общеобразовательные</a:t>
            </a:r>
            <a:r>
              <a:rPr b="0" lang="en-US" sz="16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ff9900"/>
                </a:solidFill>
                <a:latin typeface="Arial"/>
              </a:rPr>
              <a:t>основные</a:t>
            </a:r>
            <a:r>
              <a:rPr b="0" lang="en-US" sz="1600" spc="-1" strike="noStrike">
                <a:solidFill>
                  <a:srgbClr val="808000"/>
                </a:solidFill>
                <a:latin typeface="Arial"/>
              </a:rPr>
              <a:t> и </a:t>
            </a:r>
            <a:r>
              <a:rPr b="1" i="1" lang="en-US" sz="1600" spc="-1" strike="noStrike">
                <a:solidFill>
                  <a:srgbClr val="ff9900"/>
                </a:solidFill>
                <a:latin typeface="Arial"/>
              </a:rPr>
              <a:t>дополнительные</a:t>
            </a:r>
            <a:r>
              <a:rPr b="1" i="1" lang="en-US" sz="1600" spc="-1" strike="noStrike">
                <a:solidFill>
                  <a:srgbClr val="808000"/>
                </a:solidFill>
                <a:latin typeface="Arial"/>
              </a:rPr>
              <a:t>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808000"/>
                </a:solidFill>
                <a:latin typeface="Arial"/>
              </a:rPr>
              <a:t>     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  2) профессиональные (основные и дополнительны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3. К основным общеобразовательным относятся программы: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       1) 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дошкольного образования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2) начального общего образования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       3) основного общего образования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       4) среднего (полного) общего образования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ЗАКОН РОССИЙСКОЙ ФЕДЕРАЦИИ</a:t>
            </a:r>
            <a:br>
              <a:rPr sz="1800"/>
            </a:b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"Об образовании"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от 10 июля 1992 г. N 3266-1</a:t>
            </a:r>
            <a:br>
              <a:rPr sz="1800"/>
            </a:br>
            <a:r>
              <a:rPr b="1" i="1" lang="en-US" sz="1600" spc="-1" strike="noStrike">
                <a:solidFill>
                  <a:srgbClr val="ff9900"/>
                </a:solidFill>
                <a:latin typeface="Arial"/>
              </a:rPr>
              <a:t>Последнее обновление: 27.12.2009 г.</a:t>
            </a: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Статья 9. Образовательны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6.2. К структуре основной общеобразовательной программы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дошкольного образования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и условиям ее реализации федеральным органом исполнительной власти, осуществляющим функции по выработке государственной политики и нормативно-правовому регулированию в сфере образования, устанавливаются </a:t>
            </a: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ФЕДЕРАЛЬНЫЕ ГОСУДАРСТВЕННЫЕ ТРЕБ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8. Дополнительная образовательная программа включает в себя рабочие программы учебных курсов, предметов, дисциплин (модулей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ЗАКОН РОССИЙСКОЙ ФЕДЕРАЦИИ</a:t>
            </a:r>
            <a:br>
              <a:rPr sz="1800"/>
            </a:b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"Об образовании"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от 10 июля 1992 г. N 3266-1</a:t>
            </a:r>
            <a:br>
              <a:rPr sz="1800"/>
            </a:br>
            <a:r>
              <a:rPr b="1" i="1" lang="en-US" sz="1600" spc="-1" strike="noStrike">
                <a:solidFill>
                  <a:srgbClr val="ff9900"/>
                </a:solidFill>
                <a:latin typeface="Arial"/>
              </a:rPr>
              <a:t>Последнее обновление: 27.12.2009 г.</a:t>
            </a: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Статья 14. Общие требования к содержанию образования</a:t>
            </a: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5. Содержание образования </a:t>
            </a:r>
            <a:r>
              <a:rPr b="1" lang="en-US" sz="1600" spc="-1" strike="noStrike" u="sng">
                <a:solidFill>
                  <a:srgbClr val="808000"/>
                </a:solidFill>
                <a:uFillTx/>
                <a:latin typeface="Arial"/>
              </a:rPr>
              <a:t>в конкретном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 образовательном учреждении определяется образовательной программой (образовательными программами), утверждаемой и реализуемой этим образовательным учреждением </a:t>
            </a:r>
            <a:r>
              <a:rPr b="1" lang="en-US" sz="1600" spc="-1" strike="noStrike" u="sng">
                <a:solidFill>
                  <a:srgbClr val="808000"/>
                </a:solidFill>
                <a:uFillTx/>
                <a:latin typeface="Arial"/>
              </a:rPr>
              <a:t>самостоятельно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808000"/>
                </a:solidFill>
                <a:uFillTx/>
                <a:latin typeface="Arial"/>
              </a:rPr>
              <a:t>Основная образовательная программа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 в имеющем государственную аккредитацию образовательном учреждении </a:t>
            </a:r>
            <a:r>
              <a:rPr b="1" lang="en-US" sz="1600" spc="-1" strike="noStrike" u="sng">
                <a:solidFill>
                  <a:srgbClr val="808000"/>
                </a:solidFill>
                <a:uFillTx/>
                <a:latin typeface="Arial"/>
              </a:rPr>
              <a:t>разрабатывается на основе соответствующих примерных основных образовательных программ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 и должна обеспечивать достижение обучающимися (воспитанниками) результатов освоения основных образовательных программ, установленных соответствующими федеральными государственными образовательными стандартами или устанавливаемыми в соответствии с пунктом 2 статьи 7 настоящего Закона образовательными стандар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ЗАКОН РОССИЙСКОЙ ФЕДЕРАЦИИ</a:t>
            </a:r>
            <a:br>
              <a:rPr sz="1800"/>
            </a:b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"Об образовании"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от 10 июля 1992 г. N 3266-1</a:t>
            </a:r>
            <a:br>
              <a:rPr sz="1800"/>
            </a:br>
            <a:r>
              <a:rPr b="1" i="1" lang="en-US" sz="1600" spc="-1" strike="noStrike">
                <a:solidFill>
                  <a:srgbClr val="ff9900"/>
                </a:solidFill>
                <a:latin typeface="Arial"/>
              </a:rPr>
              <a:t>Последнее обновление: 27.12.2009 г.</a:t>
            </a: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2209320"/>
            <a:ext cx="85345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Статья 14. Общие требования к содержанию образования</a:t>
            </a: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6. Образовательное учреждение в соответствии со своими уставными целями и задачами может реализовывать </a:t>
            </a:r>
            <a:r>
              <a:rPr b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дополнительные образовательные программы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и оказывать </a:t>
            </a:r>
            <a:r>
              <a:rPr b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дополнительные образовательные услуги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(на договорной основе) за пределами определяющих его статус образовательных програм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ЗАКОН РОССИЙСКОЙ ФЕДЕРАЦИИ</a:t>
            </a:r>
            <a:br>
              <a:rPr sz="2000"/>
            </a:b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"Об образовании"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от 10 июля 1992 г. N 3266-1</a:t>
            </a:r>
            <a:br>
              <a:rPr sz="2000"/>
            </a:b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Последнее обновление: 27.12.2009 г.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00"/>
                </a:solidFill>
                <a:latin typeface="Arial"/>
              </a:rPr>
              <a:t>Статья 51. Охрана здоровья обучающихся, воспитан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00"/>
                </a:solidFill>
                <a:latin typeface="Arial"/>
              </a:rPr>
              <a:t>1. Образовательное учреждение создает условия, гарантирующие охрану и укрепление здоровья обучающихся, воспитанников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808000"/>
                </a:solidFill>
                <a:latin typeface="Arial"/>
              </a:rPr>
              <a:t>       Учебная нагрузка, в том числе внеучебная нагрузка, режим занятий обучающихся, воспитанников определяются уставом образовательного учреждения на основе рекомендаций, согласованных с органами здравоохран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Федеральные государственные требования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к структуре основной общеобразовательной программы дошкольного образования</a:t>
            </a:r>
            <a:br>
              <a:rPr sz="2000"/>
            </a:b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(утв.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казом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 Министерства образования и науки РФ от 23 ноября 2009 г. N 65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2.1. Основная общеобразовательная программа дошкольно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разрабатывае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утверждае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реализу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в образовательном учреждении на основе </a:t>
            </a:r>
            <a:r>
              <a:rPr b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примерных основных общеобразовательных программ дошкольного образования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, разработка которых обеспечивается уполномоченным федеральным государственным органом на основе федеральных требо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Федеральные государственные требования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к структуре основной общеобразовательной программы дошкольного образования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утв. 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казом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Министерства образования и науки РФ от 23 ноября 2009 г. N 6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2.3. Содержание Программы включает совокупность образовательных областей, которые обеспечивает разностороннее развитие детей с учетом их возрастных и индивидуальных особенностей по основным направлениям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физическо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социально-личностно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познавательно-речев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художественно-эстетическ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2.4. Программа долж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строиться с учетом </a:t>
            </a:r>
            <a:r>
              <a:rPr b="1" lang="en-US" sz="1800" spc="-1" strike="noStrike" u="sng">
                <a:solidFill>
                  <a:srgbClr val="808000"/>
                </a:solidFill>
                <a:uFillTx/>
                <a:latin typeface="Arial"/>
              </a:rPr>
              <a:t>принципа интеграции</a:t>
            </a:r>
            <a:r>
              <a:rPr b="1" lang="en-US" sz="1800" spc="-1" strike="noStrike">
                <a:solidFill>
                  <a:srgbClr val="808000"/>
                </a:solidFill>
                <a:latin typeface="Arial"/>
              </a:rPr>
              <a:t> образовательных областей в соответствии с возрастными возможностями и особенностями воспитанников, спецификой и возможностями образовательных обла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9:35:42Z</dcterms:created>
  <dc:creator>Лена</dc:creator>
  <dc:description/>
  <dc:language>en-US</dc:language>
  <cp:lastModifiedBy>Лена</cp:lastModifiedBy>
  <dcterms:modified xsi:type="dcterms:W3CDTF">2011-01-06T09:50:0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