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55F-4347-4A43-B778-598CD38D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A14-3821-45D4-9C4D-464CBF4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465-9E76-41F7-9CA1-DF362B3A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EDD-84B6-4CB5-8312-ABEEEFD7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0A3A-2C13-4905-BBAB-1C6F6265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103-107E-49FB-8A4E-58A524F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A54-7A3F-40A4-AF68-3DAE4FA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FCC0-9D30-4D6F-90C1-F011929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80E6-2DEC-49ED-A042-DE07C410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8E7-244A-4FBD-9779-FB7D954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65A-603A-4AE6-9447-8C761B2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6EC-F18C-4947-9CCB-08672E0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620-B952-4851-AC1F-FD93CAB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4095-7C65-4B0F-B5A4-62155DFE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4376-DB0C-4FCC-B1E5-E2A75FA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BFA-25C2-44E3-884A-903561B9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1A0-21EB-477C-8D16-06F324BD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14A1-FC6B-43EF-967D-34DDF569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9110-0CCB-4E3D-98EC-7605200A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BB14-99E1-4C9E-8D13-85431A5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C219-2B10-4328-8A1C-4C752AF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8DCE-8947-4868-A764-76DA8F5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8CE-EBFE-4696-9FFA-1B56F73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F788-2F35-4B7E-8087-29D18F6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54E1-C0B5-412D-B1D6-E21B4E58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F66C-A40D-42BC-9D6A-2BAA2D8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2435-30E5-43E6-A615-7677B83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FFDE-3A82-4549-9E82-F2F0471E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3DD0-04C0-489C-8AE2-F047A12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AFD3-BC9E-4041-9719-C4F4BEA1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427-BD77-4AD3-AA8A-534385A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46C-3FFC-4C22-B2AD-51B0AC3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ED3-9B33-4FF4-BFED-75FC74E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486-E3F0-4968-A747-BA7ADAA4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164-ACCE-42A3-A637-E6CC64E1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BDB-CA9C-42F7-887C-FD79325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0A9-AF91-45DF-AA46-38D263B2F9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9D47-1819-43A2-AD4E-9679E1D780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F79-09A3-49B5-AA19-C0A692AC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Модульная накопительная система повышения квалификации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2895480"/>
            <a:ext cx="6032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«</a:t>
            </a: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ДВИЖЕНИЯ ПОД МУЗЫКУ В ФИЗИЧЕСКОЙ КУЛЬТУРЕ ДОШКОЛЬНИКОВ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(36 час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5. Программа состоит из двух час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1) обязательной ч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части, формируемой участниками образовательного процесса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6. Обязательная часть Программы должна быть реализована в любом образовательном учреждении, реализующем основную общеобразовательную программу дошкольного образования. Обеспечивает достижение воспитанниками готовности к школе, а именно необходимый и достаточный уровень развития ребенка для успешного освоения им основных общеобразовательных программ начального общего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 группах компенсирующей и комбинированной направленности обязательная часть Программы включает в себя деятельность по квалифицированной коррекции недостатков в физическом и (или) психическом развитии детей с ограниченными возможностями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7. Часть Программы, формируемая участниками образовательного процесса, отраж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00"/>
              </a:spcBef>
              <a:buClr>
                <a:srgbClr val="8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идовое разнообразие учреждений, наличие приоритетных направлений деятельности, в том числе по обеспечению равных стартовых возможностей для обучения детей в общеобразовательных учреждениях, по проведению санитарно-гигиенических, профилактических и оздоровительных мероприятий и процедур, по физическому, социально-личностному, познавательно-речевому, художественно-эстетическому развитию детей (кроме деятельности по квалифицированной коррекции недостатков в физическом и (или) психическом развитии детей с ограниченными возможностями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специфику национально-культурных, демографических, климатических условий, в которых осуществляется образовательный проце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1. Содержание образовательной области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Физическая культура"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направлено на достижение ц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я у детей интереса и ценностного отношения к занятиям физической культ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армоничное физическое развитие через решение следующих специфическ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е физических качеств (скоростных, силовых, гибкости, выносливости и координ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накопление и обогащение двигательного опыта детей (овладение основными движения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е у воспитанников потребности в двигательной активности и физическом совершенств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2. Содержание образовательной области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Здоровье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" направлено на достижение целей охраны здоровья детей и формирования основы культуры здоровья через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охранение и укрепление физического и психического здоровь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оспитание культурно-гигиенически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е начальных представлений о здоровом образе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10. Содержание образовательной обла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Музыка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направлено на достижени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я музыкальности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пособности эмоционально воспринимать музыку через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е музыкально-художе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приобщение к музыкальному искус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0. Максимально допустимый объем недельной образовательной нагрузки,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включая занятия по дополнительному образовани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для детей дошкольного возраста составля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млад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группе (дети четвер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1 заняти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руппе (дети пя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руппе (дети шес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одготовительно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(дети седьм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7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Максимально допустимое количество занятий 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ервой половине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 дн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млад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группах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е должно превышать двух заняти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одготовительно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р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1. Продолжительность зан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4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15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5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0 минут,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6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7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30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2. Занятия 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го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го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дошкольного возраста могут проводиться во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второй половине дн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н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чаще 2 - 3 раз в нед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ительность этих занятий - не более 20 - 30 минут в зависимости от возраста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3. Занятия по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ому образовани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(студии, кружки, секции и т.п.) для детей дошкольного возраста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допустимо проводить за счет времени, отведенного на прогулку и дневной сон.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Их пров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4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чаще 1 раза в недел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1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5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2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6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2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- 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7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3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3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3.2. Рациональный двигательный режим, физические упражнения и закаливающие мероприятия следует осуществлять с учетом состояния здоровья, возрастно-половых возможностей детей и сезон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екомендуется использовать формы двигательной деятельности: утреннюю гимнастику, физкультурные занятия в помещении и на воздухе, физкультурные минутки, подвижные игры, спортивные упражнения,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ритмическую гимнастику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занятия на тренажерах, плавание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Тема № 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Нормативно-правовые основы использования содержания курса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«</a:t>
            </a:r>
            <a:r>
              <a:rPr b="1" i="1" lang="en-US" sz="2000" spc="-1" strike="noStrike">
                <a:solidFill>
                  <a:srgbClr val="ff6600"/>
                </a:solidFill>
                <a:latin typeface="Comic Sans MS"/>
              </a:rPr>
              <a:t>ДВИЖЕНИЯ ПОД МУЗЫКУ В ФИЗИЧЕСКОЙ КУЛЬТУРЕ ДОШКОЛЬНИКОВ»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6477120"/>
            <a:ext cx="603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9.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8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Образовательная программа определяет содержание образования определенных уровня и направ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 Российской Федерации реализуются образовательные программы, которые подразделяются на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1) общеобразовательные</a:t>
            </a: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основные</a:t>
            </a: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дополнительные</a:t>
            </a:r>
            <a:r>
              <a:rPr b="1" i="1" lang="en-US" sz="1600" spc="-1" strike="noStrike">
                <a:solidFill>
                  <a:srgbClr val="808000"/>
                </a:solidFill>
                <a:latin typeface="Arial"/>
              </a:rPr>
              <a:t>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     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2) профессиональные (основные и дополнительны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3. К основным общеобразовательным относятся программы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1)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дошкольного образования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начального общего образования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3) основного общего образования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4) среднего (полного) общего образова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9.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.2. К структуре основной общеобразовательной программы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дошкольного образовани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условиям ее реализации федеральным органом исполнительной власти, осуществляющим функции по выработке государственной политики и нормативно-правовому регулированию в сфере образования, устанавливаются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ФЕДЕРАЛЬНЫЕ ГОСУДАРСТВЕННЫЕ ТРЕБ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8. Дополнительная образовательная программа включает в себя рабочие программы учебных курсов, предметов, дисциплин (модулей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14. Общие требования к содержанию образования</a:t>
            </a: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5. Содержание образования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в конкретном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образовательном учреждении определяется образовательной программой (образовательными программами), утверждаемой и реализуемой этим образовательным учреждением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самостоятельно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Основная образовательная программа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в имеющем государственную аккредитацию образовательном учреждении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разрабатывается на основе соответствующих примерных основных образовательных программ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и должна обеспечивать достижение обучающимися (воспитанниками) результатов освоения основных образовательных программ, установленных соответствующими федеральными государственными образовательными стандартами или устанавливаемыми в соответствии с пунктом 2 статьи 7 настоящего Закона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85345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14. Общие требования к содержанию образования</a:t>
            </a: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. Образовательное учреждение в соответствии со своими уставными целями и задачами может реализовывать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ые образовательные программы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оказывать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ые образовательные услуг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(на договорной основе) за пределами определяющих его статус образовательных програм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20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татья 51. Охрана здоровья обучающихся,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1. Образовательное учреждение создает условия, гарантирующие охрану и укрепление здоровья обучающихся, воспитаннико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       Учебная нагрузка, в том числе внеучебная нагрузка, режим занятий обучающихся, воспитанников определяются уставом образовательного учреждения на основе рекомендаций, согласованных с органами здравоо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1. Основная общеобразовательная программа дошко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рабатыв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утвержд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еали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образовательном учреждении на основе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римерных основных общеобразовательных программ дошкольного образовани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разработка которых обеспечивается уполномоченным федеральным государственным органом на основе федеральных треб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3. Содержание Программы включает совокупность образовательных областей, которые обеспечивает разностороннее развитие детей с учетом их возрастных и индивидуальных особенностей по основным направления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изическ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оциально-личностн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познавательно-речев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художественно-эстетическ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4. Программа долж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роиться с учетом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ринципа интеграци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образовательных областей в соответствии с возрастными возможностями и особенностями воспитанников, спецификой и возможностями образовательных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35:42Z</dcterms:created>
  <dc:creator>Лена</dc:creator>
  <dc:description/>
  <dc:language>en-US</dc:language>
  <cp:lastModifiedBy>Лена</cp:lastModifiedBy>
  <dcterms:modified xsi:type="dcterms:W3CDTF">2011-01-06T09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