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4.png" ContentType="image/png"/>
  <Override PartName="/ppt/media/image2.jpeg" ContentType="image/jpeg"/>
  <Override PartName="/ppt/media/image3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710-2EBD-4692-86EA-FEED7F7A9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BD1B-C944-4F8C-8CE6-FD7205F73EAB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A4F-253C-4BEE-B8B0-5E65B77AC7C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0DA5-4640-4E90-AFC8-031D6CFB3C23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57C4-4D5D-4029-A76A-C7F591A5A459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CE4-050E-4E8E-A57F-223BEEB0E2B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0A9A-C7EB-433A-BAD6-11BF81F54E28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A323-9675-4E61-B7C2-9E1AE51E48FF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A9C8-3AD0-4833-9832-1D8294B1F0EC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244F-B85A-44C2-A263-6CB76B664C3C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59CB-10E4-4061-9D73-0B78DB361530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A1D-0AB8-4B4E-80A6-0DFC20E3F5B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A21E-DE4D-422F-A831-C84B95923982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FC8C-AAFB-4EE8-8076-3CB572411B95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8D6A-1BE0-4B2F-A32A-1691C3439E17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547E-AEF2-408F-A24A-97E2D3388171}" type="slidenum">
              <a:rPr b="0" lang="ru-RU" sz="1200" spc="-1" strike="noStrike">
                <a:solidFill>
                  <a:srgbClr val="f7b02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3B5-7895-490E-8C61-27EC219C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366-0471-47CC-8598-5715BB3B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0C3-F73A-4B5A-A275-0FA92272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04E-CF36-4E38-8B41-18352870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BECE-A437-40F4-BA22-375A5288D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B6F-D275-43EA-BD69-E7B57B1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8D6B-34C6-4EFD-9BF8-6867E16B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5542-0B26-486B-8EBB-A1E2AE7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030C-126D-4835-8921-1583D513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4D8-ECF7-4C44-AE1F-316B4EB0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E0AC-CFDD-48D0-A66C-3A2A1657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48F-0ABB-472A-AB8D-043D6DB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1ECA-39F0-4219-9284-1C826FA7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AE1-5481-4E2C-8733-98E6272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7C9D-8BF0-4E75-B8B6-3C1FB78B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D913-B7EB-4136-91EF-F85AC822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CDB4-5A3A-49F0-B742-CFA7414B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A06A-26D0-42EF-A87B-376A1E31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003F-2835-47BE-A752-86C3973A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42DD-04C2-45E4-9898-969D717B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0F62-3BBA-41BE-A81C-F47B425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CDD8-B716-4BDA-A578-D4A66332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80D-DDD8-4BEC-B044-CC9608F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6B5C-7B56-4402-B58B-A276F87E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D80D-4A4D-4EB4-9BB2-6C8E77B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2C8F-4E73-412E-872C-92DBE0B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FDA3-AA04-43A2-B473-6E3C303B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F553-EE5D-4BBB-91C2-71A73BCB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6AE3-E8C4-45AE-A1EB-CE84D39A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7B0D-6EFD-4972-A9FA-545EAA4F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1C5D-4C20-490C-B726-36CDEC3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9338-75CF-4DF7-A0F2-63E5D01C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5059-21DD-4725-AE35-E37FA9EE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D6C-A5AB-4E07-B448-F83E6C10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BEE50-4FC8-4541-BAE2-9F6DC63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0B9EE-2842-41C6-8020-9606439A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805F7-C07A-46CA-99CC-013BFB0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E8D5-E6E8-40E7-BE9C-9868752A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3BE8-05A8-470A-B889-01C5FE4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529E-7272-4A75-AD9F-6C3F8AC0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4F899-6573-4588-BCFF-3E4943B6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9696-F599-47D8-AC9F-F5DBEC32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5780-C3E1-45F1-B03D-1AA5A9B6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343E2-56C0-4B48-96D1-590072D5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6F5-E8F3-47BB-945A-2B69002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C144-34CA-4467-A506-8D7F9344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7E77-299D-4880-A609-5055C70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33D08-DBF6-4ECF-BA5C-00B51A55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681B-B500-414F-ACB2-BE885D68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9263-C539-475C-9312-8862B2C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0713-AA70-4F75-98D6-35DE3FC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8451-BD34-48D0-AEDA-7BB51C0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FD824-D111-4DA9-B0BD-F222F6F2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7F73-4E82-49BC-80A4-74F626C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E398-C365-4DE2-B72D-79B5DD8F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2F2-486F-45A4-AFBB-68F456A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374C5-0870-47EB-AA7F-6D37D0D1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F3BF-0D9F-4AE1-80F3-901F6E4E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F51AA-046C-4E13-B6F4-B6ECEA59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BB9C-D8E9-4B33-A05B-392972DA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DAAA-4E7A-4670-9180-77F8DCD4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B8198-69A7-4D4E-B966-53882E26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A8F1-A221-4D87-940E-3836E5B2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9A35B-F8C8-44E0-958D-7E3EADC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47349-35B7-48D6-BD43-DD64498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2ACC3-2E7F-4B4C-855C-BB8FBC7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16D-9C42-457C-995D-AA5E24C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3077-CE2C-49D5-B8DF-D3B6BA5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8520-D2C7-446C-A769-5039EDB2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9F7E-248D-4ECE-8FFA-D2C0CCA0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4FA1-5D36-4A78-82BF-FFC886F5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98D03-EA65-4356-8F1F-9418C34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AC73-DD61-4EC0-A7E8-2C8DB4C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B66BF-164D-49E1-9ACE-A950608F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12CCF-3480-49BF-B8DA-F6C6CD1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8244D-4595-4DF8-BF3F-CC47445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5FCE-A1C6-4AED-8312-4F33A499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354-66BF-4C98-B3AC-9C493CE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2A43-8A41-42F2-9C93-32B652B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6C204-C9E4-482D-A92C-C7D8C5C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EC3CB-7870-490D-9C64-DA28A5A7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0C74-A409-49BC-B300-03A006F2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47BCD-CB8D-4A99-A286-CBD92D54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BA7-C91C-4652-8DF7-7B60B58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6B6-EB84-4E41-8A84-72705AA59476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0C4-CD8D-4828-BDB4-3D16E9277B1D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f7b02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0756-4F7B-487D-863F-ED0DD7CE5078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2A38-31A6-445D-B6FF-2E2555884F06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8662-2F13-40AB-A0F9-EFBE9D4BFC11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2076-F173-472D-9034-78D27F016F70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93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f7b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7b02a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0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d000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7b02a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f7b02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f7b02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930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930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7b02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7b02a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7b02a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7b02a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7b02a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662-3E2E-468F-9E3E-100333FF181E}" type="slidenum">
              <a:rPr b="0" lang="ru-RU" sz="1200" spc="-1" strike="noStrike">
                <a:solidFill>
                  <a:srgbClr val="f7b02a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s315627.userapi.com/v315627585/11bc/tmlT2tTpFcg.jpg" TargetMode="External"/><Relationship Id="rId2" Type="http://schemas.openxmlformats.org/officeDocument/2006/relationships/hyperlink" Target="http://geo-tur.narod.ru/Asia/Images/japan/map.jpg" TargetMode="External"/><Relationship Id="rId3" Type="http://schemas.openxmlformats.org/officeDocument/2006/relationships/hyperlink" Target="http://www.fresher.ru/manager_content/images/xirosima-i-nagasaki-posle-padeniya-atomnoj-bomby/big/18.jpg" TargetMode="External"/><Relationship Id="rId4" Type="http://schemas.openxmlformats.org/officeDocument/2006/relationships/hyperlink" Target="http://vasi.net/uploads/podbor/w7211/11.jpg" TargetMode="External"/><Relationship Id="rId5" Type="http://schemas.openxmlformats.org/officeDocument/2006/relationships/hyperlink" Target="http://www.qpic.ws/images/surrenderofjapanussmissouri.jpg" TargetMode="External"/><Relationship Id="rId6" Type="http://schemas.openxmlformats.org/officeDocument/2006/relationships/hyperlink" Target="http://im1.asset.yvimg.kz/userimages/svant/yp80hjrdY6o5IWTSIRlb05Fzb6D03d.jpg" TargetMode="External"/><Relationship Id="rId7" Type="http://schemas.openxmlformats.org/officeDocument/2006/relationships/hyperlink" Target="http://www.vokrugsveta.ru/encyclopedia/images/b/b7/Meiji.jpg" TargetMode="External"/><Relationship Id="rId8" Type="http://schemas.openxmlformats.org/officeDocument/2006/relationships/hyperlink" Target="http://img1.liveinternet.ru/images/attach/c/2/72/914/72914698_1301660769_x_1a30ab60.jpg" TargetMode="External"/><Relationship Id="rId9" Type="http://schemas.openxmlformats.org/officeDocument/2006/relationships/hyperlink" Target="http://s41.radikal.ru/i093/1302/7a/d6b8fc9d6f6a.jpg" TargetMode="External"/><Relationship Id="rId10" Type="http://schemas.openxmlformats.org/officeDocument/2006/relationships/hyperlink" Target="http://savepic.org/2833305.jpg" TargetMode="External"/><Relationship Id="rId11" Type="http://schemas.openxmlformats.org/officeDocument/2006/relationships/hyperlink" Target="http://storage2.ogorod.com/UserPics/107/80208.jpg" TargetMode="External"/><Relationship Id="rId12" Type="http://schemas.openxmlformats.org/officeDocument/2006/relationships/hyperlink" Target="http://www.factroom.ru/wp-content/uploads/2011/11/02.jpg" TargetMode="External"/><Relationship Id="rId13" Type="http://schemas.openxmlformats.org/officeDocument/2006/relationships/hyperlink" Target="http://www.taiwantravel.ru/images/puteshestvenikam.jpeg" TargetMode="External"/><Relationship Id="rId14" Type="http://schemas.openxmlformats.org/officeDocument/2006/relationships/hyperlink" Target="http://www.megabook.ru/MObjects2/data/pict2003/h03022.jpg" TargetMode="External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extBox 1" descr=""/>
          <p:cNvPicPr/>
          <p:nvPr/>
        </p:nvPicPr>
        <p:blipFill>
          <a:blip r:embed="rId1"/>
          <a:stretch/>
        </p:blipFill>
        <p:spPr>
          <a:xfrm>
            <a:off x="12600" y="30240"/>
            <a:ext cx="5565960" cy="1871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Japan.jpg"/>
          <p:cNvPicPr/>
          <p:nvPr/>
        </p:nvPicPr>
        <p:blipFill>
          <a:blip r:embed="rId2"/>
          <a:srcRect l="0" t="0" r="11762" b="0"/>
          <a:stretch/>
        </p:blipFill>
        <p:spPr>
          <a:xfrm>
            <a:off x="142920" y="1928880"/>
            <a:ext cx="8643960" cy="37861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" descr="Japanese-Flag.jpg"/>
          <p:cNvPicPr/>
          <p:nvPr/>
        </p:nvPicPr>
        <p:blipFill>
          <a:blip r:embed="rId3"/>
          <a:stretch/>
        </p:blipFill>
        <p:spPr>
          <a:xfrm>
            <a:off x="5572080" y="214200"/>
            <a:ext cx="321480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1500120" y="56577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ёмина Ирина Васильевн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БОУ СОШ №1014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extBox 1" descr=""/>
          <p:cNvPicPr/>
          <p:nvPr/>
        </p:nvPicPr>
        <p:blipFill>
          <a:blip r:embed="rId1"/>
          <a:stretch/>
        </p:blipFill>
        <p:spPr>
          <a:xfrm>
            <a:off x="103320" y="146160"/>
            <a:ext cx="6651360" cy="5364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"/>
          <p:cNvSpPr/>
          <p:nvPr/>
        </p:nvSpPr>
        <p:spPr>
          <a:xfrm>
            <a:off x="6642000" y="28584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  <a:ea typeface="Arial"/>
              </a:rPr>
              <a:t>(1955  – 1993гг. )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8" name="TextBox 3"/>
          <p:cNvSpPr/>
          <p:nvPr/>
        </p:nvSpPr>
        <p:spPr>
          <a:xfrm>
            <a:off x="248400" y="1571760"/>
            <a:ext cx="2643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утрен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5722200" y="15001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rbel"/>
              </a:rPr>
              <a:t>Внешняя политик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cxnSp>
        <p:nvCxnSpPr>
          <p:cNvPr id="410" name="Прямая со стрелкой 6"/>
          <p:cNvCxnSpPr>
            <a:stCxn id="406" idx="2"/>
          </p:cNvCxnSpPr>
          <p:nvPr/>
        </p:nvCxnSpPr>
        <p:spPr>
          <a:xfrm flipH="1">
            <a:off x="1571400" y="676080"/>
            <a:ext cx="1884960" cy="96732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1" name="Прямая со стрелкой 9"/>
          <p:cNvCxnSpPr/>
          <p:nvPr/>
        </p:nvCxnSpPr>
        <p:spPr>
          <a:xfrm>
            <a:off x="5143680" y="713880"/>
            <a:ext cx="1786320" cy="78660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12" name="Прямая со стрелкой 12"/>
          <p:cNvCxnSpPr>
            <a:stCxn id="408" idx="2"/>
          </p:cNvCxnSpPr>
          <p:nvPr/>
        </p:nvCxnSpPr>
        <p:spPr>
          <a:xfrm>
            <a:off x="1568880" y="1941120"/>
            <a:ext cx="2520" cy="27396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3" name="TextBox 14"/>
          <p:cNvSpPr/>
          <p:nvPr/>
        </p:nvSpPr>
        <p:spPr>
          <a:xfrm>
            <a:off x="215280" y="22147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Развитие демократи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14" name="TextBox 29" descr=""/>
          <p:cNvPicPr/>
          <p:nvPr/>
        </p:nvPicPr>
        <p:blipFill>
          <a:blip r:embed="rId2"/>
          <a:stretch/>
        </p:blipFill>
        <p:spPr>
          <a:xfrm>
            <a:off x="2571840" y="2567160"/>
            <a:ext cx="2365200" cy="603000"/>
          </a:xfrm>
          <a:prstGeom prst="rect">
            <a:avLst/>
          </a:prstGeom>
          <a:ln w="0">
            <a:noFill/>
          </a:ln>
        </p:spPr>
      </p:pic>
      <p:cxnSp>
        <p:nvCxnSpPr>
          <p:cNvPr id="415" name="Прямая со стрелкой 31"/>
          <p:cNvCxnSpPr>
            <a:stCxn id="409" idx="2"/>
          </p:cNvCxnSpPr>
          <p:nvPr/>
        </p:nvCxnSpPr>
        <p:spPr>
          <a:xfrm>
            <a:off x="6888600" y="1869840"/>
            <a:ext cx="1080" cy="345240"/>
          </a:xfrm>
          <a:prstGeom prst="straightConnector1">
            <a:avLst/>
          </a:prstGeom>
          <a:ln w="11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16" name="TextBox 35"/>
          <p:cNvSpPr/>
          <p:nvPr/>
        </p:nvSpPr>
        <p:spPr>
          <a:xfrm>
            <a:off x="5506560" y="221472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отрудничество с СШ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sp>
        <p:nvSpPr>
          <p:cNvPr id="417" name="TextBox 36"/>
          <p:cNvSpPr/>
          <p:nvPr/>
        </p:nvSpPr>
        <p:spPr>
          <a:xfrm>
            <a:off x="214200" y="3571920"/>
            <a:ext cx="8429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1993г поражение ЛДП на парламентских выборах. Правительство оформили несколько парламентских фракций 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Темпы экономического роста Японии упали. Страна оказалась в состояние кризиса, обанкротились преуспевающие фирмы, стремительный рост цен на нефть, которую страна ввозит, начала расти безработица. На мировом рынке у Японии появились сильные конкуренты ( НИС и Китай)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В начале </a:t>
            </a:r>
            <a:r>
              <a:rPr b="1" lang="en-US" sz="1800" spc="-1" strike="noStrike">
                <a:solidFill>
                  <a:srgbClr val="7030a0"/>
                </a:solidFill>
                <a:latin typeface="Corbel"/>
              </a:rPr>
              <a:t>XXI</a:t>
            </a:r>
            <a:r>
              <a:rPr b="1" lang="ru-RU" sz="1800" spc="-1" strike="noStrike">
                <a:solidFill>
                  <a:srgbClr val="7030a0"/>
                </a:solidFill>
                <a:latin typeface="Corbel"/>
              </a:rPr>
              <a:t> Япония сотрудничает с Россией, развиваются торгово-экономические связи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extBox 1" descr=""/>
          <p:cNvPicPr/>
          <p:nvPr/>
        </p:nvPicPr>
        <p:blipFill>
          <a:blip r:embed="rId1"/>
          <a:stretch/>
        </p:blipFill>
        <p:spPr>
          <a:xfrm>
            <a:off x="1122480" y="122400"/>
            <a:ext cx="6253200" cy="6825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2"/>
          <p:cNvSpPr/>
          <p:nvPr/>
        </p:nvSpPr>
        <p:spPr>
          <a:xfrm>
            <a:off x="3126960" y="785880"/>
            <a:ext cx="17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Сингапур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0" name="Рисунок 5" descr="10.jpg"/>
          <p:cNvPicPr/>
          <p:nvPr/>
        </p:nvPicPr>
        <p:blipFill>
          <a:blip r:embed="rId2"/>
          <a:srcRect l="28118" t="5454" r="3413" b="45464"/>
          <a:stretch/>
        </p:blipFill>
        <p:spPr>
          <a:xfrm>
            <a:off x="214200" y="1500120"/>
            <a:ext cx="8445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3694320" y="2142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Гонконг</a:t>
            </a:r>
            <a:endParaRPr b="0" lang="en-US" sz="2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2" name="Рисунок 3" descr="expo_centre4.jpg"/>
          <p:cNvPicPr/>
          <p:nvPr/>
        </p:nvPicPr>
        <p:blipFill>
          <a:blip r:embed="rId1"/>
          <a:stretch/>
        </p:blipFill>
        <p:spPr>
          <a:xfrm>
            <a:off x="500040" y="714240"/>
            <a:ext cx="835812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1"/>
          <p:cNvSpPr/>
          <p:nvPr/>
        </p:nvSpPr>
        <p:spPr>
          <a:xfrm>
            <a:off x="3512160" y="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Корея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4" name="Рисунок 2" descr="корея.jpg"/>
          <p:cNvPicPr/>
          <p:nvPr/>
        </p:nvPicPr>
        <p:blipFill>
          <a:blip r:embed="rId1"/>
          <a:srcRect l="0" t="0" r="408" b="9877"/>
          <a:stretch/>
        </p:blipFill>
        <p:spPr>
          <a:xfrm>
            <a:off x="214200" y="642960"/>
            <a:ext cx="86439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3312000" y="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Тайвань</a:t>
            </a:r>
            <a:endParaRPr b="0" lang="en-US" sz="32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26" name="Рисунок 2" descr="тайвань.jpeg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0" y="1500120"/>
            <a:ext cx="892980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rbel"/>
              </a:rPr>
              <a:t>ВЫВОД: </a:t>
            </a:r>
            <a:endParaRPr b="0" lang="en-US" sz="44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В Японии доминирует традиционная система найма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Азиатские государства являются крупнейшими торговыми центрами.  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Создание предприятий, выпускавших высокотехнологичную продукцию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Экспорт прежде всего»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Использование научных открытий и изобретени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За счет корпорации обеспечивается повышение квалификации и уровня образования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«Не иметь, не производить и не ввозить ядерное оружие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1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"/>
              </a:rPr>
              <a:t>http://cs315627.userapi.com/v315627585/11bc/tmlT2tTpFc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лаг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2"/>
              </a:rPr>
              <a:t>http://geo-tur.narod.ru/Asia/Images/japan/map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арта Япон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3"/>
              </a:rPr>
              <a:t>http://www.fresher.ru/manager_content/images/xirosima-i-nagasaki-posle-padeniya-atomnoj-bomby/big/1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взрыв атомной бомбы Хиросима и Нагасаки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4"/>
              </a:rPr>
              <a:t>http://vasi.net/uploads/podbor/w7211/1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ледствия бомб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5"/>
              </a:rPr>
              <a:t>http://www.qpic.ws/images/surrenderofjapanussmissour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борт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6"/>
              </a:rPr>
              <a:t>http://im1.asset.yvimg.kz/userimages/svant/yp80hjrdY6o5IWTSIRlb05Fzb6D03d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Подписание акта о капитуляци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7"/>
              </a:rPr>
              <a:t>http://www.vokrugsveta.ru/encyclopedia/images/b/b7/Meiji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ицу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8"/>
              </a:rPr>
              <a:t>http://img1.liveinternet.ru/images/attach/c/2/72/914/72914698_1301660769_x_1a30ab60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г.Сингапур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9"/>
              </a:rPr>
              <a:t>http://s41.radikal.ru/i093/1302/7a/d6b8fc9d6f6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0"/>
              </a:rPr>
              <a:t>http://savepic.org/2833305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Легковой автомобил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1"/>
              </a:rPr>
              <a:t>http://storage2.ogorod.com/UserPics/107/80208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нконг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2"/>
              </a:rPr>
              <a:t>http://www.factroom.ru/wp-content/uploads/2011/11/0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рея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3"/>
              </a:rPr>
              <a:t>http://www.taiwantravel.ru/images/puteshestvenikam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Тайвань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13f9a"/>
                </a:solidFill>
                <a:uFillTx/>
                <a:latin typeface="Arial"/>
                <a:hlinkClick r:id="rId14"/>
              </a:rPr>
              <a:t>http://www.megabook.ru/MObjects2/data/pict2003/h03022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i47.beon.ru/3/84/598403/85/25157385/0b840a726b67.jpe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Акихито и его супруга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zhelezyaka.com/i/p/051204195651EMEW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обот Хитачи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dailyexhaust.com/images/IBM_PC_1981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компьютер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s55.radikal.ru/i149/1302/55/cb4a65a67faa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рабочие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://hostingkartinok.info/images/2013/02/d19suir6zv5s1mbmmztg.jpg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рабочий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182520" y="115920"/>
            <a:ext cx="8180280" cy="6890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357120" y="785880"/>
            <a:ext cx="8358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4 – 11 февраля 1945г. прошла Крымская конференция глав правительства СССР, США и Великобритании, на которой предстояло выработать принципы послевоенного нового устройства Европы. 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СССР подтвердила свою готовность вступить в войну с Японией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8 августа 1945 объявление правительством СССР войны Япони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rbel"/>
              </a:rPr>
              <a:t>6, 9 августа 1945 год атомные бомбардировки Хиросимы и Нагасаки.</a:t>
            </a:r>
            <a:endParaRPr b="0" lang="en-US" sz="20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1" name="Рисунок 4" descr="16002523_hirosima_1.jpg"/>
          <p:cNvPicPr/>
          <p:nvPr/>
        </p:nvPicPr>
        <p:blipFill>
          <a:blip r:embed="rId2"/>
          <a:srcRect l="3650" t="9009" r="2678" b="5451"/>
          <a:stretch/>
        </p:blipFill>
        <p:spPr>
          <a:xfrm>
            <a:off x="0" y="3284640"/>
            <a:ext cx="4572000" cy="39351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5" descr="f_13162390.jpg"/>
          <p:cNvPicPr/>
          <p:nvPr/>
        </p:nvPicPr>
        <p:blipFill>
          <a:blip r:embed="rId3"/>
          <a:stretch/>
        </p:blipFill>
        <p:spPr>
          <a:xfrm>
            <a:off x="4572000" y="3284640"/>
            <a:ext cx="457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42920" y="35712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2 сентября 1945 года Подписание акта о капитуляции Японии на борту Американского линкора «Миссури»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Окончание Второй мировой войны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4" name="Рисунок 4" descr="Shigemitsu-signs-surrender.jpg"/>
          <p:cNvPicPr/>
          <p:nvPr/>
        </p:nvPicPr>
        <p:blipFill>
          <a:blip r:embed="rId1"/>
          <a:stretch/>
        </p:blipFill>
        <p:spPr>
          <a:xfrm>
            <a:off x="285840" y="15001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Surrender_of_Japan_-_USS_Missouri.jpg"/>
          <p:cNvPicPr/>
          <p:nvPr/>
        </p:nvPicPr>
        <p:blipFill>
          <a:blip r:embed="rId2"/>
          <a:stretch/>
        </p:blipFill>
        <p:spPr>
          <a:xfrm>
            <a:off x="4857840" y="1500120"/>
            <a:ext cx="384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1" descr="Хирохито.jpg"/>
          <p:cNvPicPr/>
          <p:nvPr/>
        </p:nvPicPr>
        <p:blipFill>
          <a:blip r:embed="rId1"/>
          <a:srcRect l="41255" t="0" r="23131" b="0"/>
          <a:stretch/>
        </p:blipFill>
        <p:spPr>
          <a:xfrm>
            <a:off x="3357720" y="1000080"/>
            <a:ext cx="2357280" cy="48006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2"/>
          <p:cNvSpPr/>
          <p:nvPr/>
        </p:nvSpPr>
        <p:spPr>
          <a:xfrm>
            <a:off x="3808080" y="60008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рохито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88" name="TextBox 3" descr=""/>
          <p:cNvPicPr/>
          <p:nvPr/>
        </p:nvPicPr>
        <p:blipFill>
          <a:blip r:embed="rId2"/>
          <a:stretch/>
        </p:blipFill>
        <p:spPr>
          <a:xfrm>
            <a:off x="1871640" y="103320"/>
            <a:ext cx="4863960" cy="76176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122010-004-C2E8A74B.jpg"/>
          <p:cNvPicPr/>
          <p:nvPr/>
        </p:nvPicPr>
        <p:blipFill>
          <a:blip r:embed="rId3"/>
          <a:stretch/>
        </p:blipFill>
        <p:spPr>
          <a:xfrm>
            <a:off x="357120" y="1143000"/>
            <a:ext cx="2857680" cy="42861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357120" y="55008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Муцухито (Мэйдзи)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1" name="Рисунок 6" descr="wizyta_ces01.jpg"/>
          <p:cNvPicPr/>
          <p:nvPr/>
        </p:nvPicPr>
        <p:blipFill>
          <a:blip r:embed="rId4"/>
          <a:stretch/>
        </p:blipFill>
        <p:spPr>
          <a:xfrm>
            <a:off x="6000840" y="1143000"/>
            <a:ext cx="2898720" cy="4319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7"/>
          <p:cNvSpPr/>
          <p:nvPr/>
        </p:nvSpPr>
        <p:spPr>
          <a:xfrm>
            <a:off x="6087240" y="55720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Акихито и его супруга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extBox 1" descr=""/>
          <p:cNvPicPr/>
          <p:nvPr/>
        </p:nvPicPr>
        <p:blipFill>
          <a:blip r:embed="rId1"/>
          <a:stretch/>
        </p:blipFill>
        <p:spPr>
          <a:xfrm>
            <a:off x="212760" y="208080"/>
            <a:ext cx="786456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285840" y="500040"/>
            <a:ext cx="7786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емельная реформа 1950г. Крестьянство стало собственником 80%  арендуемой земли, в стране сложился слой свободных фермеров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Были отменены привилегии бывших феодалов, ликвидированы «дзайбацу»- клановые объединения контролировавшие промышленность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Законы о труде сняли ограничение на создание профсоюзов , ввели восьмичасовой рабочий день. 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веденные преобразования  ознаменовали переход Японии к демократическому развитию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212760" y="66600"/>
            <a:ext cx="3762360" cy="6033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2"/>
          <p:cNvSpPr/>
          <p:nvPr/>
        </p:nvSpPr>
        <p:spPr>
          <a:xfrm>
            <a:off x="428760" y="100008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50 г. Японцы скупали передовые технологии, что позволяло экономить на собственных научных исследованиях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 1979 г. было выпущено 10 миллионов машин.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В начале 80-х годов Японские машины шли на экспорт. Япония обошла США по производству легковых автомобилей.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397" name="Рисунок 5" descr="1950 ниссан.jpg"/>
          <p:cNvPicPr/>
          <p:nvPr/>
        </p:nvPicPr>
        <p:blipFill>
          <a:blip r:embed="rId2"/>
          <a:srcRect l="0" t="19998" r="0" b="10908"/>
          <a:stretch/>
        </p:blipFill>
        <p:spPr>
          <a:xfrm>
            <a:off x="214200" y="2643120"/>
            <a:ext cx="4286520" cy="34290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Кабриолет 1950.JPEG"/>
          <p:cNvPicPr/>
          <p:nvPr/>
        </p:nvPicPr>
        <p:blipFill>
          <a:blip r:embed="rId3"/>
          <a:srcRect l="2186" t="13205" r="1251" b="11793"/>
          <a:stretch/>
        </p:blipFill>
        <p:spPr>
          <a:xfrm>
            <a:off x="4500720" y="2643120"/>
            <a:ext cx="450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214200" y="2142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Производители роботов Хитачи, компьютеров и бытовой электроники Сони,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Джи – ви – си – приобрели мировую известность.  </a:t>
            </a:r>
            <a:endParaRPr b="0" lang="en-US" sz="18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0" name="Рисунок 2" descr="051204195651EMEW.jpg"/>
          <p:cNvPicPr/>
          <p:nvPr/>
        </p:nvPicPr>
        <p:blipFill>
          <a:blip r:embed="rId1"/>
          <a:stretch/>
        </p:blipFill>
        <p:spPr>
          <a:xfrm>
            <a:off x="214200" y="1071720"/>
            <a:ext cx="4564080" cy="52862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ibm_pc.jpg"/>
          <p:cNvPicPr/>
          <p:nvPr/>
        </p:nvPicPr>
        <p:blipFill>
          <a:blip r:embed="rId2"/>
          <a:srcRect l="13225" t="0" r="15384" b="6525"/>
          <a:stretch/>
        </p:blipFill>
        <p:spPr>
          <a:xfrm>
            <a:off x="4572000" y="1071720"/>
            <a:ext cx="4357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Box 1" descr=""/>
          <p:cNvPicPr/>
          <p:nvPr/>
        </p:nvPicPr>
        <p:blipFill>
          <a:blip r:embed="rId1"/>
          <a:stretch/>
        </p:blipFill>
        <p:spPr>
          <a:xfrm>
            <a:off x="103320" y="73080"/>
            <a:ext cx="6529320" cy="5364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2"/>
          <p:cNvSpPr/>
          <p:nvPr/>
        </p:nvSpPr>
        <p:spPr>
          <a:xfrm>
            <a:off x="0" y="107172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Создание аграрной реформой нового крупного рынка промышленных товаров для фермеров ( техника, удобрения)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Низкие затраты на оборону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Производственные капиталовложения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Дешевая рабочая сила.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Corbel"/>
              </a:rPr>
              <a:t>Традиционная система найма</a:t>
            </a:r>
            <a:endParaRPr b="0" lang="en-US" sz="2400" spc="-1" strike="noStrike">
              <a:solidFill>
                <a:srgbClr val="f7b02a"/>
              </a:solidFill>
              <a:latin typeface="Arial"/>
            </a:endParaRPr>
          </a:p>
        </p:txBody>
      </p:sp>
      <p:pic>
        <p:nvPicPr>
          <p:cNvPr id="404" name="Рисунок 3" descr="photo_verybig_565187.jpg"/>
          <p:cNvPicPr/>
          <p:nvPr/>
        </p:nvPicPr>
        <p:blipFill>
          <a:blip r:embed="rId2"/>
          <a:srcRect l="27786" t="6323" r="0" b="0"/>
          <a:stretch/>
        </p:blipFill>
        <p:spPr>
          <a:xfrm>
            <a:off x="4859280" y="3070080"/>
            <a:ext cx="3984840" cy="378792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4" descr="manufacturing_tt3bbuw_ob.JPG"/>
          <p:cNvPicPr/>
          <p:nvPr/>
        </p:nvPicPr>
        <p:blipFill>
          <a:blip r:embed="rId3"/>
          <a:srcRect l="9868" t="17488" r="0" b="0"/>
          <a:stretch/>
        </p:blipFill>
        <p:spPr>
          <a:xfrm>
            <a:off x="324000" y="3824280"/>
            <a:ext cx="45669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48:34Z</dcterms:created>
  <dc:creator>Julia</dc:creator>
  <dc:description/>
  <cp:keywords>9 класс</cp:keywords>
  <dc:language>en-US</dc:language>
  <cp:lastModifiedBy>Miss</cp:lastModifiedBy>
  <dcterms:modified xsi:type="dcterms:W3CDTF">2013-02-22T20:00:27Z</dcterms:modified>
  <cp:revision>40</cp:revision>
  <dc:subject/>
  <dc:title>Слайд 1</dc:title>
</cp:coreProperties>
</file>