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7F46-E2D5-407D-B2D4-1E4C41EB54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8275-38A5-4ED9-A1D3-56655F4792FD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BDB3-29CF-46A8-B929-B2B9DF902D77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ACA3-8EE3-4826-80E4-58B85FC7D657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7AED-D3D6-483C-8DDB-84BC0FEB8C41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9DDF-0150-4ACC-AA9F-32E45CAE4FAD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11C2-D80D-4D41-AE75-5329C7B96414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49CB-04DD-488A-BF5C-7C7020667334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C29F-96E9-478A-9F8A-7DCD0B4ADAE3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BE2B-D309-4535-859B-3CC041D3A9B6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0C5-A347-46AB-A36E-4A8D9F481CD9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84E4-FF15-4F32-97BC-68631505BEE5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9D90-1390-436C-A050-4FBE3237C389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1D7D-9A1C-478F-8433-D881D19EB5E7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7DF6-0CFD-4D11-8B2D-5CFEB5992724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4710-FC06-4F14-B027-D1B5F15909DB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F04-2F88-440F-BD05-4EA8B0B2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1D4-3039-4B1E-A6BE-4FB43444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019-F022-4F26-B218-FEBDAD73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834-89AB-4B16-A801-49C5385E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A5BD-9C93-42C4-BB49-887C6AA2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A33D-168F-435A-B934-62C782B9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A65E-ADD4-4880-BB78-D07BB596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CA57-F3BB-43CF-9B7A-D0DCEF3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5A80-BB17-4CA9-97D7-0C2DF3BB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4301-163A-47D5-AD0C-28FEF13D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9EF3-50DE-4C30-9443-59C7178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0B2-146E-4D0A-9C28-FB030D43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801-A789-4DFC-9A2E-283912DB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0938-6EF6-449D-9C0D-13FB8672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8E16-8E1D-4EA9-B728-6737662F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B7A7-785A-4476-87E4-364AE76D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A15C-7E16-4144-95D7-486B1934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79A3C-D152-4146-B833-751098CC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1AF9F-28C3-4614-A91C-B5643511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E813-16D5-4A47-B303-FB5FD816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CB67-C8F3-47F9-B81C-E1811AE4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5992-D1FE-4F55-90F2-C40897C8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B06-1BB7-45A2-82A0-EBD9D532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9925-B989-4D7D-B914-6E709306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1270-F2E5-4B35-BC89-DCE978B1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53E0-E7F3-490D-A07C-27FB422E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7AD6-9E62-4C8B-BD2D-60E7C9F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13BA-FF35-4A60-BF00-E63B6E58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8914-EF0D-43E7-8765-DF1E9371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CD99-6083-4D2B-B75B-7B33FCA8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718E-41ED-4AE0-A1C4-E0D47946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6FF8-1816-4D46-B05F-938F289C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0326E-982F-476B-A655-D4003B3A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FDB-95D7-4815-B065-9A66303B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299D-4E5F-4F80-A402-05DC904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0581-C858-47E4-BF71-81F06E04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E6ADB-EB8D-41FB-84FA-4E707979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2CB4-650C-440F-B19A-9A08DC68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5BD8-4D27-4E9D-85D6-E3773C84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B510F-ED65-42D6-A698-20FFE0CD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A15D-8D2E-40CB-AC6C-68B9D025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3513-1E78-4AF7-8E57-13EDEE46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FA5F7-3468-4B48-9628-20DCD5DE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BB903-3A6E-449B-97C2-BE5EC45F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A26-011A-4EA4-BD26-010E6FF3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A0062-83BE-4E55-A898-C9E655C0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6CB12-389D-4558-9359-704FE638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8E1D-0EED-4710-AA66-5AAB75AB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6190-CDF6-45F4-BB71-B76AE312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A8022-BAFA-4BE3-8D20-453FA2C7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24D4-0EB2-4204-82DB-7936D76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D930-7E3D-42EB-865E-23CACB53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E8270-C812-4546-BFD1-00118F6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FF394-1565-4A59-8A44-A030DFFB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A4162-4EFE-4429-AE0A-F2BBFC76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878-1788-4341-A222-7EDED067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3F51F-564A-4173-BA40-C74515F4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1740-3A54-4284-9714-3C3D2770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B418C-1F7E-49F8-9E4F-2D52B68C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7472-D2B0-463B-8890-C0E4B33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33DF-41CA-4BD8-B581-865489E2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C1BE5-99BD-4EE6-A8F9-46A198C0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36F50-5DB0-4C83-A7AB-A2DC4FDD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2CB4C-9701-4AE0-9A82-8A68519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B693-C987-4437-A530-6215C2FC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B9DAD-5351-4BB0-9F16-028D7F50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0A4-5289-4B47-8C97-A80E35F1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10363-A2C4-474E-87FA-30CA140E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A48E5-7F8B-4B37-89D5-A0C0DDDB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C381E-6668-4675-8659-BFCD3C1B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B3BFA-8B84-4F21-81A0-02D28F05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E3241-7D03-4744-A485-4E4C9268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FC3A0-3209-4D15-960B-E59E20E9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802CE-F1E1-434C-A18D-9E689C36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1143B-BE50-4BB8-9E15-1733843B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6FDF-58FE-4FE1-80A2-F0640182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A0669-75BB-4CB2-9144-49ADC9E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9E4-201D-4887-9BD1-790D764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0D4AF-9814-4451-A6D3-9013953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BB817-2CF1-4698-93FC-52F2150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30409-254C-464D-B183-2A375BA8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3D1E0-8343-4F24-956E-6BB9A2A4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593AE-FD0E-4A24-8914-4D855DBD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FFA-56EC-42A9-A295-BA409F7F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7D8A-EA39-49F2-BD98-04E8410AE7D3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40B2-C19E-4802-A7C5-D7EAB101EA11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f7b02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f7b02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3554-82DD-4F5B-B618-D4F06B748EC0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1E10-F97B-42CC-B012-3B228C349526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8A05-7F38-43BF-87E9-218A2CE980B8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2CC-9469-47CE-9AB8-20492690D625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6609-3A41-44EE-BBA1-5DE94BFBAB53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s315627.userapi.com/v315627585/11bc/tmlT2tTpFcg.jpg" TargetMode="External"/><Relationship Id="rId2" Type="http://schemas.openxmlformats.org/officeDocument/2006/relationships/hyperlink" Target="http://geo-tur.narod.ru/Asia/Images/japan/map.jpg" TargetMode="External"/><Relationship Id="rId3" Type="http://schemas.openxmlformats.org/officeDocument/2006/relationships/hyperlink" Target="http://www.fresher.ru/manager_content/images/xirosima-i-nagasaki-posle-padeniya-atomnoj-bomby/big/18.jpg" TargetMode="External"/><Relationship Id="rId4" Type="http://schemas.openxmlformats.org/officeDocument/2006/relationships/hyperlink" Target="http://vasi.net/uploads/podbor/w7211/11.jpg" TargetMode="External"/><Relationship Id="rId5" Type="http://schemas.openxmlformats.org/officeDocument/2006/relationships/hyperlink" Target="http://www.qpic.ws/images/surrenderofjapanussmissouri.jpg" TargetMode="External"/><Relationship Id="rId6" Type="http://schemas.openxmlformats.org/officeDocument/2006/relationships/hyperlink" Target="http://im1.asset.yvimg.kz/userimages/svant/yp80hjrdY6o5IWTSIRlb05Fzb6D03d.jpg" TargetMode="External"/><Relationship Id="rId7" Type="http://schemas.openxmlformats.org/officeDocument/2006/relationships/hyperlink" Target="http://www.vokrugsveta.ru/encyclopedia/images/b/b7/Meiji.jpg" TargetMode="External"/><Relationship Id="rId8" Type="http://schemas.openxmlformats.org/officeDocument/2006/relationships/hyperlink" Target="http://img1.liveinternet.ru/images/attach/c/2/72/914/72914698_1301660769_x_1a30ab60.jpg" TargetMode="External"/><Relationship Id="rId9" Type="http://schemas.openxmlformats.org/officeDocument/2006/relationships/hyperlink" Target="http://s41.radikal.ru/i093/1302/7a/d6b8fc9d6f6a.jpg" TargetMode="External"/><Relationship Id="rId10" Type="http://schemas.openxmlformats.org/officeDocument/2006/relationships/hyperlink" Target="http://savepic.org/2833305.jpg" TargetMode="External"/><Relationship Id="rId11" Type="http://schemas.openxmlformats.org/officeDocument/2006/relationships/hyperlink" Target="http://storage2.ogorod.com/UserPics/107/80208.jpg" TargetMode="External"/><Relationship Id="rId12" Type="http://schemas.openxmlformats.org/officeDocument/2006/relationships/hyperlink" Target="http://www.factroom.ru/wp-content/uploads/2011/11/02.jpg" TargetMode="External"/><Relationship Id="rId13" Type="http://schemas.openxmlformats.org/officeDocument/2006/relationships/hyperlink" Target="http://www.taiwantravel.ru/images/puteshestvenikam.jpeg" TargetMode="External"/><Relationship Id="rId14" Type="http://schemas.openxmlformats.org/officeDocument/2006/relationships/hyperlink" Target="http://www.megabook.ru/MObjects2/data/pict2003/h03022.jpg" TargetMode="External"/><Relationship Id="rId1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extBox 1" descr=""/>
          <p:cNvPicPr/>
          <p:nvPr/>
        </p:nvPicPr>
        <p:blipFill>
          <a:blip r:embed="rId1"/>
          <a:stretch/>
        </p:blipFill>
        <p:spPr>
          <a:xfrm>
            <a:off x="12600" y="30240"/>
            <a:ext cx="5565960" cy="18716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Japan.jpg"/>
          <p:cNvPicPr/>
          <p:nvPr/>
        </p:nvPicPr>
        <p:blipFill>
          <a:blip r:embed="rId2"/>
          <a:srcRect l="0" t="0" r="11762" b="0"/>
          <a:stretch/>
        </p:blipFill>
        <p:spPr>
          <a:xfrm>
            <a:off x="142920" y="1928880"/>
            <a:ext cx="8643960" cy="37861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" descr="Japanese-Flag.jpg"/>
          <p:cNvPicPr/>
          <p:nvPr/>
        </p:nvPicPr>
        <p:blipFill>
          <a:blip r:embed="rId3"/>
          <a:stretch/>
        </p:blipFill>
        <p:spPr>
          <a:xfrm>
            <a:off x="5572080" y="214200"/>
            <a:ext cx="3214800" cy="17146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1500120" y="56577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ёмина Ирина Васильевна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БОУ СОШ №1014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extBox 1" descr=""/>
          <p:cNvPicPr/>
          <p:nvPr/>
        </p:nvPicPr>
        <p:blipFill>
          <a:blip r:embed="rId1"/>
          <a:stretch/>
        </p:blipFill>
        <p:spPr>
          <a:xfrm>
            <a:off x="103320" y="146160"/>
            <a:ext cx="6651360" cy="5364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6642000" y="2858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(1955  – 1993гг. )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248400" y="1571760"/>
            <a:ext cx="2643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0000"/>
                </a:solidFill>
                <a:latin typeface="Corbel"/>
              </a:rPr>
              <a:t>Внутренняя политик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5722200" y="15001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0000"/>
                </a:solidFill>
                <a:latin typeface="Corbel"/>
              </a:rPr>
              <a:t>Внешняя политик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cxnSp>
        <p:nvCxnSpPr>
          <p:cNvPr id="410" name="Прямая со стрелкой 6"/>
          <p:cNvCxnSpPr>
            <a:stCxn id="406" idx="2"/>
          </p:cNvCxnSpPr>
          <p:nvPr/>
        </p:nvCxnSpPr>
        <p:spPr>
          <a:xfrm flipH="1">
            <a:off x="1571400" y="676080"/>
            <a:ext cx="1884960" cy="96732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1" name="Прямая со стрелкой 9"/>
          <p:cNvCxnSpPr/>
          <p:nvPr/>
        </p:nvCxnSpPr>
        <p:spPr>
          <a:xfrm>
            <a:off x="5143680" y="713880"/>
            <a:ext cx="1786320" cy="78660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2" name="Прямая со стрелкой 12"/>
          <p:cNvCxnSpPr>
            <a:stCxn id="408" idx="2"/>
          </p:cNvCxnSpPr>
          <p:nvPr/>
        </p:nvCxnSpPr>
        <p:spPr>
          <a:xfrm>
            <a:off x="1568880" y="1941120"/>
            <a:ext cx="2520" cy="27396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3" name="TextBox 14"/>
          <p:cNvSpPr/>
          <p:nvPr/>
        </p:nvSpPr>
        <p:spPr>
          <a:xfrm>
            <a:off x="215280" y="22147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Развитие демократии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14" name="TextBox 29" descr=""/>
          <p:cNvPicPr/>
          <p:nvPr/>
        </p:nvPicPr>
        <p:blipFill>
          <a:blip r:embed="rId2"/>
          <a:stretch/>
        </p:blipFill>
        <p:spPr>
          <a:xfrm>
            <a:off x="2571840" y="2567160"/>
            <a:ext cx="2365200" cy="603000"/>
          </a:xfrm>
          <a:prstGeom prst="rect">
            <a:avLst/>
          </a:prstGeom>
          <a:ln w="0">
            <a:noFill/>
          </a:ln>
        </p:spPr>
      </p:pic>
      <p:cxnSp>
        <p:nvCxnSpPr>
          <p:cNvPr id="415" name="Прямая со стрелкой 31"/>
          <p:cNvCxnSpPr>
            <a:stCxn id="409" idx="2"/>
          </p:cNvCxnSpPr>
          <p:nvPr/>
        </p:nvCxnSpPr>
        <p:spPr>
          <a:xfrm>
            <a:off x="6888600" y="1869840"/>
            <a:ext cx="1080" cy="34524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6" name="TextBox 35"/>
          <p:cNvSpPr/>
          <p:nvPr/>
        </p:nvSpPr>
        <p:spPr>
          <a:xfrm>
            <a:off x="5506560" y="221472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отрудничество с СШ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17" name="TextBox 36"/>
          <p:cNvSpPr/>
          <p:nvPr/>
        </p:nvSpPr>
        <p:spPr>
          <a:xfrm>
            <a:off x="214200" y="3571920"/>
            <a:ext cx="842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1993г поражение ЛДП на парламентских выборах. Правительство оформили несколько парламентских фракций 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Темпы экономического роста Японии упали. Страна оказалась в состояние кризиса, обанкротились преуспевающие фирмы, стремительный рост цен на нефть, которую страна ввозит, начала расти безработица. На мировом рынке у Японии появились сильные конкуренты ( НИС и Китай)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В начале </a:t>
            </a:r>
            <a:r>
              <a:rPr b="1" lang="en-US" sz="1800" spc="-1" strike="noStrike">
                <a:solidFill>
                  <a:srgbClr val="7030a0"/>
                </a:solidFill>
                <a:latin typeface="Corbel"/>
              </a:rPr>
              <a:t>XXI</a:t>
            </a: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 Япония сотрудничает с Россией, развиваются торгово-экономические связи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extBox 1" descr=""/>
          <p:cNvPicPr/>
          <p:nvPr/>
        </p:nvPicPr>
        <p:blipFill>
          <a:blip r:embed="rId1"/>
          <a:stretch/>
        </p:blipFill>
        <p:spPr>
          <a:xfrm>
            <a:off x="1122480" y="122400"/>
            <a:ext cx="6253200" cy="6825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2"/>
          <p:cNvSpPr/>
          <p:nvPr/>
        </p:nvSpPr>
        <p:spPr>
          <a:xfrm>
            <a:off x="3126960" y="78588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Сингапур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0" name="Рисунок 5" descr="10.jpg"/>
          <p:cNvPicPr/>
          <p:nvPr/>
        </p:nvPicPr>
        <p:blipFill>
          <a:blip r:embed="rId2"/>
          <a:srcRect l="28118" t="5454" r="3413" b="45464"/>
          <a:stretch/>
        </p:blipFill>
        <p:spPr>
          <a:xfrm>
            <a:off x="214200" y="1500120"/>
            <a:ext cx="8445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3694320" y="21420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Гонконг</a:t>
            </a:r>
            <a:endParaRPr b="0" lang="en-US" sz="2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2" name="Рисунок 3" descr="expo_centre4.jpg"/>
          <p:cNvPicPr/>
          <p:nvPr/>
        </p:nvPicPr>
        <p:blipFill>
          <a:blip r:embed="rId1"/>
          <a:stretch/>
        </p:blipFill>
        <p:spPr>
          <a:xfrm>
            <a:off x="500040" y="714240"/>
            <a:ext cx="835812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3512160" y="0"/>
            <a:ext cx="13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Корея</a:t>
            </a:r>
            <a:endParaRPr b="0" lang="en-US" sz="32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4" name="Рисунок 2" descr="корея.jpg"/>
          <p:cNvPicPr/>
          <p:nvPr/>
        </p:nvPicPr>
        <p:blipFill>
          <a:blip r:embed="rId1"/>
          <a:srcRect l="0" t="0" r="408" b="9877"/>
          <a:stretch/>
        </p:blipFill>
        <p:spPr>
          <a:xfrm>
            <a:off x="214200" y="642960"/>
            <a:ext cx="8643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3312000" y="0"/>
            <a:ext cx="18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Тайвань</a:t>
            </a:r>
            <a:endParaRPr b="0" lang="en-US" sz="32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6" name="Рисунок 2" descr="тайвань.jpeg"/>
          <p:cNvPicPr/>
          <p:nvPr/>
        </p:nvPicPr>
        <p:blipFill>
          <a:blip r:embed="rId1"/>
          <a:stretch/>
        </p:blipFill>
        <p:spPr>
          <a:xfrm>
            <a:off x="285840" y="5000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0" y="1500120"/>
            <a:ext cx="892980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rbel"/>
              </a:rPr>
              <a:t>ВЫВОД: </a:t>
            </a:r>
            <a:endParaRPr b="0" lang="en-US" sz="44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В Японии доминирует традиционная система найма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Азиатские государства являются крупнейшими торговыми центрами.   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Создание предприятий, выпускавших высокотехнологичную продукцию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«Экспорт прежде всего»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Использование научных открытий и изобретений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За счет корпорации обеспечивается повышение квалификации и уровня образования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«Не иметь, не производить и не ввозить ядерное оружие. 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"/>
              </a:rPr>
              <a:t>http://cs315627.userapi.com/v315627585/11bc/tmlT2tTpFcg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лаг Япони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2"/>
              </a:rPr>
              <a:t>http://geo-tur.narod.ru/Asia/Images/japan/map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рта Япони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3"/>
              </a:rPr>
              <a:t>http://www.fresher.ru/manager_content/images/xirosima-i-nagasaki-posle-padeniya-atomnoj-bomby/big/18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взрыв атомной бомбы Хиросима и Нагасаки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4"/>
              </a:rPr>
              <a:t>http://vasi.net/uploads/podbor/w7211/11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следствия бомбы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5"/>
              </a:rPr>
              <a:t>http://www.qpic.ws/images/surrenderofjapanussmissouri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борт Американского линкора «Миссури»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6"/>
              </a:rPr>
              <a:t>http://im1.asset.yvimg.kz/userimages/svant/yp80hjrdY6o5IWTSIRlb05Fzb6D03d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Подписание акта о капитуляци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7"/>
              </a:rPr>
              <a:t>http://www.vokrugsveta.ru/encyclopedia/images/b/b7/Meiji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ицухито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8"/>
              </a:rPr>
              <a:t>http://img1.liveinternet.ru/images/attach/c/2/72/914/72914698_1301660769_x_1a30ab60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г.Сингапур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9"/>
              </a:rPr>
              <a:t>http://s41.radikal.ru/i093/1302/7a/d6b8fc9d6f6a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егковой автомобиль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0"/>
              </a:rPr>
              <a:t>http://savepic.org/2833305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Легковой автомобиль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1"/>
              </a:rPr>
              <a:t>http://storage2.ogorod.com/UserPics/107/80208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онконг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2"/>
              </a:rPr>
              <a:t>http://www.factroom.ru/wp-content/uploads/2011/11/02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Корея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3"/>
              </a:rPr>
              <a:t>http://www.taiwantravel.ru/images/puteshestvenikam.jpe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Тайвань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4"/>
              </a:rPr>
              <a:t>http://www.megabook.ru/MObjects2/data/pict2003/h03022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Хирохито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i47.beon.ru/3/84/598403/85/25157385/0b840a726b67.jpe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Акихито и его супруга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zhelezyaka.com/i/p/051204195651EMEW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обот Хитач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dailyexhaust.com/images/IBM_PC_1981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компьютер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s55.radikal.ru/i149/1302/55/cb4a65a67faa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рабочие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hostingkartinok.info/images/2013/02/d19suir6zv5s1mbmmztg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рабочий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extBox 1" descr=""/>
          <p:cNvPicPr/>
          <p:nvPr/>
        </p:nvPicPr>
        <p:blipFill>
          <a:blip r:embed="rId1"/>
          <a:stretch/>
        </p:blipFill>
        <p:spPr>
          <a:xfrm>
            <a:off x="182520" y="115920"/>
            <a:ext cx="8180280" cy="6890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357120" y="785880"/>
            <a:ext cx="835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4 – 11 февраля 1945г. прошла Крымская конференция глав правительства СССР, США и Великобритании, на которой предстояло выработать принципы послевоенного нового устройства Европы. 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СССР подтвердила свою готовность вступить в войну с Японией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8 августа 1945 объявление правительством СССР войны Японии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6, 9 августа 1945 год атомные бомбардировки Хиросимы и Нагасаки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81" name="Рисунок 4" descr="16002523_hirosima_1.jpg"/>
          <p:cNvPicPr/>
          <p:nvPr/>
        </p:nvPicPr>
        <p:blipFill>
          <a:blip r:embed="rId2"/>
          <a:srcRect l="3650" t="9009" r="2678" b="5451"/>
          <a:stretch/>
        </p:blipFill>
        <p:spPr>
          <a:xfrm>
            <a:off x="0" y="3284640"/>
            <a:ext cx="4572000" cy="39351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f_13162390.jpg"/>
          <p:cNvPicPr/>
          <p:nvPr/>
        </p:nvPicPr>
        <p:blipFill>
          <a:blip r:embed="rId3"/>
          <a:stretch/>
        </p:blipFill>
        <p:spPr>
          <a:xfrm>
            <a:off x="4572000" y="3284640"/>
            <a:ext cx="457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142920" y="35712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2 сентября 1945 года Подписание акта о капитуляции Японии на борту Американского линкора «Миссури»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Окончание Второй мировой войны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84" name="Рисунок 4" descr="Shigemitsu-signs-surrender.jpg"/>
          <p:cNvPicPr/>
          <p:nvPr/>
        </p:nvPicPr>
        <p:blipFill>
          <a:blip r:embed="rId1"/>
          <a:stretch/>
        </p:blipFill>
        <p:spPr>
          <a:xfrm>
            <a:off x="285840" y="15001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Surrender_of_Japan_-_USS_Missouri.jpg"/>
          <p:cNvPicPr/>
          <p:nvPr/>
        </p:nvPicPr>
        <p:blipFill>
          <a:blip r:embed="rId2"/>
          <a:stretch/>
        </p:blipFill>
        <p:spPr>
          <a:xfrm>
            <a:off x="4857840" y="1500120"/>
            <a:ext cx="384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1" descr="Хирохито.jpg"/>
          <p:cNvPicPr/>
          <p:nvPr/>
        </p:nvPicPr>
        <p:blipFill>
          <a:blip r:embed="rId1"/>
          <a:srcRect l="41255" t="0" r="23131" b="0"/>
          <a:stretch/>
        </p:blipFill>
        <p:spPr>
          <a:xfrm>
            <a:off x="3357720" y="1000080"/>
            <a:ext cx="2357280" cy="48006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3808080" y="60008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рохито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88" name="TextBox 3" descr=""/>
          <p:cNvPicPr/>
          <p:nvPr/>
        </p:nvPicPr>
        <p:blipFill>
          <a:blip r:embed="rId2"/>
          <a:stretch/>
        </p:blipFill>
        <p:spPr>
          <a:xfrm>
            <a:off x="1871640" y="103320"/>
            <a:ext cx="4863960" cy="76176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122010-004-C2E8A74B.jpg"/>
          <p:cNvPicPr/>
          <p:nvPr/>
        </p:nvPicPr>
        <p:blipFill>
          <a:blip r:embed="rId3"/>
          <a:stretch/>
        </p:blipFill>
        <p:spPr>
          <a:xfrm>
            <a:off x="357120" y="1143000"/>
            <a:ext cx="2857680" cy="42861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5"/>
          <p:cNvSpPr/>
          <p:nvPr/>
        </p:nvSpPr>
        <p:spPr>
          <a:xfrm>
            <a:off x="357120" y="55008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Муцухито (Мэйдзи)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91" name="Рисунок 6" descr="wizyta_ces01.jpg"/>
          <p:cNvPicPr/>
          <p:nvPr/>
        </p:nvPicPr>
        <p:blipFill>
          <a:blip r:embed="rId4"/>
          <a:stretch/>
        </p:blipFill>
        <p:spPr>
          <a:xfrm>
            <a:off x="6000840" y="1143000"/>
            <a:ext cx="2898720" cy="4319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7"/>
          <p:cNvSpPr/>
          <p:nvPr/>
        </p:nvSpPr>
        <p:spPr>
          <a:xfrm>
            <a:off x="6087240" y="55720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Акихито и его супруг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extBox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86456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285840" y="500040"/>
            <a:ext cx="778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Земельная реформа 1950г. Крестьянство стало собственником 80%  арендуемой земли, в стране сложился слой свободных фермеров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Были отменены привилегии бывших феодалов, ликвидированы «дзайбацу»- клановые объединения контролировавшие промышленность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Законы о труде сняли ограничение на создание профсоюзов , ввели восьмичасовой рабочий день. 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Проведенные преобразования  ознаменовали переход Японии к демократическому развитию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extBox 1" descr=""/>
          <p:cNvPicPr/>
          <p:nvPr/>
        </p:nvPicPr>
        <p:blipFill>
          <a:blip r:embed="rId1"/>
          <a:stretch/>
        </p:blipFill>
        <p:spPr>
          <a:xfrm>
            <a:off x="212760" y="66600"/>
            <a:ext cx="3762360" cy="6033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2"/>
          <p:cNvSpPr/>
          <p:nvPr/>
        </p:nvSpPr>
        <p:spPr>
          <a:xfrm>
            <a:off x="428760" y="100008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 1950 г. Японцы скупали передовые технологии, что позволяло экономить на собственных научных исследованиях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 1979 г. было выпущено 10 миллионов машин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В начале 80-х годов Японские машины шли на экспорт. Япония обошла США по производству легковых автомобилей.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97" name="Рисунок 5" descr="1950 ниссан.jpg"/>
          <p:cNvPicPr/>
          <p:nvPr/>
        </p:nvPicPr>
        <p:blipFill>
          <a:blip r:embed="rId2"/>
          <a:srcRect l="0" t="19998" r="0" b="10908"/>
          <a:stretch/>
        </p:blipFill>
        <p:spPr>
          <a:xfrm>
            <a:off x="214200" y="264312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Кабриолет 1950.JPEG"/>
          <p:cNvPicPr/>
          <p:nvPr/>
        </p:nvPicPr>
        <p:blipFill>
          <a:blip r:embed="rId3"/>
          <a:srcRect l="2186" t="13205" r="1251" b="11793"/>
          <a:stretch/>
        </p:blipFill>
        <p:spPr>
          <a:xfrm>
            <a:off x="4500720" y="2643120"/>
            <a:ext cx="450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214200" y="21420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Производители роботов Хитачи, компьютеров и бытовой электроники Сони,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Джи – ви – си – приобрели мировую известность. 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00" name="Рисунок 2" descr="051204195651EMEW.jpg"/>
          <p:cNvPicPr/>
          <p:nvPr/>
        </p:nvPicPr>
        <p:blipFill>
          <a:blip r:embed="rId1"/>
          <a:stretch/>
        </p:blipFill>
        <p:spPr>
          <a:xfrm>
            <a:off x="214200" y="1071720"/>
            <a:ext cx="4564080" cy="52862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ibm_pc.jpg"/>
          <p:cNvPicPr/>
          <p:nvPr/>
        </p:nvPicPr>
        <p:blipFill>
          <a:blip r:embed="rId2"/>
          <a:srcRect l="13225" t="0" r="15384" b="6525"/>
          <a:stretch/>
        </p:blipFill>
        <p:spPr>
          <a:xfrm>
            <a:off x="4572000" y="1071720"/>
            <a:ext cx="4357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extBox 1" descr=""/>
          <p:cNvPicPr/>
          <p:nvPr/>
        </p:nvPicPr>
        <p:blipFill>
          <a:blip r:embed="rId1"/>
          <a:stretch/>
        </p:blipFill>
        <p:spPr>
          <a:xfrm>
            <a:off x="103320" y="73080"/>
            <a:ext cx="6529320" cy="5364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0" y="1071720"/>
            <a:ext cx="88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Создание аграрной реформой нового крупного рынка промышленных товаров для фермеров ( техника, удобрения)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Низкие затраты на оборону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Производственные капиталовложения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Дешевая рабочая сила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Традиционная система найма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04" name="Рисунок 3" descr="photo_verybig_565187.jpg"/>
          <p:cNvPicPr/>
          <p:nvPr/>
        </p:nvPicPr>
        <p:blipFill>
          <a:blip r:embed="rId2"/>
          <a:srcRect l="27786" t="6323" r="0" b="0"/>
          <a:stretch/>
        </p:blipFill>
        <p:spPr>
          <a:xfrm>
            <a:off x="4859280" y="3070080"/>
            <a:ext cx="3984840" cy="37879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4" descr="manufacturing_tt3bbuw_ob.JPG"/>
          <p:cNvPicPr/>
          <p:nvPr/>
        </p:nvPicPr>
        <p:blipFill>
          <a:blip r:embed="rId3"/>
          <a:srcRect l="9868" t="17488" r="0" b="0"/>
          <a:stretch/>
        </p:blipFill>
        <p:spPr>
          <a:xfrm>
            <a:off x="324000" y="3824280"/>
            <a:ext cx="45669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9:48:34Z</dcterms:created>
  <dc:creator>Julia</dc:creator>
  <dc:description/>
  <cp:keywords>9 класс</cp:keywords>
  <dc:language>en-US</dc:language>
  <cp:lastModifiedBy>Miss</cp:lastModifiedBy>
  <dcterms:modified xsi:type="dcterms:W3CDTF">2013-02-22T20:00:27Z</dcterms:modified>
  <cp:revision>40</cp:revision>
  <dc:subject/>
  <dc:title>Слайд 1</dc:title>
</cp:coreProperties>
</file>