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774-247E-4A7D-8D13-72473940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919-CDDC-487F-AE7F-F7169700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966-7E27-4BC2-86A5-54272667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D7A-BC5F-4BC0-8D1B-E90B5476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D0F-ADCC-4CA1-9184-9C455B81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6CC-13BC-4A95-9255-60BEB69E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E92-9195-4B5F-9DE0-6A0A690C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C32-4E97-4CD8-A68B-64A159A1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3F4-460E-4539-8661-8B69859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219-9B75-4A26-88CC-2085FBD9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899-0F4D-465C-B114-8B54C4A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F70-027C-406E-92A7-1E7122D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4663-1AA2-42C9-8EC0-8B670F820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ия вероятностей и комбинаторные правила для решение задачи ЕГЭ В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г. Мурманска гимназия № 3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ахо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НОвая ГРАФИКА сборник\image.jpeg"/>
          <p:cNvPicPr/>
          <p:nvPr/>
        </p:nvPicPr>
        <p:blipFill>
          <a:blip r:embed="rId2"/>
          <a:stretch/>
        </p:blipFill>
        <p:spPr>
          <a:xfrm>
            <a:off x="6566040" y="4992840"/>
            <a:ext cx="1962000" cy="145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:\Documents and Settings\Aida\Рабочий стол\МОИ шаблоны ЭКСПЕРИМЕНТы\collageB.jpg"/>
          <p:cNvPicPr/>
          <p:nvPr/>
        </p:nvPicPr>
        <p:blipFill>
          <a:blip r:embed="rId3"/>
          <a:stretch/>
        </p:blipFill>
        <p:spPr>
          <a:xfrm>
            <a:off x="633240" y="420840"/>
            <a:ext cx="29689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6"/>
          <p:cNvSpPr/>
          <p:nvPr/>
        </p:nvSpPr>
        <p:spPr>
          <a:xfrm>
            <a:off x="5929200" y="5111640"/>
            <a:ext cx="7858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7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чемпионате по гимнастике участвуют 50 спортсменок: 24 из США, 13 из Мексики, остальные — из Канады. Порядок, в котором выступают гимнастки, определяется жребием. Найдите вероятность того, что спортсменка, выступающая первой, окажется из Кан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8B6E-E5D8-4FA7-B909-F24A93E2BC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875C-DC83-4F5F-8822-809584B5E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163320" y="221472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вой выступ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сменка из Кан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74200" y="385776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58416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3"/>
              <p:cNvSpPr txBox="1"/>
              <p:nvPr/>
            </p:nvSpPr>
            <p:spPr>
              <a:xfrm>
                <a:off x="3429000" y="4857840"/>
                <a:ext cx="3263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11"/>
          <p:cNvSpPr/>
          <p:nvPr/>
        </p:nvSpPr>
        <p:spPr>
          <a:xfrm>
            <a:off x="511920" y="4643280"/>
            <a:ext cx="207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н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0-(24+13)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3641760" y="392904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гимна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Администратор\Рабочий стол\Безимени-2.png"/>
          <p:cNvPicPr/>
          <p:nvPr/>
        </p:nvPicPr>
        <p:blipFill>
          <a:blip r:embed="rId2"/>
          <a:stretch/>
        </p:blipFill>
        <p:spPr>
          <a:xfrm>
            <a:off x="357120" y="1857240"/>
            <a:ext cx="295272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6"/>
          <p:cNvSpPr/>
          <p:nvPr/>
        </p:nvSpPr>
        <p:spPr>
          <a:xfrm>
            <a:off x="5786280" y="5000760"/>
            <a:ext cx="78588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7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реднем из 1400 садовых насосов, поступивших в продажу, 14 подтекают. Найдите вероятность того, что один случайно выбранный для контроля насос не подтекает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A195-36CC-4263-BDF8-BDBA58DEB9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A791-0350-48BD-807E-288417ACA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097000" y="221472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ранный нас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дт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02560" y="392904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65544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3"/>
              <p:cNvSpPr txBox="1"/>
              <p:nvPr/>
            </p:nvSpPr>
            <p:spPr>
              <a:xfrm>
                <a:off x="2928960" y="4786200"/>
                <a:ext cx="3579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1"/>
          <p:cNvSpPr/>
          <p:nvPr/>
        </p:nvSpPr>
        <p:spPr>
          <a:xfrm>
            <a:off x="512640" y="4714920"/>
            <a:ext cx="204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ра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400-14=13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45720" y="371484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нас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Администратор\Рабочий стол\колод.png"/>
          <p:cNvPicPr/>
          <p:nvPr/>
        </p:nvPicPr>
        <p:blipFill>
          <a:blip r:embed="rId2"/>
          <a:stretch/>
        </p:blipFill>
        <p:spPr>
          <a:xfrm>
            <a:off x="500040" y="1571760"/>
            <a:ext cx="1217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6"/>
          <p:cNvSpPr/>
          <p:nvPr/>
        </p:nvSpPr>
        <p:spPr>
          <a:xfrm>
            <a:off x="6572160" y="4929120"/>
            <a:ext cx="7858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63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абрика выпускает сумки. В среднем на 190 качественных сумок приходится восемь сумок со скрытыми дефектами. Найдите вероятность того, что купленная сумка окажется качественной. Результат округлите до сотых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96D1-C82F-4BE1-84A9-F9305FC42B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6939-346C-4636-876B-00B2A30E2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383280" y="235728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пленная 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ась качеств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31280" y="385776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344124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3"/>
              <p:cNvSpPr txBox="1"/>
              <p:nvPr/>
            </p:nvSpPr>
            <p:spPr>
              <a:xfrm>
                <a:off x="2500200" y="4714920"/>
                <a:ext cx="4783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11"/>
          <p:cNvSpPr/>
          <p:nvPr/>
        </p:nvSpPr>
        <p:spPr>
          <a:xfrm>
            <a:off x="493560" y="4643280"/>
            <a:ext cx="18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425040" y="3786120"/>
            <a:ext cx="42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су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+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:\Documents and Settings\Администратор\Рабочий стол\сс.png"/>
          <p:cNvPicPr/>
          <p:nvPr/>
        </p:nvPicPr>
        <p:blipFill>
          <a:blip r:embed="rId2"/>
          <a:stretch/>
        </p:blipFill>
        <p:spPr>
          <a:xfrm rot="20383800">
            <a:off x="244440" y="160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Администратор\Рабочий стол\сс.png"/>
          <p:cNvPicPr/>
          <p:nvPr/>
        </p:nvPicPr>
        <p:blipFill>
          <a:blip r:embed="rId3"/>
          <a:stretch/>
        </p:blipFill>
        <p:spPr>
          <a:xfrm>
            <a:off x="571680" y="17859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Администратор\Рабочий стол\сс.png"/>
          <p:cNvPicPr/>
          <p:nvPr/>
        </p:nvPicPr>
        <p:blipFill>
          <a:blip r:embed="rId4"/>
          <a:stretch/>
        </p:blipFill>
        <p:spPr>
          <a:xfrm rot="1012800">
            <a:off x="1244520" y="1530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C:\Documents and Settings\Администратор\Рабочий стол\ссс.png"/>
          <p:cNvPicPr/>
          <p:nvPr/>
        </p:nvPicPr>
        <p:blipFill>
          <a:blip r:embed="rId5"/>
          <a:stretch/>
        </p:blipFill>
        <p:spPr>
          <a:xfrm>
            <a:off x="2143080" y="2711520"/>
            <a:ext cx="1214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6"/>
          <p:cNvSpPr/>
          <p:nvPr/>
        </p:nvSpPr>
        <p:spPr>
          <a:xfrm>
            <a:off x="6156360" y="5229360"/>
            <a:ext cx="7207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45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лучайном эксперименте бросают три игральные кости. Найдите вероятность того, что в сумме выпадет 7 очков. Результат округлите до сот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390D-DCF0-4698-A826-1C05F735371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F3F0-C5F1-4F4B-AC0B-659F7D7EC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Без имени-1"/>
          <p:cNvPicPr/>
          <p:nvPr/>
        </p:nvPicPr>
        <p:blipFill>
          <a:blip r:embed="rId2"/>
          <a:stretch/>
        </p:blipFill>
        <p:spPr>
          <a:xfrm>
            <a:off x="539640" y="1851120"/>
            <a:ext cx="1675080" cy="1512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463480" y="1720800"/>
            <a:ext cx="41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адают три игральне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342880" y="213372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умме выпало 7 о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97800" y="33577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4216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8980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76616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42160" y="530064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1189800" y="530064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494160" y="335772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565800" y="3716280"/>
            <a:ext cx="27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кость - 6 вариа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я кость - 6 вариа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я кость - 6 вари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6156360" y="3789360"/>
            <a:ext cx="503280" cy="86364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6872400" y="4076640"/>
                <a:ext cx="144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3"/>
              <p:cNvSpPr txBox="1"/>
              <p:nvPr/>
            </p:nvSpPr>
            <p:spPr>
              <a:xfrm>
                <a:off x="3500280" y="5033880"/>
                <a:ext cx="3407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AutoShape 24"/>
          <p:cNvSpPr/>
          <p:nvPr/>
        </p:nvSpPr>
        <p:spPr>
          <a:xfrm>
            <a:off x="2124000" y="4149720"/>
            <a:ext cx="503280" cy="2232000"/>
          </a:xfrm>
          <a:custGeom>
            <a:avLst/>
            <a:gdLst>
              <a:gd name="textAreaLeft" fmla="*/ 0 w 503280"/>
              <a:gd name="textAreaRight" fmla="*/ 181800 w 503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2700360" y="508464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6"/>
          <p:cNvSpPr/>
          <p:nvPr/>
        </p:nvSpPr>
        <p:spPr>
          <a:xfrm>
            <a:off x="5572080" y="5500800"/>
            <a:ext cx="10717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CE3E-816E-4746-9654-9EC9927F81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0F4-1719-4C28-BFC8-00B06DC27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монетки"/>
          <p:cNvPicPr/>
          <p:nvPr/>
        </p:nvPicPr>
        <p:blipFill>
          <a:blip r:embed="rId2"/>
          <a:stretch/>
        </p:blipFill>
        <p:spPr>
          <a:xfrm>
            <a:off x="395280" y="1916280"/>
            <a:ext cx="177804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8347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 случайном эксперименте симметричную монету бросают четырежды. Найдите вероятность того, что орел не выпадет ни р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717640" y="2060640"/>
            <a:ext cx="63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 можно трактовать т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ова вероятность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се четыре раза выпадет реш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70880" y="39337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853080" y="35002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046880" y="4653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77000" y="501336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ыре раза вып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3"/>
              <p:cNvSpPr txBox="1"/>
              <p:nvPr/>
            </p:nvSpPr>
            <p:spPr>
              <a:xfrm>
                <a:off x="3714840" y="5357880"/>
                <a:ext cx="28684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18"/>
          <p:cNvSpPr/>
          <p:nvPr/>
        </p:nvSpPr>
        <p:spPr>
          <a:xfrm>
            <a:off x="3652200" y="3929040"/>
            <a:ext cx="231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6235560" y="4002120"/>
            <a:ext cx="503280" cy="106992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1069920"/>
              <a:gd name="textAreaBottom" fmla="*/ 10476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7"/>
                  <a:pt x="10800" y="1453"/>
                </a:cubicBezTo>
                <a:lnTo>
                  <a:pt x="10800" y="9347"/>
                </a:lnTo>
                <a:cubicBezTo>
                  <a:pt x="10800" y="10074"/>
                  <a:pt x="16200" y="10800"/>
                  <a:pt x="21600" y="10800"/>
                </a:cubicBezTo>
                <a:cubicBezTo>
                  <a:pt x="16200" y="10800"/>
                  <a:pt x="10800" y="11527"/>
                  <a:pt x="10800" y="12253"/>
                </a:cubicBezTo>
                <a:lnTo>
                  <a:pt x="10800" y="20147"/>
                </a:lnTo>
                <a:cubicBezTo>
                  <a:pt x="10800" y="208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6870600" y="4289400"/>
                <a:ext cx="1609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7CC7-A621-491C-962D-A7A55C464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2214720" y="3357720"/>
            <a:ext cx="61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Л. Бродский, Р. А. Литвиненк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сть и статист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.: Аркти. -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ый банк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BCB-9026-46EB-A6D4-573E589B8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57120" y="107172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Стохастическим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ывают опыт, если заранее нельзя предугадать его результаты. Результаты (исходы) такого опыта называются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событи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071720" y="214308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игральный кубик (опыт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ает двойка (событ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57120" y="307188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е, которое обязательно произойдет в результате испытания, называется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достовер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которое не может произойти, -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 невозмож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1143000" y="44290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шке лежат три картофе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214280" y="485784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 изъятие овоща из ме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214280" y="52149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оверное событие – изъятие картофе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214280" y="557208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е событие – изъятие каба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Без имени-1"/>
          <p:cNvPicPr/>
          <p:nvPr/>
        </p:nvPicPr>
        <p:blipFill>
          <a:blip r:embed="rId2"/>
          <a:stretch/>
        </p:blipFill>
        <p:spPr>
          <a:xfrm>
            <a:off x="7500960" y="2071800"/>
            <a:ext cx="5713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8F1E-C941-4D3E-9E5D-CB537C0BF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357120" y="1071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авновозможными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события, если в результате опыта ни одно из них не имеет большую возможность появления, чем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857160" y="21430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мон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2300760" y="2428920"/>
            <a:ext cx="47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орла и выпадение реш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возможные соб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2292480" y="3286080"/>
            <a:ext cx="56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урне лежат три шара. Два белых и с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2290320" y="3643200"/>
            <a:ext cx="32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 извлечение ш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2286000" y="4000680"/>
            <a:ext cx="538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– извлекли синий шар и извлек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й шар - неравновозмож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2291040" y="4643280"/>
            <a:ext cx="59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ение белого шара имеет больше шансов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222B-AD7B-4D5B-953B-9A0B98E96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357120" y="1071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совместимыми  (несовместными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события, если наступление одного из них исключает наступление други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1000080" y="2143080"/>
            <a:ext cx="75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 результате одного выбрасывания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(событие А) или решка (событие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214308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А и В - несовмес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000080" y="3214800"/>
            <a:ext cx="75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результате двух выбрасываний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(событие А) или решка (событие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5"/>
          <p:cNvSpPr/>
          <p:nvPr/>
        </p:nvSpPr>
        <p:spPr>
          <a:xfrm>
            <a:off x="2143080" y="3857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А и В - совместны. Выпадение орла в первый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сключает выпадение решки во в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C0CA-05A0-4DB0-87D4-FCA9952D6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357120" y="107172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олной группой событий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множество всех событий рассматриваемого опыта, одно из которых обязательно произойдет, а любые два других несовмес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143000" y="29289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 мон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2286000" y="335772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рные собы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адение ор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падение решки образуют полную груп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85840" y="221472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образующие полную группу называют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элементар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533B-E2F6-4148-9C61-91CECB45B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28760" y="192888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Вероят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лучайного события А называется отношение числа элементарных событий, которые благоприятствуют этому событию, к общему числу всех элементарных событий, входящих в данную группу 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421488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(A) = m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C8D7-CA80-4897-BBCB-6BFA7D286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285840" y="35712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онечных множеств событий при нахожде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широко используют правила комбинатор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428760" y="221472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двузначных чисел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используя цифры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8;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ифры могут повторятьс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000080" y="32860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случае легко перебрать все комбин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100008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185724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64312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авая фигурная скобка 14"/>
          <p:cNvSpPr/>
          <p:nvPr/>
        </p:nvSpPr>
        <p:spPr>
          <a:xfrm rot="5400000">
            <a:off x="1821600" y="4107600"/>
            <a:ext cx="500040" cy="20001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000160"/>
              <a:gd name="textAreaBottom" fmla="*/ 198720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285920" y="535788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4957-476D-4D69-8AE0-76C19407E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00040" y="4287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пятизначных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используя цифры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8;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ифры могут повторятьс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857160" y="150012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идим, в этой задаче перебор довольно затруднител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авая фигурная скобка 14"/>
          <p:cNvSpPr/>
          <p:nvPr/>
        </p:nvSpPr>
        <p:spPr>
          <a:xfrm>
            <a:off x="5214960" y="2286000"/>
            <a:ext cx="500040" cy="34290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429000"/>
              <a:gd name="textAreaBottom" fmla="*/ 341604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"/>
                  <a:pt x="10800" y="262"/>
                </a:cubicBezTo>
                <a:lnTo>
                  <a:pt x="10800" y="10538"/>
                </a:lnTo>
                <a:cubicBezTo>
                  <a:pt x="10800" y="10669"/>
                  <a:pt x="16200" y="10800"/>
                  <a:pt x="21600" y="10800"/>
                </a:cubicBezTo>
                <a:cubicBezTo>
                  <a:pt x="16200" y="10800"/>
                  <a:pt x="10800" y="10931"/>
                  <a:pt x="10800" y="11062"/>
                </a:cubicBezTo>
                <a:lnTo>
                  <a:pt x="10800" y="21338"/>
                </a:lnTo>
                <a:cubicBezTo>
                  <a:pt x="10800" y="2146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3429000" y="178596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задачу ина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785880" y="21430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785880" y="278604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тор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785880" y="35002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ретье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785880" y="421488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етверт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785880" y="492912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ят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3"/>
              <p:cNvSpPr txBox="1"/>
              <p:nvPr/>
            </p:nvSpPr>
            <p:spPr>
              <a:xfrm>
                <a:off x="5786280" y="3786120"/>
                <a:ext cx="2548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Прямоугольник 2"/>
          <p:cNvSpPr/>
          <p:nvPr/>
        </p:nvSpPr>
        <p:spPr>
          <a:xfrm>
            <a:off x="214200" y="58579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мбинаторное правило у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48DB-4A5A-4F82-BA83-75912314C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85840" y="250020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открытого б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5:30:21Z</dcterms:created>
  <dc:creator>Дятел</dc:creator>
  <dc:description/>
  <dc:language>en-US</dc:language>
  <cp:lastModifiedBy>КарМаН</cp:lastModifiedBy>
  <dcterms:modified xsi:type="dcterms:W3CDTF">2011-11-21T19:49:48Z</dcterms:modified>
  <cp:revision>66</cp:revision>
  <dc:subject/>
  <dc:title>Теория вероятности и комбинаторные правила для решение задачи ЕГЭ В10</dc:title>
</cp:coreProperties>
</file>