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EAF8-4DFE-4225-8087-C5B602CDE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AEA3-363E-44BC-BC38-7E260404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7E80-86F9-4C0F-905F-0E3B09F00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FD63-37BE-4A53-8122-090646D37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744A-E64E-4130-8F48-E153388A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0034-6E99-40F8-B08E-35ECA3DE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879D-998D-4C07-8BE0-90537B4D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4F1C-1D9C-498D-BC43-840E6168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CC95-1219-4EEC-8F4C-B9EB10F1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28C7-94FB-4CF3-8BDD-F3DADB7D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E0B2-352C-48AC-A3C3-5FBE0434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ED96-CE42-4761-933D-1E757287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6674-90D6-4377-B861-21E6AA9F0F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785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ория вероятностей и комбинаторные правила для решение задачи ЕГЭ В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85920" y="4429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У г. Мурманска гимназия № 3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Шахова Татьяна Александр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:\Documents and Settings\Aida\Рабочий стол\НОвая ГРАФИКА сборник\image.jpeg"/>
          <p:cNvPicPr/>
          <p:nvPr/>
        </p:nvPicPr>
        <p:blipFill>
          <a:blip r:embed="rId2"/>
          <a:stretch/>
        </p:blipFill>
        <p:spPr>
          <a:xfrm>
            <a:off x="6566040" y="4992840"/>
            <a:ext cx="1962000" cy="1450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H:\Documents and Settings\Aida\Рабочий стол\МОИ шаблоны ЭКСПЕРИМЕНТы\collageB.jpg"/>
          <p:cNvPicPr/>
          <p:nvPr/>
        </p:nvPicPr>
        <p:blipFill>
          <a:blip r:embed="rId3"/>
          <a:stretch/>
        </p:blipFill>
        <p:spPr>
          <a:xfrm>
            <a:off x="633240" y="420840"/>
            <a:ext cx="2968920" cy="21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26"/>
          <p:cNvSpPr/>
          <p:nvPr/>
        </p:nvSpPr>
        <p:spPr>
          <a:xfrm>
            <a:off x="5929200" y="5111640"/>
            <a:ext cx="785880" cy="432000"/>
          </a:xfrm>
          <a:prstGeom prst="roundRect">
            <a:avLst>
              <a:gd name="adj" fmla="val 16667"/>
            </a:avLst>
          </a:prstGeom>
          <a:solidFill>
            <a:srgbClr val="ff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83479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чемпионате по гимнастике участвуют 50 спортсменок: 24 из США, 13 из Мексики, остальные — из Канады. Порядок, в котором выступают гимнастки, определяется жребием. Найдите вероятность того, что спортсменка, выступающая первой, окажется из Канады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2DE8-2AC2-46C5-85DA-D1813E31C12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FCC8-BCE8-4F3E-B43C-A8E1F3636C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3163320" y="2214720"/>
            <a:ext cx="507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приятное событие 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ервой выступ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ртсменка из Кана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574200" y="3857760"/>
            <a:ext cx="231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-во благоприя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ыт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7"/>
          <p:cNvSpPr/>
          <p:nvPr/>
        </p:nvSpPr>
        <p:spPr>
          <a:xfrm>
            <a:off x="3584160" y="3214800"/>
            <a:ext cx="35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-во всех событий групп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23"/>
              <p:cNvSpPr txBox="1"/>
              <p:nvPr/>
            </p:nvSpPr>
            <p:spPr>
              <a:xfrm>
                <a:off x="3429000" y="4857840"/>
                <a:ext cx="326376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Text Box 11"/>
          <p:cNvSpPr/>
          <p:nvPr/>
        </p:nvSpPr>
        <p:spPr>
          <a:xfrm>
            <a:off x="511920" y="4643280"/>
            <a:ext cx="207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у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мнас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Кан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50-(24+13)=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7"/>
          <p:cNvSpPr/>
          <p:nvPr/>
        </p:nvSpPr>
        <p:spPr>
          <a:xfrm>
            <a:off x="3641760" y="3929040"/>
            <a:ext cx="473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ует количеству всех гимнас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C:\Documents and Settings\Администратор\Рабочий стол\Безимени-2.png"/>
          <p:cNvPicPr/>
          <p:nvPr/>
        </p:nvPicPr>
        <p:blipFill>
          <a:blip r:embed="rId2"/>
          <a:stretch/>
        </p:blipFill>
        <p:spPr>
          <a:xfrm>
            <a:off x="357120" y="1857240"/>
            <a:ext cx="295272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26"/>
          <p:cNvSpPr/>
          <p:nvPr/>
        </p:nvSpPr>
        <p:spPr>
          <a:xfrm>
            <a:off x="5786280" y="5000760"/>
            <a:ext cx="785880" cy="431640"/>
          </a:xfrm>
          <a:prstGeom prst="roundRect">
            <a:avLst>
              <a:gd name="adj" fmla="val 16667"/>
            </a:avLst>
          </a:prstGeom>
          <a:solidFill>
            <a:srgbClr val="ff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83479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среднем из 1400 садовых насосов, поступивших в продажу, 14 подтекают. Найдите вероятность того, что один случайно выбранный для контроля насос не подтекает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BD68-3F34-4BBB-ADEE-B6915843ABD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8AE0-4A04-4550-8088-6A29A97AAE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2097000" y="2214720"/>
            <a:ext cx="497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приятное событие 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бранный нас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подтек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502560" y="3929040"/>
            <a:ext cx="231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-во благоприя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ыт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3655440" y="3214800"/>
            <a:ext cx="35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-во всех событий групп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23"/>
              <p:cNvSpPr txBox="1"/>
              <p:nvPr/>
            </p:nvSpPr>
            <p:spPr>
              <a:xfrm>
                <a:off x="2928960" y="4786200"/>
                <a:ext cx="357984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8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Text Box 11"/>
          <p:cNvSpPr/>
          <p:nvPr/>
        </p:nvSpPr>
        <p:spPr>
          <a:xfrm>
            <a:off x="512640" y="4714920"/>
            <a:ext cx="2044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у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рав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1400-14=13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3645720" y="3714840"/>
            <a:ext cx="452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ует количеству всех насо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C:\Documents and Settings\Администратор\Рабочий стол\колод.png"/>
          <p:cNvPicPr/>
          <p:nvPr/>
        </p:nvPicPr>
        <p:blipFill>
          <a:blip r:embed="rId2"/>
          <a:stretch/>
        </p:blipFill>
        <p:spPr>
          <a:xfrm>
            <a:off x="500040" y="1571760"/>
            <a:ext cx="12175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6"/>
          <p:cNvSpPr/>
          <p:nvPr/>
        </p:nvSpPr>
        <p:spPr>
          <a:xfrm>
            <a:off x="6572160" y="4929120"/>
            <a:ext cx="785880" cy="432000"/>
          </a:xfrm>
          <a:prstGeom prst="roundRect">
            <a:avLst>
              <a:gd name="adj" fmla="val 16667"/>
            </a:avLst>
          </a:prstGeom>
          <a:solidFill>
            <a:srgbClr val="ff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5712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83639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абрика выпускает сумки. В среднем на 190 качественных сумок приходится восемь сумок со скрытыми дефектами. Найдите вероятность того, что купленная сумка окажется качественной. Результат округлите до сотых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6B4F-E24C-47AB-8C9C-180530882D5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E1B3-8AF0-4FB1-BEFF-0ED7A42BB4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3383280" y="2357280"/>
            <a:ext cx="487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приятное событие 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упленная сум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азалась качествен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431280" y="3857760"/>
            <a:ext cx="231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-во благоприя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ыт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3441240" y="3214800"/>
            <a:ext cx="35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-во всех событий групп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23"/>
              <p:cNvSpPr txBox="1"/>
              <p:nvPr/>
            </p:nvSpPr>
            <p:spPr>
              <a:xfrm>
                <a:off x="2500200" y="4714920"/>
                <a:ext cx="478332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5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Text Box 11"/>
          <p:cNvSpPr/>
          <p:nvPr/>
        </p:nvSpPr>
        <p:spPr>
          <a:xfrm>
            <a:off x="493560" y="4643280"/>
            <a:ext cx="180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у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честв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1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3425040" y="3786120"/>
            <a:ext cx="428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ует количеству всех сум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0+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C:\Documents and Settings\Администратор\Рабочий стол\сс.png"/>
          <p:cNvPicPr/>
          <p:nvPr/>
        </p:nvPicPr>
        <p:blipFill>
          <a:blip r:embed="rId2"/>
          <a:stretch/>
        </p:blipFill>
        <p:spPr>
          <a:xfrm rot="20383800">
            <a:off x="244440" y="16012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C:\Documents and Settings\Администратор\Рабочий стол\сс.png"/>
          <p:cNvPicPr/>
          <p:nvPr/>
        </p:nvPicPr>
        <p:blipFill>
          <a:blip r:embed="rId3"/>
          <a:stretch/>
        </p:blipFill>
        <p:spPr>
          <a:xfrm>
            <a:off x="571680" y="178596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C:\Documents and Settings\Администратор\Рабочий стол\сс.png"/>
          <p:cNvPicPr/>
          <p:nvPr/>
        </p:nvPicPr>
        <p:blipFill>
          <a:blip r:embed="rId4"/>
          <a:stretch/>
        </p:blipFill>
        <p:spPr>
          <a:xfrm rot="1012800">
            <a:off x="1244520" y="153000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5" descr="C:\Documents and Settings\Администратор\Рабочий стол\ссс.png"/>
          <p:cNvPicPr/>
          <p:nvPr/>
        </p:nvPicPr>
        <p:blipFill>
          <a:blip r:embed="rId5"/>
          <a:stretch/>
        </p:blipFill>
        <p:spPr>
          <a:xfrm>
            <a:off x="2143080" y="2711520"/>
            <a:ext cx="12146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26"/>
          <p:cNvSpPr/>
          <p:nvPr/>
        </p:nvSpPr>
        <p:spPr>
          <a:xfrm>
            <a:off x="6156360" y="5229360"/>
            <a:ext cx="720720" cy="431640"/>
          </a:xfrm>
          <a:prstGeom prst="roundRect">
            <a:avLst>
              <a:gd name="adj" fmla="val 16667"/>
            </a:avLst>
          </a:prstGeom>
          <a:solidFill>
            <a:srgbClr val="ff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83445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случайном эксперименте бросают три игральные кости. Найдите вероятность того, что в сумме выпадет 7 очков. Результат округлите до соты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2820-25B2-4B47-BF55-EE0874692DD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20E8-14FC-418C-A139-732634F261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Без имени-1"/>
          <p:cNvPicPr/>
          <p:nvPr/>
        </p:nvPicPr>
        <p:blipFill>
          <a:blip r:embed="rId2"/>
          <a:stretch/>
        </p:blipFill>
        <p:spPr>
          <a:xfrm>
            <a:off x="539640" y="1851120"/>
            <a:ext cx="1675080" cy="15127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7"/>
          <p:cNvSpPr/>
          <p:nvPr/>
        </p:nvSpPr>
        <p:spPr>
          <a:xfrm>
            <a:off x="2463480" y="1720800"/>
            <a:ext cx="41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ы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падают три игральне 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2342880" y="2133720"/>
            <a:ext cx="572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приятное событие 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сумме выпало 7 оч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397800" y="3357720"/>
            <a:ext cx="231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-во благоприя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ыти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542160" y="4149720"/>
            <a:ext cx="56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1189800" y="4149720"/>
            <a:ext cx="56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1766160" y="4149720"/>
            <a:ext cx="56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542160" y="5300640"/>
            <a:ext cx="56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1189800" y="5300640"/>
            <a:ext cx="56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7"/>
          <p:cNvSpPr/>
          <p:nvPr/>
        </p:nvSpPr>
        <p:spPr>
          <a:xfrm>
            <a:off x="3494160" y="3357720"/>
            <a:ext cx="34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-во всех событий групп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3565800" y="3716280"/>
            <a:ext cx="270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кость - 6 вариа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-я кость - 6 вариа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-я кость - 6 вариант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9"/>
          <p:cNvSpPr/>
          <p:nvPr/>
        </p:nvSpPr>
        <p:spPr>
          <a:xfrm>
            <a:off x="6156360" y="3789360"/>
            <a:ext cx="503280" cy="863640"/>
          </a:xfrm>
          <a:custGeom>
            <a:avLst/>
            <a:gdLst>
              <a:gd name="textAreaLeft" fmla="*/ 0 w 503280"/>
              <a:gd name="textAreaRight" fmla="*/ 181800 w 503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21"/>
              <p:cNvSpPr txBox="1"/>
              <p:nvPr/>
            </p:nvSpPr>
            <p:spPr>
              <a:xfrm>
                <a:off x="6872400" y="4076640"/>
                <a:ext cx="14475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23"/>
              <p:cNvSpPr txBox="1"/>
              <p:nvPr/>
            </p:nvSpPr>
            <p:spPr>
              <a:xfrm>
                <a:off x="3500280" y="5033880"/>
                <a:ext cx="340704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6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AutoShape 24"/>
          <p:cNvSpPr/>
          <p:nvPr/>
        </p:nvSpPr>
        <p:spPr>
          <a:xfrm>
            <a:off x="2124000" y="4149720"/>
            <a:ext cx="503280" cy="2232000"/>
          </a:xfrm>
          <a:custGeom>
            <a:avLst/>
            <a:gdLst>
              <a:gd name="textAreaLeft" fmla="*/ 0 w 503280"/>
              <a:gd name="textAreaRight" fmla="*/ 181800 w 50328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25"/>
              <p:cNvSpPr txBox="1"/>
              <p:nvPr/>
            </p:nvSpPr>
            <p:spPr>
              <a:xfrm>
                <a:off x="2700360" y="5084640"/>
                <a:ext cx="32220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26"/>
          <p:cNvSpPr/>
          <p:nvPr/>
        </p:nvSpPr>
        <p:spPr>
          <a:xfrm>
            <a:off x="5572080" y="5500800"/>
            <a:ext cx="1071720" cy="431640"/>
          </a:xfrm>
          <a:prstGeom prst="roundRect">
            <a:avLst>
              <a:gd name="adj" fmla="val 16667"/>
            </a:avLst>
          </a:prstGeom>
          <a:solidFill>
            <a:srgbClr val="ff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E835-228B-47F7-88E5-76BE485DFC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166F-CC11-455C-A5B6-E640B0213A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8" descr="монетки"/>
          <p:cNvPicPr/>
          <p:nvPr/>
        </p:nvPicPr>
        <p:blipFill>
          <a:blip r:embed="rId2"/>
          <a:stretch/>
        </p:blipFill>
        <p:spPr>
          <a:xfrm>
            <a:off x="395280" y="1916280"/>
            <a:ext cx="1778040" cy="1904760"/>
          </a:xfrm>
          <a:prstGeom prst="rect">
            <a:avLst/>
          </a:prstGeom>
          <a:ln w="0">
            <a:noFill/>
          </a:ln>
        </p:spPr>
      </p:pic>
      <p:sp>
        <p:nvSpPr>
          <p:cNvPr id="164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83471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В случайном эксперименте симметричную монету бросают четырежды. Найдите вероятность того, что орел не выпадет ни раз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2717640" y="2060640"/>
            <a:ext cx="630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овие можно трактовать та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кова вероятность тог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все четыре раза выпадет реш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470880" y="3933720"/>
            <a:ext cx="231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-во благоприя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ыти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3853080" y="3500280"/>
            <a:ext cx="34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-во всех событий групп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1046880" y="465300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477000" y="5013360"/>
            <a:ext cx="23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тыре раза вып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ш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23"/>
              <p:cNvSpPr txBox="1"/>
              <p:nvPr/>
            </p:nvSpPr>
            <p:spPr>
              <a:xfrm>
                <a:off x="3714840" y="5357880"/>
                <a:ext cx="286848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6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Text Box 18"/>
          <p:cNvSpPr/>
          <p:nvPr/>
        </p:nvSpPr>
        <p:spPr>
          <a:xfrm>
            <a:off x="3652200" y="3929040"/>
            <a:ext cx="2315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 раз - 2 вариа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-й раз - 2 вариа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-й раз - 2 вариа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-й раз - 2 вариа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9"/>
          <p:cNvSpPr/>
          <p:nvPr/>
        </p:nvSpPr>
        <p:spPr>
          <a:xfrm>
            <a:off x="6235560" y="4002120"/>
            <a:ext cx="503280" cy="1069920"/>
          </a:xfrm>
          <a:custGeom>
            <a:avLst/>
            <a:gdLst>
              <a:gd name="textAreaLeft" fmla="*/ 0 w 503280"/>
              <a:gd name="textAreaRight" fmla="*/ 181800 w 503280"/>
              <a:gd name="textAreaTop" fmla="*/ 22320 h 1069920"/>
              <a:gd name="textAreaBottom" fmla="*/ 1047600 h 106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27"/>
                  <a:pt x="10800" y="1453"/>
                </a:cubicBezTo>
                <a:lnTo>
                  <a:pt x="10800" y="9347"/>
                </a:lnTo>
                <a:cubicBezTo>
                  <a:pt x="10800" y="10074"/>
                  <a:pt x="16200" y="10800"/>
                  <a:pt x="21600" y="10800"/>
                </a:cubicBezTo>
                <a:cubicBezTo>
                  <a:pt x="16200" y="10800"/>
                  <a:pt x="10800" y="11527"/>
                  <a:pt x="10800" y="12253"/>
                </a:cubicBezTo>
                <a:lnTo>
                  <a:pt x="10800" y="20147"/>
                </a:lnTo>
                <a:cubicBezTo>
                  <a:pt x="10800" y="2087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24"/>
              <p:cNvSpPr txBox="1"/>
              <p:nvPr/>
            </p:nvSpPr>
            <p:spPr>
              <a:xfrm>
                <a:off x="6870600" y="4289400"/>
                <a:ext cx="160992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C91C-AE4E-40B9-897F-E1AE28BF95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"/>
          <p:cNvSpPr/>
          <p:nvPr/>
        </p:nvSpPr>
        <p:spPr>
          <a:xfrm>
            <a:off x="2214720" y="3357720"/>
            <a:ext cx="6143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. Л. Бродский, Р. А. Литвиненко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оятность и статистик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М.: Аркти. - 200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рытый банк зада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F695-5128-426F-8889-0AD5C9148E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2"/>
          <p:cNvSpPr/>
          <p:nvPr/>
        </p:nvSpPr>
        <p:spPr>
          <a:xfrm>
            <a:off x="285840" y="357120"/>
            <a:ext cx="84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ассическое определение вероя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2"/>
          <p:cNvSpPr/>
          <p:nvPr/>
        </p:nvSpPr>
        <p:spPr>
          <a:xfrm>
            <a:off x="357120" y="1071720"/>
            <a:ext cx="842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Стохастическим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зывают опыт, если заранее нельзя предугадать его результаты. Результаты (исходы) такого опыта называются 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события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2"/>
          <p:cNvSpPr/>
          <p:nvPr/>
        </p:nvSpPr>
        <p:spPr>
          <a:xfrm>
            <a:off x="1071720" y="214308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брасывается игральный кубик (опыт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адает двойка (событ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357120" y="3071880"/>
            <a:ext cx="842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ытие, которое обязательно произойдет в результате испытания, называется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достоверны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а которое не может произойти, -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  невозможны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2"/>
          <p:cNvSpPr/>
          <p:nvPr/>
        </p:nvSpPr>
        <p:spPr>
          <a:xfrm>
            <a:off x="1143000" y="4429080"/>
            <a:ext cx="61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ешке лежат три картофел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1214280" y="4857840"/>
            <a:ext cx="61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ыт – изъятие овоща из меш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"/>
          <p:cNvSpPr/>
          <p:nvPr/>
        </p:nvSpPr>
        <p:spPr>
          <a:xfrm>
            <a:off x="1214280" y="5214960"/>
            <a:ext cx="66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стоверное событие – изъятие картофел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1214280" y="5572080"/>
            <a:ext cx="66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возможное событие – изъятие кабач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Без имени-1"/>
          <p:cNvPicPr/>
          <p:nvPr/>
        </p:nvPicPr>
        <p:blipFill>
          <a:blip r:embed="rId2"/>
          <a:stretch/>
        </p:blipFill>
        <p:spPr>
          <a:xfrm>
            <a:off x="7500960" y="2071800"/>
            <a:ext cx="57132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3337-2185-44FE-91B4-BDE2439CE4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"/>
          <p:cNvSpPr/>
          <p:nvPr/>
        </p:nvSpPr>
        <p:spPr>
          <a:xfrm>
            <a:off x="285840" y="357120"/>
            <a:ext cx="84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ческое определение вероя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"/>
          <p:cNvSpPr/>
          <p:nvPr/>
        </p:nvSpPr>
        <p:spPr>
          <a:xfrm>
            <a:off x="357120" y="1071720"/>
            <a:ext cx="842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Равновозможными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ют события, если в результате опыта ни одно из них не имеет большую возможность появления, чем друг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"/>
          <p:cNvSpPr/>
          <p:nvPr/>
        </p:nvSpPr>
        <p:spPr>
          <a:xfrm>
            <a:off x="857160" y="2143080"/>
            <a:ext cx="63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ыт 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брасывается моне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3"/>
          <p:cNvSpPr/>
          <p:nvPr/>
        </p:nvSpPr>
        <p:spPr>
          <a:xfrm>
            <a:off x="2300760" y="2428920"/>
            <a:ext cx="478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адение орла и выпадение решки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вновозможные собы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4"/>
          <p:cNvSpPr/>
          <p:nvPr/>
        </p:nvSpPr>
        <p:spPr>
          <a:xfrm>
            <a:off x="2292480" y="3286080"/>
            <a:ext cx="56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В урне лежат три шара. Два белых и си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5"/>
          <p:cNvSpPr/>
          <p:nvPr/>
        </p:nvSpPr>
        <p:spPr>
          <a:xfrm>
            <a:off x="2290320" y="3643200"/>
            <a:ext cx="324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ыт – извлечение ша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6"/>
          <p:cNvSpPr/>
          <p:nvPr/>
        </p:nvSpPr>
        <p:spPr>
          <a:xfrm>
            <a:off x="2286000" y="4000680"/>
            <a:ext cx="538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ытия – извлекли синий шар и извлек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лый шар - неравновозмож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7"/>
          <p:cNvSpPr/>
          <p:nvPr/>
        </p:nvSpPr>
        <p:spPr>
          <a:xfrm>
            <a:off x="2291040" y="4643280"/>
            <a:ext cx="594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явление белого шара имеет больше шансов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7F97-4F69-420C-AA2E-D65BD328AE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2"/>
          <p:cNvSpPr/>
          <p:nvPr/>
        </p:nvSpPr>
        <p:spPr>
          <a:xfrm>
            <a:off x="285840" y="357120"/>
            <a:ext cx="84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ческое определение вероя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357120" y="1071720"/>
            <a:ext cx="842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Несовместимыми  (несовместными)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ют события, если наступление одного из них исключает наступление других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"/>
          <p:cNvSpPr/>
          <p:nvPr/>
        </p:nvSpPr>
        <p:spPr>
          <a:xfrm>
            <a:off x="1000080" y="2143080"/>
            <a:ext cx="7572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В результате одного выбрасывания выпад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ел (событие А) или решка (событие 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3"/>
          <p:cNvSpPr/>
          <p:nvPr/>
        </p:nvSpPr>
        <p:spPr>
          <a:xfrm>
            <a:off x="214308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ытия А и В - несовмест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"/>
          <p:cNvSpPr/>
          <p:nvPr/>
        </p:nvSpPr>
        <p:spPr>
          <a:xfrm>
            <a:off x="1000080" y="3214800"/>
            <a:ext cx="7572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В результате двух выбрасываний выпад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ел (событие А) или решка (событие 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5"/>
          <p:cNvSpPr/>
          <p:nvPr/>
        </p:nvSpPr>
        <p:spPr>
          <a:xfrm>
            <a:off x="2143080" y="385776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ытия А и В - совместны. Выпадение орла в первый р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исключает выпадение решки во втор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F7D7-14B8-4C1D-8EB2-CF6176F733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"/>
          <p:cNvSpPr/>
          <p:nvPr/>
        </p:nvSpPr>
        <p:spPr>
          <a:xfrm>
            <a:off x="285840" y="357120"/>
            <a:ext cx="84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ческое определение вероя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"/>
          <p:cNvSpPr/>
          <p:nvPr/>
        </p:nvSpPr>
        <p:spPr>
          <a:xfrm>
            <a:off x="357120" y="1071720"/>
            <a:ext cx="842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Полной группой событий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ется множество всех событий рассматриваемого опыта, одно из которых обязательно произойдет, а любые два других несовмест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"/>
          <p:cNvSpPr/>
          <p:nvPr/>
        </p:nvSpPr>
        <p:spPr>
          <a:xfrm>
            <a:off x="1143000" y="292896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ыт 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ин раз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брасывается  моне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3"/>
          <p:cNvSpPr/>
          <p:nvPr/>
        </p:nvSpPr>
        <p:spPr>
          <a:xfrm>
            <a:off x="2286000" y="3357720"/>
            <a:ext cx="564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ментарные событ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падение ор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выпадение решки образуют полную групп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285840" y="2214720"/>
            <a:ext cx="84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ытия образующие полную группу называют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элементарными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E063-ACB9-41CF-BA49-42CBBE7521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2"/>
          <p:cNvSpPr/>
          <p:nvPr/>
        </p:nvSpPr>
        <p:spPr>
          <a:xfrm>
            <a:off x="428760" y="1928880"/>
            <a:ext cx="8429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Вероятность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случайного события А называется отношение числа элементарных событий, которые благоприятствуют этому событию, к общему числу всех элементарных событий, входящих в данную группу  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2"/>
          <p:cNvSpPr/>
          <p:nvPr/>
        </p:nvSpPr>
        <p:spPr>
          <a:xfrm>
            <a:off x="285840" y="4214880"/>
            <a:ext cx="84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P(A) = m/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"/>
          <p:cNvSpPr/>
          <p:nvPr/>
        </p:nvSpPr>
        <p:spPr>
          <a:xfrm>
            <a:off x="285840" y="357120"/>
            <a:ext cx="84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ческое определение вероя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CA85-F4C7-46A5-8C7E-A2B835B533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2"/>
          <p:cNvSpPr/>
          <p:nvPr/>
        </p:nvSpPr>
        <p:spPr>
          <a:xfrm>
            <a:off x="285840" y="357120"/>
            <a:ext cx="84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конечных множеств событий при нахожден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широко используют правила комбинатори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2"/>
          <p:cNvSpPr/>
          <p:nvPr/>
        </p:nvSpPr>
        <p:spPr>
          <a:xfrm>
            <a:off x="428760" y="2214720"/>
            <a:ext cx="685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а №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лько двузначных чисел мо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ить используя цифры 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8;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цифры могут повторяться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"/>
          <p:cNvSpPr/>
          <p:nvPr/>
        </p:nvSpPr>
        <p:spPr>
          <a:xfrm>
            <a:off x="1000080" y="328608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данном случае легко перебрать все комбин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2"/>
          <p:cNvSpPr/>
          <p:nvPr/>
        </p:nvSpPr>
        <p:spPr>
          <a:xfrm>
            <a:off x="1000080" y="3857760"/>
            <a:ext cx="785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1857240" y="3857760"/>
            <a:ext cx="785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"/>
          <p:cNvSpPr/>
          <p:nvPr/>
        </p:nvSpPr>
        <p:spPr>
          <a:xfrm>
            <a:off x="2643120" y="3857760"/>
            <a:ext cx="785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авая фигурная скобка 14"/>
          <p:cNvSpPr/>
          <p:nvPr/>
        </p:nvSpPr>
        <p:spPr>
          <a:xfrm rot="5400000">
            <a:off x="1821600" y="4107600"/>
            <a:ext cx="500040" cy="2000160"/>
          </a:xfrm>
          <a:custGeom>
            <a:avLst/>
            <a:gdLst>
              <a:gd name="textAreaLeft" fmla="*/ 0 w 500040"/>
              <a:gd name="textAreaRight" fmla="*/ 180360 w 500040"/>
              <a:gd name="textAreaTop" fmla="*/ 12960 h 2000160"/>
              <a:gd name="textAreaBottom" fmla="*/ 1987200 h 200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16200" y="10800"/>
                  <a:pt x="21600" y="10800"/>
                </a:cubicBezTo>
                <a:cubicBezTo>
                  <a:pt x="162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2"/>
          <p:cNvSpPr/>
          <p:nvPr/>
        </p:nvSpPr>
        <p:spPr>
          <a:xfrm>
            <a:off x="1285920" y="5357880"/>
            <a:ext cx="164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 вариа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3906-0853-49C6-8F8B-C0936D35E8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500040" y="428760"/>
            <a:ext cx="685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а №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лько пятизначных мо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ить используя цифры 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8;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цифры могут повторяться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2"/>
          <p:cNvSpPr/>
          <p:nvPr/>
        </p:nvSpPr>
        <p:spPr>
          <a:xfrm>
            <a:off x="857160" y="1500120"/>
            <a:ext cx="685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видим, в этой задаче перебор довольно затруднител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авая фигурная скобка 14"/>
          <p:cNvSpPr/>
          <p:nvPr/>
        </p:nvSpPr>
        <p:spPr>
          <a:xfrm>
            <a:off x="5214960" y="2286000"/>
            <a:ext cx="500040" cy="3429000"/>
          </a:xfrm>
          <a:custGeom>
            <a:avLst/>
            <a:gdLst>
              <a:gd name="textAreaLeft" fmla="*/ 0 w 500040"/>
              <a:gd name="textAreaRight" fmla="*/ 180360 w 500040"/>
              <a:gd name="textAreaTop" fmla="*/ 12960 h 3429000"/>
              <a:gd name="textAreaBottom" fmla="*/ 341604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1"/>
                  <a:pt x="10800" y="262"/>
                </a:cubicBezTo>
                <a:lnTo>
                  <a:pt x="10800" y="10538"/>
                </a:lnTo>
                <a:cubicBezTo>
                  <a:pt x="10800" y="10669"/>
                  <a:pt x="16200" y="10800"/>
                  <a:pt x="21600" y="10800"/>
                </a:cubicBezTo>
                <a:cubicBezTo>
                  <a:pt x="16200" y="10800"/>
                  <a:pt x="10800" y="10931"/>
                  <a:pt x="10800" y="11062"/>
                </a:cubicBezTo>
                <a:lnTo>
                  <a:pt x="10800" y="21338"/>
                </a:lnTo>
                <a:cubicBezTo>
                  <a:pt x="10800" y="21469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2"/>
          <p:cNvSpPr/>
          <p:nvPr/>
        </p:nvSpPr>
        <p:spPr>
          <a:xfrm>
            <a:off x="3429000" y="1785960"/>
            <a:ext cx="328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им задачу инач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2"/>
          <p:cNvSpPr/>
          <p:nvPr/>
        </p:nvSpPr>
        <p:spPr>
          <a:xfrm>
            <a:off x="785880" y="2143080"/>
            <a:ext cx="685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первом месте может стоя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ая из трех цифр – 3 вариан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"/>
          <p:cNvSpPr/>
          <p:nvPr/>
        </p:nvSpPr>
        <p:spPr>
          <a:xfrm>
            <a:off x="785880" y="2786040"/>
            <a:ext cx="685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втором месте может стоя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ая из трех цифр – 3 вариан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"/>
          <p:cNvSpPr/>
          <p:nvPr/>
        </p:nvSpPr>
        <p:spPr>
          <a:xfrm>
            <a:off x="785880" y="3500280"/>
            <a:ext cx="685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третьем месте может стоя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ая из трех цифр – 3 вариан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"/>
          <p:cNvSpPr/>
          <p:nvPr/>
        </p:nvSpPr>
        <p:spPr>
          <a:xfrm>
            <a:off x="785880" y="4214880"/>
            <a:ext cx="428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четвертом месте может стоя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ая из трех цифр – 3 вариан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"/>
          <p:cNvSpPr/>
          <p:nvPr/>
        </p:nvSpPr>
        <p:spPr>
          <a:xfrm>
            <a:off x="785880" y="4929120"/>
            <a:ext cx="428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пятом месте может стоя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ая из трех цифр – 3 вариан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23"/>
              <p:cNvSpPr txBox="1"/>
              <p:nvPr/>
            </p:nvSpPr>
            <p:spPr>
              <a:xfrm>
                <a:off x="5786280" y="3786120"/>
                <a:ext cx="254808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Прямоугольник 2"/>
          <p:cNvSpPr/>
          <p:nvPr/>
        </p:nvSpPr>
        <p:spPr>
          <a:xfrm>
            <a:off x="214200" y="5857920"/>
            <a:ext cx="771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Комбинаторное правило умн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A2DC-80DA-4420-AE8C-8AC655A8BD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2"/>
          <p:cNvSpPr/>
          <p:nvPr/>
        </p:nvSpPr>
        <p:spPr>
          <a:xfrm>
            <a:off x="285840" y="2500200"/>
            <a:ext cx="84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чи открытого ба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15:30:21Z</dcterms:created>
  <dc:creator>Дятел</dc:creator>
  <dc:description/>
  <dc:language>en-US</dc:language>
  <cp:lastModifiedBy>КарМаН</cp:lastModifiedBy>
  <dcterms:modified xsi:type="dcterms:W3CDTF">2011-11-21T19:49:48Z</dcterms:modified>
  <cp:revision>66</cp:revision>
  <dc:subject/>
  <dc:title>Теория вероятности и комбинаторные правила для решение задачи ЕГЭ В10</dc:title>
</cp:coreProperties>
</file>