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B87-2038-457C-A58C-E0A090146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2987-6960-4004-BD8A-7AB783846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48A-7DDD-47A5-86F6-00C7EC29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63F-C25A-4B9C-B6A2-B993A8AA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2CB-C01A-42F1-9B07-EADA7A85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3E0-D91F-4F8A-8EA0-0629DB48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D95-1007-4AE1-9817-31437F8C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087-B76A-49F5-BE37-39B5242D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D7C-85F8-4AEA-9BE1-58F22290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366-84A5-4A78-A0B2-2B441BE7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ADE-668B-42E8-B7C3-79750F1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261-8C40-4BC3-B342-D1DE09B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67C-7D31-48B4-9B57-02E3C24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345-91DD-4BEC-B9D6-00790A68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BDD4-1536-4E4E-BA94-F72D6C128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dmin\Рабочий стол\мама\мамино22\фоны детские\023944495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нетика, графика, орфография.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овторение пройденного в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5 – 8 класс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4643280"/>
            <a:ext cx="7572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рок русского языка в 9 классе подготовлен учителем русского языка и литературы МОУ СОШ № 46 г.Белгорода Захаровой Л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крепи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ведения по фонетике, полученные в предыдущих классах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ведения по орфографии и связанных с ней фонетических процесса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опросы на повторение фонет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Назовите самую малую единицу язы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Какой раздел лингвистики изучает звуки ре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На какие группы делятся звуки ре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В чем различие между звуками и букв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Сколько букв в русском алфави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В чем особенность букв Е, Ё, Ю, Я? Приведите примеры, когда эти буквы обозначают один звук, два зву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500200" y="1857240"/>
            <a:ext cx="3643560" cy="428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в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2500200" y="2714760"/>
            <a:ext cx="3643560" cy="428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Фон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2500200" y="3643200"/>
            <a:ext cx="3643560" cy="428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Гласные и согл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500200" y="4500720"/>
            <a:ext cx="3643560" cy="428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вуки произносят, буквы пиш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00200" y="5357880"/>
            <a:ext cx="3643560" cy="428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3 бук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делайте фонетический разбор сл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част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Дож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Чув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береч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бразуйте новые слова, прочитав в обратном порядке звуки данных сл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ед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орг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ес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ещ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Куль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4643280" y="214308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Т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643280" y="285768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ро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4643280" y="357192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4643280" y="435780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Щ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4643280" y="507204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Лю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400" y="1071360"/>
            <a:ext cx="83725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колько звуков «С» и сколько звуков «З» в предлож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222be"/>
                </a:solidFill>
                <a:latin typeface="Calibri"/>
              </a:rPr>
              <a:t>       </a:t>
            </a:r>
            <a:r>
              <a:rPr b="1" i="1" lang="ru-RU" sz="4400" spc="-1" strike="noStrike">
                <a:solidFill>
                  <a:srgbClr val="1222be"/>
                </a:solidFill>
                <a:latin typeface="Calibri"/>
              </a:rPr>
              <a:t>Позже раздался резкий звук, словно сделанный железкой по стеклу.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 звука «С» – ре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ий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ловно, желе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й, п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екл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 звука «З» – ра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ался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ук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елан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бъяснительный словарный дик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      …</a:t>
            </a: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дача, нян(?)чить, отреж…те, гиган…ский, смн(?)щик, январ(?)ский, фальш…, лес…ница, фотос…емка, веч(?)ный, невтерпеж…, и…подлоб…я, сверх…естественный, сел…дь, …брить, прилеч…, мач(?)та, мощ…ность, муж…ина, жен(?)щина, в…крикнуть, в…лететь, …жечь, прос…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черкните слова, в которых количество звуков не совпадает с количеством бук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чем заключается необычность стихотворения В.Брюсо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Алый бархат вечере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Горделиво дремлют е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Жаждет зелень, и ию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Колыбельной лаской мле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е буквы каждого слова стихотворения соответствуют порядку букв в русском алфави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D:\все презентации\обои для стола\лес\Nature_Forest__029287_.jpg"/>
          <p:cNvPicPr/>
          <p:nvPr/>
        </p:nvPicPr>
        <p:blipFill>
          <a:blip r:embed="rId2"/>
          <a:stretch/>
        </p:blipFill>
        <p:spPr>
          <a:xfrm>
            <a:off x="5786280" y="1714680"/>
            <a:ext cx="3191040" cy="23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Желаю </a:t>
            </a:r>
            <a:br>
              <a:rPr sz="8000"/>
            </a:b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удачи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04T19:20:36Z</dcterms:modified>
  <cp:revision>15</cp:revision>
  <dc:subject/>
  <dc:title>Слайд 1</dc:title>
</cp:coreProperties>
</file>