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BA12-5130-439B-AF78-9877870BD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5439-4BD2-43DB-87D5-E52B984B3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0C9-92E4-4F08-BCEC-2C2B735E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D98-65E0-42A5-A424-62AFF821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5DC-1974-41C9-ACAF-A46B3831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228-2640-432C-8EE0-F90826E5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026-4FE6-41C9-B109-6617B48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FB5-BF1D-466D-B39B-2CE234AF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F2C-6DC9-4528-8B2C-42DA6F21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EA2-5E3D-4C28-B401-A32115B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BE1-D84F-4E5C-A85D-AD759D0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142-8B2B-420C-B87B-61A9BFE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B4B-0EC6-4CDD-8ABA-D6AA108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8E0-2D1F-4017-B414-ED2E2B4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38D7-CD3D-4F6F-9938-0B3F76AC1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dmin\Рабочий стол\мама\мамино22\фоны детские\023944495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нетика, графика, орфография.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овторение пройденного в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5 – 8 класс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4643280"/>
            <a:ext cx="7572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рок русского языка в 9 классе подготовлен учителем русского языка и литературы МОУ СОШ № 46 г.Белгорода Захаровой Л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крепи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едения по фонетике, полученные в предыдущих классах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едения по орфографии и связанных с ней фонетических процесса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просы на повторение фонет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Назовите самую малую единицу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Какой раздел лингвистики изучает звуки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На какие группы делятся звуки ре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В чем различие между звуками и букв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Сколько букв в русском алфави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0000"/>
                </a:solidFill>
                <a:latin typeface="Calibri"/>
              </a:rPr>
              <a:t>В чем особенность букв Е, Ё, Ю, Я? Приведите примеры, когда эти буквы обозначают один звук, два зву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6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00200" y="1857240"/>
            <a:ext cx="3643560" cy="428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2500200" y="2714760"/>
            <a:ext cx="3643560" cy="428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Фон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2500200" y="3643200"/>
            <a:ext cx="3643560" cy="428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ласные и 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00200" y="4500720"/>
            <a:ext cx="3643560" cy="428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вуки произносят, буквы пиш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00200" y="5357880"/>
            <a:ext cx="3643560" cy="428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3 бук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делайте фонетический разбор с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част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Дож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Чув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береч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бразуйте новые слова, прочитав в обратном порядке звуки данных с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д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орг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с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ещ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уль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4643280" y="214308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Т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643280" y="285768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ро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4643280" y="357192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4643280" y="435780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Щ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4643280" y="5072040"/>
            <a:ext cx="1857600" cy="500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Лю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400" y="1071360"/>
            <a:ext cx="83725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колько звуков «С» и сколько звуков «З» в предлож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222be"/>
                </a:solidFill>
                <a:latin typeface="Calibri"/>
              </a:rPr>
              <a:t>       </a:t>
            </a:r>
            <a:r>
              <a:rPr b="1" i="1" lang="ru-RU" sz="4400" spc="-1" strike="noStrike">
                <a:solidFill>
                  <a:srgbClr val="1222be"/>
                </a:solidFill>
                <a:latin typeface="Calibri"/>
              </a:rPr>
              <a:t>Позже раздался резкий звук, словно сделанный железкой по стеклу.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 звука «С» – р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ий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ловно, желе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й,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к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 звука «З» – ра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ался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ук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елан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бъяснительный словарны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      …</a:t>
            </a: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дача, нян(?)чить, отреж…те, гиган…ский, смн(?)щик, январ(?)ский, фальш…, лес…ница, фотос…емка, веч(?)ный, невтерпеж…, и…подлоб…я, сверх…естественный, сел…дь, …брить, прилеч…, мач(?)та, мощ…ность, муж…ина, жен(?)щина, в…крикнуть, в…лететь, …жечь, прос…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дчеркните слова, в которых количество звуков не совпадает с количеством бук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Фоне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чем заключается необычность стихотворения В.Брюс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Алый бархат вечере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Горделиво дремлют е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Жаждет зелень, и ию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2be"/>
                </a:solidFill>
                <a:latin typeface="Calibri"/>
              </a:rPr>
              <a:t>Колыбельной лаской мле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е буквы каждого слова стихотворения соответствуют порядку букв в русском алфав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D:\все презентации\обои для стола\лес\Nature_Forest__029287_.jpg"/>
          <p:cNvPicPr/>
          <p:nvPr/>
        </p:nvPicPr>
        <p:blipFill>
          <a:blip r:embed="rId2"/>
          <a:stretch/>
        </p:blipFill>
        <p:spPr>
          <a:xfrm>
            <a:off x="5786280" y="1714680"/>
            <a:ext cx="3191040" cy="23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:\Documents and Settings\Admin\Рабочий стол\мама\мамино22\фоны оформл\6f1a6583c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Желаю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удачи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04T19:20:36Z</dcterms:modified>
  <cp:revision>15</cp:revision>
  <dc:subject/>
  <dc:title>Слайд 1</dc:title>
</cp:coreProperties>
</file>