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30.png" ContentType="image/png"/>
  <Override PartName="/ppt/media/image32.jpeg" ContentType="image/jpeg"/>
  <Override PartName="/ppt/media/image31.jpeg" ContentType="image/jpeg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jpeg" ContentType="image/jpeg"/>
  <Override PartName="/ppt/media/image40.png" ContentType="image/png"/>
  <Override PartName="/ppt/media/image2.jpeg" ContentType="image/jpeg"/>
  <Override PartName="/ppt/media/image36.jpeg" ContentType="image/jpeg"/>
  <Override PartName="/ppt/media/image24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E16E-9D32-4001-B20A-E8BA008A2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32A-9573-411F-A82E-DDF31EF86E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497-ACD6-485F-BD54-B6A17F23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D58-399F-4EFE-B3DE-3A717DF6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2A0-1923-4C23-8F55-887826A1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F4D-6151-4660-9A2C-30E38B2E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BEA-4506-465A-AF75-09263C9B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530-B009-4312-820B-FECB462E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ACD-3E0D-4D04-8C54-2F6D2E94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F54-640F-42FB-8035-CF5955E1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8B9-93A1-4729-A086-EAE48AEC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CED-83D1-43A3-BF38-D47DA97D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4F2-B787-4452-BACE-C98FC73F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A5A-3FB8-4EC8-ADF1-76994714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8F33-8A5D-4A8B-9707-5D29DC7A7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1206360" y="-6480"/>
            <a:ext cx="6870960" cy="2371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857840" y="5214960"/>
            <a:ext cx="407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каченко Лидия Ивановн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МОУ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. Песчанооз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Амур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yrigag.narod.ru/Slem.jpg"/>
          <p:cNvPicPr/>
          <p:nvPr/>
        </p:nvPicPr>
        <p:blipFill>
          <a:blip r:embed="rId2"/>
          <a:stretch/>
        </p:blipFill>
        <p:spPr>
          <a:xfrm>
            <a:off x="285840" y="2786040"/>
            <a:ext cx="33066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500040" y="809280"/>
            <a:ext cx="82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Одним из первых предложивших использовать ракету для полета человека в небо был молодой русский народоволец студент Николай Иванович Кибальчич. Всего за несколько дней до казни он разработал проект ракетного летательного аппарата. Кибальчичем руководило горячее желание оставить людям переполнявшую его иде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321480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К о р о л е в С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1907 – 19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583560" y="4500720"/>
            <a:ext cx="1567440" cy="2154240"/>
            <a:chOff x="583560" y="4500720"/>
            <a:chExt cx="1567440" cy="2154240"/>
          </a:xfrm>
        </p:grpSpPr>
        <p:pic>
          <p:nvPicPr>
            <p:cNvPr id="85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64640" y="450072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2"/>
            <p:cNvSpPr/>
            <p:nvPr/>
          </p:nvSpPr>
          <p:spPr>
            <a:xfrm>
              <a:off x="583560" y="62866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Келдыш М. 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545400" y="357120"/>
            <a:ext cx="1710720" cy="1861560"/>
            <a:chOff x="545400" y="357120"/>
            <a:chExt cx="1710720" cy="1861560"/>
          </a:xfrm>
        </p:grpSpPr>
        <p:pic>
          <p:nvPicPr>
            <p:cNvPr id="88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16760" y="35712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4"/>
            <p:cNvSpPr/>
            <p:nvPr/>
          </p:nvSpPr>
          <p:spPr>
            <a:xfrm>
              <a:off x="545400" y="185040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Жуковский Н. 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8"/>
          <p:cNvGrpSpPr/>
          <p:nvPr/>
        </p:nvGrpSpPr>
        <p:grpSpPr>
          <a:xfrm>
            <a:off x="514440" y="2357280"/>
            <a:ext cx="1632960" cy="2063520"/>
            <a:chOff x="514440" y="2357280"/>
            <a:chExt cx="1632960" cy="2063520"/>
          </a:xfrm>
        </p:grpSpPr>
        <p:pic>
          <p:nvPicPr>
            <p:cNvPr id="91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714600" y="2357280"/>
              <a:ext cx="14328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7"/>
            <p:cNvSpPr/>
            <p:nvPr/>
          </p:nvSpPr>
          <p:spPr>
            <a:xfrm>
              <a:off x="514440" y="405252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Цандер Ф. 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46 -0.00532 L 0.34254 -0.13125 E">
                                      <p:cBhvr>
                                        <p:cTn id="137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11 -0.03495 L 0.32379 -0.16088 E">
                                      <p:cBhvr>
                                        <p:cTn id="14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5707080" y="1571760"/>
            <a:ext cx="3436200" cy="4602600"/>
            <a:chOff x="5707080" y="1571760"/>
            <a:chExt cx="3436200" cy="4602600"/>
          </a:xfrm>
        </p:grpSpPr>
        <p:pic>
          <p:nvPicPr>
            <p:cNvPr id="96" name="Picture 10" descr="Жуковский"/>
            <p:cNvPicPr/>
            <p:nvPr/>
          </p:nvPicPr>
          <p:blipFill>
            <a:blip r:embed="rId2"/>
            <a:stretch/>
          </p:blipFill>
          <p:spPr>
            <a:xfrm>
              <a:off x="5789880" y="1571760"/>
              <a:ext cx="3353400" cy="42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4"/>
            <p:cNvSpPr/>
            <p:nvPr/>
          </p:nvSpPr>
          <p:spPr>
            <a:xfrm>
              <a:off x="5707080" y="5714640"/>
              <a:ext cx="32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Жуковский Н.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Прямоугольник 7" descr=""/>
          <p:cNvPicPr/>
          <p:nvPr/>
        </p:nvPicPr>
        <p:blipFill>
          <a:blip r:embed="rId3"/>
          <a:stretch/>
        </p:blipFill>
        <p:spPr>
          <a:xfrm>
            <a:off x="-6480" y="1859040"/>
            <a:ext cx="5730840" cy="5005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42960" y="437760"/>
            <a:ext cx="8072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фессор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Жуковский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7 - 1921 гг.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-66600" y="30240"/>
            <a:ext cx="96123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99680" y="2214360"/>
            <a:ext cx="41943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оветский ученый и изобретатель в области теории межпланетных полетов, реактивных двигател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цандер"/>
          <p:cNvPicPr/>
          <p:nvPr/>
        </p:nvPicPr>
        <p:blipFill>
          <a:blip r:embed="rId2"/>
          <a:stretch/>
        </p:blipFill>
        <p:spPr>
          <a:xfrm>
            <a:off x="5684760" y="2071800"/>
            <a:ext cx="3459240" cy="43434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5" descr=""/>
          <p:cNvPicPr/>
          <p:nvPr/>
        </p:nvPicPr>
        <p:blipFill>
          <a:blip r:embed="rId3"/>
          <a:stretch/>
        </p:blipFill>
        <p:spPr>
          <a:xfrm>
            <a:off x="324000" y="-133200"/>
            <a:ext cx="863748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5786280" y="1500120"/>
            <a:ext cx="3128400" cy="4785480"/>
            <a:chOff x="5786280" y="1500120"/>
            <a:chExt cx="3128400" cy="4785480"/>
          </a:xfrm>
        </p:grpSpPr>
        <p:pic>
          <p:nvPicPr>
            <p:cNvPr id="110" name="Picture 9" descr="keldysh"/>
            <p:cNvPicPr/>
            <p:nvPr/>
          </p:nvPicPr>
          <p:blipFill>
            <a:blip r:embed="rId2"/>
            <a:stretch/>
          </p:blipFill>
          <p:spPr>
            <a:xfrm>
              <a:off x="5786280" y="1500120"/>
              <a:ext cx="3128400" cy="40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2"/>
            <p:cNvSpPr/>
            <p:nvPr/>
          </p:nvSpPr>
          <p:spPr>
            <a:xfrm>
              <a:off x="6378480" y="5643000"/>
              <a:ext cx="192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Келдыш М. 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Rectangle 7" descr=""/>
          <p:cNvPicPr/>
          <p:nvPr/>
        </p:nvPicPr>
        <p:blipFill>
          <a:blip r:embed="rId3"/>
          <a:stretch/>
        </p:blipFill>
        <p:spPr>
          <a:xfrm>
            <a:off x="12600" y="1395360"/>
            <a:ext cx="5565960" cy="5054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785880" y="21420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стислав Всеволодович Келд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0.02.1911г. Рига – 24.06.1978г. Моск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едложил при полетах к другим планетам выводить корабль на орбиту его искусственного спут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ля посадки человека на другую планету и возвращения на корабль применить небольшой взлетно-посадочный кораб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кондратюк"/>
          <p:cNvPicPr/>
          <p:nvPr/>
        </p:nvPicPr>
        <p:blipFill>
          <a:blip r:embed="rId2"/>
          <a:stretch/>
        </p:blipFill>
        <p:spPr>
          <a:xfrm>
            <a:off x="6095880" y="185724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3"/>
          <a:stretch/>
        </p:blipFill>
        <p:spPr>
          <a:xfrm>
            <a:off x="115920" y="-133200"/>
            <a:ext cx="933300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00040" y="3214800"/>
            <a:ext cx="44006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онструктор ракетных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енеральный Конструктор центра разработки и создания космических кораб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Гагарин и Королёв"/>
          <p:cNvPicPr/>
          <p:nvPr/>
        </p:nvPicPr>
        <p:blipFill>
          <a:blip r:embed="rId2"/>
          <a:stretch/>
        </p:blipFill>
        <p:spPr>
          <a:xfrm>
            <a:off x="5381640" y="1928880"/>
            <a:ext cx="3560760" cy="46242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0"/>
            <a:ext cx="844200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http://www.federalspace.ru/img/site/2009_12_20_p02_700.jpg"/>
          <p:cNvPicPr/>
          <p:nvPr/>
        </p:nvPicPr>
        <p:blipFill>
          <a:blip r:embed="rId1"/>
          <a:stretch/>
        </p:blipFill>
        <p:spPr>
          <a:xfrm>
            <a:off x="571680" y="28584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http://www.federalspace.ru/img/site/2009_12_18_p01_700.jpg"/>
          <p:cNvPicPr/>
          <p:nvPr/>
        </p:nvPicPr>
        <p:blipFill>
          <a:blip r:embed="rId1"/>
          <a:stretch/>
        </p:blipFill>
        <p:spPr>
          <a:xfrm>
            <a:off x="571680" y="357120"/>
            <a:ext cx="8143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3292560" y="249120"/>
            <a:ext cx="5906880" cy="6969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mcc.rsa.ru/Pic/Gagarin_50/6.jpg"/>
          <p:cNvPicPr/>
          <p:nvPr/>
        </p:nvPicPr>
        <p:blipFill>
          <a:blip r:embed="rId2"/>
          <a:stretch/>
        </p:blipFill>
        <p:spPr>
          <a:xfrm>
            <a:off x="214200" y="142920"/>
            <a:ext cx="2786040" cy="4000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14200" y="4786200"/>
            <a:ext cx="30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В.В.Путин председатель Правительства РФ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http://www.federalspace.ru/img/site/2009_12_23_001_700.jpg"/>
          <p:cNvPicPr/>
          <p:nvPr/>
        </p:nvPicPr>
        <p:blipFill>
          <a:blip r:embed="rId1"/>
          <a:stretch/>
        </p:blipFill>
        <p:spPr>
          <a:xfrm>
            <a:off x="428760" y="428760"/>
            <a:ext cx="8072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 спутник пр"/>
          <p:cNvPicPr/>
          <p:nvPr/>
        </p:nvPicPr>
        <p:blipFill>
          <a:blip r:embed="rId1"/>
          <a:stretch/>
        </p:blipFill>
        <p:spPr>
          <a:xfrm>
            <a:off x="0" y="0"/>
            <a:ext cx="9144000" cy="7077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21337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4 октября 1957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6216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вый искусственный спутник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1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9" name="Picture 5" descr="D:\РАЗНЫЕ КАРТИНКИ\открытки\день космонавтики\лайка.jpg"/>
          <p:cNvPicPr/>
          <p:nvPr/>
        </p:nvPicPr>
        <p:blipFill>
          <a:blip r:embed="rId2"/>
          <a:stretch/>
        </p:blipFill>
        <p:spPr>
          <a:xfrm>
            <a:off x="447660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:\РАЗНЫЕ КАРТИНКИ\открытки\день космонавтики\belka-strelka-crop.jpg"/>
          <p:cNvPicPr/>
          <p:nvPr/>
        </p:nvPicPr>
        <p:blipFill>
          <a:blip r:embed="rId3"/>
          <a:stretch/>
        </p:blipFill>
        <p:spPr>
          <a:xfrm>
            <a:off x="0" y="3357720"/>
            <a:ext cx="4857840" cy="33271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7"/>
          <p:cNvSpPr/>
          <p:nvPr/>
        </p:nvSpPr>
        <p:spPr>
          <a:xfrm>
            <a:off x="0" y="2142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0 августа 1960 года в космос летали собаки Белка и Стрелка, это были первые животные, которые  благополучно вернулись  из космического пол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5072040" y="3571920"/>
            <a:ext cx="407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сле суточного полета они были возвращены на Землю в катапультируемой капсуле и стали мировыми знаменит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Picture 4" descr="Новый рисунок (4)"/>
          <p:cNvPicPr/>
          <p:nvPr/>
        </p:nvPicPr>
        <p:blipFill>
          <a:blip r:embed="rId2"/>
          <a:stretch/>
        </p:blipFill>
        <p:spPr>
          <a:xfrm>
            <a:off x="357120" y="500040"/>
            <a:ext cx="8396280" cy="40719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1071720" y="5357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вопроходцы косм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емной разум во Вселе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://pics.livejournal.com/anzee/pic/0008x4gt/t9678z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80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pics.livejournal.com/anzee/pic/0008wcpy/t9678z"/>
          <p:cNvPicPr/>
          <p:nvPr/>
        </p:nvPicPr>
        <p:blipFill>
          <a:blip r:embed="rId2"/>
          <a:stretch/>
        </p:blipFill>
        <p:spPr>
          <a:xfrm>
            <a:off x="5486400" y="1295280"/>
            <a:ext cx="3429000" cy="2745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pics.livejournal.com/anzee/pic/0008qk6t/t9678z"/>
          <p:cNvPicPr/>
          <p:nvPr/>
        </p:nvPicPr>
        <p:blipFill>
          <a:blip r:embed="rId3"/>
          <a:stretch/>
        </p:blipFill>
        <p:spPr>
          <a:xfrm>
            <a:off x="2666880" y="3978360"/>
            <a:ext cx="3429000" cy="27334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4"/>
          <a:stretch/>
        </p:blipFill>
        <p:spPr>
          <a:xfrm>
            <a:off x="384120" y="6480"/>
            <a:ext cx="85154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TextBox 2" descr=""/>
          <p:cNvPicPr/>
          <p:nvPr/>
        </p:nvPicPr>
        <p:blipFill>
          <a:blip r:embed="rId2"/>
          <a:stretch/>
        </p:blipFill>
        <p:spPr>
          <a:xfrm>
            <a:off x="781200" y="853920"/>
            <a:ext cx="77295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mcc.rsa.ru/Pic/Gagarin_50/6.jpg"/>
          <p:cNvPicPr/>
          <p:nvPr/>
        </p:nvPicPr>
        <p:blipFill>
          <a:blip r:embed="rId1"/>
          <a:stretch/>
        </p:blipFill>
        <p:spPr>
          <a:xfrm>
            <a:off x="214200" y="142920"/>
            <a:ext cx="2857680" cy="40003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3517920" y="225360"/>
            <a:ext cx="5522760" cy="6620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142920" y="435780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В.В.Путин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На заседании оргкомитета по подготовке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и проведению празднования 50-летия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полёта в космос Ю.А.Гагарина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Фото с сайта Правительства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mcc.rsa.ru/Pic/Gagarin_50/7.jpg"/>
          <p:cNvPicPr/>
          <p:nvPr/>
        </p:nvPicPr>
        <p:blipFill>
          <a:blip r:embed="rId1"/>
          <a:stretch/>
        </p:blipFill>
        <p:spPr>
          <a:xfrm>
            <a:off x="0" y="1643040"/>
            <a:ext cx="2643120" cy="37148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3" descr=""/>
          <p:cNvPicPr/>
          <p:nvPr/>
        </p:nvPicPr>
        <p:blipFill>
          <a:blip r:embed="rId2"/>
          <a:stretch/>
        </p:blipFill>
        <p:spPr>
          <a:xfrm>
            <a:off x="2627280" y="993600"/>
            <a:ext cx="6692760" cy="5967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781200" y="-122400"/>
            <a:ext cx="7729560" cy="157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357200" y="1285920"/>
            <a:ext cx="6858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же много тысяч лет назад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лядя на ночное небо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ловек мечтал о полете к звезда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ириады мерцающих ночных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ветил заставляли его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носиться мыслью в безбрежны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ли Вселенн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удили воображение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ставляли задумываться над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йнами мирозд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1"/>
          <a:stretch/>
        </p:blipFill>
        <p:spPr>
          <a:xfrm>
            <a:off x="865080" y="-212760"/>
            <a:ext cx="73519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зскиз лит аппарата Л да В"/>
          <p:cNvPicPr/>
          <p:nvPr/>
        </p:nvPicPr>
        <p:blipFill>
          <a:blip r:embed="rId1"/>
          <a:stretch/>
        </p:blipFill>
        <p:spPr>
          <a:xfrm>
            <a:off x="1571760" y="2286000"/>
            <a:ext cx="5763960" cy="3683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28760" y="428760"/>
            <a:ext cx="86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СКИЗ  ЛЕТАТЕЛЬНОГО  АП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ЛЕОНАРДО  ДА  ВИН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96560" cy="1481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5357880" y="1571760"/>
            <a:ext cx="3286080" cy="44226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4"/>
          <a:stretch/>
        </p:blipFill>
        <p:spPr>
          <a:xfrm>
            <a:off x="171360" y="2206800"/>
            <a:ext cx="52056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sio"/>
          <p:cNvPicPr/>
          <p:nvPr/>
        </p:nvPicPr>
        <p:blipFill>
          <a:blip r:embed="rId2"/>
          <a:stretch/>
        </p:blipFill>
        <p:spPr>
          <a:xfrm>
            <a:off x="5786280" y="404640"/>
            <a:ext cx="3105360" cy="3881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6302520" y="4572000"/>
            <a:ext cx="266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Циолковский К. 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1857 – 195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18040" y="141120"/>
            <a:ext cx="4391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1903 г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опубликовал тру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«Исследование мировых простран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реактивными прибор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76200" y="1773360"/>
            <a:ext cx="48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реактивного двиг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96280" y="2565360"/>
            <a:ext cx="468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79440" y="450864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по Солнцу или другим небесным свети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6880" y="378936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атмосф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63960" y="3068640"/>
            <a:ext cx="46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весом конструкции раке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mg_016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68360" y="620640"/>
            <a:ext cx="7864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Человечество не останется на Земл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 в погоне за светом и простра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ачала робко проникнет за пределы атмосфе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затем завоюет себе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олосолнечное простран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олковский К.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1:06:44Z</dcterms:created>
  <dc:creator>DNS</dc:creator>
  <dc:description/>
  <dc:language>en-US</dc:language>
  <cp:lastModifiedBy>ольга</cp:lastModifiedBy>
  <dcterms:modified xsi:type="dcterms:W3CDTF">2012-01-26T07:14:04Z</dcterms:modified>
  <cp:revision>32</cp:revision>
  <dc:subject/>
  <dc:title>Слайд 1</dc:title>
</cp:coreProperties>
</file>