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30.png" ContentType="image/png"/>
  <Override PartName="/ppt/media/image32.jpeg" ContentType="image/jpeg"/>
  <Override PartName="/ppt/media/image31.jpeg" ContentType="image/jpe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jpeg" ContentType="image/jpeg"/>
  <Override PartName="/ppt/media/image40.png" ContentType="image/png"/>
  <Override PartName="/ppt/media/image2.jpeg" ContentType="image/jpeg"/>
  <Override PartName="/ppt/media/image36.jpeg" ContentType="image/jpeg"/>
  <Override PartName="/ppt/media/image24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2B0-5EB7-4D7E-94BE-3C163EE23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C23-37CB-447D-8CDD-4F3BD9263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BCD-5E75-4A63-8A52-305DF0B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D45-6BF6-43BB-8A16-3D4E614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916-8618-49AD-B430-35C1F13D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FEB-5F9B-4480-A17A-E0557677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A1F-750A-4C12-8DBA-71362E61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1B5-749D-41C5-8089-23542534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BBA-8706-4574-8990-BFE9924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2D4-65E6-4B0B-A1E3-FDDD25C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315-9A61-4E1F-8F17-83B62165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216-6E3D-478D-90A7-95541531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7D7-2AF7-4F2D-874E-E0BDC37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413-B39A-48F4-9EBD-29A1D48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F49D-D20A-46A5-893A-21487F5CB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206360" y="-6480"/>
            <a:ext cx="6870960" cy="2371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857840" y="52149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каченко Лидия Ивановн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МОУ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. Песчанооз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мур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yrigag.narod.ru/Slem.jpg"/>
          <p:cNvPicPr/>
          <p:nvPr/>
        </p:nvPicPr>
        <p:blipFill>
          <a:blip r:embed="rId2"/>
          <a:stretch/>
        </p:blipFill>
        <p:spPr>
          <a:xfrm>
            <a:off x="285840" y="2786040"/>
            <a:ext cx="33066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500040" y="80928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дним из первых предложивших использовать ракету для полета человека в небо был молодой русский народоволец студент Николай Иванович Кибальчич. Всего за несколько дней до казни он разработал проект ракетного летательного аппарата. Кибальчичем руководило горячее желание оставить людям переполнявшую его иде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321480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К о р о л е в С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1907 –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583560" y="4500720"/>
            <a:ext cx="1567440" cy="2154240"/>
            <a:chOff x="583560" y="4500720"/>
            <a:chExt cx="1567440" cy="2154240"/>
          </a:xfrm>
        </p:grpSpPr>
        <p:pic>
          <p:nvPicPr>
            <p:cNvPr id="85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64640" y="450072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2"/>
            <p:cNvSpPr/>
            <p:nvPr/>
          </p:nvSpPr>
          <p:spPr>
            <a:xfrm>
              <a:off x="583560" y="62866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545400" y="357120"/>
            <a:ext cx="1710720" cy="1861560"/>
            <a:chOff x="545400" y="357120"/>
            <a:chExt cx="1710720" cy="1861560"/>
          </a:xfrm>
        </p:grpSpPr>
        <p:pic>
          <p:nvPicPr>
            <p:cNvPr id="88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16760" y="35712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4"/>
            <p:cNvSpPr/>
            <p:nvPr/>
          </p:nvSpPr>
          <p:spPr>
            <a:xfrm>
              <a:off x="545400" y="185040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8"/>
          <p:cNvGrpSpPr/>
          <p:nvPr/>
        </p:nvGrpSpPr>
        <p:grpSpPr>
          <a:xfrm>
            <a:off x="514440" y="2357280"/>
            <a:ext cx="1632960" cy="2063520"/>
            <a:chOff x="514440" y="2357280"/>
            <a:chExt cx="1632960" cy="2063520"/>
          </a:xfrm>
        </p:grpSpPr>
        <p:pic>
          <p:nvPicPr>
            <p:cNvPr id="91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714600" y="2357280"/>
              <a:ext cx="14328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"/>
            <p:cNvSpPr/>
            <p:nvPr/>
          </p:nvSpPr>
          <p:spPr>
            <a:xfrm>
              <a:off x="514440" y="405252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андер Ф. 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-0.00532 L 0.34254 -0.13125 E">
                                      <p:cBhvr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3495 L 0.32379 -0.16088 E">
                                      <p:cBhvr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707080" y="1571760"/>
            <a:ext cx="3436200" cy="4602600"/>
            <a:chOff x="5707080" y="1571760"/>
            <a:chExt cx="3436200" cy="4602600"/>
          </a:xfrm>
        </p:grpSpPr>
        <p:pic>
          <p:nvPicPr>
            <p:cNvPr id="96" name="Picture 10" descr="Жуковский"/>
            <p:cNvPicPr/>
            <p:nvPr/>
          </p:nvPicPr>
          <p:blipFill>
            <a:blip r:embed="rId2"/>
            <a:stretch/>
          </p:blipFill>
          <p:spPr>
            <a:xfrm>
              <a:off x="5789880" y="1571760"/>
              <a:ext cx="335340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4"/>
            <p:cNvSpPr/>
            <p:nvPr/>
          </p:nvSpPr>
          <p:spPr>
            <a:xfrm>
              <a:off x="5707080" y="5714640"/>
              <a:ext cx="32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1859040"/>
            <a:ext cx="5730840" cy="5005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42960" y="43776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фессор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7 - 1921 гг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-66600" y="30240"/>
            <a:ext cx="96123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99680" y="2214360"/>
            <a:ext cx="41943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цандер"/>
          <p:cNvPicPr/>
          <p:nvPr/>
        </p:nvPicPr>
        <p:blipFill>
          <a:blip r:embed="rId2"/>
          <a:stretch/>
        </p:blipFill>
        <p:spPr>
          <a:xfrm>
            <a:off x="5684760" y="2071800"/>
            <a:ext cx="34592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" descr=""/>
          <p:cNvPicPr/>
          <p:nvPr/>
        </p:nvPicPr>
        <p:blipFill>
          <a:blip r:embed="rId3"/>
          <a:stretch/>
        </p:blipFill>
        <p:spPr>
          <a:xfrm>
            <a:off x="324000" y="-133200"/>
            <a:ext cx="863748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5786280" y="1500120"/>
            <a:ext cx="3128400" cy="4785480"/>
            <a:chOff x="5786280" y="1500120"/>
            <a:chExt cx="3128400" cy="4785480"/>
          </a:xfrm>
        </p:grpSpPr>
        <p:pic>
          <p:nvPicPr>
            <p:cNvPr id="110" name="Picture 9" descr="keldysh"/>
            <p:cNvPicPr/>
            <p:nvPr/>
          </p:nvPicPr>
          <p:blipFill>
            <a:blip r:embed="rId2"/>
            <a:stretch/>
          </p:blipFill>
          <p:spPr>
            <a:xfrm>
              <a:off x="5786280" y="1500120"/>
              <a:ext cx="3128400" cy="40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378480" y="5643000"/>
              <a:ext cx="192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ectangle 7" descr=""/>
          <p:cNvPicPr/>
          <p:nvPr/>
        </p:nvPicPr>
        <p:blipFill>
          <a:blip r:embed="rId3"/>
          <a:stretch/>
        </p:blipFill>
        <p:spPr>
          <a:xfrm>
            <a:off x="12600" y="1395360"/>
            <a:ext cx="5565960" cy="5054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785880" y="214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стислав Всеволодович Келд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0.02.1911г. Рига – 24.06.1978г. Моск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кондратюк"/>
          <p:cNvPicPr/>
          <p:nvPr/>
        </p:nvPicPr>
        <p:blipFill>
          <a:blip r:embed="rId2"/>
          <a:stretch/>
        </p:blipFill>
        <p:spPr>
          <a:xfrm>
            <a:off x="6095880" y="18572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-133200"/>
            <a:ext cx="933300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00040" y="3214800"/>
            <a:ext cx="44006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нструктор ракетны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енеральный Конструктор центра разработки и создания космических кораб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Гагарин и Королёв"/>
          <p:cNvPicPr/>
          <p:nvPr/>
        </p:nvPicPr>
        <p:blipFill>
          <a:blip r:embed="rId2"/>
          <a:stretch/>
        </p:blipFill>
        <p:spPr>
          <a:xfrm>
            <a:off x="5381640" y="1928880"/>
            <a:ext cx="3560760" cy="4624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0"/>
            <a:ext cx="844200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http://www.federalspace.ru/img/site/2009_12_20_p02_700.jpg"/>
          <p:cNvPicPr/>
          <p:nvPr/>
        </p:nvPicPr>
        <p:blipFill>
          <a:blip r:embed="rId1"/>
          <a:stretch/>
        </p:blipFill>
        <p:spPr>
          <a:xfrm>
            <a:off x="57168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://www.federalspace.ru/img/site/2009_12_18_p01_700.jpg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3292560" y="249120"/>
            <a:ext cx="5906880" cy="696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mcc.rsa.ru/Pic/Gagarin_50/6.jpg"/>
          <p:cNvPicPr/>
          <p:nvPr/>
        </p:nvPicPr>
        <p:blipFill>
          <a:blip r:embed="rId2"/>
          <a:stretch/>
        </p:blipFill>
        <p:spPr>
          <a:xfrm>
            <a:off x="214200" y="142920"/>
            <a:ext cx="278604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14200" y="47862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В.В.Путин председатель Правительства Р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http://www.federalspace.ru/img/site/2009_12_23_001_700.jpg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 спутник пр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1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5" descr="D:\РАЗНЫЕ КАРТИНКИ\открытки\день космонавтики\лайка.jpg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РАЗНЫЕ КАРТИНКИ\открытки\день космонавтики\belka-strelka-crop.jpg"/>
          <p:cNvPicPr/>
          <p:nvPr/>
        </p:nvPicPr>
        <p:blipFill>
          <a:blip r:embed="rId3"/>
          <a:stretch/>
        </p:blipFill>
        <p:spPr>
          <a:xfrm>
            <a:off x="0" y="3357720"/>
            <a:ext cx="4857840" cy="3327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>
            <a:off x="0" y="2142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 августа 1960 года в космос летали собаки Белка и Стрелка, это были первые животные, которые  благополучно вернулись  из космического по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5072040" y="3571920"/>
            <a:ext cx="407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сле суточного полета они были возвращены на Землю в катапультируемой капсуле и стали мировыми знаменит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Picture 4" descr="Новый рисунок (4)"/>
          <p:cNvPicPr/>
          <p:nvPr/>
        </p:nvPicPr>
        <p:blipFill>
          <a:blip r:embed="rId2"/>
          <a:stretch/>
        </p:blipFill>
        <p:spPr>
          <a:xfrm>
            <a:off x="357120" y="500040"/>
            <a:ext cx="8396280" cy="407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071720" y="5357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опроходцы косм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емной разум во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pics.livejournal.com/anzee/pic/0008x4gt/t9678z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80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pics.livejournal.com/anzee/pic/0008wcpy/t9678z"/>
          <p:cNvPicPr/>
          <p:nvPr/>
        </p:nvPicPr>
        <p:blipFill>
          <a:blip r:embed="rId2"/>
          <a:stretch/>
        </p:blipFill>
        <p:spPr>
          <a:xfrm>
            <a:off x="5486400" y="1295280"/>
            <a:ext cx="3429000" cy="274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pics.livejournal.com/anzee/pic/0008qk6t/t9678z"/>
          <p:cNvPicPr/>
          <p:nvPr/>
        </p:nvPicPr>
        <p:blipFill>
          <a:blip r:embed="rId3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4"/>
          <a:stretch/>
        </p:blipFill>
        <p:spPr>
          <a:xfrm>
            <a:off x="384120" y="6480"/>
            <a:ext cx="85154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TextBox 2" descr=""/>
          <p:cNvPicPr/>
          <p:nvPr/>
        </p:nvPicPr>
        <p:blipFill>
          <a:blip r:embed="rId2"/>
          <a:stretch/>
        </p:blipFill>
        <p:spPr>
          <a:xfrm>
            <a:off x="781200" y="853920"/>
            <a:ext cx="77295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cc.rsa.ru/Pic/Gagarin_50/6.jpg"/>
          <p:cNvPicPr/>
          <p:nvPr/>
        </p:nvPicPr>
        <p:blipFill>
          <a:blip r:embed="rId1"/>
          <a:stretch/>
        </p:blipFill>
        <p:spPr>
          <a:xfrm>
            <a:off x="214200" y="142920"/>
            <a:ext cx="285768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3517920" y="225360"/>
            <a:ext cx="5522760" cy="6620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42920" y="43578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В.В.Путин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На заседании оргкомитета по подготовке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и проведению празднования 50-летия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полёта в космос Ю.А.Гагарина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Фото с сайта Правительства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cc.rsa.ru/Pic/Gagarin_50/7.jpg"/>
          <p:cNvPicPr/>
          <p:nvPr/>
        </p:nvPicPr>
        <p:blipFill>
          <a:blip r:embed="rId1"/>
          <a:stretch/>
        </p:blipFill>
        <p:spPr>
          <a:xfrm>
            <a:off x="0" y="1643040"/>
            <a:ext cx="264312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2627280" y="993600"/>
            <a:ext cx="6692760" cy="5967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781200" y="-122400"/>
            <a:ext cx="7729560" cy="157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357200" y="12859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же много тысяч лет назад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ядя на ночное небо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ловек мечтал о полете к звезда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риады мерцающих ночных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етил заставляли его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оситься мыслью в безбрежны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ли Вселенн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или воображение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ставляли задумываться над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йнами мироз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-212760"/>
            <a:ext cx="73519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зскиз лит аппарата Л да В"/>
          <p:cNvPicPr/>
          <p:nvPr/>
        </p:nvPicPr>
        <p:blipFill>
          <a:blip r:embed="rId1"/>
          <a:stretch/>
        </p:blipFill>
        <p:spPr>
          <a:xfrm>
            <a:off x="1571760" y="2286000"/>
            <a:ext cx="576396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28760" y="428760"/>
            <a:ext cx="86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СКИЗ  ЛЕТАТЕЛЬНОГО  АП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ЕОНАРДО  ДА 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96560" cy="148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357880" y="1571760"/>
            <a:ext cx="3286080" cy="44226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171360" y="2206800"/>
            <a:ext cx="52056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sio"/>
          <p:cNvPicPr/>
          <p:nvPr/>
        </p:nvPicPr>
        <p:blipFill>
          <a:blip r:embed="rId2"/>
          <a:stretch/>
        </p:blipFill>
        <p:spPr>
          <a:xfrm>
            <a:off x="5786280" y="404640"/>
            <a:ext cx="3105360" cy="388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6302520" y="4572000"/>
            <a:ext cx="26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Циолковский К. 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1857 – 195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18040" y="141120"/>
            <a:ext cx="4391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1903 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опубликовал тру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«Исследование мировых простран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активными прибор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76200" y="1773360"/>
            <a:ext cx="48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реактивного двиг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96280" y="256536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79440" y="45086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о Солнцу или другим небесным свети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6880" y="378936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атмосф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63960" y="3068640"/>
            <a:ext cx="46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есом конструкции рак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62064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еловечество не останется на Зем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в погоне за светом и простра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чала робко проникнет за пределы атмо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затем завоюет себе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олосолнечное простран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олковский К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06:44Z</dcterms:created>
  <dc:creator>DNS</dc:creator>
  <dc:description/>
  <dc:language>en-US</dc:language>
  <cp:lastModifiedBy>ольга</cp:lastModifiedBy>
  <dcterms:modified xsi:type="dcterms:W3CDTF">2012-01-26T07:14:04Z</dcterms:modified>
  <cp:revision>32</cp:revision>
  <dc:subject/>
  <dc:title>Слайд 1</dc:title>
</cp:coreProperties>
</file>