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E69-CABB-49F3-8614-3663D9A0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873-C7F7-465C-9B4B-6306AC8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B7F-2C0A-409B-BD6B-9D2082E7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998-8C62-428D-8A8E-94D9B3F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848-BAA2-4EA1-A2FF-EF0B32C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041-34F8-423D-BD75-61A5C3C4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442-89BB-433D-AD07-E71695E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AD0-CE91-4857-BC99-4D8A5C04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390-5E1B-4277-8A7E-91D2C7E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024-909F-4B2A-8259-8F8B33D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11B-695E-49B1-A28E-968D43F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7BE-380B-404F-9BBB-72E9345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58D-061D-44A6-8CE9-9D46EBBD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Объём пирами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252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ометр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 клас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02560" y="6643800"/>
            <a:ext cx="23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Воробьев Леонид Альбертович, г.Мин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55640" y="2133720"/>
          <a:ext cx="3430440" cy="108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133720"/>
                    <a:ext cx="34304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742000" y="1743120"/>
            <a:ext cx="1165320" cy="718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5" name=""/>
            <p:cNvSpPr/>
            <p:nvPr/>
          </p:nvSpPr>
          <p:spPr>
            <a:xfrm>
              <a:off x="2411280" y="4869000"/>
              <a:ext cx="3600720" cy="1439640"/>
            </a:xfrm>
            <a:custGeom>
              <a:avLst/>
              <a:gdLst/>
              <a:ahLst/>
              <a:rect l="l" t="t" r="r" b="b"/>
              <a:pathLst>
                <a:path w="2268" h="907">
                  <a:moveTo>
                    <a:pt x="0" y="907"/>
                  </a:moveTo>
                  <a:lnTo>
                    <a:pt x="318" y="0"/>
                  </a:lnTo>
                  <a:lnTo>
                    <a:pt x="2268" y="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16360" y="2708280"/>
              <a:ext cx="3095640" cy="2160720"/>
            </a:xfrm>
            <a:custGeom>
              <a:avLst/>
              <a:gdLst/>
              <a:ahLst/>
              <a:rect l="l" t="t" r="r" b="b"/>
              <a:pathLst>
                <a:path w="1950" h="1361">
                  <a:moveTo>
                    <a:pt x="0" y="1361"/>
                  </a:moveTo>
                  <a:lnTo>
                    <a:pt x="1950" y="1361"/>
                  </a:lnTo>
                  <a:lnTo>
                    <a:pt x="1043" y="0"/>
                  </a:lnTo>
                  <a:lnTo>
                    <a:pt x="0" y="136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411280" y="2708280"/>
            <a:ext cx="3600720" cy="3600360"/>
            <a:chOff x="2411280" y="2708280"/>
            <a:chExt cx="3600720" cy="3600360"/>
          </a:xfrm>
        </p:grpSpPr>
        <p:sp>
          <p:nvSpPr>
            <p:cNvPr id="318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1361" y="0"/>
                  </a:lnTo>
                  <a:lnTo>
                    <a:pt x="1319" y="202"/>
                  </a:lnTo>
                  <a:lnTo>
                    <a:pt x="1280" y="361"/>
                  </a:lnTo>
                  <a:lnTo>
                    <a:pt x="1225" y="590"/>
                  </a:lnTo>
                  <a:lnTo>
                    <a:pt x="1112" y="730"/>
                  </a:lnTo>
                  <a:lnTo>
                    <a:pt x="1089" y="817"/>
                  </a:lnTo>
                  <a:lnTo>
                    <a:pt x="1091" y="997"/>
                  </a:lnTo>
                  <a:lnTo>
                    <a:pt x="1121" y="1135"/>
                  </a:lnTo>
                  <a:lnTo>
                    <a:pt x="1136" y="1270"/>
                  </a:lnTo>
                  <a:lnTo>
                    <a:pt x="1180" y="1497"/>
                  </a:lnTo>
                  <a:lnTo>
                    <a:pt x="1225" y="1633"/>
                  </a:lnTo>
                  <a:lnTo>
                    <a:pt x="1270" y="1724"/>
                  </a:lnTo>
                  <a:lnTo>
                    <a:pt x="1270" y="1815"/>
                  </a:lnTo>
                  <a:lnTo>
                    <a:pt x="1268" y="1891"/>
                  </a:lnTo>
                  <a:lnTo>
                    <a:pt x="1238" y="1966"/>
                  </a:lnTo>
                  <a:lnTo>
                    <a:pt x="1187" y="2032"/>
                  </a:lnTo>
                  <a:lnTo>
                    <a:pt x="1134" y="2087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11280" y="2708280"/>
              <a:ext cx="3600720" cy="3600360"/>
            </a:xfrm>
            <a:custGeom>
              <a:avLst/>
              <a:gdLst/>
              <a:ahLst/>
              <a:rect l="l" t="t" r="r" b="b"/>
              <a:pathLst>
                <a:path w="2268" h="2268">
                  <a:moveTo>
                    <a:pt x="0" y="2268"/>
                  </a:moveTo>
                  <a:lnTo>
                    <a:pt x="226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0" y="0"/>
            <a:ext cx="914400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я произвольну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умму треугольных пирамид с общей вершиной и высотой, получим формулу для нахождения объема любой пирами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5589720"/>
            <a:ext cx="71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630864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5950080"/>
            <a:ext cx="10080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92360" y="4869000"/>
            <a:ext cx="122400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486900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12000" y="4869000"/>
            <a:ext cx="28872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92360" y="2708280"/>
            <a:ext cx="28796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916000" y="2708280"/>
            <a:ext cx="165564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2708280"/>
            <a:ext cx="1440000" cy="216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708280"/>
            <a:ext cx="93672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88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5464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19640" y="630864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00" y="5445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623736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708280"/>
            <a:ext cx="0" cy="2881440"/>
          </a:xfrm>
          <a:prstGeom prst="line">
            <a:avLst/>
          </a:prstGeom>
          <a:ln w="38160">
            <a:solidFill>
              <a:srgbClr val="0066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4036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11280" y="4868640"/>
            <a:ext cx="50508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411280" y="4868640"/>
            <a:ext cx="360072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10080" y="5959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98840" y="597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03800" y="5987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1800" y="37162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53080" y="378936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24360" y="386064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38880" y="510840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19880" y="517212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91160" y="522936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69120" y="590544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83240" y="586440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58212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411280" y="6021360"/>
            <a:ext cx="180036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6240" y="2717640"/>
            <a:ext cx="455760" cy="3303720"/>
          </a:xfrm>
          <a:custGeom>
            <a:avLst/>
            <a:gdLst/>
            <a:ahLst/>
            <a:rect l="l" t="t" r="r" b="b"/>
            <a:pathLst>
              <a:path w="287" h="2132">
                <a:moveTo>
                  <a:pt x="60" y="2132"/>
                </a:moveTo>
                <a:cubicBezTo>
                  <a:pt x="124" y="2067"/>
                  <a:pt x="188" y="2003"/>
                  <a:pt x="196" y="1905"/>
                </a:cubicBezTo>
                <a:cubicBezTo>
                  <a:pt x="204" y="1807"/>
                  <a:pt x="129" y="1648"/>
                  <a:pt x="106" y="1542"/>
                </a:cubicBezTo>
                <a:cubicBezTo>
                  <a:pt x="83" y="1436"/>
                  <a:pt x="75" y="1383"/>
                  <a:pt x="60" y="1270"/>
                </a:cubicBezTo>
                <a:cubicBezTo>
                  <a:pt x="45" y="1157"/>
                  <a:pt x="0" y="975"/>
                  <a:pt x="15" y="862"/>
                </a:cubicBezTo>
                <a:cubicBezTo>
                  <a:pt x="30" y="749"/>
                  <a:pt x="113" y="688"/>
                  <a:pt x="151" y="590"/>
                </a:cubicBezTo>
                <a:cubicBezTo>
                  <a:pt x="189" y="492"/>
                  <a:pt x="219" y="370"/>
                  <a:pt x="242" y="272"/>
                </a:cubicBezTo>
                <a:cubicBezTo>
                  <a:pt x="265" y="174"/>
                  <a:pt x="276" y="87"/>
                  <a:pt x="287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411280" y="2707920"/>
            <a:ext cx="216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57200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907920"/>
          <a:ext cx="914400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692360" y="2708280"/>
            <a:ext cx="2879640" cy="3600360"/>
            <a:chOff x="1692360" y="2708280"/>
            <a:chExt cx="2879640" cy="3600360"/>
          </a:xfrm>
        </p:grpSpPr>
        <p:sp>
          <p:nvSpPr>
            <p:cNvPr id="359" name=""/>
            <p:cNvSpPr/>
            <p:nvPr/>
          </p:nvSpPr>
          <p:spPr>
            <a:xfrm>
              <a:off x="1692360" y="2708280"/>
              <a:ext cx="2879640" cy="3600360"/>
            </a:xfrm>
            <a:custGeom>
              <a:avLst/>
              <a:gdLst/>
              <a:ahLst/>
              <a:rect l="l" t="t" r="r" b="b"/>
              <a:pathLst>
                <a:path w="1814" h="2268">
                  <a:moveTo>
                    <a:pt x="453" y="2268"/>
                  </a:moveTo>
                  <a:lnTo>
                    <a:pt x="0" y="1815"/>
                  </a:lnTo>
                  <a:lnTo>
                    <a:pt x="1814" y="0"/>
                  </a:lnTo>
                  <a:lnTo>
                    <a:pt x="453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92360" y="2708280"/>
              <a:ext cx="2879640" cy="2881440"/>
            </a:xfrm>
            <a:custGeom>
              <a:avLst/>
              <a:gdLst/>
              <a:ahLst/>
              <a:rect l="l" t="t" r="r" b="b"/>
              <a:pathLst>
                <a:path w="1814" h="1815">
                  <a:moveTo>
                    <a:pt x="0" y="1815"/>
                  </a:moveTo>
                  <a:lnTo>
                    <a:pt x="771" y="1361"/>
                  </a:lnTo>
                  <a:lnTo>
                    <a:pt x="1814" y="0"/>
                  </a:lnTo>
                  <a:lnTo>
                    <a:pt x="0" y="1815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11280" y="2708280"/>
              <a:ext cx="2160720" cy="3600360"/>
            </a:xfrm>
            <a:custGeom>
              <a:avLst/>
              <a:gdLst/>
              <a:ahLst/>
              <a:rect l="l" t="t" r="r" b="b"/>
              <a:pathLst>
                <a:path w="1361" h="2268">
                  <a:moveTo>
                    <a:pt x="0" y="2268"/>
                  </a:moveTo>
                  <a:lnTo>
                    <a:pt x="318" y="1361"/>
                  </a:lnTo>
                  <a:lnTo>
                    <a:pt x="1361" y="0"/>
                  </a:lnTo>
                  <a:lnTo>
                    <a:pt x="0" y="2268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2421000"/>
            <a:ext cx="7993080" cy="237636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1268280"/>
            <a:ext cx="77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для люб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ьной пирами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19280" y="2492280"/>
          <a:ext cx="655164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92280"/>
                    <a:ext cx="655164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0" y="486900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Arial"/>
              </a:rPr>
              <a:t>осн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лощадь основания пирамиды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высота пирами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8160" y="4365720"/>
            <a:ext cx="2159280" cy="43164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3080" y="551808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972720" y="2637000"/>
            <a:ext cx="215892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637000"/>
            <a:ext cx="1441440" cy="28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3080" y="551808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852720" y="551808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132000" y="263664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3080" y="551808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2637000"/>
            <a:ext cx="0" cy="3097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4428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высот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=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440" y="537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4520" y="6165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38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70080" y="5695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01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8160" y="4365720"/>
            <a:ext cx="172728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565440" y="4365360"/>
            <a:ext cx="432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8160" y="436572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00320" y="4443480"/>
            <a:ext cx="6516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2879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0280" y="263700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160" y="2637000"/>
            <a:ext cx="504720" cy="1825560"/>
          </a:xfrm>
          <a:custGeom>
            <a:avLst/>
            <a:gdLst>
              <a:gd name="textAreaLeft" fmla="*/ 0 w 504720"/>
              <a:gd name="textAreaRight" fmla="*/ 182160 w 5047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7920" y="3357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308720" y="981000"/>
          <a:ext cx="15559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981000"/>
                    <a:ext cx="15559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516720" y="2637000"/>
          <a:ext cx="24494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637000"/>
                    <a:ext cx="24494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4762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м сечение пирамиды, параллельное плоскости основания и находящееся на расстоян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её вер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268280"/>
            <a:ext cx="7164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Euclid Math Two"/>
                <a:ea typeface="Euclid Math Two"/>
              </a:rPr>
              <a:t>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 свойству площадей подобных фиг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5080" y="40784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0520" y="4221000"/>
            <a:ext cx="43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7760" y="4662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3357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886520" y="21301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4149720"/>
            <a:ext cx="31320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яющаяся велич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лощадь сечения можно рассматривать как функцию от перемен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от вершины пирамиды 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708280"/>
            <a:ext cx="373320" cy="1841400"/>
          </a:xfrm>
          <a:custGeom>
            <a:avLst/>
            <a:gdLst>
              <a:gd name="textAreaLeft" fmla="*/ 0 w 373320"/>
              <a:gd name="textAreaRight" fmla="*/ 134640 w 373320"/>
              <a:gd name="textAreaTop" fmla="*/ 47880 h 1841400"/>
              <a:gd name="textAreaBottom" fmla="*/ 17935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уя понятие бесконечной интегральной суммы, объем данной пирамиды можно получить как бесконечную сумму площадей таких сечений, построенных вдоль вы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0360" y="328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72" dur="10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2360" y="4870440"/>
            <a:ext cx="3600360" cy="719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869000"/>
            <a:ext cx="3600360" cy="693720"/>
          </a:xfrm>
          <a:custGeom>
            <a:avLst/>
            <a:gdLst/>
            <a:ahLst/>
            <a:rect l="l" t="t" r="r" b="b"/>
            <a:pathLst>
              <a:path w="2268" h="437">
                <a:moveTo>
                  <a:pt x="0" y="0"/>
                </a:moveTo>
                <a:lnTo>
                  <a:pt x="1160" y="437"/>
                </a:lnTo>
                <a:lnTo>
                  <a:pt x="226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новании предыдущих рассуждений можно сделать вывод о том, что пирамиды с равными площадями оснований и равными высотами, имеют равные объ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5084640"/>
            <a:ext cx="40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149720"/>
            <a:ext cx="2706480" cy="523800"/>
          </a:xfrm>
          <a:custGeom>
            <a:avLst/>
            <a:gdLst/>
            <a:ahLst/>
            <a:rect l="l" t="t" r="r" b="b"/>
            <a:pathLst>
              <a:path w="1705" h="330">
                <a:moveTo>
                  <a:pt x="864" y="330"/>
                </a:moveTo>
                <a:lnTo>
                  <a:pt x="1705" y="0"/>
                </a:lnTo>
                <a:lnTo>
                  <a:pt x="0" y="0"/>
                </a:lnTo>
                <a:lnTo>
                  <a:pt x="864" y="33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080" y="4149720"/>
            <a:ext cx="2706840" cy="50328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360" y="487044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2000" y="1989000"/>
            <a:ext cx="215892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2360" y="4870440"/>
            <a:ext cx="287964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32000" y="487044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1989000"/>
            <a:ext cx="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3440" y="487044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3440" y="198900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198900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4870440"/>
            <a:ext cx="1839960" cy="704880"/>
          </a:xfrm>
          <a:custGeom>
            <a:avLst/>
            <a:gdLst/>
            <a:ahLst/>
            <a:rect l="l" t="t" r="r" b="b"/>
            <a:pathLst>
              <a:path w="1159" h="444">
                <a:moveTo>
                  <a:pt x="0" y="0"/>
                </a:moveTo>
                <a:lnTo>
                  <a:pt x="1159" y="4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7280" y="4871880"/>
            <a:ext cx="1766880" cy="696960"/>
          </a:xfrm>
          <a:custGeom>
            <a:avLst/>
            <a:gdLst/>
            <a:ahLst/>
            <a:rect l="l" t="t" r="r" b="b"/>
            <a:pathLst>
              <a:path w="1113" h="439">
                <a:moveTo>
                  <a:pt x="0" y="439"/>
                </a:moveTo>
                <a:lnTo>
                  <a:pt x="111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1989000"/>
            <a:ext cx="331920" cy="3586320"/>
          </a:xfrm>
          <a:custGeom>
            <a:avLst/>
            <a:gdLst/>
            <a:ahLst/>
            <a:rect l="l" t="t" r="r" b="b"/>
            <a:pathLst>
              <a:path w="209" h="2259">
                <a:moveTo>
                  <a:pt x="0" y="2259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1989000"/>
            <a:ext cx="1440" cy="309744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81400" y="4249800"/>
            <a:ext cx="61920" cy="63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0680" y="4267080"/>
            <a:ext cx="6192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11280" y="1989000"/>
            <a:ext cx="72072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7280" y="1989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11640" y="198864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4000" y="5445000"/>
            <a:ext cx="1727280" cy="405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осн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125360"/>
            <a:ext cx="2449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429732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19886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2852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6021360"/>
            <a:ext cx="172728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сеч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3429000"/>
            <a:ext cx="3600360" cy="2879640"/>
          </a:xfrm>
          <a:custGeom>
            <a:avLst/>
            <a:gdLst/>
            <a:ahLst/>
            <a:rect l="l" t="t" r="r" b="b"/>
            <a:pathLst>
              <a:path w="2268" h="1814">
                <a:moveTo>
                  <a:pt x="0" y="0"/>
                </a:moveTo>
                <a:lnTo>
                  <a:pt x="1814" y="1814"/>
                </a:lnTo>
                <a:lnTo>
                  <a:pt x="2268" y="136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1640" y="3429000"/>
            <a:ext cx="3600360" cy="2879640"/>
            <a:chOff x="971640" y="3429000"/>
            <a:chExt cx="3600360" cy="2879640"/>
          </a:xfrm>
        </p:grpSpPr>
        <p:sp>
          <p:nvSpPr>
            <p:cNvPr id="133" name=""/>
            <p:cNvSpPr/>
            <p:nvPr/>
          </p:nvSpPr>
          <p:spPr>
            <a:xfrm>
              <a:off x="169236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056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164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429000"/>
              <a:ext cx="287964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58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148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71640" y="3428640"/>
            <a:ext cx="3600360" cy="2881800"/>
            <a:chOff x="971640" y="3428640"/>
            <a:chExt cx="3600360" cy="2881800"/>
          </a:xfrm>
        </p:grpSpPr>
        <p:sp>
          <p:nvSpPr>
            <p:cNvPr id="147" name=""/>
            <p:cNvSpPr/>
            <p:nvPr/>
          </p:nvSpPr>
          <p:spPr>
            <a:xfrm>
              <a:off x="313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00000">
              <a:off x="385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1640" y="3429000"/>
              <a:ext cx="2879640" cy="71928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130560" y="3429000"/>
              <a:ext cx="7207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7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1640" y="3429000"/>
              <a:ext cx="215892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414828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51280" y="342864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85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71640" y="3429000"/>
              <a:ext cx="2879640" cy="28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7164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03720" y="34164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роизвольную треугольную приз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её на две части 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9144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ись две пространственные фигуры: тре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тырехугольная пирами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-0.03941 -3.7037E-006 E">
                                      <p:cBhvr>
                                        <p:cTn id="10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35435 -3.7037E-006 E">
                                      <p:cBhvr>
                                        <p:cTn id="106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0.35435 2.59259E-006 E">
                                      <p:cBhvr>
                                        <p:cTn id="108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-0.04305 -1.85185E-006 E">
                                      <p:cBhvr>
                                        <p:cTn id="11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0.35173 -0.00092 E">
                                      <p:cBhvr>
                                        <p:cTn id="112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07407E-006 L -0.04583 0.00186 E">
                                      <p:cBhvr>
                                        <p:cTn id="114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4479 0.00046 E">
                                      <p:cBhvr>
                                        <p:cTn id="116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0.35399 0.0007 E">
                                      <p:cBhvr>
                                        <p:cTn id="118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L -0.04306 -0.00185 E">
                                      <p:cBhvr>
                                        <p:cTn id="120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722 -4.07407E-006 L -1.38889E-006 -4.07407E-006 E">
                                      <p:cBhvr>
                                        <p:cTn id="122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619 -0.00232 L 5E-006 2.22222E-006 E">
                                      <p:cBhvr>
                                        <p:cTn id="124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12 -1.85185E-006 L 1.94444E-006 -1.85185E-006 E">
                                      <p:cBhvr>
                                        <p:cTn id="12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211640" y="3428640"/>
            <a:ext cx="3600360" cy="2879640"/>
            <a:chOff x="4211640" y="3428640"/>
            <a:chExt cx="3600360" cy="2879640"/>
          </a:xfrm>
        </p:grpSpPr>
        <p:sp>
          <p:nvSpPr>
            <p:cNvPr id="168" name=""/>
            <p:cNvSpPr/>
            <p:nvPr/>
          </p:nvSpPr>
          <p:spPr>
            <a:xfrm rot="10800000">
              <a:off x="7091280" y="342864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1280" y="3429000"/>
              <a:ext cx="71928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09128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640" y="3429000"/>
              <a:ext cx="3600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211640" y="3428640"/>
              <a:ext cx="28814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211640" y="3429000"/>
              <a:ext cx="28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0930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211640" y="3429000"/>
            <a:ext cx="2881440" cy="2879640"/>
          </a:xfrm>
          <a:custGeom>
            <a:avLst/>
            <a:gdLst/>
            <a:ahLst/>
            <a:rect l="l" t="t" r="r" b="b"/>
            <a:pathLst>
              <a:path w="1815" h="1814">
                <a:moveTo>
                  <a:pt x="1815" y="1814"/>
                </a:moveTo>
                <a:lnTo>
                  <a:pt x="1815" y="0"/>
                </a:lnTo>
                <a:lnTo>
                  <a:pt x="0" y="0"/>
                </a:lnTo>
                <a:lnTo>
                  <a:pt x="1815" y="1814"/>
                </a:lnTo>
                <a:close/>
              </a:path>
            </a:pathLst>
          </a:cu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11280" y="3429000"/>
            <a:ext cx="3600360" cy="2879640"/>
            <a:chOff x="611280" y="3429000"/>
            <a:chExt cx="3600360" cy="2879640"/>
          </a:xfrm>
        </p:grpSpPr>
        <p:sp>
          <p:nvSpPr>
            <p:cNvPr id="177" name=""/>
            <p:cNvSpPr/>
            <p:nvPr/>
          </p:nvSpPr>
          <p:spPr>
            <a:xfrm>
              <a:off x="1332000" y="5589720"/>
              <a:ext cx="2879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32000" y="558972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490920" y="558936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0200" y="5589720"/>
              <a:ext cx="288000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1280" y="3429000"/>
              <a:ext cx="718920" cy="216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0000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850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076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429000"/>
            <a:ext cx="360036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236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6108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920" y="44280"/>
            <a:ext cx="90741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разобьём четырёхугольную пирами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щей плоскостью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две треугольные пирамид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е пирамиды с верши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11640" y="3428640"/>
            <a:ext cx="2879640" cy="2880000"/>
            <a:chOff x="4211640" y="3428640"/>
            <a:chExt cx="2879640" cy="2880000"/>
          </a:xfrm>
        </p:grpSpPr>
        <p:sp>
          <p:nvSpPr>
            <p:cNvPr id="195" name=""/>
            <p:cNvSpPr/>
            <p:nvPr/>
          </p:nvSpPr>
          <p:spPr>
            <a:xfrm flipV="1">
              <a:off x="709128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70560" y="3429000"/>
              <a:ext cx="720720" cy="2879640"/>
            </a:xfrm>
            <a:custGeom>
              <a:avLst/>
              <a:gdLst/>
              <a:ahLst/>
              <a:rect l="l" t="t" r="r" b="b"/>
              <a:pathLst>
                <a:path w="454" h="1814">
                  <a:moveTo>
                    <a:pt x="454" y="0"/>
                  </a:moveTo>
                  <a:lnTo>
                    <a:pt x="0" y="453"/>
                  </a:lnTo>
                  <a:lnTo>
                    <a:pt x="454" y="1814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11640" y="3429000"/>
              <a:ext cx="2879640" cy="718920"/>
            </a:xfrm>
            <a:custGeom>
              <a:avLst/>
              <a:gdLst/>
              <a:ahLst/>
              <a:rect l="l" t="t" r="r" b="b"/>
              <a:pathLst>
                <a:path w="1814" h="453">
                  <a:moveTo>
                    <a:pt x="0" y="0"/>
                  </a:moveTo>
                  <a:lnTo>
                    <a:pt x="1814" y="0"/>
                  </a:lnTo>
                  <a:lnTo>
                    <a:pt x="136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056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64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164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056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1164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780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9308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5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-0.2 -3.7037E-006 E">
                                      <p:cBhvr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13385 -3.7037E-006 E">
                                      <p:cBhvr>
                                        <p:cTn id="15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07407E-006 L -0.19479 -4.07407E-006 E">
                                      <p:cBhvr>
                                        <p:cTn id="15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24 -0.00856 L 8.33333E-007 -4.07407E-006 E">
                                      <p:cBhvr>
                                        <p:cTn id="15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1481E-006 L -0.18923 0.00116 E">
                                      <p:cBhvr>
                                        <p:cTn id="16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24028 -0.01296 E">
                                      <p:cBhvr>
                                        <p:cTn id="1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-3.7037E-007 L -3.61111E-006 -3.7037E-007 E">
                                      <p:cBhvr>
                                        <p:cTn id="16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0.10816 0.02222 E">
                                      <p:cBhvr>
                                        <p:cTn id="16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-0.19583 0.00093 E">
                                      <p:cBhvr>
                                        <p:cTn id="16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14 -0.00023 L 0.00017 -4.44444E-006 E">
                                      <p:cBhvr>
                                        <p:cTn id="17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32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как противоположные основания призмы) и их высотами является высота призмы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07920"/>
            <a:ext cx="9144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треугольных пирам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 равны (объясните самостоятельно) и у них общая высота, проведенная из верш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Значит, их объемы также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9640" y="2349360"/>
          <a:ext cx="266400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49360"/>
                    <a:ext cx="26640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3492360" y="2349360"/>
          <a:ext cx="277524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349360"/>
                    <a:ext cx="2775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76560" y="1623960"/>
            <a:ext cx="2735280" cy="11527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8294760" y="342864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94760" y="3429000"/>
            <a:ext cx="7189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29476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15120" y="3429000"/>
            <a:ext cx="360036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414760" y="3428640"/>
            <a:ext cx="288108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14760" y="3429000"/>
            <a:ext cx="28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296200" y="3428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69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47000" y="560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149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2997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44960" y="3043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57480" y="55897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7480" y="5589720"/>
            <a:ext cx="21589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1640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55680" y="5589720"/>
            <a:ext cx="2879640" cy="71892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" y="3429000"/>
            <a:ext cx="71928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3429000"/>
            <a:ext cx="360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1440" y="3429000"/>
            <a:ext cx="287964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61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3429000"/>
            <a:ext cx="720720" cy="2879640"/>
          </a:xfrm>
          <a:custGeom>
            <a:avLst/>
            <a:gdLst/>
            <a:ahLst/>
            <a:rect l="l" t="t" r="r" b="b"/>
            <a:pathLst>
              <a:path w="454" h="1814">
                <a:moveTo>
                  <a:pt x="454" y="0"/>
                </a:moveTo>
                <a:lnTo>
                  <a:pt x="0" y="453"/>
                </a:lnTo>
                <a:lnTo>
                  <a:pt x="454" y="1814"/>
                </a:lnTo>
                <a:lnTo>
                  <a:pt x="454" y="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3429000"/>
            <a:ext cx="2880000" cy="719280"/>
          </a:xfrm>
          <a:custGeom>
            <a:avLst/>
            <a:gdLst/>
            <a:ahLst/>
            <a:rect l="l" t="t" r="r" b="b"/>
            <a:pathLst>
              <a:path w="1814" h="453">
                <a:moveTo>
                  <a:pt x="0" y="0"/>
                </a:moveTo>
                <a:lnTo>
                  <a:pt x="1814" y="0"/>
                </a:lnTo>
                <a:lnTo>
                  <a:pt x="1360" y="453"/>
                </a:lnTo>
                <a:lnTo>
                  <a:pt x="0" y="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411280" y="3428640"/>
            <a:ext cx="2879640" cy="2880000"/>
            <a:chOff x="2411280" y="3428640"/>
            <a:chExt cx="2879640" cy="2880000"/>
          </a:xfrm>
        </p:grpSpPr>
        <p:sp>
          <p:nvSpPr>
            <p:cNvPr id="274" name=""/>
            <p:cNvSpPr/>
            <p:nvPr/>
          </p:nvSpPr>
          <p:spPr>
            <a:xfrm>
              <a:off x="2411280" y="3429000"/>
              <a:ext cx="21589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70200" y="3428640"/>
              <a:ext cx="720720" cy="7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1128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0200" y="4147920"/>
              <a:ext cx="719280" cy="21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290920" y="342864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1280" y="3429000"/>
              <a:ext cx="287964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50920" y="3068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244000" y="306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5672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340000" y="333360"/>
          <a:ext cx="421812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33360"/>
                    <a:ext cx="421812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, по свойству транзитивности, объемы всех трех пирамид рав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12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объем пирамиды в три раза меньше объема призмы с такими же основанием и высотой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132000" y="1628640"/>
          <a:ext cx="2552760" cy="11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628640"/>
                    <a:ext cx="25527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b3d7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411280" y="558972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5589720"/>
            <a:ext cx="3600720" cy="718920"/>
          </a:xfrm>
          <a:custGeom>
            <a:avLst/>
            <a:gdLst/>
            <a:ahLst/>
            <a:rect l="l" t="t" r="r" b="b"/>
            <a:pathLst>
              <a:path w="2268" h="453">
                <a:moveTo>
                  <a:pt x="0" y="0"/>
                </a:moveTo>
                <a:lnTo>
                  <a:pt x="2268" y="0"/>
                </a:lnTo>
                <a:lnTo>
                  <a:pt x="181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11280" y="2708280"/>
            <a:ext cx="215928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0560" y="2708280"/>
            <a:ext cx="1441440" cy="288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5589720"/>
            <a:ext cx="288000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291280" y="5589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570560" y="2707920"/>
            <a:ext cx="720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70560" y="2708280"/>
            <a:ext cx="0" cy="3097080"/>
          </a:xfrm>
          <a:prstGeom prst="line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5240" y="1052640"/>
          <a:ext cx="874224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052640"/>
                    <a:ext cx="874224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276720" y="4437000"/>
            <a:ext cx="2158920" cy="432000"/>
          </a:xfrm>
          <a:custGeom>
            <a:avLst/>
            <a:gdLst/>
            <a:ahLst/>
            <a:rect l="l" t="t" r="r" b="b"/>
            <a:pathLst>
              <a:path w="1360" h="272">
                <a:moveTo>
                  <a:pt x="0" y="0"/>
                </a:moveTo>
                <a:lnTo>
                  <a:pt x="1088" y="272"/>
                </a:lnTo>
                <a:lnTo>
                  <a:pt x="13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38520" y="4514760"/>
            <a:ext cx="65160" cy="63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3280" y="2708280"/>
            <a:ext cx="373320" cy="1825560"/>
          </a:xfrm>
          <a:custGeom>
            <a:avLst/>
            <a:gdLst>
              <a:gd name="textAreaLeft" fmla="*/ 0 w 373320"/>
              <a:gd name="textAreaRight" fmla="*/ 134640 w 373320"/>
              <a:gd name="textAreaTop" fmla="*/ 47520 h 1825560"/>
              <a:gd name="textAreaBottom" fmla="*/ 177804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4"/>
                </a:lnTo>
                <a:cubicBezTo>
                  <a:pt x="10800" y="9914"/>
                  <a:pt x="16200" y="10814"/>
                  <a:pt x="21600" y="10814"/>
                </a:cubicBezTo>
                <a:cubicBezTo>
                  <a:pt x="16200" y="10814"/>
                  <a:pt x="10800" y="11714"/>
                  <a:pt x="10800" y="126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33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2708280"/>
            <a:ext cx="460440" cy="3095640"/>
          </a:xfrm>
          <a:custGeom>
            <a:avLst/>
            <a:gdLst>
              <a:gd name="textAreaLeft" fmla="*/ 294120 w 460440"/>
              <a:gd name="textAreaRight" fmla="*/ 460800 w 46044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708280"/>
            <a:ext cx="2881440" cy="3600360"/>
          </a:xfrm>
          <a:custGeom>
            <a:avLst/>
            <a:gdLst/>
            <a:ahLst/>
            <a:rect l="l" t="t" r="r" b="b"/>
            <a:pathLst>
              <a:path w="1815" h="2268">
                <a:moveTo>
                  <a:pt x="0" y="1815"/>
                </a:moveTo>
                <a:lnTo>
                  <a:pt x="1815" y="2268"/>
                </a:lnTo>
                <a:lnTo>
                  <a:pt x="1361" y="0"/>
                </a:lnTo>
                <a:lnTo>
                  <a:pt x="0" y="1815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2708280"/>
            <a:ext cx="1440000" cy="3600360"/>
          </a:xfrm>
          <a:custGeom>
            <a:avLst/>
            <a:gdLst/>
            <a:ahLst/>
            <a:rect l="l" t="t" r="r" b="b"/>
            <a:pathLst>
              <a:path w="907" h="2268">
                <a:moveTo>
                  <a:pt x="454" y="2268"/>
                </a:moveTo>
                <a:lnTo>
                  <a:pt x="907" y="1815"/>
                </a:lnTo>
                <a:lnTo>
                  <a:pt x="0" y="0"/>
                </a:lnTo>
                <a:lnTo>
                  <a:pt x="454" y="2268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572000" y="2133360"/>
            <a:ext cx="0" cy="367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же формулу можно было получить непосредственным интегрированием площади сечения, как функции, зависящей от расстоя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4869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0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24720" y="1125360"/>
            <a:ext cx="1368360" cy="719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03924 -0.47246 E">
                                      <p:cBhvr>
                                        <p:cTn id="229" dur="10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0T08:28:36Z</dcterms:created>
  <dc:creator>V</dc:creator>
  <dc:description/>
  <dc:language>en-US</dc:language>
  <cp:lastModifiedBy>XP GAME 2007</cp:lastModifiedBy>
  <dcterms:modified xsi:type="dcterms:W3CDTF">2009-08-12T16:52:36Z</dcterms:modified>
  <cp:revision>84</cp:revision>
  <dc:subject/>
  <dc:title>Слайд 1</dc:title>
</cp:coreProperties>
</file>