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76A-C067-4BA0-85E6-98A86655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1CA-2EBA-4422-9181-8DB9C9A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AD6-9CA9-4E3A-A197-1AE858D6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058-BB4F-4CE8-8CE0-BE643840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632-85FB-4F9B-9CC9-FA7C33E5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672-CF3D-4F99-B8C2-17C8031A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BE3-5376-49CD-85B1-8332E088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0DD-B661-4F18-8F5B-B6D1D6BB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422-5CE3-45A0-99F6-5F52E29E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D03-D130-40BD-8DB1-FF83EF3D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C4C-2AD5-46FC-8A9F-219E010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D44-A206-400C-8F5B-35F973A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084-40EB-4E0D-8E2F-E5C45D06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Объём пирами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252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клас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2560" y="6643800"/>
            <a:ext cx="23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Воробьев Леонид Альбертович, г.Мин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5640" y="2133720"/>
          <a:ext cx="3430440" cy="108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133720"/>
                    <a:ext cx="34304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742000" y="1743120"/>
            <a:ext cx="1165320" cy="71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5" name=""/>
            <p:cNvSpPr/>
            <p:nvPr/>
          </p:nvSpPr>
          <p:spPr>
            <a:xfrm>
              <a:off x="2411280" y="4869000"/>
              <a:ext cx="3600720" cy="1439640"/>
            </a:xfrm>
            <a:custGeom>
              <a:avLst/>
              <a:gdLst/>
              <a:ahLst/>
              <a:rect l="l" t="t" r="r" b="b"/>
              <a:pathLst>
                <a:path w="2268" h="907">
                  <a:moveTo>
                    <a:pt x="0" y="907"/>
                  </a:moveTo>
                  <a:lnTo>
                    <a:pt x="318" y="0"/>
                  </a:lnTo>
                  <a:lnTo>
                    <a:pt x="2268" y="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16360" y="2708280"/>
              <a:ext cx="3095640" cy="2160720"/>
            </a:xfrm>
            <a:custGeom>
              <a:avLst/>
              <a:gdLst/>
              <a:ahLst/>
              <a:rect l="l" t="t" r="r" b="b"/>
              <a:pathLst>
                <a:path w="1950" h="1361">
                  <a:moveTo>
                    <a:pt x="0" y="1361"/>
                  </a:moveTo>
                  <a:lnTo>
                    <a:pt x="1950" y="1361"/>
                  </a:lnTo>
                  <a:lnTo>
                    <a:pt x="1043" y="0"/>
                  </a:lnTo>
                  <a:lnTo>
                    <a:pt x="0" y="136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8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1361" y="0"/>
                  </a:lnTo>
                  <a:lnTo>
                    <a:pt x="1319" y="202"/>
                  </a:lnTo>
                  <a:lnTo>
                    <a:pt x="1280" y="361"/>
                  </a:lnTo>
                  <a:lnTo>
                    <a:pt x="1225" y="590"/>
                  </a:lnTo>
                  <a:lnTo>
                    <a:pt x="1112" y="730"/>
                  </a:lnTo>
                  <a:lnTo>
                    <a:pt x="1089" y="817"/>
                  </a:lnTo>
                  <a:lnTo>
                    <a:pt x="1091" y="997"/>
                  </a:lnTo>
                  <a:lnTo>
                    <a:pt x="1121" y="1135"/>
                  </a:lnTo>
                  <a:lnTo>
                    <a:pt x="1136" y="1270"/>
                  </a:lnTo>
                  <a:lnTo>
                    <a:pt x="1180" y="1497"/>
                  </a:lnTo>
                  <a:lnTo>
                    <a:pt x="1225" y="1633"/>
                  </a:lnTo>
                  <a:lnTo>
                    <a:pt x="1270" y="1724"/>
                  </a:lnTo>
                  <a:lnTo>
                    <a:pt x="1270" y="1815"/>
                  </a:lnTo>
                  <a:lnTo>
                    <a:pt x="1268" y="1891"/>
                  </a:lnTo>
                  <a:lnTo>
                    <a:pt x="1238" y="1966"/>
                  </a:lnTo>
                  <a:lnTo>
                    <a:pt x="1187" y="2032"/>
                  </a:lnTo>
                  <a:lnTo>
                    <a:pt x="1134" y="2087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1280" y="2708280"/>
              <a:ext cx="3600720" cy="3600360"/>
            </a:xfrm>
            <a:custGeom>
              <a:avLst/>
              <a:gdLst/>
              <a:ahLst/>
              <a:rect l="l" t="t" r="r" b="b"/>
              <a:pathLst>
                <a:path w="2268" h="2268">
                  <a:moveTo>
                    <a:pt x="0" y="2268"/>
                  </a:moveTo>
                  <a:lnTo>
                    <a:pt x="226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0"/>
            <a:ext cx="914400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я произвольн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умму треугольных пирамид с общей вершиной и высотой, получим формулу для нахождения объема любой пирам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589720"/>
            <a:ext cx="71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630864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5950080"/>
            <a:ext cx="10080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92360" y="4869000"/>
            <a:ext cx="122400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486900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869000"/>
            <a:ext cx="288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92360" y="2708280"/>
            <a:ext cx="28796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916000" y="2708280"/>
            <a:ext cx="165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270828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708280"/>
            <a:ext cx="936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88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5464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19640" y="630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00" y="5445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6237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708280"/>
            <a:ext cx="0" cy="288144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11280" y="4868640"/>
            <a:ext cx="50508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411280" y="4868640"/>
            <a:ext cx="3600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10080" y="5959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8840" y="597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3800" y="5987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800" y="37162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53080" y="378936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4360" y="386064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38880" y="51084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19880" y="517212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91160" y="522936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69120" y="5905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83240" y="586440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58212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411280" y="602136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6240" y="2717640"/>
            <a:ext cx="455760" cy="3303720"/>
          </a:xfrm>
          <a:custGeom>
            <a:avLst/>
            <a:gdLst/>
            <a:ahLst/>
            <a:rect l="l" t="t" r="r" b="b"/>
            <a:pathLst>
              <a:path w="287" h="2132">
                <a:moveTo>
                  <a:pt x="60" y="2132"/>
                </a:moveTo>
                <a:cubicBezTo>
                  <a:pt x="124" y="2067"/>
                  <a:pt x="188" y="2003"/>
                  <a:pt x="196" y="1905"/>
                </a:cubicBezTo>
                <a:cubicBezTo>
                  <a:pt x="204" y="1807"/>
                  <a:pt x="129" y="1648"/>
                  <a:pt x="106" y="1542"/>
                </a:cubicBezTo>
                <a:cubicBezTo>
                  <a:pt x="83" y="1436"/>
                  <a:pt x="75" y="1383"/>
                  <a:pt x="60" y="1270"/>
                </a:cubicBezTo>
                <a:cubicBezTo>
                  <a:pt x="45" y="1157"/>
                  <a:pt x="0" y="975"/>
                  <a:pt x="15" y="862"/>
                </a:cubicBezTo>
                <a:cubicBezTo>
                  <a:pt x="30" y="749"/>
                  <a:pt x="113" y="688"/>
                  <a:pt x="151" y="590"/>
                </a:cubicBezTo>
                <a:cubicBezTo>
                  <a:pt x="189" y="492"/>
                  <a:pt x="219" y="370"/>
                  <a:pt x="242" y="272"/>
                </a:cubicBezTo>
                <a:cubicBezTo>
                  <a:pt x="265" y="174"/>
                  <a:pt x="276" y="87"/>
                  <a:pt x="287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411280" y="2707920"/>
            <a:ext cx="216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57200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907920"/>
          <a:ext cx="91440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692360" y="2708280"/>
            <a:ext cx="2879640" cy="3600360"/>
            <a:chOff x="1692360" y="2708280"/>
            <a:chExt cx="2879640" cy="3600360"/>
          </a:xfrm>
        </p:grpSpPr>
        <p:sp>
          <p:nvSpPr>
            <p:cNvPr id="359" name=""/>
            <p:cNvSpPr/>
            <p:nvPr/>
          </p:nvSpPr>
          <p:spPr>
            <a:xfrm>
              <a:off x="1692360" y="2708280"/>
              <a:ext cx="2879640" cy="3600360"/>
            </a:xfrm>
            <a:custGeom>
              <a:avLst/>
              <a:gdLst/>
              <a:ahLst/>
              <a:rect l="l" t="t" r="r" b="b"/>
              <a:pathLst>
                <a:path w="1814" h="2268">
                  <a:moveTo>
                    <a:pt x="453" y="2268"/>
                  </a:moveTo>
                  <a:lnTo>
                    <a:pt x="0" y="1815"/>
                  </a:lnTo>
                  <a:lnTo>
                    <a:pt x="1814" y="0"/>
                  </a:lnTo>
                  <a:lnTo>
                    <a:pt x="453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92360" y="2708280"/>
              <a:ext cx="2879640" cy="2881440"/>
            </a:xfrm>
            <a:custGeom>
              <a:avLst/>
              <a:gdLst/>
              <a:ahLst/>
              <a:rect l="l" t="t" r="r" b="b"/>
              <a:pathLst>
                <a:path w="1814" h="1815">
                  <a:moveTo>
                    <a:pt x="0" y="1815"/>
                  </a:moveTo>
                  <a:lnTo>
                    <a:pt x="771" y="1361"/>
                  </a:lnTo>
                  <a:lnTo>
                    <a:pt x="1814" y="0"/>
                  </a:lnTo>
                  <a:lnTo>
                    <a:pt x="0" y="1815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31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2421000"/>
            <a:ext cx="7993080" cy="2376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1268280"/>
            <a:ext cx="77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для люб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ьной пирам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19280" y="2492280"/>
          <a:ext cx="655164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92280"/>
                    <a:ext cx="65516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0" y="486900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осн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лощадь основания пирамиды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ысота пирами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8160" y="4365720"/>
            <a:ext cx="2159280" cy="43164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3080" y="551808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972720" y="2637000"/>
            <a:ext cx="215892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637000"/>
            <a:ext cx="144144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3080" y="551808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2720" y="551808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132000" y="263664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3080" y="551808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2637000"/>
            <a:ext cx="0" cy="3097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4428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высот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=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44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452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70080" y="5695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01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8160" y="4365720"/>
            <a:ext cx="172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65440" y="436536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8160" y="436572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00320" y="4443480"/>
            <a:ext cx="6516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2879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0280" y="263700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160" y="2637000"/>
            <a:ext cx="504720" cy="1825560"/>
          </a:xfrm>
          <a:custGeom>
            <a:avLst/>
            <a:gdLst>
              <a:gd name="textAreaLeft" fmla="*/ 0 w 504720"/>
              <a:gd name="textAreaRight" fmla="*/ 182160 w 5047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7920" y="3357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308720" y="981000"/>
          <a:ext cx="15559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981000"/>
                    <a:ext cx="15559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516720" y="2637000"/>
          <a:ext cx="24494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637000"/>
                    <a:ext cx="24494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сечение пирамиды, параллельное плоскости основания и находящее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её вер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68280"/>
            <a:ext cx="7164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свойству площадей подобных фиг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5080" y="4078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0520" y="42210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7760" y="4662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3357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886520" y="21301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4149720"/>
            <a:ext cx="3132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яющаяся велич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лощадь сечения можно рассматривать как функцию от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от вершины пирамиды 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708280"/>
            <a:ext cx="373320" cy="1841400"/>
          </a:xfrm>
          <a:custGeom>
            <a:avLst/>
            <a:gdLst>
              <a:gd name="textAreaLeft" fmla="*/ 0 w 373320"/>
              <a:gd name="textAreaRight" fmla="*/ 134640 w 3733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я понятие бесконечной интегральной суммы, объем данной пирамиды можно получить как бесконечную сумму площадей таких сечений, построенных вдоль вы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328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72" dur="10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2360" y="487044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69000"/>
            <a:ext cx="3600360" cy="693720"/>
          </a:xfrm>
          <a:custGeom>
            <a:avLst/>
            <a:gdLst/>
            <a:ahLst/>
            <a:rect l="l" t="t" r="r" b="b"/>
            <a:pathLst>
              <a:path w="2268" h="437">
                <a:moveTo>
                  <a:pt x="0" y="0"/>
                </a:moveTo>
                <a:lnTo>
                  <a:pt x="1160" y="437"/>
                </a:ln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новании предыдущих рассуждений можно сделать вывод о том, что пирамиды с равными площадями оснований и равными высотами, имеют равные объ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508464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149720"/>
            <a:ext cx="2706480" cy="523800"/>
          </a:xfrm>
          <a:custGeom>
            <a:avLst/>
            <a:gdLst/>
            <a:ahLst/>
            <a:rect l="l" t="t" r="r" b="b"/>
            <a:pathLst>
              <a:path w="1705" h="330">
                <a:moveTo>
                  <a:pt x="864" y="330"/>
                </a:moveTo>
                <a:lnTo>
                  <a:pt x="1705" y="0"/>
                </a:lnTo>
                <a:lnTo>
                  <a:pt x="0" y="0"/>
                </a:lnTo>
                <a:lnTo>
                  <a:pt x="864" y="33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080" y="4149720"/>
            <a:ext cx="2706840" cy="503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360" y="48704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2000" y="1989000"/>
            <a:ext cx="21589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487044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32000" y="487044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989000"/>
            <a:ext cx="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3440" y="487044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3440" y="198900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4870440"/>
            <a:ext cx="1839960" cy="704880"/>
          </a:xfrm>
          <a:custGeom>
            <a:avLst/>
            <a:gdLst/>
            <a:ahLst/>
            <a:rect l="l" t="t" r="r" b="b"/>
            <a:pathLst>
              <a:path w="1159" h="444">
                <a:moveTo>
                  <a:pt x="0" y="0"/>
                </a:moveTo>
                <a:lnTo>
                  <a:pt x="1159" y="4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7280" y="4871880"/>
            <a:ext cx="1766880" cy="696960"/>
          </a:xfrm>
          <a:custGeom>
            <a:avLst/>
            <a:gdLst/>
            <a:ahLst/>
            <a:rect l="l" t="t" r="r" b="b"/>
            <a:pathLst>
              <a:path w="1113" h="439">
                <a:moveTo>
                  <a:pt x="0" y="439"/>
                </a:moveTo>
                <a:lnTo>
                  <a:pt x="111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1989000"/>
            <a:ext cx="331920" cy="3586320"/>
          </a:xfrm>
          <a:custGeom>
            <a:avLst/>
            <a:gdLst/>
            <a:ahLst/>
            <a:rect l="l" t="t" r="r" b="b"/>
            <a:pathLst>
              <a:path w="209" h="2259">
                <a:moveTo>
                  <a:pt x="0" y="2259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1989000"/>
            <a:ext cx="144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81400" y="4249800"/>
            <a:ext cx="619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0680" y="4267080"/>
            <a:ext cx="6192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11280" y="1989000"/>
            <a:ext cx="72072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989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11640" y="1988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5445000"/>
            <a:ext cx="1727280" cy="405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125360"/>
            <a:ext cx="2449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429732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19886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85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6021360"/>
            <a:ext cx="172728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3429000"/>
            <a:ext cx="3600360" cy="2879640"/>
          </a:xfrm>
          <a:custGeom>
            <a:avLst/>
            <a:gdLst/>
            <a:ahLst/>
            <a:rect l="l" t="t" r="r" b="b"/>
            <a:pathLst>
              <a:path w="2268" h="1814">
                <a:moveTo>
                  <a:pt x="0" y="0"/>
                </a:moveTo>
                <a:lnTo>
                  <a:pt x="1814" y="1814"/>
                </a:lnTo>
                <a:lnTo>
                  <a:pt x="2268" y="136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1640" y="3429000"/>
            <a:ext cx="3600360" cy="2879640"/>
            <a:chOff x="971640" y="3429000"/>
            <a:chExt cx="3600360" cy="2879640"/>
          </a:xfrm>
        </p:grpSpPr>
        <p:sp>
          <p:nvSpPr>
            <p:cNvPr id="133" name=""/>
            <p:cNvSpPr/>
            <p:nvPr/>
          </p:nvSpPr>
          <p:spPr>
            <a:xfrm>
              <a:off x="169236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056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164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429000"/>
              <a:ext cx="287964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58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148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71640" y="3428640"/>
            <a:ext cx="3600360" cy="2881800"/>
            <a:chOff x="971640" y="3428640"/>
            <a:chExt cx="3600360" cy="2881800"/>
          </a:xfrm>
        </p:grpSpPr>
        <p:sp>
          <p:nvSpPr>
            <p:cNvPr id="147" name=""/>
            <p:cNvSpPr/>
            <p:nvPr/>
          </p:nvSpPr>
          <p:spPr>
            <a:xfrm>
              <a:off x="313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385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1640" y="3429000"/>
              <a:ext cx="2879640" cy="71928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30560" y="3429000"/>
              <a:ext cx="7207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1640" y="3429000"/>
              <a:ext cx="2158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414828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51280" y="3428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1640" y="3429000"/>
              <a:ext cx="287964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7164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3720" y="34164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риз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её на две части 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сь две пространственные фигуры: тре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тырех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-0.03941 -3.7037E-006 E">
                                      <p:cBhvr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35435 -3.7037E-006 E">
                                      <p:cBhvr>
                                        <p:cTn id="106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0.35435 2.59259E-006 E">
                                      <p:cBhvr>
                                        <p:cTn id="108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04305 -1.85185E-006 E">
                                      <p:cBhvr>
                                        <p:cTn id="11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0.35173 -0.00092 E">
                                      <p:cBhvr>
                                        <p:cTn id="11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04583 0.00186 E">
                                      <p:cBhvr>
                                        <p:cTn id="114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4479 0.00046 E">
                                      <p:cBhvr>
                                        <p:cTn id="116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0.35399 0.0007 E">
                                      <p:cBhvr>
                                        <p:cTn id="118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4306 -0.00185 E">
                                      <p:cBhvr>
                                        <p:cTn id="120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2 -4.07407E-006 L -1.38889E-006 -4.07407E-006 E">
                                      <p:cBhvr>
                                        <p:cTn id="122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619 -0.00232 L 5E-006 2.22222E-006 E">
                                      <p:cBhvr>
                                        <p:cTn id="124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12 -1.85185E-006 L 1.94444E-006 -1.85185E-006 E">
                                      <p:cBhvr>
                                        <p:cTn id="12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211640" y="3428640"/>
            <a:ext cx="3600360" cy="2879640"/>
            <a:chOff x="4211640" y="3428640"/>
            <a:chExt cx="3600360" cy="2879640"/>
          </a:xfrm>
        </p:grpSpPr>
        <p:sp>
          <p:nvSpPr>
            <p:cNvPr id="168" name=""/>
            <p:cNvSpPr/>
            <p:nvPr/>
          </p:nvSpPr>
          <p:spPr>
            <a:xfrm rot="10800000">
              <a:off x="709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09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211640" y="3428640"/>
              <a:ext cx="28814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211640" y="342900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930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211640" y="3429000"/>
            <a:ext cx="2881440" cy="2879640"/>
          </a:xfrm>
          <a:custGeom>
            <a:avLst/>
            <a:gdLst/>
            <a:ahLst/>
            <a:rect l="l" t="t" r="r" b="b"/>
            <a:pathLst>
              <a:path w="1815" h="1814">
                <a:moveTo>
                  <a:pt x="1815" y="1814"/>
                </a:moveTo>
                <a:lnTo>
                  <a:pt x="1815" y="0"/>
                </a:lnTo>
                <a:lnTo>
                  <a:pt x="0" y="0"/>
                </a:lnTo>
                <a:lnTo>
                  <a:pt x="1815" y="1814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11280" y="3429000"/>
            <a:ext cx="3600360" cy="2879640"/>
            <a:chOff x="611280" y="3429000"/>
            <a:chExt cx="3600360" cy="2879640"/>
          </a:xfrm>
        </p:grpSpPr>
        <p:sp>
          <p:nvSpPr>
            <p:cNvPr id="177" name=""/>
            <p:cNvSpPr/>
            <p:nvPr/>
          </p:nvSpPr>
          <p:spPr>
            <a:xfrm>
              <a:off x="133200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3200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9092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020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28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00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850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076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108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44280"/>
            <a:ext cx="90741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разобьём четырёх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две треугольные пирамид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11640" y="3428640"/>
            <a:ext cx="2879640" cy="2880000"/>
            <a:chOff x="4211640" y="3428640"/>
            <a:chExt cx="2879640" cy="2880000"/>
          </a:xfrm>
        </p:grpSpPr>
        <p:sp>
          <p:nvSpPr>
            <p:cNvPr id="195" name=""/>
            <p:cNvSpPr/>
            <p:nvPr/>
          </p:nvSpPr>
          <p:spPr>
            <a:xfrm flipV="1">
              <a:off x="70912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11640" y="3429000"/>
              <a:ext cx="287964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056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164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056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1164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-0.2 -3.7037E-006 E">
                                      <p:cBhvr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13385 -3.7037E-006 E">
                                      <p:cBhvr>
                                        <p:cTn id="1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19479 -4.07407E-006 E">
                                      <p:cBhvr>
                                        <p:cTn id="15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24 -0.00856 L 8.33333E-007 -4.07407E-006 E">
                                      <p:cBhvr>
                                        <p:cTn id="15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-0.18923 0.00116 E">
                                      <p:cBhvr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24028 -0.01296 E">
                                      <p:cBhvr>
                                        <p:cTn id="1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-3.7037E-007 L -3.61111E-006 -3.7037E-007 E">
                                      <p:cBhvr>
                                        <p:cTn id="16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10816 0.02222 E">
                                      <p:cBhvr>
                                        <p:cTn id="16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-0.19583 0.00093 E">
                                      <p:cBhvr>
                                        <p:cTn id="16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14 -0.00023 L 0.00017 -4.44444E-006 E">
                                      <p:cBhvr>
                                        <p:cTn id="17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32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как противоположные основания призмы) и их высотами является высота призмы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7920"/>
            <a:ext cx="9144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объясните самостоятельно) и у них общая высота, проведенная из верш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266400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26640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492360" y="2349360"/>
          <a:ext cx="27752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349360"/>
                    <a:ext cx="2775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76560" y="1623960"/>
            <a:ext cx="2735280" cy="1152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74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340000" y="333360"/>
          <a:ext cx="42181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3360"/>
                    <a:ext cx="42181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, по свойству транзитивности, объемы всех трех пирамид рав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2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объем пирамиды в три раза меньше объема призмы с такими же основанием и высотой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132000" y="1628640"/>
          <a:ext cx="255276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628640"/>
                    <a:ext cx="25527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5240" y="1052640"/>
          <a:ext cx="874224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052640"/>
                    <a:ext cx="87422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2708280"/>
            <a:ext cx="373320" cy="1825560"/>
          </a:xfrm>
          <a:custGeom>
            <a:avLst/>
            <a:gdLst>
              <a:gd name="textAreaLeft" fmla="*/ 0 w 373320"/>
              <a:gd name="textAreaRight" fmla="*/ 134640 w 3733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3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0" y="213336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же формулу можно было получить непосредственным интегрированием площади сечения, как функции, зависящей от расстоя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4869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4720" y="1125360"/>
            <a:ext cx="1368360" cy="719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229" dur="10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08:28:36Z</dcterms:created>
  <dc:creator>V</dc:creator>
  <dc:description/>
  <dc:language>en-US</dc:language>
  <cp:lastModifiedBy>XP GAME 2007</cp:lastModifiedBy>
  <dcterms:modified xsi:type="dcterms:W3CDTF">2009-08-12T16:52:36Z</dcterms:modified>
  <cp:revision>84</cp:revision>
  <dc:subject/>
  <dc:title>Слайд 1</dc:title>
</cp:coreProperties>
</file>