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345-8BFB-4E7A-BC97-B0A5D7E3C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67B-F71C-46E9-B4E8-6E7939CAC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CB2-1DB1-401D-B077-EE625246D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E026-773E-47A9-9AAD-A7956487B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E1B5-5BB8-4ECF-931C-98730A873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3FD-1A8C-482F-A7A9-5A1A2B51C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E6B1-E7B2-4B83-9E41-56120F6BD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FD1-2856-4C07-998E-0DB777E2D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F4EB-0DFB-4A2C-ACB2-AE2C0D1D0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CE1A-0583-4D1D-B507-1FEBB1517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CB0E-602F-425B-B559-5201AD067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B69-B82C-4ED8-8FA1-73510D406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9BAB-0676-48EB-AC3C-C71A2B4B6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F527-4CA8-4103-94E9-1F2A74B5A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8B9-0288-4A2A-8489-4959D7137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7EE0-3F42-4836-B52A-DF32A5001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7D9-7B64-4AAA-9701-D139F7B74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8D46-8E46-4B2B-986E-C95CA1564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1FDE-9E57-4FE2-B38C-49625CEF9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D5F2-BCBA-40BE-86C6-84ED08937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33C-333D-43FE-A224-871083119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910-0A2E-43E1-BA20-CDBD5E69D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B3A0-306B-40EC-B428-ABA70FEF3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791D-4475-4CEB-9418-23EFE9B4A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D7EC-A16E-4F12-BD9F-FF0E4066A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361-AE5C-42C5-BE3F-77AFB0F1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76F-9B08-4454-A18F-0BE08696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821-99A7-4584-9FD8-08D471A9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466-93F3-4316-898B-CF82F61A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400-40DA-4454-A403-3F3A21E8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87B-4935-488B-8CBC-619F518A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F1C-667A-4A3F-8979-6D8B36C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279-16E3-4590-AF4F-A3DB3148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474-611D-48E2-97C4-CF35DD2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DBB-564C-4A10-BF6C-E7100E6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180-5E4A-4194-B1A9-8E0BD6F9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758-4371-47EC-AC36-DD1D20B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407-5189-452A-8C84-759525309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80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6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1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4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39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0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1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2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3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4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45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6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5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6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9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0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1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0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1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2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3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6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7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0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4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5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4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Admin</cp:lastModifiedBy>
  <dcterms:modified xsi:type="dcterms:W3CDTF">2013-01-15T05:38:05Z</dcterms:modified>
  <cp:revision>95</cp:revision>
  <dc:subject>Основы философии - Тема 7</dc:subject>
  <dc:title>Античный скептицизм</dc:title>
</cp:coreProperties>
</file>