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144F-084C-492A-99D9-242279BFE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CD7-C60E-449B-A0F8-4BD8FF4E2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63A0-8B3F-4D1D-93E4-6285D3ECD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878A-CD18-4119-9B1D-0772E184A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DE7-D61A-4DE6-92CB-B3BB199D2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09B1-EF6A-42B5-8AD6-3D1DDBE9D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7F36-EE60-420F-9509-E05FFA8D8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7DA-6850-4CC8-A136-FEBA3D1DC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AC8F-B4ED-4E6B-A135-7A2261AEB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35F5-EFC8-42BF-A998-796FF1C85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BED-06DB-42F8-A3DE-DABADF79B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C1E-7C33-44A3-9FAA-9DE0093C2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7095-5EF5-4512-978C-501A75677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A73-9D4B-4020-95E7-10D792898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56C-F242-4621-AA3B-B593ECB31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540-0C8C-4F29-B67A-CFA5B9546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8A10-34F7-4875-8389-89F75515C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E419-967C-4F13-947B-D5C1822CD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343-9792-4351-978E-15A97CC70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DA9-469A-498B-9A7E-D3AED58F1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5C6-ACB6-49FB-8103-ACE1FD9D5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F098-4EA7-42FC-B892-89C359C1A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71D4-469D-419F-962F-1365B7020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33D-BD1A-4E9B-B796-79ADDE6A5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FFD6-E525-4F33-BC1D-5B8B9AF1D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431-2BC3-4436-853D-9FC7E98B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615-2FF9-4EA5-A4C5-99870735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E7E-29FB-45EC-90C8-BFE4C467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558-816C-4667-AFA5-6CB41490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513-992C-4101-A9C1-3527CDA7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4F4-B755-4887-A5D5-0835605A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7B3-E7F6-43C6-82AB-B557B38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B02-6EC1-4807-A3A8-5958DB8A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CE4-D3B3-4710-9725-7A590A95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DF7-5E80-4692-991C-3373E98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718-729D-4359-ACC2-3B36E7A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CD6-E03A-49E9-AFD5-ED76B41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93A9-584E-4846-B185-8D4D673BA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80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6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1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39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0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1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2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3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4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5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6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5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6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9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0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1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0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1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2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3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6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7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0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4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5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4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Admin</cp:lastModifiedBy>
  <dcterms:modified xsi:type="dcterms:W3CDTF">2013-01-15T05:38:05Z</dcterms:modified>
  <cp:revision>95</cp:revision>
  <dc:subject>Основы философии - Тема 7</dc:subject>
  <dc:title>Античный скептицизм</dc:title>
</cp:coreProperties>
</file>