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F77-C804-4B07-A846-0CDA5826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387-D5CE-4DC2-A472-D4FA0CE9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C3-5CB6-459D-AA85-83C90379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485-45C0-411D-8691-F5AD3933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EE0-8A25-4147-808D-F078833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4D9-E122-416C-8374-0DD9798C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AD1-CDC7-46A3-8B82-EA4A342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D74-882D-484C-8EC1-076EC5F8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846-A816-4963-A8C9-DA65948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635-F907-4851-AE39-5973FC3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FDE-AF98-4D8A-A5AC-8CE33B4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A69-67D0-4E74-BCD0-DE4C37C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D050-54E0-4D4A-A77B-FFE4945EF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vizitka/&#1042;&#1080;&#1079;&#1080;&#1090;&#1085;&#1072;&#1103;%20&#1082;&#1072;&#1088;&#1090;&#1086;&#1095;&#1082;&#1072;.doc" TargetMode="External"/><Relationship Id="rId2" Type="http://schemas.openxmlformats.org/officeDocument/2006/relationships/hyperlink" Target="file:///../../student_samples/studert_presentation/&#1054;&#1083;&#1080;&#1084;&#1087;&#1080;&#1081;&#1089;&#1082;&#1080;&#1077;%20&#1080;&#1075;&#1088;&#1099;.ppt" TargetMode="External"/><Relationship Id="rId3" Type="http://schemas.openxmlformats.org/officeDocument/2006/relationships/hyperlink" Target="file:///../../student_samples/student_publication/&#1055;&#1091;&#1073;&#1083;&#1080;&#1082;&#1072;&#1094;&#1080;&#1103;.pub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33360" y="635940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Авторы проекта:        учителя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ОУ «Аликовская СОШ им. И.Я. Яковле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Данилов Лев Августович; Сергеев Сергей Афанасьевич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Иванов  Александр Никифор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674280"/>
            <a:ext cx="633564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зимние Олимпийские игры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в Турине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БЫСТРЕЕ, ВЫШЕ, СИЛЬНЕ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892520" y="83901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г. Чебоксары –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SPORT095"/>
          <p:cNvPicPr/>
          <p:nvPr/>
        </p:nvPicPr>
        <p:blipFill>
          <a:blip r:embed="rId1"/>
          <a:stretch/>
        </p:blipFill>
        <p:spPr>
          <a:xfrm>
            <a:off x="981000" y="1954080"/>
            <a:ext cx="4611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6640" y="611280"/>
            <a:ext cx="58291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9000" y="2123640"/>
            <a:ext cx="6480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Недавно прошли 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XX</a:t>
            </a: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 зимние Олимпийские игры в Турине, к сожалению многие учащиеся не смотрели трансляции игр по телевидению, поэтому не знают героев Олимпийских игр. Данный проект рассчитывается на то, что   Олимпийское движение будет отражать новые идеи эпохи и общества, формировать и удовлетворять интерес школьников к занятиям физической культурой и спортом, увязывать их с другими аспектами социальной жизни страны и опираться на национальные традиц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В современном мире, полном могучих возможностей и одновременно опасностей губительных разрушений, олимпийское движение может и должно стать школой воспитания благородства и нравственной чистоты, равно как и физической выносливости и силы. Но это произойдет лишь в том случае, если ваше понимание спортивной чести и бескорыстия будет таким же сильным, как и ваши муску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От вас зависит будущее'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ЬЕР ДЕ КУБЕРТЕН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Творческое название проекта: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«Все дороги ведут в Турин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2555640"/>
            <a:ext cx="62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ннотация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Данный проект рассчитан на учащихся 5-11 классов. В ходе выполнения проекта учащиеся ознакомятся с краткой историей возникновения зимних Олимпийских игр, какие зимние виды спорта были включены в </a:t>
            </a:r>
            <a:r>
              <a:rPr b="0" lang="en-US" sz="2000" spc="-1" strike="noStrike">
                <a:solidFill>
                  <a:srgbClr val="800000"/>
                </a:solidFill>
                <a:latin typeface="Bookman Old Style"/>
              </a:rPr>
              <a:t>XX </a:t>
            </a: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зимние Олимпийские игры, какие новые зимние виды спорта были включены, кто и какие медали завоевали  российские спортсмены на Олимпиаде в  Турин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4" descr="SPORT002"/>
          <p:cNvPicPr/>
          <p:nvPr/>
        </p:nvPicPr>
        <p:blipFill>
          <a:blip r:embed="rId1"/>
          <a:stretch/>
        </p:blipFill>
        <p:spPr>
          <a:xfrm>
            <a:off x="3789360" y="5940360"/>
            <a:ext cx="232236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PORT041"/>
          <p:cNvPicPr/>
          <p:nvPr/>
        </p:nvPicPr>
        <p:blipFill>
          <a:blip r:embed="rId2"/>
          <a:stretch/>
        </p:blipFill>
        <p:spPr>
          <a:xfrm>
            <a:off x="907920" y="6012000"/>
            <a:ext cx="2305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324000"/>
            <a:ext cx="634356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Дидактические цели проекта:</a:t>
            </a:r>
            <a:br>
              <a:rPr sz="3200"/>
            </a:b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1. Оздоровление нации;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2. Воспитание  всесторонне   развитых люд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9000" y="3276360"/>
            <a:ext cx="6480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Методические задачи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1.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Привлечь учащихся к активным занятиям физической культуры и спор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2.  Познакомить учащих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с увлекательной историей Олимпийских иг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олимпийскими законами честности и благород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Олимпийской символик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812880"/>
            <a:ext cx="5794200" cy="25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Основополагающий вопрос: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Зачем проводятся Олимпийские игр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1920" y="2916360"/>
            <a:ext cx="57229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ак проводятся Олимпийские игр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ак выбирают столицу Олимпийских игр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Олимпийская символика. Какая о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Что такое олимп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179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Содержание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9000" y="1403280"/>
            <a:ext cx="5794200" cy="67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анный проект содержи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визитную карточку проект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ценарий презентации учи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ценарий презентации учащего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ученических рабо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езен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публик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eb-site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организационных материа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глаш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благодарственное письм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Критерии оцен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езент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убликац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методических материа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блиц – о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краткий справочник для школьн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4280" y="323640"/>
            <a:ext cx="582948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Об автора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00280" y="1042920"/>
            <a:ext cx="468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Данилов Лев Августович, учитель физкультуры МОУ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Сергеев Сергей Афанасьевич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учитель физкультуры МОУ   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Иванов Александр Никифорович, учитель физкультуры МОУ   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76280" y="694836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Контактная информа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429250,Чувашская Республ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ликовский район, с. Аликов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ул. Советская, д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Тел: (8235) 22 – 0 - 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DSCN6570"/>
          <p:cNvPicPr/>
          <p:nvPr/>
        </p:nvPicPr>
        <p:blipFill>
          <a:blip r:embed="rId1"/>
          <a:stretch/>
        </p:blipFill>
        <p:spPr>
          <a:xfrm>
            <a:off x="333360" y="3132000"/>
            <a:ext cx="1370160" cy="18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DSCN6589"/>
          <p:cNvPicPr/>
          <p:nvPr/>
        </p:nvPicPr>
        <p:blipFill>
          <a:blip r:embed="rId2"/>
          <a:stretch/>
        </p:blipFill>
        <p:spPr>
          <a:xfrm>
            <a:off x="331920" y="1042920"/>
            <a:ext cx="129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6:14:36Z</dcterms:created>
  <dc:creator>Administrator</dc:creator>
  <dc:description/>
  <dc:language>en-US</dc:language>
  <cp:lastModifiedBy>ZooM</cp:lastModifiedBy>
  <dcterms:modified xsi:type="dcterms:W3CDTF">2013-12-03T20:39:10Z</dcterms:modified>
  <cp:revision>16</cp:revision>
  <dc:subject/>
  <dc:title>XX зимние Олимпийские игры  в Турине</dc:title>
</cp:coreProperties>
</file>