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C43-2C10-484B-BD68-D24DD155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1C6-52C1-4B2A-89D3-3B0DF4E8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0AB-4317-42CD-961E-1E9F8A07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932-4217-41E7-BA33-FF5658F2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1FB-F7A6-4F3C-A8DE-83441EA9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26C-4026-4CD9-B129-D74C682E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391-E5E1-4C75-8A87-C4C0B3AE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239-860F-4978-ABE4-CFEE0838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AE9-A483-4205-9FFA-958C9DC9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EDB-D6B6-45AF-9AA1-77237043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AA7-6DE2-4E6C-9A2A-2AF0BC99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A06-BD0F-4651-B7F8-1B547E2D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B957-1E62-4A51-B95C-1E2E9B7B3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vizitka/&#1042;&#1080;&#1079;&#1080;&#1090;&#1085;&#1072;&#1103;%20&#1082;&#1072;&#1088;&#1090;&#1086;&#1095;&#1082;&#1072;.doc" TargetMode="External"/><Relationship Id="rId2" Type="http://schemas.openxmlformats.org/officeDocument/2006/relationships/hyperlink" Target="file:///../../student_samples/studert_presentation/&#1054;&#1083;&#1080;&#1084;&#1087;&#1080;&#1081;&#1089;&#1082;&#1080;&#1077;%20&#1080;&#1075;&#1088;&#1099;.ppt" TargetMode="External"/><Relationship Id="rId3" Type="http://schemas.openxmlformats.org/officeDocument/2006/relationships/hyperlink" Target="file:///../../student_samples/student_publication/&#1055;&#1091;&#1073;&#1083;&#1080;&#1082;&#1072;&#1094;&#1080;&#1103;.pub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33360" y="6359400"/>
            <a:ext cx="619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Авторы проекта:        учителя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МОУ «Аликовская СОШ им. И.Я. Яковлев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Данилов Лев Августович; Сергеев Сергей Афанасьевич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Иванов  Александр Никифоро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3000" y="674280"/>
            <a:ext cx="6335640" cy="15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XX 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зимние Олимпийские игры</a:t>
            </a:r>
            <a:br>
              <a:rPr sz="2800"/>
            </a:b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 в Турине</a:t>
            </a:r>
            <a:br>
              <a:rPr sz="2800"/>
            </a:b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БЫСТРЕЕ, ВЫШЕ, СИЛЬНЕЕ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1892520" y="839016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г. Чебоксары – 2006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2" descr="SPORT095"/>
          <p:cNvPicPr/>
          <p:nvPr/>
        </p:nvPicPr>
        <p:blipFill>
          <a:blip r:embed="rId1"/>
          <a:stretch/>
        </p:blipFill>
        <p:spPr>
          <a:xfrm>
            <a:off x="981000" y="1954080"/>
            <a:ext cx="46116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6640" y="611280"/>
            <a:ext cx="58291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Актуальность проек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9000" y="2123640"/>
            <a:ext cx="64800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990000"/>
                </a:solidFill>
                <a:latin typeface="Bookman Old Style"/>
              </a:rPr>
              <a:t>Недавно прошли </a:t>
            </a:r>
            <a:r>
              <a:rPr b="0" lang="en-US" sz="1800" spc="-1" strike="noStrike">
                <a:solidFill>
                  <a:srgbClr val="990000"/>
                </a:solidFill>
                <a:latin typeface="Bookman Old Style"/>
              </a:rPr>
              <a:t>XX</a:t>
            </a:r>
            <a:r>
              <a:rPr b="0" lang="ru-RU" sz="1800" spc="-1" strike="noStrike">
                <a:solidFill>
                  <a:srgbClr val="990000"/>
                </a:solidFill>
                <a:latin typeface="Bookman Old Style"/>
              </a:rPr>
              <a:t> зимние Олимпийские игры в Турине, к сожалению многие учащиеся не смотрели трансляции игр по телевидению, поэтому не знают героев Олимпийских игр. Данный проект рассчитывается на то, что   Олимпийское движение будет отражать новые идеи эпохи и общества, формировать и удовлетворять интерес школьников к занятиям физической культурой и спортом, увязывать их с другими аспектами социальной жизни страны и опираться на национальные традиц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В современном мире, полном могучих возможностей и одновременно опасностей губительных разрушений, олимпийское движение может и должно стать школой воспитания благородства и нравственной чистоты, равно как и физической выносливости и силы. Но это произойдет лишь в том случае, если ваше понимание спортивной чести и бескорыстия будет таким же сильным, как и ваши мускул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От вас зависит будущее'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ПЬЕР ДЕ КУБЕРТЕН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829120" cy="23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Творческое название проекта: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«Все дороги ведут в Турин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3000" y="2555640"/>
            <a:ext cx="6264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Аннотация проект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800000"/>
                </a:solidFill>
                <a:latin typeface="Bookman Old Style"/>
              </a:rPr>
              <a:t>Данный проект рассчитан на учащихся 5-11 классов. В ходе выполнения проекта учащиеся ознакомятся с краткой историей возникновения зимних Олимпийских игр, какие зимние виды спорта были включены в </a:t>
            </a:r>
            <a:r>
              <a:rPr b="0" lang="en-US" sz="2000" spc="-1" strike="noStrike">
                <a:solidFill>
                  <a:srgbClr val="800000"/>
                </a:solidFill>
                <a:latin typeface="Bookman Old Style"/>
              </a:rPr>
              <a:t>XX </a:t>
            </a:r>
            <a:r>
              <a:rPr b="0" lang="ru-RU" sz="2000" spc="-1" strike="noStrike">
                <a:solidFill>
                  <a:srgbClr val="800000"/>
                </a:solidFill>
                <a:latin typeface="Bookman Old Style"/>
              </a:rPr>
              <a:t>зимние Олимпийские игры, какие новые зимние виды спорта были включены, кто и какие медали завоевали  российские спортсмены на Олимпиаде в  Турин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4" descr="SPORT002"/>
          <p:cNvPicPr/>
          <p:nvPr/>
        </p:nvPicPr>
        <p:blipFill>
          <a:blip r:embed="rId1"/>
          <a:stretch/>
        </p:blipFill>
        <p:spPr>
          <a:xfrm>
            <a:off x="3789360" y="5940360"/>
            <a:ext cx="232236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PORT041"/>
          <p:cNvPicPr/>
          <p:nvPr/>
        </p:nvPicPr>
        <p:blipFill>
          <a:blip r:embed="rId2"/>
          <a:stretch/>
        </p:blipFill>
        <p:spPr>
          <a:xfrm>
            <a:off x="907920" y="6012000"/>
            <a:ext cx="2305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080" y="324000"/>
            <a:ext cx="6343560" cy="34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Дидактические цели проекта:</a:t>
            </a:r>
            <a:br>
              <a:rPr sz="3200"/>
            </a:b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1. Оздоровление нации;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2. Воспитание  всесторонне   развитых люд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9000" y="3276360"/>
            <a:ext cx="6480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Методические задачи проект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Bookman Old Style"/>
              </a:rPr>
              <a:t>1.    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Привлечь учащихся к активным занятиям физической культуры и спорт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2.  Познакомить учащихс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с увлекательной историей Олимпийских игр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олимпийскими законами честности и благородств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Олимпийской символик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812880"/>
            <a:ext cx="5794200" cy="25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Основополагающий вопрос: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Зачем проводятся Олимпийские игр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1920" y="2916360"/>
            <a:ext cx="57229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Проблемные вопросы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Как проводятся Олимпийские игр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Как выбирают столицу Олимпийских игр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Олимпийская символика. Какая он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Что такое олимпиз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179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Содержание проек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9000" y="1403280"/>
            <a:ext cx="5794200" cy="67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Данный проект содержи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визитную карточку проект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ценарий презентации учите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сценарий презентации учащего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бразцы ученических рабо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презент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публик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eb-site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бразцы организационных материалов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иглаш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благодарственное письм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Критерии оцен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резент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публикаци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бразцы методических материалов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те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блиц – о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краткий справочник для школьн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ookman Old Style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4280" y="323640"/>
            <a:ext cx="582948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Об автора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00280" y="1042920"/>
            <a:ext cx="4681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Bookman Old Style"/>
              </a:rPr>
              <a:t>    </a:t>
            </a: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Данилов Лев Августович, учитель физкультуры МОУ «Аликовская СОШ им. И.Я. Яковлев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Bookman Old Style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    </a:t>
            </a: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Сергеев Сергей Афанасьевич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      </a:t>
            </a: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учитель физкультуры МОУ    «Аликовская СОШ им. И.Я. Яковлев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     </a:t>
            </a:r>
            <a:r>
              <a:rPr b="1" i="1" lang="ru-RU" sz="1600" spc="-1" strike="noStrike">
                <a:solidFill>
                  <a:srgbClr val="009999"/>
                </a:solidFill>
                <a:latin typeface="Bookman Old Style"/>
              </a:rPr>
              <a:t>Иванов Александр Никифорович, учитель физкультуры МОУ    «Аликовская СОШ им. И.Я. Яковлев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Bookman Old Style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76280" y="6948360"/>
            <a:ext cx="59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Контактная информа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429250,Чувашская Республи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Аликовский район, с. Аликов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ул. Советская, д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imes New Roman"/>
              </a:rPr>
              <a:t>Тел: (8235) 22 – 0 - 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DSCN6570"/>
          <p:cNvPicPr/>
          <p:nvPr/>
        </p:nvPicPr>
        <p:blipFill>
          <a:blip r:embed="rId1"/>
          <a:stretch/>
        </p:blipFill>
        <p:spPr>
          <a:xfrm>
            <a:off x="333360" y="3132000"/>
            <a:ext cx="1370160" cy="18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DSCN6589"/>
          <p:cNvPicPr/>
          <p:nvPr/>
        </p:nvPicPr>
        <p:blipFill>
          <a:blip r:embed="rId2"/>
          <a:stretch/>
        </p:blipFill>
        <p:spPr>
          <a:xfrm>
            <a:off x="331920" y="1042920"/>
            <a:ext cx="1296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6:14:36Z</dcterms:created>
  <dc:creator>Administrator</dc:creator>
  <dc:description/>
  <dc:language>en-US</dc:language>
  <cp:lastModifiedBy>ZooM</cp:lastModifiedBy>
  <dcterms:modified xsi:type="dcterms:W3CDTF">2013-12-03T20:39:10Z</dcterms:modified>
  <cp:revision>16</cp:revision>
  <dc:subject/>
  <dc:title>XX зимние Олимпийские игры  в Турине</dc:title>
</cp:coreProperties>
</file>