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F54-0153-4ED5-BC98-786D37B0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6B9-708F-4FA9-9B0F-C3E26BF5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FA3-33F3-4020-B368-5885F7C5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6ED-E8F7-4C5C-B056-44302ACF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704-EB0E-4434-97D8-37EDE7D0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D1C-D298-46A2-A1BF-4967FE24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6C6-30F5-4CC7-BA00-754E13EE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BF6-8F33-4F73-A402-73FA5B77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380-7898-498E-A6C9-20A85CB9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846-3ECC-4378-BF21-1002D81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06B-049A-4763-AF43-F79E491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907-59B1-4DFF-8546-112CBB8F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A677-B846-48D1-9F3A-81A12E933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ОКС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997360"/>
            <a:ext cx="489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И ФИЗИЧЕСКИЕ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е 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) с кислотами как осно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nO + 2HCl = ZnC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с основаниями как кисл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nO + 2NaOH = N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nO + 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цинкат нат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Я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способы получения стр. 91 (выписать в тетрадь и выучи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тр. 92 №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СИФИКАЦИЯ ОКС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ксид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1)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соле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,  NO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оле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Основные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Амфотерные</a:t>
            </a:r>
            <a:r>
              <a:rPr b="0" lang="ru-RU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Кисл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O                              ZnO                           P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т      соответствуют             соответ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Осн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2411280" y="155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147636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2124000" y="2565360"/>
            <a:ext cx="4249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2050920" y="256536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1115640" y="2565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900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5796000" y="3789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341964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H="1">
            <a:off x="1979280" y="443700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3419640" y="4437000"/>
            <a:ext cx="20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ГРУПП ОКС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ным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ся оксиды, которые образуют соли при взаимодействии с кислотами или кислотными оксид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ислотным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ся оксиды, которые образуют соли при взаимодействии с основаниями или основными оксид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Амфотерными оксид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сиды которые проявляют свойства как кислот, так и основани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МИСА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ФОРМУЛЫ ОКС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Оксид серы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Оксид азот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Оксид калия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д желез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Оксид фосфор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ксид натри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648320" y="1600200"/>
            <a:ext cx="40384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ование окси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773600"/>
        </p:xfrm>
        <a:graphic>
          <a:graphicData uri="http://schemas.openxmlformats.org/drawingml/2006/table">
            <a:tbl>
              <a:tblPr/>
              <a:tblGrid>
                <a:gridCol w="4179960"/>
                <a:gridCol w="404964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бразуют основные оксид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Валентность ХЭ меньше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разуют кислотные оксид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Валентность ХЭ больше четыре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УЛЫ ОКС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Оксид серы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Оксид азот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Окси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лия 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основной 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железа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) – основной 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Оксид фосфор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кси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трия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основной 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648320" y="1600200"/>
            <a:ext cx="40384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ОКС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ИЗИЧЕСКИЕ СВОЙСТВА ОКС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ТВЕРДЫЕ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ЖИДК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ГАЗ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77164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H="1">
            <a:off x="1547280" y="2565360"/>
            <a:ext cx="251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3564000" y="2565360"/>
            <a:ext cx="503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4067280" y="2565360"/>
            <a:ext cx="24494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СВОЙСТВА ОСНОВНЫ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КСИДОВ (О.О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О.О. + кислота =соль + вода (реакция обм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О.О. + кислотный оксид = 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CaS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О.О.(раств) + вода = основание (щелоч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свойства кислотных оксид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К.О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К.О. + основание = соль + вода (реакция обмен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К.О. +О.О. = СОЛЬ 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К.О. + вода = кислота (кром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4:19:40Z</dcterms:created>
  <dc:creator>user</dc:creator>
  <dc:description/>
  <dc:language>en-US</dc:language>
  <cp:lastModifiedBy>Зам по НМР</cp:lastModifiedBy>
  <dcterms:modified xsi:type="dcterms:W3CDTF">2011-01-12T02:23:45Z</dcterms:modified>
  <cp:revision>10</cp:revision>
  <dc:subject/>
  <dc:title>Слайд 1</dc:title>
</cp:coreProperties>
</file>