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E0D1-46F1-4152-B14C-91833F10F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8DDC-B95F-40F3-B808-0C1C4DF5E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7A4A-798D-41A0-A660-49CCFE8C8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6C7A-8418-40F9-BCC6-B7DBA5D84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F684-5CDE-4C0D-BD28-C20EB735E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0A06-7B09-4A6C-9AAD-3ED1E55B9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16F7-5A48-42BD-8582-7760862B5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3B8F-6B9F-4E4C-BEE5-322FAA70F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0D83-67DE-474A-B163-F070E9EF5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8047-2C7D-46BB-A50F-3AE4751CB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18D1-8DAE-4B1B-88AE-0CC47DA80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1DC9-A63A-4D6F-AD9F-FD003B706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D7749-AA19-416C-8A4A-B63D809179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76000" y="549360"/>
            <a:ext cx="60498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66"/>
                </a:solidFill>
                <a:latin typeface="Arial"/>
              </a:rPr>
              <a:t>ОКСИД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24360" y="2997360"/>
            <a:ext cx="489744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ЛАССИФИКАЦ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ХИМИЧЕСКИЕ И ФИЗИЧЕСКИЕ СВОЙ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72835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мфотерные окси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1) с кислотами как основ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ZnO + 2HCl = ZnCl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+ H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2) с основаниями как кислот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ZnO + 2NaOH = Na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ZnO + H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                   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цинкат натр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МАШНЯЯ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. 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 способы получения стр. 91 (выписать в тетрадь и выучи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стр. 92 №1,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72835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ЛАССИФИКАЦИЯ ОКСИ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85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ксиды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                    1)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несолеобразующ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                                                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,  NO, 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2) </a:t>
            </a: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Солеобразующ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cc00"/>
                </a:solidFill>
                <a:latin typeface="Arial"/>
              </a:rPr>
              <a:t>Основные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         </a:t>
            </a:r>
            <a:r>
              <a:rPr b="1" lang="ru-RU" sz="2000" spc="-1" strike="noStrike">
                <a:solidFill>
                  <a:srgbClr val="ff9933"/>
                </a:solidFill>
                <a:latin typeface="Arial"/>
              </a:rPr>
              <a:t>Амфотерные</a:t>
            </a:r>
            <a:r>
              <a:rPr b="0" lang="ru-RU" sz="20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       </a:t>
            </a:r>
            <a:r>
              <a:rPr b="1" lang="ru-RU" sz="2000" spc="-1" strike="noStrike">
                <a:solidFill>
                  <a:srgbClr val="ff00ff"/>
                </a:solidFill>
                <a:latin typeface="Arial"/>
              </a:rPr>
              <a:t>Кислот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aO                              ZnO                           P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ответствуют      соответствуют             соответству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00"/>
                </a:solidFill>
                <a:latin typeface="Arial"/>
              </a:rPr>
              <a:t>Основания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                                        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ff"/>
                </a:solidFill>
                <a:latin typeface="Arial"/>
              </a:rPr>
              <a:t>кисло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(OH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                         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5"/>
          <p:cNvSpPr/>
          <p:nvPr/>
        </p:nvSpPr>
        <p:spPr>
          <a:xfrm>
            <a:off x="2411280" y="155736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6"/>
          <p:cNvSpPr/>
          <p:nvPr/>
        </p:nvSpPr>
        <p:spPr>
          <a:xfrm>
            <a:off x="1476360" y="1700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7"/>
          <p:cNvSpPr/>
          <p:nvPr/>
        </p:nvSpPr>
        <p:spPr>
          <a:xfrm>
            <a:off x="2124000" y="2565360"/>
            <a:ext cx="42498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8"/>
          <p:cNvSpPr/>
          <p:nvPr/>
        </p:nvSpPr>
        <p:spPr>
          <a:xfrm>
            <a:off x="2050920" y="2565360"/>
            <a:ext cx="115272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9"/>
          <p:cNvSpPr/>
          <p:nvPr/>
        </p:nvSpPr>
        <p:spPr>
          <a:xfrm flipH="1">
            <a:off x="1115640" y="2565360"/>
            <a:ext cx="863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0"/>
          <p:cNvSpPr/>
          <p:nvPr/>
        </p:nvSpPr>
        <p:spPr>
          <a:xfrm>
            <a:off x="90000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1"/>
          <p:cNvSpPr/>
          <p:nvPr/>
        </p:nvSpPr>
        <p:spPr>
          <a:xfrm>
            <a:off x="5796000" y="378936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3419640" y="3789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6"/>
          <p:cNvSpPr/>
          <p:nvPr/>
        </p:nvSpPr>
        <p:spPr>
          <a:xfrm flipH="1">
            <a:off x="1979280" y="4437000"/>
            <a:ext cx="1368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7"/>
          <p:cNvSpPr/>
          <p:nvPr/>
        </p:nvSpPr>
        <p:spPr>
          <a:xfrm>
            <a:off x="3419640" y="4437000"/>
            <a:ext cx="20890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72835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ПРЕДЕЛЕНИЕ ГРУПП ОКСИ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Основными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ываются оксиды, которые образуют соли при взаимодействии с кислотами или кислотными оксидами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ислотными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ываются оксиды, которые образуют соли при взаимодействии с основаниями или основными оксид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Амфотерными оксидам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азываю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ксиды которые проявляют свойства как кислот, так и оснований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72835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ПМИСАТЬ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ХИМИЧЕСКИЕ ФОРМУЛЫ ОКСИ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Оксид серы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Оксид азота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Оксид калия 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сид железа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)Оксид фосфора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оксид натрия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2"/>
          <p:cNvSpPr/>
          <p:nvPr/>
        </p:nvSpPr>
        <p:spPr>
          <a:xfrm>
            <a:off x="4648320" y="1600200"/>
            <a:ext cx="4038480" cy="21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бразование оксид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7200" y="1600200"/>
          <a:ext cx="8229600" cy="4773600"/>
        </p:xfrm>
        <a:graphic>
          <a:graphicData uri="http://schemas.openxmlformats.org/drawingml/2006/table">
            <a:tbl>
              <a:tblPr/>
              <a:tblGrid>
                <a:gridCol w="4179960"/>
                <a:gridCol w="4049640"/>
              </a:tblGrid>
              <a:tr h="12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алл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Образуют основные оксиды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Валентность ХЭ меньше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металл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бразуют кислотные оксиды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Валентность ХЭ больше четыре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72835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ОРМУЛЫ ОКСИ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Оксид серы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Оксид азота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Оксид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алия  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)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- основной окси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сид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железа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I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) – основной окси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)Оксид фосфора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оксид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натрия 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)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- основной окси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2"/>
          <p:cNvSpPr/>
          <p:nvPr/>
        </p:nvSpPr>
        <p:spPr>
          <a:xfrm>
            <a:off x="4648320" y="1600200"/>
            <a:ext cx="4038480" cy="21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72835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ЗИЧЕСКИЕ СВОЙСТВА ОКСИ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ФИЗИЧЕСКИЕ СВОЙСТВА ОКСИ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00"/>
                </a:solidFill>
                <a:latin typeface="Arial"/>
              </a:rPr>
              <a:t>ТВЕРДЫЕ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                  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ЖИДКИЕ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                                             </a:t>
            </a:r>
            <a:r>
              <a:rPr b="1" lang="ru-RU" sz="2400" spc="-1" strike="noStrike">
                <a:solidFill>
                  <a:srgbClr val="ff9933"/>
                </a:solidFill>
                <a:latin typeface="Arial"/>
              </a:rPr>
              <a:t>ГАЗООБРАЗ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5"/>
          <p:cNvSpPr/>
          <p:nvPr/>
        </p:nvSpPr>
        <p:spPr>
          <a:xfrm>
            <a:off x="2771640" y="1773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8"/>
          <p:cNvSpPr/>
          <p:nvPr/>
        </p:nvSpPr>
        <p:spPr>
          <a:xfrm flipH="1">
            <a:off x="1547280" y="2565360"/>
            <a:ext cx="2519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9"/>
          <p:cNvSpPr/>
          <p:nvPr/>
        </p:nvSpPr>
        <p:spPr>
          <a:xfrm flipH="1">
            <a:off x="3564000" y="2565360"/>
            <a:ext cx="5032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0"/>
          <p:cNvSpPr/>
          <p:nvPr/>
        </p:nvSpPr>
        <p:spPr>
          <a:xfrm>
            <a:off x="4067280" y="2565360"/>
            <a:ext cx="2449440" cy="17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72835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ХИМИЧЕСКИЕ СВОЙСТВА ОСНОВНЫХ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ОКСИДОВ (О.О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1) О.О. + кислота =соль + вода (реакция обме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O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→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2) О.О. + кислотный оксид = со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                                       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(реакция соединен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CaSi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3) О.О.(раств) + вода = основание (щелоч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                                     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(реакция соединен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→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Na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72835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Химические свойства кислотных оксидов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(К.О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1) К.О. + основание = соль + вода (реакция обмена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+ 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OH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→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2) К.О. +О.О. = СОЛЬ (реакция соединен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→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3) К.О. + вода = кислота (кром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       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(реакция соединен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+ 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→ 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14:19:40Z</dcterms:created>
  <dc:creator>user</dc:creator>
  <dc:description/>
  <dc:language>en-US</dc:language>
  <cp:lastModifiedBy>Зам по НМР</cp:lastModifiedBy>
  <dcterms:modified xsi:type="dcterms:W3CDTF">2011-01-12T02:23:45Z</dcterms:modified>
  <cp:revision>10</cp:revision>
  <dc:subject/>
  <dc:title>Слайд 1</dc:title>
</cp:coreProperties>
</file>