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A8C-2C8D-4BB1-95CB-B1F1E819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A4E-1AB4-4E5A-89F0-92D1B2FD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7DD-08D2-4335-8B0E-A446C0E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196-0F45-4197-BA28-46D2B472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1BA-5551-4041-AE70-D5A37B27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89CB-81D1-46DA-8731-092333B8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92E-3568-4893-8F4E-2FEBA463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FEA-5CC1-4966-991E-A3C03A4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A73-464D-4E71-AF79-FEE2BA85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D76-F511-4A25-8F03-790F468D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A71-E04E-411A-A3FB-761B362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4F6-E147-48BF-A511-10E572EA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346B-7ED0-43CE-8DE5-AB432380C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9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ОКС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360" y="2997360"/>
            <a:ext cx="489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ССИФИК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МИЧЕСКИЕ И ФИЗИЧЕСКИЕ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е 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) с кислотами как осно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2HCl = ZnC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с основаниями как кис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2NaOH = N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nO + 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цинкат на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ШНЯ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способы получения стр. 91 (выписать в тетрадь и выучи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тр. 92 №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СИФИКАЦИЯ ОКС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ксид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1)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,  NO,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Соле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</a:rPr>
              <a:t>Основны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Амфотерные</a:t>
            </a:r>
            <a:r>
              <a:rPr b="0" lang="ru-RU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Кисл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O                              ZnO                           P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т      соответствуют             соотве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Осн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кисл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2411280" y="155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147636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2124000" y="2565360"/>
            <a:ext cx="4249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2050920" y="256536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1115640" y="2565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900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5796000" y="378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3419640" y="37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 flipH="1">
            <a:off x="1979280" y="443700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3419640" y="4437000"/>
            <a:ext cx="20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ГРУПП ОКС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сновным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оксиды, которые образуют соли при взаимодействии с кислотами или кислотными оксид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ислотным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ются оксиды, которые образуют соли при взаимодействии с основаниями или основными оксид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Амфотерными оксид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зыва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ксиды которые проявляют свойства как кислот, так и основани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МИСА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ФОРМУЛЫ ОКСИ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Оксид серы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ксид азот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Оксид калия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д желез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Оксид фосфор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сид натри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648320" y="1600200"/>
            <a:ext cx="40384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ование окси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773600"/>
        </p:xfrm>
        <a:graphic>
          <a:graphicData uri="http://schemas.openxmlformats.org/drawingml/2006/table">
            <a:tbl>
              <a:tblPr/>
              <a:tblGrid>
                <a:gridCol w="4179960"/>
                <a:gridCol w="404964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бразуют основные оксид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алентность ХЭ меньше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етал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разуют кислотные оксид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Валентность ХЭ больше четыр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УЛЫ ОКС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Оксид серы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Оксид азот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лия 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железа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) –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Оксид фосфора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кси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трия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 основной окс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648320" y="1600200"/>
            <a:ext cx="40384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Е СВОЙСТВА ОКС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ИЧЕСКИЕ СВОЙСТВА ОКС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ТВЕРДЫЕ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ЖИДК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ГАЗ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77164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H="1">
            <a:off x="1547280" y="2565360"/>
            <a:ext cx="251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H="1">
            <a:off x="3564000" y="256536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4067280" y="2565360"/>
            <a:ext cx="24494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СВОЙСТВА ОСНОВНЫ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КСИДОВ (О.О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О.О. + кислота =соль + вода (реакция об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О.О. + кислотный оксид = 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Ca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.О.(раств) + вода = основание (щелоч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имические свойства кислотных оксидо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К.О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К.О. + основание = соль + вода (реакция обмен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К.О. +О.О. = СОЛЬ 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К.О. + вода = кислота (кром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еакция соедин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19:40Z</dcterms:created>
  <dc:creator>user</dc:creator>
  <dc:description/>
  <dc:language>en-US</dc:language>
  <cp:lastModifiedBy>Зам по НМР</cp:lastModifiedBy>
  <dcterms:modified xsi:type="dcterms:W3CDTF">2011-01-12T02:23:45Z</dcterms:modified>
  <cp:revision>10</cp:revision>
  <dc:subject/>
  <dc:title>Слайд 1</dc:title>
</cp:coreProperties>
</file>