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9E0-BCAE-4E48-89D7-076E1F40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064-5C74-4E0C-BC5A-F16999BE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981-2D49-403B-A90A-0D6FF27C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CFF-48BF-45A7-B0BC-25225178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6153-75E7-4EDE-9549-77A6EDDE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5FDC-498E-49FD-AC45-CF1B1640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11F2-7F62-48AF-AB74-8E081749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6481-293A-4AAA-866F-FCB8E81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C2F7-A318-474D-BD4E-A470C809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1C95-081B-4BD2-BECB-F2F5A295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4AAE-E850-41A3-92ED-4C2A6173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F48-53EA-463E-9533-9D8B876B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DC5A-D322-4238-A631-F6C64DC2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525F-0E5D-456A-8C14-D6D365C7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D103-16C3-4617-A610-BB1D39FC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C8E4-AA9C-49A1-881D-71F07504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5F68-B9CE-4ACF-9C89-4D1C8E60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556-9C07-4964-A3A0-B1BF6110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F5E-88DB-4423-96E5-B8702DE3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A86-D54C-491A-AAE1-24622845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4C5-C644-4670-8982-1F0B9842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004-FAD7-4B07-AF4F-29630F0E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5BD-E84A-4B05-90C3-197591F2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0B0-3772-4C95-BDDF-D6BA6885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6B49-B635-4963-9796-B07ABD0113E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D948-1CC6-432A-B80A-C7C05B75735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Тема 3. Формирование рынка услуг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уристский продукт характеризуетс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природными богатствами, которые делают места привлекательными для туризм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человеческим фактором, который делает туризм привлекательным как средство общ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энергетическими богатствами, которые создают необходимые удобства для турис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институционными факторами, которые как бы формируют среду обитания турис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политическими факторами, которые во многом определяют отношения общества к туриз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различными благами и услугами, сопутствующими туристскому продукт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рынка услуг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слуга – это любое мероприятие или выгода, которые одна сторона может предложить другой и которые в основном неосязаемы и не приводят к завладению чем – ли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слуг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ладает полезностью для кого-то, кто ее не производи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становится полезностью в процессе обмена видами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 носит преимущественно утилитарный характер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уществующие классификации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ществует несколько подходов к классификации услуг. Так услуги могут быть сгруппирова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Бытовые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питание (столовая, кафе, бар, ресторан, банкет и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.п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жилье ( строительство, ремонт, переоборудовани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служивание ( стирка, уборка, присмотр, ремонт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дых (билеты, путевки, кино, театр, дискотек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уществующие классификации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еловые услуги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технические ( наладка, обслуживание и ремонт оборудования, ремонт помещений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теллектуальные (юридические, бухгалтерские, аудиторские, рекламные и др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нансовые (кредитование, страхование и т.п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оциальные услуги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бразование ( школа, колледж, курсы и т .п. 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дравоохранение ( поликлиника, консультация, профилакторий, косметический салон и др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езопасность (охрана, правовая защита, расследования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ультурное развитие ( лектории, экскурсии, музеи. клубы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уществующие классификации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роме того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экономической природе услуги бывают абсолютные и утилитар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назначению – личные и коллектив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сфере распространения – производственные и непроизводстве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форме организации – государственные и негосударстве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 способам производства – чистые и смешан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ммерческое посредничество- охватывает  сферу услуг, связанную с продвижением товаров из сферы производства в сферу обращ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ммерческое посредничество на рынке товаров и услуг призвано обеспечить наиболее эффективную связь производства и потребления товаров и услуг на основе оптимальной организации их распределения и товарного обме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вис – это комплекс услуг, связанных со сбытом и эксплуатацией продук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вис – это оказание услуг  и/ или удовлетворение бытовых потребностей насе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ервисный маркетинг – это целенаправленная деятельность по созданию условий для более полного использования потребительских свойств товаров и повышения уровня комфорта населения в быт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нформационный маркетинг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маркетинговые усилия, направленные на создание, накопление, обновление, распространение и эффективное использование знаний во всех формах их прояв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это маркетинг информации как специфического проду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это маркетинг различных услуг связи, включая почтовую, телефонную, телеграфную и друг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одержание отдельных видов услуг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ранспортно -экспедиционные услуги характеризуютс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объектом – грузы и пассажир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убъектом – перевозчики, отправители, покупатели, посредни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пособом перевозки- виды транспортных средст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воевременностью- время перевозки и предоставления транспортных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комфортностью – условия перевозки пассажиров и грузов и д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ранспортный маркетинг – это совокупность мероприятий по продвижению транспортных услуг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8:56:48Z</dcterms:created>
  <dc:creator>ToXa</dc:creator>
  <dc:description/>
  <dc:language>en-US</dc:language>
  <cp:lastModifiedBy>ZooM</cp:lastModifiedBy>
  <dcterms:modified xsi:type="dcterms:W3CDTF">2013-12-16T00:41:31Z</dcterms:modified>
  <cp:revision>6</cp:revision>
  <dc:subject/>
  <dc:title>Особенности рынка услуг. </dc:title>
</cp:coreProperties>
</file>