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0B59-29E7-41F1-A07A-B78266D07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B4AA-B8D0-476D-B937-2F959A5F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4DB9-2173-49D4-9313-83A3994B6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4E25-AE57-45D2-992D-88AE47498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A2F7-F591-46FC-9C2B-2B5F9136D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F792-4B97-4BF5-B8FF-094CF9BB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F187-FD8F-4E5A-95D7-A2F1F820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37B6E-63C1-4ABB-A342-DA5F634F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494D-7130-4922-B79A-90B9D65A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7E50-01DD-4483-9C35-DC441E3B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8442-FE6A-420D-8CA6-02ED22BF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57F6-1B44-4536-890F-D33FCF64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C6F0-A415-475D-9AA2-33A14954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82043-CDCE-423F-9B41-89D541F5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D0E9-2F05-4A92-A783-00138377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2F24-DFFB-4FDD-B3E2-4CA594D45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6E09-9B46-41D3-9E18-8216FC819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FB70-CEB8-4ABC-881B-0065EC56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7530-A4E7-437C-82D2-AEF4D8DB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74A8-8B49-4FC7-9DCE-D1099235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43F5-6E85-492D-9D78-6E1D7A37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3B3A-0B30-4358-ADDE-01E8D42B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014A-005B-433F-A931-54366926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0E96-74F6-47AA-8C07-D537D8E6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00C6-65FB-438E-8509-0A7E4B61C6D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723B-ECCF-4434-BC18-0D28CF266F5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Тема 3. Формирование рынка услуг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одержание отдельных видов услуг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Туристский продукт характеризуется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- природными богатствами, которые делают места привлекательными для туризм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- человеческим фактором, который делает туризм привлекательным как средство общен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- энергетическими богатствами, которые создают необходимые удобства для туристов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- институционными факторами, которые как бы формируют среду обитания туристов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- политическими факторами, которые во многом определяют отношения общества к туризм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- различными благами и услугами, сопутствующими туристскому продукт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собенности рынка услуг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Услуга – это любое мероприятие или выгода, которые одна сторона может предложить другой и которые в основном неосязаемы и не приводят к завладению чем – либо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Услуга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бладает полезностью для кого-то, кто ее не производи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- становится полезностью в процессе обмена видами деятельност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-  носит преимущественно утилитарный характер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уществующие классификации услуг.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уществует несколько подходов к классификации услуг. Так услуги могут быть сгруппирован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Бытовые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- питание (столовая, кафе, бар, ресторан, банкет и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т.п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жилье ( строительство, ремонт, переоборудование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бслуживание ( стирка, уборка, присмотр, ремонт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тдых (билеты, путевки, кино, театр, дискотек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уществующие классификации услуг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Деловые услуги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технические ( наладка, обслуживание и ремонт оборудования, ремонт помещений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нтеллектуальные (юридические, бухгалтерские, аудиторские, рекламные и др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финансовые (кредитование, страхование и т.п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оциальные услуги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бразование ( школа, колледж, курсы и т .п. 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здравоохранение ( поликлиника, консультация, профилакторий, косметический салон и др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безопасность (охрана, правовая защита, расследования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культурное развитие ( лектории, экскурсии, музеи. клубы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уществующие классификации услуг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роме того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 экономической природе услуги бывают абсолютные и утилитарны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 назначению – личные и коллективны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 сфере распространения – производственные и непроизводственны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 форме организации – государственные и негосударственны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 способам производства – чистые и смешанны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одержание отдельных видов услуг.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оммерческое посредничество- охватывает  сферу услуг, связанную с продвижением товаров из сферы производства в сферу обраще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оммерческое посредничество на рынке товаров и услуг призвано обеспечить наиболее эффективную связь производства и потребления товаров и услуг на основе оптимальной организации их распределения и товарного обмен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одержание отдельных видов услуг.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ервис – это комплекс услуг, связанных со сбытом и эксплуатацией продукци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ервис – это оказание услуг  и/ или удовлетворение бытовых потребностей насел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ервисный маркетинг – это целенаправленная деятельность по созданию условий для более полного использования потребительских свойств товаров и повышения уровня комфорта населения в быту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одержание отдельных видов услуг.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Информационный маркетинг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- маркетинговые усилия, направленные на создание, накопление, обновление, распространение и эффективное использование знаний во всех формах их проявл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- это маркетинг информации как специфического продук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- это маркетинг различных услуг связи, включая почтовую, телефонную, телеграфную и други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одержание отдельных видов услуг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Транспортно -экспедиционные услуги характеризуются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- объектом – грузы и пассажир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- субъектом – перевозчики, отправители, покупатели, посредник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- способом перевозки- виды транспортных средств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- своевременностью- время перевозки и предоставления транспортных услу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- комфортностью – условия перевозки пассажиров и грузов и др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Транспортный маркетинг – это совокупность мероприятий по продвижению транспортных услу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7T18:56:48Z</dcterms:created>
  <dc:creator>ToXa</dc:creator>
  <dc:description/>
  <dc:language>en-US</dc:language>
  <cp:lastModifiedBy>ZooM</cp:lastModifiedBy>
  <dcterms:modified xsi:type="dcterms:W3CDTF">2013-12-16T00:41:31Z</dcterms:modified>
  <cp:revision>6</cp:revision>
  <dc:subject/>
  <dc:title>Особенности рынка услуг. </dc:title>
</cp:coreProperties>
</file>