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CD92-A13A-46AE-838D-174DEDCFC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6489-29F9-4422-AF83-EF8C36A6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6232-2D39-4EC7-B832-353884A81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13A6-FF7F-40BE-B172-D6BA2A147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51F2-BD28-4B8F-A96E-EEFE38816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63CC-6B94-4C3D-A7A9-0D50D7CD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BCEA-AF1D-4AD2-9AC1-A5CD3EB7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6255-6268-4B91-BAE1-9D37C535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46EF-DAA7-49C0-8957-AAEBE83E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7287-B980-4D9F-A448-3DCB440E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FAA5-59BF-489F-A618-94C040F2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931E-DC38-4940-9583-D3B840B7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EE09-DED6-4D3B-8B80-85FC34A0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421C-582C-40C7-98BA-941EB9E0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B1E4-0D00-44A6-920E-94510577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99BA-C8B5-48BE-9E30-4F8315139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4968-9DCE-4022-A025-14DF93FE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A3E0-9E6A-49A9-9D20-C28852C3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134C-7184-4565-BA0E-81EA25C6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7394-C627-4462-B661-14958B7A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4AA4-0E88-437A-AC07-77DE56A4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C603-84D8-4292-83C4-E8CE8EDE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639B-1AD7-4DD3-A0F9-4167D8BD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838E-4C3C-427B-AD4E-BFE2B355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0DD9-BFA5-4067-BDCE-3299F98B0AC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F176-1E99-49F1-96C8-E8AEA218250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Тема 3. Формирование рынка услуг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одержание отдельных видов услуг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Туристский продукт характеризуется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- природными богатствами, которые делают места привлекательными для туризм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- человеческим фактором, который делает туризм привлекательным как средство общен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- энергетическими богатствами, которые создают необходимые удобства для туристов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- институционными факторами, которые как бы формируют среду обитания туристов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- политическими факторами, которые во многом определяют отношения общества к туризм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- различными благами и услугами, сопутствующими туристскому продукт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обенности рынка услуг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Услуга – это любое мероприятие или выгода, которые одна сторона может предложить другой и которые в основном неосязаемы и не приводят к завладению чем – либо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Услуга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бладает полезностью для кого-то, кто ее не производи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 становится полезностью в процессе обмена видами деятельн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  носит преимущественно утилитарный характер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уществующие классификации услуг.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уществует несколько подходов к классификации услуг. Так услуги могут быть сгруппирован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Бытовые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 питание (столовая, кафе, бар, ресторан, банкет и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т.п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жилье ( строительство, ремонт, переоборудование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бслуживание ( стирка, уборка, присмотр, ремонт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тдых (билеты, путевки, кино, театр, дискотек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уществующие классификации услуг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еловые услуги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технические ( наладка, обслуживание и ремонт оборудования, ремонт помещений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нтеллектуальные (юридические, бухгалтерские, аудиторские, рекламные и др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финансовые (кредитование, страхование и т.п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оциальные услуги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бразование ( школа, колледж, курсы и т .п. 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дравоохранение ( поликлиника, консультация, профилакторий, косметический салон и др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безопасность (охрана, правовая защита, расследования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культурное развитие ( лектории, экскурсии, музеи. клубы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уществующие классификации услуг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роме того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 экономической природе услуги бывают абсолютные и утилитарны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 назначению – личные и коллективны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 сфере распространения – производственные и непроизводственны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 форме организации – государственные и негосударственны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 способам производства – чистые и смешанны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одержание отдельных видов услуг.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оммерческое посредничество- охватывает  сферу услуг, связанную с продвижением товаров из сферы производства в сферу обращ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оммерческое посредничество на рынке товаров и услуг призвано обеспечить наиболее эффективную связь производства и потребления товаров и услуг на основе оптимальной организации их распределения и товарного обмен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одержание отдельных видов услуг.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ервис – это комплекс услуг, связанных со сбытом и эксплуатацией продукци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ервис – это оказание услуг  и/ или удовлетворение бытовых потребностей насел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ервисный маркетинг – это целенаправленная деятельность по созданию условий для более полного использования потребительских свойств товаров и повышения уровня комфорта населения в быту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одержание отдельных видов услуг.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Информационный маркетинг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 маркетинговые усилия, направленные на создание, накопление, обновление, распространение и эффективное использование знаний во всех формах их проявл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 это маркетинг информации как специфического продук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 это маркетинг различных услуг связи, включая почтовую, телефонную, телеграфную и други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одержание отдельных видов услуг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Транспортно -экспедиционные услуги характеризуются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- объектом – грузы и пассажир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- субъектом – перевозчики, отправители, покупатели, посредник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- способом перевозки- виды транспортных средств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- своевременностью- время перевозки и предоставления транспортных услу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- комфортностью – условия перевозки пассажиров и грузов и др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Транспортный маркетинг – это совокупность мероприятий по продвижению транспортных услу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7T18:56:48Z</dcterms:created>
  <dc:creator>ToXa</dc:creator>
  <dc:description/>
  <dc:language>en-US</dc:language>
  <cp:lastModifiedBy>ZooM</cp:lastModifiedBy>
  <dcterms:modified xsi:type="dcterms:W3CDTF">2013-12-16T00:41:31Z</dcterms:modified>
  <cp:revision>6</cp:revision>
  <dc:subject/>
  <dc:title>Особенности рынка услуг. </dc:title>
</cp:coreProperties>
</file>