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5.wmf" ContentType="image/x-wmf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082-A2A1-4EC9-ADF9-9C4C097B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E2F-94A2-4AEC-8237-2091ADC8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BFC-4437-4FB5-93D6-72419850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EF0-D699-4738-8B9F-0CDC7BD4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1CB-3BE2-4E3C-92E0-0A14BE97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1F3-52E3-46C6-8467-185182D2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FDE-DDF0-41CE-A8B2-0208E0CA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5AB-E8BD-48D4-BAB8-997B6BA2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B80-E8B4-4D36-8410-A73707D7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56B-79AA-4928-AF41-D4DB392A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8B6-BCBC-41DA-B3B8-A49E0CFF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E33-5903-4E36-B126-34B2FCBC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9FD6-9B1B-4282-97F7-2DE6304D9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3049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Let’s sign contrac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077320" y="914400"/>
            <a:ext cx="887400" cy="9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40402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9144000" cy="657756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1) Be on time and come prepared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6831720" y="1613520"/>
              <a:ext cx="2206800" cy="22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516360" y="3873240"/>
              <a:ext cx="1712160" cy="22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1155960" y="5002920"/>
              <a:ext cx="4729680" cy="185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2) Be in your assigned seat and ready </a:t>
              </a: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o work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25240" y="3029760"/>
              <a:ext cx="2311920" cy="33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4000" cy="66546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3) Pay attent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   </a:t>
              </a: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o your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   </a:t>
              </a: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eacher.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6201000" y="1469520"/>
              <a:ext cx="2275200" cy="538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4 ) Bring your homework on time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4098960" y="3197880"/>
              <a:ext cx="4624200" cy="329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5) 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Respect each  other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6026760" y="2355480"/>
              <a:ext cx="2637360" cy="403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6) Keep the class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 </a:t>
            </a: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clean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5181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7) Do your best.</a:t>
              </a:r>
              <a:endParaRPr b="0" lang="en-US" sz="7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045040" y="2323800"/>
              <a:ext cx="1576440" cy="149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519440" y="4038480"/>
              <a:ext cx="1827720" cy="25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6516360" y="2692080"/>
              <a:ext cx="2017800" cy="376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60480" y="18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94167120" rIns="429442452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eacher" descr=""/>
          <p:cNvPicPr/>
          <p:nvPr/>
        </p:nvPicPr>
        <p:blipFill>
          <a:blip r:embed="rId1"/>
          <a:stretch/>
        </p:blipFill>
        <p:spPr>
          <a:xfrm>
            <a:off x="3733920" y="2178000"/>
            <a:ext cx="4914720" cy="4337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-135360"/>
            <a:ext cx="9144000" cy="70434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  <a:ea typeface="Shruti"/>
              </a:rPr>
              <a:t>8)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en to the </a:t>
            </a:r>
            <a:r>
              <a:rPr b="1" lang="ru-RU" sz="7200" spc="-1" strike="noStrike">
                <a:solidFill>
                  <a:srgbClr val="000000"/>
                </a:solidFill>
                <a:latin typeface="Comic Sans MS"/>
                <a:ea typeface="Shruti"/>
              </a:rPr>
              <a:t>    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ach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викова</cp:lastModifiedBy>
  <dcterms:modified xsi:type="dcterms:W3CDTF">2009-10-13T07:11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