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wmf" ContentType="image/x-wmf"/>
  <Override PartName="/ppt/media/image15.wmf" ContentType="image/x-wmf"/>
  <Override PartName="/ppt/media/image14.gif" ContentType="image/gif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13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AE17-4C30-4D95-8F8F-A24FD9BD1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A78F-35ED-41CE-A94A-D11E5BE9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092C-1BA7-4800-BF61-FE83D2480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DC24-B1B1-4562-8010-386A3FFF4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D5BC-A7C1-4ABE-8F4B-6E5333A6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95CE-43A4-4842-92D5-F6080E36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CB96-BE19-4293-A2FC-1B1C470E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E7DB-497F-4ADD-99AE-25E32C1D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5DD2-C211-4D32-8539-44E54D9E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540F-8DD7-4431-938A-746DCE6E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973F-D15B-449A-AF10-8BCD6C96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2E8F-82E2-4EFF-A20C-D9F4BCBB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83DF-BABE-4D71-B589-13D89F8EC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09480" y="304920"/>
            <a:ext cx="762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Let’s sign contract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077320" y="914400"/>
            <a:ext cx="887400" cy="928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038480" y="2209680"/>
            <a:ext cx="404028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3" name=""/>
            <p:cNvSpPr/>
            <p:nvPr/>
          </p:nvSpPr>
          <p:spPr>
            <a:xfrm>
              <a:off x="0" y="0"/>
              <a:ext cx="9144000" cy="6577560"/>
            </a:xfrm>
            <a:prstGeom prst="rect">
              <a:avLst/>
            </a:prstGeom>
            <a:solidFill>
              <a:srgbClr val="ffffff"/>
            </a:solidFill>
            <a:ln w="12708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500" spc="-1" strike="noStrike">
                  <a:solidFill>
                    <a:srgbClr val="000000"/>
                  </a:solidFill>
                  <a:latin typeface="Comic Sans MS"/>
                  <a:ea typeface="Angsana New"/>
                </a:rPr>
                <a:t>1) Be on time and come prepared.</a:t>
              </a:r>
              <a:endParaRPr b="0" lang="en-US" sz="6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6831720" y="1613520"/>
              <a:ext cx="2206800" cy="225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6516360" y="3873240"/>
              <a:ext cx="1712160" cy="225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1155960" y="5002920"/>
              <a:ext cx="4729680" cy="1855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12708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omic Sans MS"/>
                  <a:ea typeface="Angsana New"/>
                </a:rPr>
                <a:t>2) Be in your assigned seat and ready </a:t>
              </a:r>
              <a:r>
                <a:rPr b="1" lang="ru-RU" sz="6500" spc="-1" strike="noStrike">
                  <a:solidFill>
                    <a:srgbClr val="000000"/>
                  </a:solidFill>
                  <a:latin typeface="Comic Sans MS"/>
                  <a:ea typeface="Angsana New"/>
                </a:rPr>
                <a:t>to work.</a:t>
              </a:r>
              <a:endParaRPr b="0" lang="en-US" sz="6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525240" y="3029760"/>
              <a:ext cx="2311920" cy="3320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9144000" cy="6654600"/>
            </a:xfrm>
            <a:prstGeom prst="rect">
              <a:avLst/>
            </a:prstGeom>
            <a:solidFill>
              <a:srgbClr val="ffffff"/>
            </a:solidFill>
            <a:ln w="127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omic Sans MS"/>
                  <a:ea typeface="Angsana New"/>
                </a:rPr>
                <a:t>3) Pay attention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omic Sans MS"/>
                  <a:ea typeface="Angsana New"/>
                </a:rPr>
                <a:t>   </a:t>
              </a:r>
              <a:r>
                <a:rPr b="1" lang="ru-RU" sz="6000" spc="-1" strike="noStrike">
                  <a:solidFill>
                    <a:srgbClr val="000000"/>
                  </a:solidFill>
                  <a:latin typeface="Comic Sans MS"/>
                  <a:ea typeface="Angsana New"/>
                </a:rPr>
                <a:t>to your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omic Sans MS"/>
                  <a:ea typeface="Angsana New"/>
                </a:rPr>
                <a:t>   </a:t>
              </a:r>
              <a:r>
                <a:rPr b="1" lang="ru-RU" sz="6000" spc="-1" strike="noStrike">
                  <a:solidFill>
                    <a:srgbClr val="000000"/>
                  </a:solidFill>
                  <a:latin typeface="Comic Sans MS"/>
                  <a:ea typeface="Angsana New"/>
                </a:rPr>
                <a:t>teacher.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6201000" y="1469520"/>
              <a:ext cx="2275200" cy="5388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127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500" spc="-1" strike="noStrike">
                  <a:solidFill>
                    <a:srgbClr val="000000"/>
                  </a:solidFill>
                  <a:latin typeface="Comic Sans MS"/>
                  <a:ea typeface="Angsana New"/>
                </a:rPr>
                <a:t>4 ) Bring your homework on time.</a:t>
              </a:r>
              <a:endParaRPr b="0" lang="en-US" sz="6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4098960" y="3197880"/>
              <a:ext cx="4624200" cy="3290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127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500" spc="-1" strike="noStrike">
                  <a:solidFill>
                    <a:srgbClr val="000000"/>
                  </a:solidFill>
                  <a:latin typeface="Comic Sans MS"/>
                  <a:ea typeface="Angsana New"/>
                </a:rPr>
                <a:t>5) </a:t>
              </a:r>
              <a:endParaRPr b="0" lang="en-US" sz="65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500" spc="-1" strike="noStrike">
                  <a:solidFill>
                    <a:srgbClr val="000000"/>
                  </a:solidFill>
                  <a:latin typeface="Comic Sans MS"/>
                  <a:ea typeface="Angsana New"/>
                </a:rPr>
                <a:t>Respect each  other.</a:t>
              </a:r>
              <a:endParaRPr b="0" lang="en-US" sz="6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6026760" y="2355480"/>
              <a:ext cx="2637360" cy="4038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00"/>
                </a:solidFill>
                <a:latin typeface="Comic Sans MS"/>
                <a:ea typeface="Angsana New"/>
              </a:rPr>
              <a:t>6) Keep the class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00"/>
                </a:solidFill>
                <a:latin typeface="Comic Sans MS"/>
                <a:ea typeface="Angsana New"/>
              </a:rPr>
              <a:t> </a:t>
            </a:r>
            <a:r>
              <a:rPr b="1" lang="ru-RU" sz="7000" spc="-1" strike="noStrike">
                <a:solidFill>
                  <a:srgbClr val="000000"/>
                </a:solidFill>
                <a:latin typeface="Comic Sans MS"/>
                <a:ea typeface="Angsana New"/>
              </a:rPr>
              <a:t>clean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581280" y="1905120"/>
            <a:ext cx="518184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500" spc="-1" strike="noStrike">
                  <a:solidFill>
                    <a:srgbClr val="000000"/>
                  </a:solidFill>
                  <a:latin typeface="Comic Sans MS"/>
                  <a:ea typeface="Angsana New"/>
                </a:rPr>
                <a:t>7) Do your best.</a:t>
              </a:r>
              <a:endParaRPr b="0" lang="en-US" sz="7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5045040" y="2323800"/>
              <a:ext cx="1576440" cy="149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4519440" y="4038480"/>
              <a:ext cx="1827720" cy="252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3"/>
            <a:stretch/>
          </p:blipFill>
          <p:spPr>
            <a:xfrm>
              <a:off x="6516360" y="2692080"/>
              <a:ext cx="2017800" cy="3769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60480" y="185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94167120" rIns="429442452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teacher" descr=""/>
          <p:cNvPicPr/>
          <p:nvPr/>
        </p:nvPicPr>
        <p:blipFill>
          <a:blip r:embed="rId1"/>
          <a:stretch/>
        </p:blipFill>
        <p:spPr>
          <a:xfrm>
            <a:off x="3733920" y="2178000"/>
            <a:ext cx="4914720" cy="4337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-135360"/>
            <a:ext cx="9144000" cy="7043400"/>
          </a:xfrm>
          <a:prstGeom prst="rect">
            <a:avLst/>
          </a:prstGeom>
          <a:noFill/>
          <a:ln w="7632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mic Sans MS"/>
                <a:ea typeface="Shruti"/>
              </a:rPr>
              <a:t>8) </a:t>
            </a:r>
            <a:r>
              <a:rPr b="1" lang="en-US" sz="7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isten to the </a:t>
            </a:r>
            <a:r>
              <a:rPr b="1" lang="ru-RU" sz="7200" spc="-1" strike="noStrike">
                <a:solidFill>
                  <a:srgbClr val="000000"/>
                </a:solidFill>
                <a:latin typeface="Comic Sans MS"/>
                <a:ea typeface="Shruti"/>
              </a:rPr>
              <a:t>     </a:t>
            </a:r>
            <a:r>
              <a:rPr b="1" lang="en-US" sz="7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each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18576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18576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18576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18576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18576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овикова</cp:lastModifiedBy>
  <dcterms:modified xsi:type="dcterms:W3CDTF">2009-10-13T07:11:5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