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15.wmf" ContentType="image/x-wmf"/>
  <Override PartName="/ppt/media/image14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521-7B88-4949-81F6-705F896D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90B6-1DFD-47CC-8F7C-6FEDC95E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82B-2CB7-4372-A5B1-C9002CE7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1D1-EC6A-428B-87E1-E222E4DA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DD9-E703-4A97-BF64-8D1A361E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6C42-A012-45E2-8C0B-14922268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3006-0561-4E54-B5A3-71656B35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913A-46B3-4613-9839-8B07F29E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B22-9672-434D-9A47-0F1ECF00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806E-DAEF-485A-BB0E-C3C1878E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1DA3-7E06-4B97-8EEF-F4CB19FD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3AA8-422E-4DC6-BF67-F3FAD74D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944A-3522-472B-A44C-67C5660A1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30492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Let’s sign contrac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077320" y="914400"/>
            <a:ext cx="887400" cy="928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038480" y="2209680"/>
            <a:ext cx="40402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" name=""/>
            <p:cNvSpPr/>
            <p:nvPr/>
          </p:nvSpPr>
          <p:spPr>
            <a:xfrm>
              <a:off x="0" y="0"/>
              <a:ext cx="9144000" cy="657756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5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1) Be on time and come prepared.</a:t>
              </a: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6831720" y="1613520"/>
              <a:ext cx="2206800" cy="225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6516360" y="3873240"/>
              <a:ext cx="1712160" cy="225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1155960" y="5002920"/>
              <a:ext cx="4729680" cy="185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2) Be in your assigned seat and ready </a:t>
              </a:r>
              <a:r>
                <a:rPr b="1" lang="ru-RU" sz="65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to work.</a:t>
              </a: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525240" y="3029760"/>
              <a:ext cx="2311920" cy="332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4000" cy="665460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3) Pay attentio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   </a:t>
              </a:r>
              <a:r>
                <a:rPr b="1" lang="ru-RU" sz="60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to your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   </a:t>
              </a:r>
              <a:r>
                <a:rPr b="1" lang="ru-RU" sz="60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teacher.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6201000" y="1469520"/>
              <a:ext cx="2275200" cy="538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5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4 ) Bring your homework on time.</a:t>
              </a: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4098960" y="3197880"/>
              <a:ext cx="4624200" cy="3290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5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5) </a:t>
              </a: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5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Respect each  other.</a:t>
              </a: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6026760" y="2355480"/>
              <a:ext cx="2637360" cy="403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Comic Sans MS"/>
                <a:ea typeface="Angsana New"/>
              </a:rPr>
              <a:t>6) Keep the class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Comic Sans MS"/>
                <a:ea typeface="Angsana New"/>
              </a:rPr>
              <a:t> </a:t>
            </a:r>
            <a:r>
              <a:rPr b="1" lang="ru-RU" sz="7000" spc="-1" strike="noStrike">
                <a:solidFill>
                  <a:srgbClr val="000000"/>
                </a:solidFill>
                <a:latin typeface="Comic Sans MS"/>
                <a:ea typeface="Angsana New"/>
              </a:rPr>
              <a:t>clean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581280" y="1905120"/>
            <a:ext cx="518184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500" spc="-1" strike="noStrike">
                  <a:solidFill>
                    <a:srgbClr val="000000"/>
                  </a:solidFill>
                  <a:latin typeface="Comic Sans MS"/>
                  <a:ea typeface="Angsana New"/>
                </a:rPr>
                <a:t>7) Do your best.</a:t>
              </a:r>
              <a:endParaRPr b="0" lang="en-US" sz="7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5045040" y="2323800"/>
              <a:ext cx="1576440" cy="149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4519440" y="4038480"/>
              <a:ext cx="1827720" cy="25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6516360" y="2692080"/>
              <a:ext cx="2017800" cy="376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60480" y="185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294167120" rIns="429442452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teacher" descr=""/>
          <p:cNvPicPr/>
          <p:nvPr/>
        </p:nvPicPr>
        <p:blipFill>
          <a:blip r:embed="rId1"/>
          <a:stretch/>
        </p:blipFill>
        <p:spPr>
          <a:xfrm>
            <a:off x="3733920" y="2178000"/>
            <a:ext cx="4914720" cy="4337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-135360"/>
            <a:ext cx="9144000" cy="7043400"/>
          </a:xfrm>
          <a:prstGeom prst="rect">
            <a:avLst/>
          </a:prstGeom>
          <a:noFill/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mic Sans MS"/>
                <a:ea typeface="Shruti"/>
              </a:rPr>
              <a:t>8)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sten to the </a:t>
            </a:r>
            <a:r>
              <a:rPr b="1" lang="ru-RU" sz="7200" spc="-1" strike="noStrike">
                <a:solidFill>
                  <a:srgbClr val="000000"/>
                </a:solidFill>
                <a:latin typeface="Comic Sans MS"/>
                <a:ea typeface="Shruti"/>
              </a:rPr>
              <a:t>    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ach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85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85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85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85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85760" indent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овикова</cp:lastModifiedBy>
  <dcterms:modified xsi:type="dcterms:W3CDTF">2009-10-13T07:11:5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