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250C-BFDC-4969-93E8-657DE99E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05BC-065C-45DE-BA6A-6002BA4E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BA6-ABF6-47DD-995F-3AED0412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F008-3C45-4373-8DC1-C201FE10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5809-2A98-4149-950D-19ED093D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A99C-BCC4-4B92-BF67-D4A39B1A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135-1FB1-454E-8BC2-F0640C29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969B-E0DC-42B9-90E3-7504395B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05A1-25EA-4B77-9310-D4220B05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D73A-52E5-4140-A331-410F5E39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B063-436D-4CBE-A478-C85DEAA4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2199-33CD-4027-ADFD-9BE309E5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001B-7B68-47F8-986D-271C66578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англичане люб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орить о пог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ень важно знать, в какой ситуации можно заводить разговор  о   погоде. Некоторые люди утверждают, что  англичане   говорят   о   погоде  постоянно, что вся нация помешана на этой теме, но данное замечание ошибочно. В действительности реплики  о   погоде  уместны в трех случа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2781360"/>
            <a:ext cx="830124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когда вы приветствуете собеседн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когда нужно приступить к разговору на определенную те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когда беседа стопорится и наступает неловкое молч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концу 1700 годов появились заметки  о   погоде  в дневниках  и газетах, что сделало  ее предметом ежедневных обсуждений в  обществе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видите, разговоры и размышления  англичан   о   погоде  навсегда стали атрибутом английской культу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еще, в обсуждении погоды надо придерживаться правила: никогда не противоречьте собеседнику, это плохой тон, даже, если за окном валит снег, а кто-то сказал, что стоит прекрасная погода, согласите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1122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вы возразите, сразу почувствуете, как атмосфера вокруг вас накаляется, увидите, что ваши собеседники смущены и даже обижены. Никто вас не одернет, но ваши собеседники будут оскорбле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91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же дикторы телевидения, читающие прогноз погоды, совершенно явно следуют этой иерархии: извиняющимся тоном сообщают о дожде, но уже с ноткой живости в голосе добавляют, что, по крайней мере, будет тепло, словно знают, что дождливая теплая погода предпочтительнее дождливой холодной. Так же с сожалением они обычно предсказывают холодную погоду и уже более веселым голосом сообщают, что, возможно, будет светить солнце, потому что всем известно, что холодная солнечная погода лучше холодной облачной. Поэтому, если только погода не дождливая и холодная одновременно, вы всегда можете употребить в ответе: «Но, по крайней мере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Чудесный день, вы не находите?» — отнюдь не вопрос  о   погоде, а приглашение к разговору, своего рода - английский риту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, важное главное правило ведения разговора  о  погоде: всегда соглашайтесь. В связи с этим правилом венгерский юморист Джордж Майкс писал, что в Англии «при обсуждении погоды ни в коем случае нельзя возражать собеседнику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500120" y="642960"/>
            <a:ext cx="57866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года - атрибут жизни  англичан, они - патриоты и гордятся своей погодой и не позволяют иностранцам её ругать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пичные  англичане  обычно начинают разговор с замечаний  о   погоде  в качестве приветствия, затем некоторое время продолжают обсуждение погодных условий, ищут удобный момент, чтобы приступить к разговору на интересующую их тему, и через определенные интервалы возвращаются к теме  погоды , заполняя паузы во время беседы. Потому-то многие иностранцы и  делают вывод, что англичане одержимы темой  погоды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виз англич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weather is w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not f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weather is c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not scol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weather is war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not stor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be thankful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ever the we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то вздыхайте, когда не знаете, что сказ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ажно, какую  реплику вы выберете в ответ на вопрос о погоде.  Главное, чтобы вы вовлеклись в диалог, выразили согласие, нашли общий язык с собеседником. И участливый вздох столь же эффективно способствует процессу социального взаимодействия и укреплению дружеских взаимоотношений, как и разделенный оптимизм, совместные размышления или переносимые вместе тяг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акая погода редко бывает в Англ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погода 2"/>
          <p:cNvPicPr/>
          <p:nvPr/>
        </p:nvPicPr>
        <p:blipFill>
          <a:blip r:embed="rId1"/>
          <a:stretch/>
        </p:blipFill>
        <p:spPr>
          <a:xfrm>
            <a:off x="2050920" y="1989000"/>
            <a:ext cx="51850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гличане всегда с зон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снег в ОК"/>
          <p:cNvPicPr/>
          <p:nvPr/>
        </p:nvPicPr>
        <p:blipFill>
          <a:blip r:embed="rId1"/>
          <a:stretch/>
        </p:blipFill>
        <p:spPr>
          <a:xfrm>
            <a:off x="2050920" y="1844640"/>
            <a:ext cx="46818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ё обоснование выбранной тем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Мне нравится читать  книги о разных странах и путешествиях, о  разных народах и  их обычаях. Часто  слышу, что англичане любят говорить о погоде. Я решил подробнее узнать, почему они так любят говорить о пог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Чтобы найти ответ на этот вопрос мне было необходимо найти материалы об Англии в книгах и Интернете, обработать  сведения и найти конкретный ответ на вопрос: «Почему англичане любят говорить о пого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огда англичане ругают свою по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т, что они говорят: «Если сами мы только и делаем, что ругаем свою  погоду , то иностранцам не дозволено ее критиковать. В этом смысле мы относимся к своей  погоде  как к члену семьи: можно сколько угодно выражать недовольство поведением собственных детей или родителей, но малейший намек на осуждение со стороны постороннего считается неприемлемым и расценивается как невоспитанност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пичная картина Лонд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334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адиционный зонт-трость есть у каждого англича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онтик от дождя придумали в Англии. Как и элегантную трость-зонтик, с которой любил разгуливать по  Лондону  Шерлок Холмс. Традиционный зонт всегда с ручкой и заменяет трость, когда нет дождя. Его  обычно вешают  на внутренней стороне входной двери на крюч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мятник англичанину с зонтом в Лонд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зонт"/>
          <p:cNvPicPr/>
          <p:nvPr/>
        </p:nvPicPr>
        <p:blipFill>
          <a:blip r:embed="rId1"/>
          <a:stretch/>
        </p:blipFill>
        <p:spPr>
          <a:xfrm>
            <a:off x="2133720" y="1066680"/>
            <a:ext cx="4952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гличане всегда начинают деловой разговор с обсуждения погоды, выжидая подходящий момент, чтобы перейти к главн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года, действительно  доставляет англичанам много хлопот, но они патриоты и редко её руг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говор о погоде – приглашение к разговору и знакомст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on’t desire to change anything in England except the weather. (Oscar Wil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глийская поговорка гласит: "В Англии нет климата, здесь есть погода", и погода может меняться несколько раз в день! Предсказывать погоду в Англии- самое неблагодарное дело, и наверное из-за этой непредсказуемости англичане в любом разговоре употребляют слово "погода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__карта"/>
          <p:cNvPicPr/>
          <p:nvPr/>
        </p:nvPicPr>
        <p:blipFill>
          <a:blip r:embed="rId1"/>
          <a:stretch/>
        </p:blipFill>
        <p:spPr>
          <a:xfrm>
            <a:off x="600120" y="1677960"/>
            <a:ext cx="375264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ографическое положение влияет на погоду в Анг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погода 1"/>
          <p:cNvPicPr/>
          <p:nvPr/>
        </p:nvPicPr>
        <p:blipFill>
          <a:blip r:embed="rId1"/>
          <a:stretch/>
        </p:blipFill>
        <p:spPr>
          <a:xfrm>
            <a:off x="1258920" y="1484280"/>
            <a:ext cx="6553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пичная погода в Анг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дождь"/>
          <p:cNvPicPr/>
          <p:nvPr/>
        </p:nvPicPr>
        <p:blipFill>
          <a:blip r:embed="rId1"/>
          <a:stretch/>
        </p:blipFill>
        <p:spPr>
          <a:xfrm>
            <a:off x="3059280" y="2276640"/>
            <a:ext cx="3384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705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don F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погода 3"/>
          <p:cNvPicPr/>
          <p:nvPr/>
        </p:nvPicPr>
        <p:blipFill>
          <a:blip r:embed="rId1"/>
          <a:stretch/>
        </p:blipFill>
        <p:spPr>
          <a:xfrm>
            <a:off x="1785960" y="157176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но,  англичане   любят   говорить   о   погоде.    Почему  же  англичане   любят   говорить   о   погоде 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т, как сами они отвечают на этот вопрос: «Во-первых,  погода  – тема разговора, которая универсальна и не зависит от убеждений, пола, расы и политических взглядов. Эта тема не несет в себе риска оскорбить собеседника. Во-вторых, английская  погода  непредсказуема, она не вызывает столько проблем и не преподносит столько сюрпризов другим странам, как Объединённому Королевст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многие убеждены, что за разговорами  о   погоде  стоит совсем другое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года  – это катализатор, благодаря которому легче начать разговор (ice breaker), это своего рода приветствие дома, с коллегой на работе, по телефону с клиентом, во время интервью. С разговоров  о   погоде  начинается и заканчивается рабочая неделя в офис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года  – самая важная тема на островах, интригующий предмет разговора, в обсуждении которого  англичане  обязаны быть безупречны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суждение  погоды  помогает превзойти застенчивость, закрытость, а также поддержать разговор, вошедший в тупи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21:05:34Z</dcterms:created>
  <dc:creator>Илья</dc:creator>
  <dc:description/>
  <dc:language>en-US</dc:language>
  <cp:lastModifiedBy>User</cp:lastModifiedBy>
  <dcterms:modified xsi:type="dcterms:W3CDTF">2011-10-17T18:19:17Z</dcterms:modified>
  <cp:revision>51</cp:revision>
  <dc:subject/>
  <dc:title>Почему британцы любят говорить о погоде</dc:title>
</cp:coreProperties>
</file>