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2029-DAEA-49CC-9F3C-CDBB913C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090E-EACE-4AEC-A793-E11F5C0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B13E-C76D-407F-8ED7-07A701AA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CD95-68BE-4BA7-85A2-DE29AE87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34EF-607B-44CE-A7A7-256C542A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8269-A428-47B9-A47D-5CB29E8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6ACE-4705-4D7D-920D-00FF8598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457-9756-4C15-8ECA-9CEAE5AE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452B-0621-46E7-A8E9-18CBC1E1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7093-3471-4776-9972-B4091527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098-DFDE-4BA6-8231-B22AE33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CF66-0D7F-4FE2-A847-365ED6F3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C457-F281-4FA6-82D7-240C0F2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F0CA-A686-4D8F-B1C1-AE975596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2E04-669F-441F-A843-6731F965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3437-7679-4F10-A78F-16ED2456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573F-B2DC-4DB4-8383-4A94331C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CAD7-7769-40DE-9771-EFFF1BFA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1DDC-868E-4225-A1B2-FAE2460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38A1-0086-459E-B106-3439367F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F484-6C10-463A-9323-A5D7730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FF0A-50DA-46A8-BA1D-5FB6D451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FB36-AC2D-4549-9177-67905DB9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A523-ED3A-4C36-BF40-E47E3F6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75f1"/>
            </a:gs>
            <a:gs pos="100000">
              <a:srgbClr val="9933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A92-B6D0-4C66-B6E2-0ED452BD14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75f1"/>
            </a:gs>
            <a:gs pos="100000">
              <a:srgbClr val="9933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D03E-E899-427B-B08A-D985786EA9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Monotype Corsiva"/>
              </a:rPr>
              <a:t>Показательная функц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4266720"/>
            <a:ext cx="542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Урок обобщ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2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181080" y="1700280"/>
            <a:ext cx="950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lassic Russi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шаются по следующим свойствам показательн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•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1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то неравенство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en-US" sz="36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раведливо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•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то неравенство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раведливо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300"/>
                            </p:stCondLst>
                            <p:childTnLst>
                              <p:par>
                                <p:cTn id="7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9100"/>
                            </p:stCondLst>
                            <p:childTnLst>
                              <p:par>
                                <p:cTn id="7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2900"/>
                            </p:stCondLst>
                            <p:childTnLst>
                              <p:par>
                                <p:cTn id="7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Решите неравенства (устно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люб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600" spc="-1" strike="noStrike" baseline="5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  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600" spc="-1" strike="noStrike" baseline="5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2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+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2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9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-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9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 &lt;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826920" y="501336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900000" y="371628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908000" y="3860640"/>
                <a:ext cx="3636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332000" y="4581360"/>
                <a:ext cx="503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AutoShape 12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720"/>
                            </p:stCondLst>
                            <p:childTnLst>
                              <p:par>
                                <p:cTn id="8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600"/>
                            </p:stCondLst>
                            <p:childTnLst>
                              <p:par>
                                <p:cTn id="8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00"/>
                            </p:stCondLst>
                            <p:childTnLst>
                              <p:par>
                                <p:cTn id="8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200"/>
                            </p:stCondLst>
                            <p:childTnLst>
                              <p:par>
                                <p:cTn id="8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200"/>
                            </p:stCondLst>
                            <p:childTnLst>
                              <p:par>
                                <p:cTn id="8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200"/>
                            </p:stCondLst>
                            <p:childTnLst>
                              <p:par>
                                <p:cTn id="9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200"/>
                            </p:stCondLst>
                            <p:childTnLst>
                              <p:par>
                                <p:cTn id="9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3(3;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0"/>
          <p:cNvSpPr/>
          <p:nvPr/>
        </p:nvSpPr>
        <p:spPr>
          <a:xfrm flipH="1">
            <a:off x="2843280" y="4869000"/>
            <a:ext cx="100800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1237680" y="5445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2611440" y="537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4"/>
              <p:cNvSpPr txBox="1"/>
              <p:nvPr/>
            </p:nvSpPr>
            <p:spPr>
              <a:xfrm>
                <a:off x="3132000" y="6237360"/>
                <a:ext cx="363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8" name="Text Box 38"/>
          <p:cNvSpPr/>
          <p:nvPr/>
        </p:nvSpPr>
        <p:spPr>
          <a:xfrm>
            <a:off x="5689080" y="76500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5867280" y="119700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lassic Russi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0"/>
              <p:cNvSpPr txBox="1"/>
              <p:nvPr/>
            </p:nvSpPr>
            <p:spPr>
              <a:xfrm>
                <a:off x="6227640" y="907920"/>
                <a:ext cx="595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2"/>
              <p:cNvSpPr txBox="1"/>
              <p:nvPr/>
            </p:nvSpPr>
            <p:spPr>
              <a:xfrm>
                <a:off x="5148360" y="2060640"/>
                <a:ext cx="698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3"/>
              <p:cNvSpPr txBox="1"/>
              <p:nvPr/>
            </p:nvSpPr>
            <p:spPr>
              <a:xfrm>
                <a:off x="6372360" y="2060640"/>
                <a:ext cx="698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48"/>
          <p:cNvSpPr/>
          <p:nvPr/>
        </p:nvSpPr>
        <p:spPr>
          <a:xfrm>
            <a:off x="5760720" y="198900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6063480" y="234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lassic Russi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6998760" y="198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5212440" y="321300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lassic Russian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2"/>
              <p:cNvSpPr txBox="1"/>
              <p:nvPr/>
            </p:nvSpPr>
            <p:spPr>
              <a:xfrm>
                <a:off x="5724360" y="2997360"/>
                <a:ext cx="698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53"/>
          <p:cNvSpPr/>
          <p:nvPr/>
        </p:nvSpPr>
        <p:spPr>
          <a:xfrm>
            <a:off x="6270840" y="29962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6436800" y="31827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б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4962240" y="393372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4771800" y="4581360"/>
            <a:ext cx="38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х – 2)(х + 2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0"/>
          <p:cNvSpPr/>
          <p:nvPr/>
        </p:nvSpPr>
        <p:spPr>
          <a:xfrm flipH="1">
            <a:off x="17928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,7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 baseline="7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+2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7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y=0,7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б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x &gt;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+2x-3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+2x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-3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x+3) (x-1)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 (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∞;-3)    (1;+∞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1979640" y="47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5148360" y="5805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8"/>
          <p:cNvSpPr/>
          <p:nvPr/>
        </p:nvSpPr>
        <p:spPr>
          <a:xfrm flipH="1">
            <a:off x="7450920" y="5373720"/>
            <a:ext cx="122580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9"/>
          <p:cNvSpPr/>
          <p:nvPr/>
        </p:nvSpPr>
        <p:spPr>
          <a:xfrm>
            <a:off x="6084720" y="5373720"/>
            <a:ext cx="136692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0"/>
          <p:cNvSpPr/>
          <p:nvPr/>
        </p:nvSpPr>
        <p:spPr>
          <a:xfrm>
            <a:off x="5148360" y="5373720"/>
            <a:ext cx="93636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5867280" y="5516640"/>
            <a:ext cx="2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236000" y="551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003640" y="6156360"/>
            <a:ext cx="34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(-2 ; 2)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7714440" y="539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6"/>
          <p:cNvSpPr/>
          <p:nvPr/>
        </p:nvSpPr>
        <p:spPr>
          <a:xfrm>
            <a:off x="6563880" y="53942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5412240" y="5416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8"/>
              <p:cNvSpPr txBox="1"/>
              <p:nvPr/>
            </p:nvSpPr>
            <p:spPr>
              <a:xfrm>
                <a:off x="2700360" y="5157720"/>
                <a:ext cx="2160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0"/>
              <p:cNvSpPr txBox="1"/>
              <p:nvPr/>
            </p:nvSpPr>
            <p:spPr>
              <a:xfrm>
                <a:off x="1403280" y="5157720"/>
                <a:ext cx="17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06"/>
          <p:cNvSpPr/>
          <p:nvPr/>
        </p:nvSpPr>
        <p:spPr>
          <a:xfrm>
            <a:off x="395280" y="5300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1"/>
          <p:cNvSpPr/>
          <p:nvPr/>
        </p:nvSpPr>
        <p:spPr>
          <a:xfrm>
            <a:off x="611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2"/>
          <p:cNvSpPr/>
          <p:nvPr/>
        </p:nvSpPr>
        <p:spPr>
          <a:xfrm>
            <a:off x="320364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lassic Russi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15"/>
          <p:cNvSpPr/>
          <p:nvPr/>
        </p:nvSpPr>
        <p:spPr>
          <a:xfrm>
            <a:off x="395280" y="4869000"/>
            <a:ext cx="107964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17"/>
          <p:cNvSpPr/>
          <p:nvPr/>
        </p:nvSpPr>
        <p:spPr>
          <a:xfrm>
            <a:off x="1476360" y="4869000"/>
            <a:ext cx="1366920" cy="35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72840" y="49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lassic Russi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9"/>
          <p:cNvSpPr/>
          <p:nvPr/>
        </p:nvSpPr>
        <p:spPr>
          <a:xfrm>
            <a:off x="8317080" y="57340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0"/>
          <p:cNvSpPr/>
          <p:nvPr/>
        </p:nvSpPr>
        <p:spPr>
          <a:xfrm>
            <a:off x="3780000" y="522756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23"/>
              <p:cNvSpPr txBox="1"/>
              <p:nvPr/>
            </p:nvSpPr>
            <p:spPr>
              <a:xfrm>
                <a:off x="5076720" y="981000"/>
                <a:ext cx="698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24"/>
          <p:cNvSpPr/>
          <p:nvPr/>
        </p:nvSpPr>
        <p:spPr>
          <a:xfrm>
            <a:off x="5759640" y="58006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5"/>
          <p:cNvSpPr/>
          <p:nvPr/>
        </p:nvSpPr>
        <p:spPr>
          <a:xfrm>
            <a:off x="7296120" y="580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26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7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800"/>
                            </p:stCondLst>
                            <p:childTnLst>
                              <p:par>
                                <p:cTn id="9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100"/>
                            </p:stCondLst>
                            <p:childTnLst>
                              <p:par>
                                <p:cTn id="9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310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4100"/>
                            </p:stCondLst>
                            <p:childTnLst>
                              <p:par>
                                <p:cTn id="9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100"/>
                            </p:stCondLst>
                            <p:childTnLst>
                              <p:par>
                                <p:cTn id="10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10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71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1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91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100"/>
                            </p:stCondLst>
                            <p:childTnLst>
                              <p:par>
                                <p:cTn id="10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110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21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2600"/>
                            </p:stCondLst>
                            <p:childTnLst>
                              <p:par>
                                <p:cTn id="10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3600"/>
                            </p:stCondLst>
                            <p:childTnLst>
                              <p:par>
                                <p:cTn id="10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64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7400"/>
                            </p:stCondLst>
                            <p:childTnLst>
                              <p:par>
                                <p:cTn id="10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84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310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100"/>
                            </p:stCondLst>
                            <p:childTnLst>
                              <p:par>
                                <p:cTn id="1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100"/>
                            </p:stCondLst>
                            <p:childTnLst>
                              <p:par>
                                <p:cTn id="1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100"/>
                            </p:stCondLst>
                            <p:childTnLst>
                              <p:par>
                                <p:cTn id="1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8200"/>
                            </p:stCondLst>
                            <p:childTnLst>
                              <p:par>
                                <p:cTn id="1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9200"/>
                            </p:stCondLst>
                            <p:childTnLst>
                              <p:par>
                                <p:cTn id="1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32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4200"/>
                            </p:stCondLst>
                            <p:childTnLst>
                              <p:par>
                                <p:cTn id="1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Чтобы решить графически уравнение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f (x) = g (x)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, над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строить графики функций у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x)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у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g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йти абсциссу точки пересечения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ссмотреть возможность существования других точек перес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8"/>
          <p:cNvGraphicFramePr/>
          <p:nvPr/>
        </p:nvGraphicFramePr>
        <p:xfrm>
          <a:off x="1209600" y="663480"/>
          <a:ext cx="7925040" cy="618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663480"/>
                    <a:ext cx="792504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0"/>
          <p:cNvSpPr/>
          <p:nvPr/>
        </p:nvSpPr>
        <p:spPr>
          <a:xfrm>
            <a:off x="611280" y="189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4"/>
          <p:cNvGraphicFramePr/>
          <p:nvPr/>
        </p:nvGraphicFramePr>
        <p:xfrm>
          <a:off x="2050920" y="404640"/>
          <a:ext cx="5496120" cy="684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04640"/>
                    <a:ext cx="5496120" cy="68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AutoShape 5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езентация снабжена гиперссылками, при обращении к которым можно сразу перейти на выбранный слай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 же используются следую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яющие кноп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переход к содержанию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переход на вопрос те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826920" y="386064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2" action="ppaction://hlinksldjump"/>
          </p:cNvPr>
          <p:cNvSpPr/>
          <p:nvPr/>
        </p:nvSpPr>
        <p:spPr>
          <a:xfrm>
            <a:off x="826920" y="501336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68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18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88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78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8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0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lassic Russi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много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ение уравнений: устно и 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1" action="ppaction://hlinksldjump"/>
              </a:rPr>
              <a:t>№252(1;3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, дополнительно№264(3;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ение неравенств: устно и 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2" action="ppaction://hlinksldjump"/>
              </a:rPr>
              <a:t>№253</a:t>
            </a:r>
            <a:r>
              <a:rPr b="0" lang="ru-RU" sz="4000" spc="-1" strike="noStrike" u="sng">
                <a:solidFill>
                  <a:srgbClr val="993366"/>
                </a:solidFill>
                <a:uFillTx/>
                <a:latin typeface="Monotype Corsiva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4" action="ppaction://hlinksldjump"/>
              </a:rPr>
              <a:t>(3;4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, дополнительно№261(3;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3366"/>
                </a:solidFill>
                <a:uFillTx/>
                <a:latin typeface="Monotype Corsiva"/>
                <a:hlinkClick r:id="rId5" action="ppaction://hlinksldjump"/>
              </a:rPr>
              <a:t>Графическое решение уравнений</a:t>
            </a:r>
            <a:r>
              <a:rPr b="0" lang="ru-RU" sz="4000" spc="-1" strike="noStrike" u="sng">
                <a:solidFill>
                  <a:srgbClr val="993366"/>
                </a:solidFill>
                <a:uFillTx/>
                <a:latin typeface="Monotype Corsiva"/>
                <a:hlinkClick r:id="rId6" action="ppaction://hlinksldjump"/>
              </a:rPr>
              <a:t>                        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7" action="ppaction://hlinksldjump"/>
              </a:rPr>
              <a:t>№ 254(1)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8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ес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72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92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22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62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92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оказательной функцией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называется функция вида у = а </a:t>
            </a:r>
            <a:r>
              <a:rPr b="1" lang="ru-RU" sz="44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, где а - заданное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исло, а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0, a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≠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979640" y="1484280"/>
            <a:ext cx="0" cy="27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39640" y="307008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6659640" y="1557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5364000" y="3141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5580000" y="1771560"/>
            <a:ext cx="2449440" cy="129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V="1">
            <a:off x="7093080" y="30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 flipH="1">
            <a:off x="6587640" y="2708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6939000" y="316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6227640" y="256392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218640" y="2657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 flipV="1">
            <a:off x="709308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H="1">
            <a:off x="6587640" y="2852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0"/>
          <p:cNvSpPr/>
          <p:nvPr/>
        </p:nvSpPr>
        <p:spPr>
          <a:xfrm flipH="1" rot="10800">
            <a:off x="826920" y="1700280"/>
            <a:ext cx="2235240" cy="122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2259000" y="309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1683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2411280" y="29988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7"/>
          <p:cNvSpPr/>
          <p:nvPr/>
        </p:nvSpPr>
        <p:spPr>
          <a:xfrm>
            <a:off x="1908000" y="234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 flipV="1">
            <a:off x="2411280" y="234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 flipH="1">
            <a:off x="1979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658800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83000" y="2082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1908000" y="2638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173760" y="29163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5"/>
          <p:cNvSpPr/>
          <p:nvPr/>
        </p:nvSpPr>
        <p:spPr>
          <a:xfrm>
            <a:off x="7998120" y="30081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6"/>
          <p:cNvSpPr/>
          <p:nvPr/>
        </p:nvSpPr>
        <p:spPr>
          <a:xfrm>
            <a:off x="1665720" y="12398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6345720" y="12384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8"/>
          <p:cNvSpPr/>
          <p:nvPr/>
        </p:nvSpPr>
        <p:spPr>
          <a:xfrm>
            <a:off x="826920" y="160344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=а</a:t>
            </a:r>
            <a:r>
              <a:rPr b="1" lang="ru-RU" sz="32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9"/>
          <p:cNvSpPr/>
          <p:nvPr/>
        </p:nvSpPr>
        <p:spPr>
          <a:xfrm>
            <a:off x="7144200" y="145080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=а</a:t>
            </a:r>
            <a:r>
              <a:rPr b="1" lang="ru-RU" sz="32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826920" y="1870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7053480" y="173844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&lt;a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3141720" y="3068640"/>
            <a:ext cx="340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(у):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(y): (0;+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∞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3"/>
          <p:cNvSpPr/>
          <p:nvPr/>
        </p:nvSpPr>
        <p:spPr>
          <a:xfrm>
            <a:off x="-717840" y="4749840"/>
            <a:ext cx="62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lassic Russi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онотонн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возрастает</a:t>
            </a: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4"/>
          <p:cNvSpPr/>
          <p:nvPr/>
        </p:nvSpPr>
        <p:spPr>
          <a:xfrm>
            <a:off x="4272480" y="4749840"/>
            <a:ext cx="53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онотонн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уб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6373080" y="309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1693080" y="3017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7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равните   </a:t>
            </a:r>
            <a:r>
              <a:rPr b="1" lang="ru-RU" sz="4000" spc="-1" strike="noStrike">
                <a:solidFill>
                  <a:srgbClr val="000000"/>
                </a:solidFill>
                <a:latin typeface="Classic Russi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lassic Russi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x&gt;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x&gt;-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lassic Russian"/>
              </a:rPr>
              <a:t>0,9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lassic Russian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gt;0,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1=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-4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5/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6/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7"/>
              <p:cNvSpPr txBox="1"/>
              <p:nvPr/>
            </p:nvSpPr>
            <p:spPr>
              <a:xfrm>
                <a:off x="324000" y="2637000"/>
                <a:ext cx="28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,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m>
                      <m:mr>
                        <m:e/>
                        <m:e>
                          <m:r>
                            <m:t xml:space="preserve">1</m:t>
                          </m:r>
                        </m:e>
                      </m:mr>
                    </m:m>
                    <m:r>
                      <m:t xml:space="preserve">,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395280" y="1484280"/>
                <a:ext cx="2736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m>
                      <m:mr>
                        <m:e/>
                        <m:e>
                          <m:sSup>
                            <m:e>
                              <m:r>
                                <m:t xml:space="preserve">0,9</m:t>
                              </m:r>
                            </m:e>
                            <m:sup>
                              <m:r>
                                <m:t xml:space="preserve">у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4716360" y="2637000"/>
                <a:ext cx="2519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,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m>
                      <m:mr>
                        <m:e>
                          <m:r>
                            <m:t xml:space="preserve">и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643280" y="1484280"/>
                <a:ext cx="3024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m>
                      <m:mr>
                        <m:e>
                          <m:r>
                            <m:t xml:space="preserve">и</m:t>
                          </m:r>
                        </m:e>
                        <m:e>
                          <m:sSup>
                            <m:e>
                              <m:r>
                                <m:t xml:space="preserve">0,9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5"/>
              <p:cNvSpPr txBox="1"/>
              <p:nvPr/>
            </p:nvSpPr>
            <p:spPr>
              <a:xfrm>
                <a:off x="4572000" y="4149720"/>
                <a:ext cx="29527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m>
                          <m:mr>
                            <m:e>
                              <m:r>
                                <m:t xml:space="preserve">и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</m:m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9"/>
              <p:cNvSpPr txBox="1"/>
              <p:nvPr/>
            </p:nvSpPr>
            <p:spPr>
              <a:xfrm>
                <a:off x="324000" y="4076640"/>
                <a:ext cx="29066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m>
                          <m:mr>
                            <m:e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</m:m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AutoShape 33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войства степе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  <a:ea typeface="Arial"/>
              </a:rPr>
              <a:t>∙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 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–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∙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∙b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∙b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b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b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есл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, если 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, если 0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40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7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9300"/>
                            </p:stCondLst>
                            <p:childTnLst>
                              <p:par>
                                <p:cTn id="4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80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300"/>
                            </p:stCondLst>
                            <p:childTnLst>
                              <p:par>
                                <p:cTn id="4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300"/>
                            </p:stCondLst>
                            <p:childTnLst>
                              <p:par>
                                <p:cTn id="4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казательные урав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ssic Russi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аются по свойству показательной фун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•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сли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&gt;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0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≠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о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4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4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4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справедливо        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х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=х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100"/>
                            </p:stCondLst>
                            <p:childTnLst>
                              <p:par>
                                <p:cTn id="4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900"/>
                            </p:stCondLst>
                            <p:childTnLst>
                              <p:par>
                                <p:cTn id="5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Решите уравнения ( устно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-2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4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,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-3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2   2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3  9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8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3,4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+2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4,3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5508720" y="1052640"/>
                <a:ext cx="2538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5435640" y="234936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AutoShape 9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6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00"/>
                            </p:stCondLst>
                            <p:childTnLst>
                              <p:par>
                                <p:cTn id="5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"/>
                            </p:stCondLst>
                            <p:childTnLst>
                              <p:par>
                                <p:cTn id="5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"/>
                            </p:stCondLst>
                            <p:childTnLst>
                              <p:par>
                                <p:cTn id="5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00"/>
                            </p:stCondLst>
                            <p:childTnLst>
                              <p:par>
                                <p:cTn id="5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400"/>
                            </p:stCondLst>
                            <p:childTnLst>
                              <p:par>
                                <p:cTn id="6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"/>
                            </p:stCondLst>
                            <p:childTnLst>
                              <p:par>
                                <p:cTn id="6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600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усть 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, 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600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=24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4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постор.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25, t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=2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Ответ: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892400" cy="71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+ 9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-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-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+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+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 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усть 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, t&g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9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729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9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-90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постор.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81, t=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=4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00000" y="26028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2(1;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5724360" y="1484280"/>
                <a:ext cx="49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AutoShape 9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800"/>
                            </p:stCondLst>
                            <p:childTnLst>
                              <p:par>
                                <p:cTn id="6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0:42:33Z</dcterms:created>
  <dc:creator>Пользователь</dc:creator>
  <dc:description/>
  <dc:language>en-US</dc:language>
  <cp:lastModifiedBy>галина</cp:lastModifiedBy>
  <dcterms:modified xsi:type="dcterms:W3CDTF">2010-04-04T12:52:48Z</dcterms:modified>
  <cp:revision>56</cp:revision>
  <dc:subject/>
  <dc:title>Показательная функ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