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7400-1897-4464-AD5A-A0F4603F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8AAB-13A3-4916-B372-96741B40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1A07-C569-4B22-8B73-CCF02425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BFE03-B953-415D-AF3E-F0511E13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7524-9363-4051-A3D5-40E2DD1D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41D5-E514-4125-A97A-238223D6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7E3E-488F-422B-9A7E-2B297A32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FBC0-6A25-4D25-9522-E3B1DA05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3B4E-9E78-4929-83A7-1A756FC9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B152-9E92-4ED7-8587-6F82B505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D00B-45BE-4669-BB8C-AA1AD99A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23251-51FD-41CF-A7DD-129D1D3E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3B0B-A693-4B1A-96D8-6F3A8F0A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CFB7-0CA6-44A0-A1E9-F451EE49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1C75-155B-43F7-ADBE-648A38D6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7CFF-A793-4FCD-AF05-8F6904BB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F9CD-4FFB-4CAD-8A7D-0D3750E9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FF59A-C9F3-4BD0-89C8-E64A4A91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FA42-D6C2-4D80-9C22-4951E8C6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ABE72-C262-4DDE-BCEC-4760AB39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2838-F1E3-4086-AEC3-4C665236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5B14D-567F-4F82-8623-519952D5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4834F-FDFD-4BC8-AADB-8E99944F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15020-3ACC-4BA1-8FB5-605D8B57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75f1"/>
            </a:gs>
            <a:gs pos="100000">
              <a:srgbClr val="9933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4A9E-A043-48ED-9241-8B1101744E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75f1"/>
            </a:gs>
            <a:gs pos="100000">
              <a:srgbClr val="9933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DF34-0715-4D78-B3C1-420082CA6F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Monotype Corsiva"/>
              </a:rPr>
              <a:t>Показательная функц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4266720"/>
            <a:ext cx="5427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Урок обобщения и систематизации зн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32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оказательные неравен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181080" y="1700280"/>
            <a:ext cx="9506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lassic Russi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ешаются по следующим свойствам показательной 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•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&gt;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1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то неравенство    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1" lang="ru-RU" sz="36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en-US" sz="3600" spc="-1" strike="noStrike" baseline="8000">
                <a:solidFill>
                  <a:srgbClr val="000000"/>
                </a:solidFill>
                <a:latin typeface="Monotype Corsiva"/>
              </a:rPr>
              <a:t>1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праведливо        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Monotype Corsiva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•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&l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&l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, то неравенство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1" lang="ru-RU" sz="36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en-US" sz="36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&g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праведливо          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Monotype Corsiva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300"/>
                            </p:stCondLst>
                            <p:childTnLst>
                              <p:par>
                                <p:cTn id="7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9100"/>
                            </p:stCondLst>
                            <p:childTnLst>
                              <p:par>
                                <p:cTn id="7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2900"/>
                            </p:stCondLst>
                            <p:childTnLst>
                              <p:par>
                                <p:cTn id="7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9500"/>
                            </p:stCondLst>
                            <p:childTnLst>
                              <p:par>
                                <p:cTn id="7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Решите неравенства (устно)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g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люб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gt;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&g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ru-RU" sz="3600" spc="-1" strike="noStrike" baseline="5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   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3600" spc="-1" strike="noStrike" baseline="5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l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=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125360"/>
            <a:ext cx="40384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5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gt;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&gt;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,7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0,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&gt;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,2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+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0,2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&gt;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9,7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-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9,7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Monotype Corsiva"/>
              </a:rPr>
              <a:t>x  &lt;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826920" y="5013360"/>
                <a:ext cx="63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900000" y="3716280"/>
                <a:ext cx="6825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1908000" y="3860640"/>
                <a:ext cx="36360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0"/>
              <p:cNvSpPr txBox="1"/>
              <p:nvPr/>
            </p:nvSpPr>
            <p:spPr>
              <a:xfrm>
                <a:off x="1332000" y="4581360"/>
                <a:ext cx="5032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AutoShape 12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824" h="21600">
                <a:moveTo>
                  <a:pt x="12517" y="14281"/>
                </a:moveTo>
                <a:lnTo>
                  <a:pt x="12517" y="12323"/>
                </a:lnTo>
                <a:cubicBezTo>
                  <a:pt x="12517" y="11496"/>
                  <a:pt x="12848" y="10800"/>
                  <a:pt x="13448" y="10800"/>
                </a:cubicBezTo>
                <a:cubicBezTo>
                  <a:pt x="14580" y="10800"/>
                  <a:pt x="15476" y="9434"/>
                  <a:pt x="15476" y="7849"/>
                </a:cubicBezTo>
                <a:cubicBezTo>
                  <a:pt x="15476" y="5534"/>
                  <a:pt x="13623" y="3794"/>
                  <a:pt x="11412" y="3794"/>
                </a:cubicBezTo>
                <a:cubicBezTo>
                  <a:pt x="9201" y="3794"/>
                  <a:pt x="7530" y="5534"/>
                  <a:pt x="7530" y="7849"/>
                </a:cubicBezTo>
                <a:lnTo>
                  <a:pt x="9384" y="7849"/>
                </a:lnTo>
                <a:cubicBezTo>
                  <a:pt x="9384" y="6709"/>
                  <a:pt x="10306" y="5821"/>
                  <a:pt x="11412" y="5821"/>
                </a:cubicBezTo>
                <a:cubicBezTo>
                  <a:pt x="12517" y="5821"/>
                  <a:pt x="13448" y="6709"/>
                  <a:pt x="13448" y="7849"/>
                </a:cubicBezTo>
                <a:cubicBezTo>
                  <a:pt x="13448" y="8589"/>
                  <a:pt x="12978" y="9320"/>
                  <a:pt x="12517" y="9320"/>
                </a:cubicBezTo>
                <a:cubicBezTo>
                  <a:pt x="11412" y="9320"/>
                  <a:pt x="10306" y="10800"/>
                  <a:pt x="10306" y="12323"/>
                </a:cubicBezTo>
                <a:lnTo>
                  <a:pt x="10306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720"/>
                            </p:stCondLst>
                            <p:childTnLst>
                              <p:par>
                                <p:cTn id="8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600"/>
                            </p:stCondLst>
                            <p:childTnLst>
                              <p:par>
                                <p:cTn id="8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200"/>
                            </p:stCondLst>
                            <p:childTnLst>
                              <p:par>
                                <p:cTn id="8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100"/>
                            </p:stCondLst>
                            <p:childTnLst>
                              <p:par>
                                <p:cTn id="8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200"/>
                            </p:stCondLst>
                            <p:childTnLst>
                              <p:par>
                                <p:cTn id="8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200"/>
                            </p:stCondLst>
                            <p:childTnLst>
                              <p:par>
                                <p:cTn id="8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200"/>
                            </p:stCondLst>
                            <p:childTnLst>
                              <p:par>
                                <p:cTn id="9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200"/>
                            </p:stCondLst>
                            <p:childTnLst>
                              <p:par>
                                <p:cTn id="9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010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53(3;4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0"/>
          <p:cNvSpPr/>
          <p:nvPr/>
        </p:nvSpPr>
        <p:spPr>
          <a:xfrm flipH="1">
            <a:off x="2843280" y="4869000"/>
            <a:ext cx="1008000" cy="35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1237680" y="5445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2611440" y="5373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34"/>
              <p:cNvSpPr txBox="1"/>
              <p:nvPr/>
            </p:nvSpPr>
            <p:spPr>
              <a:xfrm>
                <a:off x="3132000" y="6237360"/>
                <a:ext cx="36360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8" name="Text Box 38"/>
          <p:cNvSpPr/>
          <p:nvPr/>
        </p:nvSpPr>
        <p:spPr>
          <a:xfrm>
            <a:off x="5689080" y="765000"/>
            <a:ext cx="5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5867280" y="1197000"/>
            <a:ext cx="5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lassic Russi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0"/>
              <p:cNvSpPr txBox="1"/>
              <p:nvPr/>
            </p:nvSpPr>
            <p:spPr>
              <a:xfrm>
                <a:off x="6227640" y="907920"/>
                <a:ext cx="595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2"/>
              <p:cNvSpPr txBox="1"/>
              <p:nvPr/>
            </p:nvSpPr>
            <p:spPr>
              <a:xfrm>
                <a:off x="5148360" y="2060640"/>
                <a:ext cx="6984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43"/>
              <p:cNvSpPr txBox="1"/>
              <p:nvPr/>
            </p:nvSpPr>
            <p:spPr>
              <a:xfrm>
                <a:off x="6372360" y="2060640"/>
                <a:ext cx="6984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48"/>
          <p:cNvSpPr/>
          <p:nvPr/>
        </p:nvSpPr>
        <p:spPr>
          <a:xfrm>
            <a:off x="5760720" y="1989000"/>
            <a:ext cx="5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9"/>
          <p:cNvSpPr/>
          <p:nvPr/>
        </p:nvSpPr>
        <p:spPr>
          <a:xfrm>
            <a:off x="6063480" y="2349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lassic Russi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6998760" y="1989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lassic Russi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5212440" y="3213000"/>
            <a:ext cx="6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lassic Russian"/>
              </a:rPr>
              <a:t>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52"/>
              <p:cNvSpPr txBox="1"/>
              <p:nvPr/>
            </p:nvSpPr>
            <p:spPr>
              <a:xfrm>
                <a:off x="5724360" y="2997360"/>
                <a:ext cx="6987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Rectangle 53"/>
          <p:cNvSpPr/>
          <p:nvPr/>
        </p:nvSpPr>
        <p:spPr>
          <a:xfrm>
            <a:off x="6270840" y="299628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6436800" y="31827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бы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4962240" y="3933720"/>
            <a:ext cx="16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4771800" y="4581360"/>
            <a:ext cx="38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(х – 2)(х + 2)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0"/>
          <p:cNvSpPr/>
          <p:nvPr/>
        </p:nvSpPr>
        <p:spPr>
          <a:xfrm flipH="1">
            <a:off x="179280" y="836640"/>
            <a:ext cx="47880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0,7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 baseline="7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+2х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0,7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y=0,7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6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быв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x &gt;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+2x-3&g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+2x-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-3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(x+3) (x-1)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твет: (-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∞;-3)    (1;+∞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1979640" y="4797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ssic Russian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7"/>
          <p:cNvSpPr/>
          <p:nvPr/>
        </p:nvSpPr>
        <p:spPr>
          <a:xfrm>
            <a:off x="5148360" y="58053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8"/>
          <p:cNvSpPr/>
          <p:nvPr/>
        </p:nvSpPr>
        <p:spPr>
          <a:xfrm flipH="1">
            <a:off x="7450920" y="5373720"/>
            <a:ext cx="1225800" cy="35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69"/>
          <p:cNvSpPr/>
          <p:nvPr/>
        </p:nvSpPr>
        <p:spPr>
          <a:xfrm>
            <a:off x="6084720" y="5373720"/>
            <a:ext cx="1366920" cy="358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70"/>
          <p:cNvSpPr/>
          <p:nvPr/>
        </p:nvSpPr>
        <p:spPr>
          <a:xfrm>
            <a:off x="5148360" y="5373720"/>
            <a:ext cx="936360" cy="35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1"/>
          <p:cNvSpPr/>
          <p:nvPr/>
        </p:nvSpPr>
        <p:spPr>
          <a:xfrm>
            <a:off x="5867280" y="5516640"/>
            <a:ext cx="2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7236000" y="551664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3"/>
          <p:cNvSpPr/>
          <p:nvPr/>
        </p:nvSpPr>
        <p:spPr>
          <a:xfrm>
            <a:off x="5003640" y="6156360"/>
            <a:ext cx="347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твет: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(-2 ; 2)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5"/>
          <p:cNvSpPr/>
          <p:nvPr/>
        </p:nvSpPr>
        <p:spPr>
          <a:xfrm>
            <a:off x="7714440" y="5394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6"/>
          <p:cNvSpPr/>
          <p:nvPr/>
        </p:nvSpPr>
        <p:spPr>
          <a:xfrm>
            <a:off x="6563880" y="539424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5412240" y="5416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78"/>
              <p:cNvSpPr txBox="1"/>
              <p:nvPr/>
            </p:nvSpPr>
            <p:spPr>
              <a:xfrm>
                <a:off x="2700360" y="5157720"/>
                <a:ext cx="21600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80"/>
              <p:cNvSpPr txBox="1"/>
              <p:nvPr/>
            </p:nvSpPr>
            <p:spPr>
              <a:xfrm>
                <a:off x="1403280" y="5157720"/>
                <a:ext cx="171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106"/>
          <p:cNvSpPr/>
          <p:nvPr/>
        </p:nvSpPr>
        <p:spPr>
          <a:xfrm>
            <a:off x="395280" y="530064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11"/>
          <p:cNvSpPr/>
          <p:nvPr/>
        </p:nvSpPr>
        <p:spPr>
          <a:xfrm>
            <a:off x="61128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2"/>
          <p:cNvSpPr/>
          <p:nvPr/>
        </p:nvSpPr>
        <p:spPr>
          <a:xfrm>
            <a:off x="3203640" y="49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lassic Russi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15"/>
          <p:cNvSpPr/>
          <p:nvPr/>
        </p:nvSpPr>
        <p:spPr>
          <a:xfrm>
            <a:off x="395280" y="4869000"/>
            <a:ext cx="1079640" cy="35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17"/>
          <p:cNvSpPr/>
          <p:nvPr/>
        </p:nvSpPr>
        <p:spPr>
          <a:xfrm>
            <a:off x="1476360" y="4869000"/>
            <a:ext cx="1366920" cy="358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8"/>
          <p:cNvSpPr/>
          <p:nvPr/>
        </p:nvSpPr>
        <p:spPr>
          <a:xfrm>
            <a:off x="672840" y="49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lassic Russi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9"/>
          <p:cNvSpPr/>
          <p:nvPr/>
        </p:nvSpPr>
        <p:spPr>
          <a:xfrm>
            <a:off x="8317080" y="573408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0"/>
          <p:cNvSpPr/>
          <p:nvPr/>
        </p:nvSpPr>
        <p:spPr>
          <a:xfrm>
            <a:off x="3780000" y="522756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123"/>
              <p:cNvSpPr txBox="1"/>
              <p:nvPr/>
            </p:nvSpPr>
            <p:spPr>
              <a:xfrm>
                <a:off x="5076720" y="981000"/>
                <a:ext cx="6987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24"/>
          <p:cNvSpPr/>
          <p:nvPr/>
        </p:nvSpPr>
        <p:spPr>
          <a:xfrm>
            <a:off x="5759640" y="580068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ssic Russi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5"/>
          <p:cNvSpPr/>
          <p:nvPr/>
        </p:nvSpPr>
        <p:spPr>
          <a:xfrm>
            <a:off x="7296120" y="580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lassic Russi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26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7301" y="11056"/>
                </a:moveTo>
                <a:lnTo>
                  <a:pt x="17806" y="4049"/>
                </a:lnTo>
                <a:lnTo>
                  <a:pt x="17806" y="18062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5456" y="4049"/>
                </a:lnTo>
                <a:lnTo>
                  <a:pt x="5456" y="18062"/>
                </a:lnTo>
                <a:lnTo>
                  <a:pt x="3794" y="18062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27"/>
          <p:cNvSpPr/>
          <p:nvPr/>
        </p:nvSpPr>
        <p:spPr>
          <a:xfrm>
            <a:off x="831708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115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040" h="21600">
                <a:moveTo>
                  <a:pt x="12625" y="14281"/>
                </a:moveTo>
                <a:lnTo>
                  <a:pt x="12625" y="12323"/>
                </a:lnTo>
                <a:cubicBezTo>
                  <a:pt x="12625" y="11496"/>
                  <a:pt x="12956" y="10800"/>
                  <a:pt x="13557" y="10800"/>
                </a:cubicBezTo>
                <a:cubicBezTo>
                  <a:pt x="14688" y="10800"/>
                  <a:pt x="15585" y="9434"/>
                  <a:pt x="15585" y="7849"/>
                </a:cubicBezTo>
                <a:cubicBezTo>
                  <a:pt x="15585" y="5534"/>
                  <a:pt x="13731" y="3794"/>
                  <a:pt x="11520" y="3794"/>
                </a:cubicBezTo>
                <a:cubicBezTo>
                  <a:pt x="9309" y="3794"/>
                  <a:pt x="7638" y="5534"/>
                  <a:pt x="7638" y="7849"/>
                </a:cubicBezTo>
                <a:lnTo>
                  <a:pt x="9492" y="7849"/>
                </a:lnTo>
                <a:cubicBezTo>
                  <a:pt x="9492" y="6709"/>
                  <a:pt x="10415" y="5821"/>
                  <a:pt x="11520" y="5821"/>
                </a:cubicBezTo>
                <a:cubicBezTo>
                  <a:pt x="12625" y="5821"/>
                  <a:pt x="13557" y="6709"/>
                  <a:pt x="13557" y="7849"/>
                </a:cubicBezTo>
                <a:cubicBezTo>
                  <a:pt x="13557" y="8589"/>
                  <a:pt x="13087" y="9320"/>
                  <a:pt x="12625" y="9320"/>
                </a:cubicBezTo>
                <a:cubicBezTo>
                  <a:pt x="11520" y="9320"/>
                  <a:pt x="10415" y="10800"/>
                  <a:pt x="10415" y="12323"/>
                </a:cubicBezTo>
                <a:lnTo>
                  <a:pt x="10415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800"/>
                            </p:stCondLst>
                            <p:childTnLst>
                              <p:par>
                                <p:cTn id="9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100"/>
                            </p:stCondLst>
                            <p:childTnLst>
                              <p:par>
                                <p:cTn id="9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3100"/>
                            </p:stCondLst>
                            <p:childTnLst>
                              <p:par>
                                <p:cTn id="9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4100"/>
                            </p:stCondLst>
                            <p:childTnLst>
                              <p:par>
                                <p:cTn id="9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100"/>
                            </p:stCondLst>
                            <p:childTnLst>
                              <p:par>
                                <p:cTn id="10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6100"/>
                            </p:stCondLst>
                            <p:childTnLst>
                              <p:par>
                                <p:cTn id="10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7100"/>
                            </p:stCondLst>
                            <p:childTnLst>
                              <p:par>
                                <p:cTn id="10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81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9100"/>
                            </p:stCondLst>
                            <p:childTnLst>
                              <p:par>
                                <p:cTn id="10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0100"/>
                            </p:stCondLst>
                            <p:childTnLst>
                              <p:par>
                                <p:cTn id="10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1100"/>
                            </p:stCondLst>
                            <p:childTnLst>
                              <p:par>
                                <p:cTn id="1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2100"/>
                            </p:stCondLst>
                            <p:childTnLst>
                              <p:par>
                                <p:cTn id="10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2600"/>
                            </p:stCondLst>
                            <p:childTnLst>
                              <p:par>
                                <p:cTn id="10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3600"/>
                            </p:stCondLst>
                            <p:childTnLst>
                              <p:par>
                                <p:cTn id="10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6400"/>
                            </p:stCondLst>
                            <p:childTnLst>
                              <p:par>
                                <p:cTn id="10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7400"/>
                            </p:stCondLst>
                            <p:childTnLst>
                              <p:par>
                                <p:cTn id="10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84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9400"/>
                            </p:stCondLst>
                            <p:childTnLst>
                              <p:par>
                                <p:cTn id="10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2100"/>
                            </p:stCondLst>
                            <p:childTnLst>
                              <p:par>
                                <p:cTn id="1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3100"/>
                            </p:stCondLst>
                            <p:childTnLst>
                              <p:par>
                                <p:cTn id="1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4100"/>
                            </p:stCondLst>
                            <p:childTnLst>
                              <p:par>
                                <p:cTn id="1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5100"/>
                            </p:stCondLst>
                            <p:childTnLst>
                              <p:par>
                                <p:cTn id="1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6100"/>
                            </p:stCondLst>
                            <p:childTnLst>
                              <p:par>
                                <p:cTn id="1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7200"/>
                            </p:stCondLst>
                            <p:childTnLst>
                              <p:par>
                                <p:cTn id="1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8200"/>
                            </p:stCondLst>
                            <p:childTnLst>
                              <p:par>
                                <p:cTn id="1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9200"/>
                            </p:stCondLst>
                            <p:childTnLst>
                              <p:par>
                                <p:cTn id="1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0200"/>
                            </p:stCondLst>
                            <p:childTnLst>
                              <p:par>
                                <p:cTn id="1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1200"/>
                            </p:stCondLst>
                            <p:childTnLst>
                              <p:par>
                                <p:cTn id="1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3200"/>
                            </p:stCondLst>
                            <p:childTnLst>
                              <p:par>
                                <p:cTn id="1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4200"/>
                            </p:stCondLst>
                            <p:childTnLst>
                              <p:par>
                                <p:cTn id="1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Чтобы решить графически уравнение 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f (x) = g (x) </a:t>
            </a: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, надо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строить графики функций у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f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(x)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 у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g 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айти абсциссу точки пересечения графиков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ассмотреть возможность существования других точек перес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Object 8"/>
          <p:cNvGraphicFramePr/>
          <p:nvPr/>
        </p:nvGraphicFramePr>
        <p:xfrm>
          <a:off x="1209600" y="663480"/>
          <a:ext cx="7925040" cy="618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663480"/>
                    <a:ext cx="792504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10"/>
          <p:cNvSpPr/>
          <p:nvPr/>
        </p:nvSpPr>
        <p:spPr>
          <a:xfrm>
            <a:off x="611280" y="18900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5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7301" y="11056"/>
                </a:moveTo>
                <a:lnTo>
                  <a:pt x="17806" y="4049"/>
                </a:lnTo>
                <a:lnTo>
                  <a:pt x="17806" y="18062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5456" y="4049"/>
                </a:lnTo>
                <a:lnTo>
                  <a:pt x="5456" y="18062"/>
                </a:lnTo>
                <a:lnTo>
                  <a:pt x="3794" y="18062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831708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115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040" h="21600">
                <a:moveTo>
                  <a:pt x="12625" y="14281"/>
                </a:moveTo>
                <a:lnTo>
                  <a:pt x="12625" y="12323"/>
                </a:lnTo>
                <a:cubicBezTo>
                  <a:pt x="12625" y="11496"/>
                  <a:pt x="12956" y="10800"/>
                  <a:pt x="13557" y="10800"/>
                </a:cubicBezTo>
                <a:cubicBezTo>
                  <a:pt x="14688" y="10800"/>
                  <a:pt x="15585" y="9434"/>
                  <a:pt x="15585" y="7849"/>
                </a:cubicBezTo>
                <a:cubicBezTo>
                  <a:pt x="15585" y="5534"/>
                  <a:pt x="13731" y="3794"/>
                  <a:pt x="11520" y="3794"/>
                </a:cubicBezTo>
                <a:cubicBezTo>
                  <a:pt x="9309" y="3794"/>
                  <a:pt x="7638" y="5534"/>
                  <a:pt x="7638" y="7849"/>
                </a:cubicBezTo>
                <a:lnTo>
                  <a:pt x="9492" y="7849"/>
                </a:lnTo>
                <a:cubicBezTo>
                  <a:pt x="9492" y="6709"/>
                  <a:pt x="10415" y="5821"/>
                  <a:pt x="11520" y="5821"/>
                </a:cubicBezTo>
                <a:cubicBezTo>
                  <a:pt x="12625" y="5821"/>
                  <a:pt x="13557" y="6709"/>
                  <a:pt x="13557" y="7849"/>
                </a:cubicBezTo>
                <a:cubicBezTo>
                  <a:pt x="13557" y="8589"/>
                  <a:pt x="13087" y="9320"/>
                  <a:pt x="12625" y="9320"/>
                </a:cubicBezTo>
                <a:cubicBezTo>
                  <a:pt x="11520" y="9320"/>
                  <a:pt x="10415" y="10800"/>
                  <a:pt x="10415" y="12323"/>
                </a:cubicBezTo>
                <a:lnTo>
                  <a:pt x="10415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Object 4"/>
          <p:cNvGraphicFramePr/>
          <p:nvPr/>
        </p:nvGraphicFramePr>
        <p:xfrm>
          <a:off x="2050920" y="404640"/>
          <a:ext cx="5496120" cy="684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404640"/>
                    <a:ext cx="5496120" cy="684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AutoShape 5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7301" y="11056"/>
                </a:moveTo>
                <a:lnTo>
                  <a:pt x="17806" y="4049"/>
                </a:lnTo>
                <a:lnTo>
                  <a:pt x="17806" y="18062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5456" y="4049"/>
                </a:lnTo>
                <a:lnTo>
                  <a:pt x="5456" y="18062"/>
                </a:lnTo>
                <a:lnTo>
                  <a:pt x="3794" y="18062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831708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1152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040" h="21600">
                <a:moveTo>
                  <a:pt x="12625" y="14281"/>
                </a:moveTo>
                <a:lnTo>
                  <a:pt x="12625" y="12323"/>
                </a:lnTo>
                <a:cubicBezTo>
                  <a:pt x="12625" y="11496"/>
                  <a:pt x="12956" y="10800"/>
                  <a:pt x="13557" y="10800"/>
                </a:cubicBezTo>
                <a:cubicBezTo>
                  <a:pt x="14688" y="10800"/>
                  <a:pt x="15585" y="9434"/>
                  <a:pt x="15585" y="7849"/>
                </a:cubicBezTo>
                <a:cubicBezTo>
                  <a:pt x="15585" y="5534"/>
                  <a:pt x="13731" y="3794"/>
                  <a:pt x="11520" y="3794"/>
                </a:cubicBezTo>
                <a:cubicBezTo>
                  <a:pt x="9309" y="3794"/>
                  <a:pt x="7638" y="5534"/>
                  <a:pt x="7638" y="7849"/>
                </a:cubicBezTo>
                <a:lnTo>
                  <a:pt x="9492" y="7849"/>
                </a:lnTo>
                <a:cubicBezTo>
                  <a:pt x="9492" y="6709"/>
                  <a:pt x="10415" y="5821"/>
                  <a:pt x="11520" y="5821"/>
                </a:cubicBezTo>
                <a:cubicBezTo>
                  <a:pt x="12625" y="5821"/>
                  <a:pt x="13557" y="6709"/>
                  <a:pt x="13557" y="7849"/>
                </a:cubicBezTo>
                <a:cubicBezTo>
                  <a:pt x="13557" y="8589"/>
                  <a:pt x="13087" y="9320"/>
                  <a:pt x="12625" y="9320"/>
                </a:cubicBezTo>
                <a:cubicBezTo>
                  <a:pt x="11520" y="9320"/>
                  <a:pt x="10415" y="10800"/>
                  <a:pt x="10415" y="12323"/>
                </a:cubicBezTo>
                <a:lnTo>
                  <a:pt x="10415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езентация снабжена гиперссылками, при обращении к которым можно сразу перейти на выбранный слай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ак же используются следующ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управляющие кноп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 переход к содержанию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 переход на вопрос те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rId1" action="ppaction://hlinksldjump"/>
          </p:cNvPr>
          <p:cNvSpPr/>
          <p:nvPr/>
        </p:nvSpPr>
        <p:spPr>
          <a:xfrm>
            <a:off x="826920" y="386064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>
            <a:hlinkClick r:id="rId2" action="ppaction://hlinksldjump"/>
          </p:cNvPr>
          <p:cNvSpPr/>
          <p:nvPr/>
        </p:nvSpPr>
        <p:spPr>
          <a:xfrm>
            <a:off x="826920" y="501336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824" h="21600">
                <a:moveTo>
                  <a:pt x="12517" y="14281"/>
                </a:moveTo>
                <a:lnTo>
                  <a:pt x="12517" y="12323"/>
                </a:lnTo>
                <a:cubicBezTo>
                  <a:pt x="12517" y="11496"/>
                  <a:pt x="12848" y="10800"/>
                  <a:pt x="13448" y="10800"/>
                </a:cubicBezTo>
                <a:cubicBezTo>
                  <a:pt x="14580" y="10800"/>
                  <a:pt x="15476" y="9434"/>
                  <a:pt x="15476" y="7849"/>
                </a:cubicBezTo>
                <a:cubicBezTo>
                  <a:pt x="15476" y="5534"/>
                  <a:pt x="13623" y="3794"/>
                  <a:pt x="11412" y="3794"/>
                </a:cubicBezTo>
                <a:cubicBezTo>
                  <a:pt x="9201" y="3794"/>
                  <a:pt x="7530" y="5534"/>
                  <a:pt x="7530" y="7849"/>
                </a:cubicBezTo>
                <a:lnTo>
                  <a:pt x="9384" y="7849"/>
                </a:lnTo>
                <a:cubicBezTo>
                  <a:pt x="9384" y="6709"/>
                  <a:pt x="10306" y="5821"/>
                  <a:pt x="11412" y="5821"/>
                </a:cubicBezTo>
                <a:cubicBezTo>
                  <a:pt x="12517" y="5821"/>
                  <a:pt x="13448" y="6709"/>
                  <a:pt x="13448" y="7849"/>
                </a:cubicBezTo>
                <a:cubicBezTo>
                  <a:pt x="13448" y="8589"/>
                  <a:pt x="12978" y="9320"/>
                  <a:pt x="12517" y="9320"/>
                </a:cubicBezTo>
                <a:cubicBezTo>
                  <a:pt x="11412" y="9320"/>
                  <a:pt x="10306" y="10800"/>
                  <a:pt x="10306" y="12323"/>
                </a:cubicBezTo>
                <a:lnTo>
                  <a:pt x="10306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68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180"/>
                            </p:stCondLst>
                            <p:childTnLst>
                              <p:par>
                                <p:cTn id="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388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78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80"/>
                            </p:stCondLst>
                            <p:childTnLst>
                              <p:par>
                                <p:cTn id="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0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lassic Russi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емного те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Решение уравнений: устно и письменн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 u="sng">
                <a:solidFill>
                  <a:srgbClr val="993366"/>
                </a:solidFill>
                <a:uFillTx/>
                <a:latin typeface="Monotype Corsiva"/>
                <a:hlinkClick r:id="rId1" action="ppaction://hlinksldjump"/>
              </a:rPr>
              <a:t>№252(1;3)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 , дополнительно№264(3;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Решение неравенств: устно и письменн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 u="sng">
                <a:solidFill>
                  <a:srgbClr val="993366"/>
                </a:solidFill>
                <a:uFillTx/>
                <a:latin typeface="Monotype Corsiva"/>
                <a:hlinkClick r:id="rId2" action="ppaction://hlinksldjump"/>
              </a:rPr>
              <a:t>№253</a:t>
            </a:r>
            <a:r>
              <a:rPr b="0" lang="ru-RU" sz="4000" spc="-1" strike="noStrike" u="sng">
                <a:solidFill>
                  <a:srgbClr val="993366"/>
                </a:solidFill>
                <a:uFillTx/>
                <a:latin typeface="Monotype Corsiva"/>
                <a:hlinkClick r:id="rId3" action="ppaction://hlinksldjump"/>
              </a:rPr>
              <a:t> </a:t>
            </a:r>
            <a:r>
              <a:rPr b="0" lang="ru-RU" sz="4400" spc="-1" strike="noStrike" u="sng">
                <a:solidFill>
                  <a:srgbClr val="993366"/>
                </a:solidFill>
                <a:uFillTx/>
                <a:latin typeface="Monotype Corsiva"/>
                <a:hlinkClick r:id="rId4" action="ppaction://hlinksldjump"/>
              </a:rPr>
              <a:t>(3;4)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 , дополнительно№261(3;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993366"/>
                </a:solidFill>
                <a:uFillTx/>
                <a:latin typeface="Monotype Corsiva"/>
                <a:hlinkClick r:id="rId5" action="ppaction://hlinksldjump"/>
              </a:rPr>
              <a:t>Графическое решение уравнений</a:t>
            </a:r>
            <a:r>
              <a:rPr b="0" lang="ru-RU" sz="4000" spc="-1" strike="noStrike" u="sng">
                <a:solidFill>
                  <a:srgbClr val="993366"/>
                </a:solidFill>
                <a:uFillTx/>
                <a:latin typeface="Monotype Corsiva"/>
                <a:hlinkClick r:id="rId6" action="ppaction://hlinksldjump"/>
              </a:rPr>
              <a:t>                         </a:t>
            </a:r>
            <a:r>
              <a:rPr b="0" lang="ru-RU" sz="4400" spc="-1" strike="noStrike" u="sng">
                <a:solidFill>
                  <a:srgbClr val="993366"/>
                </a:solidFill>
                <a:uFillTx/>
                <a:latin typeface="Monotype Corsiva"/>
                <a:hlinkClick r:id="rId7" action="ppaction://hlinksldjump"/>
              </a:rPr>
              <a:t>№ 254(1)</a:t>
            </a:r>
            <a:r>
              <a:rPr b="0" lang="ru-RU" sz="4400" spc="-1" strike="noStrike" u="sng">
                <a:solidFill>
                  <a:srgbClr val="993366"/>
                </a:solidFill>
                <a:uFillTx/>
                <a:latin typeface="Monotype Corsiva"/>
                <a:hlinkClick r:id="rId8" action="ppaction://hlinksldjump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Тестир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72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920"/>
                            </p:stCondLst>
                            <p:childTnLst>
                              <p:par>
                                <p:cTn id="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22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7620"/>
                            </p:stCondLst>
                            <p:childTnLst>
                              <p:par>
                                <p:cTn id="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192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Показательной функцией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называется функция вида у = а </a:t>
            </a:r>
            <a:r>
              <a:rPr b="1" lang="ru-RU" sz="44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, где а - заданное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число, а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&gt;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0, a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≠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979640" y="1484280"/>
            <a:ext cx="0" cy="27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539640" y="3070080"/>
            <a:ext cx="302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 flipV="1">
            <a:off x="6659640" y="155700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5364000" y="314172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0"/>
          <p:cNvSpPr/>
          <p:nvPr/>
        </p:nvSpPr>
        <p:spPr>
          <a:xfrm>
            <a:off x="5580000" y="1771560"/>
            <a:ext cx="2449440" cy="129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 flipV="1">
            <a:off x="7093080" y="3068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2"/>
          <p:cNvSpPr/>
          <p:nvPr/>
        </p:nvSpPr>
        <p:spPr>
          <a:xfrm flipH="1">
            <a:off x="6587640" y="2708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6939000" y="3160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6227640" y="2563920"/>
            <a:ext cx="2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6218640" y="2657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7"/>
          <p:cNvSpPr/>
          <p:nvPr/>
        </p:nvSpPr>
        <p:spPr>
          <a:xfrm flipV="1">
            <a:off x="709308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 flipH="1">
            <a:off x="6587640" y="2852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0"/>
          <p:cNvSpPr/>
          <p:nvPr/>
        </p:nvSpPr>
        <p:spPr>
          <a:xfrm flipH="1" rot="10800">
            <a:off x="826920" y="1700280"/>
            <a:ext cx="2235240" cy="1222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2259000" y="3090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5"/>
          <p:cNvSpPr/>
          <p:nvPr/>
        </p:nvSpPr>
        <p:spPr>
          <a:xfrm>
            <a:off x="1683000" y="2371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2411280" y="29988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7"/>
          <p:cNvSpPr/>
          <p:nvPr/>
        </p:nvSpPr>
        <p:spPr>
          <a:xfrm>
            <a:off x="1908000" y="234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 flipV="1">
            <a:off x="2411280" y="2349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 flipH="1">
            <a:off x="197928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6588000" y="2852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683000" y="20829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1908000" y="26384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3173760" y="291636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5"/>
          <p:cNvSpPr/>
          <p:nvPr/>
        </p:nvSpPr>
        <p:spPr>
          <a:xfrm>
            <a:off x="7998120" y="300816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6"/>
          <p:cNvSpPr/>
          <p:nvPr/>
        </p:nvSpPr>
        <p:spPr>
          <a:xfrm>
            <a:off x="1665720" y="12398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lassic Russi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7"/>
          <p:cNvSpPr/>
          <p:nvPr/>
        </p:nvSpPr>
        <p:spPr>
          <a:xfrm>
            <a:off x="6345720" y="12384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lassic Russi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8"/>
          <p:cNvSpPr/>
          <p:nvPr/>
        </p:nvSpPr>
        <p:spPr>
          <a:xfrm>
            <a:off x="826920" y="160344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=а</a:t>
            </a:r>
            <a:r>
              <a:rPr b="1" lang="ru-RU" sz="32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9"/>
          <p:cNvSpPr/>
          <p:nvPr/>
        </p:nvSpPr>
        <p:spPr>
          <a:xfrm>
            <a:off x="7144200" y="1450800"/>
            <a:ext cx="102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=а</a:t>
            </a:r>
            <a:r>
              <a:rPr b="1" lang="ru-RU" sz="32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0"/>
          <p:cNvSpPr/>
          <p:nvPr/>
        </p:nvSpPr>
        <p:spPr>
          <a:xfrm>
            <a:off x="826920" y="18702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&gt;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1"/>
          <p:cNvSpPr/>
          <p:nvPr/>
        </p:nvSpPr>
        <p:spPr>
          <a:xfrm>
            <a:off x="7053480" y="173844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0&lt;a&lt;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2"/>
          <p:cNvSpPr/>
          <p:nvPr/>
        </p:nvSpPr>
        <p:spPr>
          <a:xfrm>
            <a:off x="3141720" y="3068640"/>
            <a:ext cx="340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(у):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E(y): (0;+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  <a:ea typeface="Arial"/>
              </a:rPr>
              <a:t>∞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3"/>
          <p:cNvSpPr/>
          <p:nvPr/>
        </p:nvSpPr>
        <p:spPr>
          <a:xfrm>
            <a:off x="-717840" y="4749840"/>
            <a:ext cx="628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lassic Russi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монотонно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возрастает</a:t>
            </a:r>
            <a:r>
              <a:rPr b="1" lang="ru-RU" sz="3200" spc="-1" strike="noStrike">
                <a:solidFill>
                  <a:srgbClr val="000000"/>
                </a:solidFill>
                <a:latin typeface="Classic Russi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4"/>
          <p:cNvSpPr/>
          <p:nvPr/>
        </p:nvSpPr>
        <p:spPr>
          <a:xfrm>
            <a:off x="4272480" y="4749840"/>
            <a:ext cx="53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монотонно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убыв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5"/>
          <p:cNvSpPr/>
          <p:nvPr/>
        </p:nvSpPr>
        <p:spPr>
          <a:xfrm>
            <a:off x="6373080" y="30909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6"/>
          <p:cNvSpPr/>
          <p:nvPr/>
        </p:nvSpPr>
        <p:spPr>
          <a:xfrm>
            <a:off x="1693080" y="30178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lassic Russi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7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35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45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5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65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85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25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35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Сравните   </a:t>
            </a:r>
            <a:r>
              <a:rPr b="1" lang="ru-RU" sz="4000" spc="-1" strike="noStrike">
                <a:solidFill>
                  <a:srgbClr val="000000"/>
                </a:solidFill>
                <a:latin typeface="Classic Russian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lassic Russian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&lt;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x&gt;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x&gt;-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2276640"/>
            <a:ext cx="403848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lassic Russian"/>
              </a:rPr>
              <a:t>0,9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lassic Russian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&gt;0,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1=1,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-4&l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1,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&lt;1,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5/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Classic Russian"/>
              </a:rPr>
              <a:t>&lt;6/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lassic Russi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7"/>
              <p:cNvSpPr txBox="1"/>
              <p:nvPr/>
            </p:nvSpPr>
            <p:spPr>
              <a:xfrm>
                <a:off x="324000" y="2637000"/>
                <a:ext cx="28080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,2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m>
                      <m:mr>
                        <m:e/>
                        <m:e>
                          <m:r>
                            <m:t xml:space="preserve">1</m:t>
                          </m:r>
                        </m:e>
                      </m:mr>
                    </m:m>
                    <m:r>
                      <m:t xml:space="preserve">,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у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5"/>
              <p:cNvSpPr txBox="1"/>
              <p:nvPr/>
            </p:nvSpPr>
            <p:spPr>
              <a:xfrm>
                <a:off x="395280" y="1484280"/>
                <a:ext cx="2736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,9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m>
                      <m:mr>
                        <m:e/>
                        <m:e>
                          <m:sSup>
                            <m:e>
                              <m:r>
                                <m:t xml:space="preserve">0,9</m:t>
                              </m:r>
                            </m:e>
                            <m:sup>
                              <m:r>
                                <m:t xml:space="preserve">у</m:t>
                              </m:r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4716360" y="2637000"/>
                <a:ext cx="2519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,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m>
                      <m:mr>
                        <m:e>
                          <m:r>
                            <m:t xml:space="preserve">и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4643280" y="1484280"/>
                <a:ext cx="30243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,9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m>
                      <m:mr>
                        <m:e>
                          <m:r>
                            <m:t xml:space="preserve">и</m:t>
                          </m:r>
                        </m:e>
                        <m:e>
                          <m:sSup>
                            <m:e>
                              <m:r>
                                <m:t xml:space="preserve">0,9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5"/>
              <p:cNvSpPr txBox="1"/>
              <p:nvPr/>
            </p:nvSpPr>
            <p:spPr>
              <a:xfrm>
                <a:off x="4572000" y="4149720"/>
                <a:ext cx="29527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m>
                          <m:mr>
                            <m:e>
                              <m:r>
                                <m:t xml:space="preserve">и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6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</m:m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9"/>
              <p:cNvSpPr txBox="1"/>
              <p:nvPr/>
            </p:nvSpPr>
            <p:spPr>
              <a:xfrm>
                <a:off x="324000" y="4076640"/>
                <a:ext cx="290664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m>
                          <m:mr>
                            <m:e/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6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</m:m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0" name="AutoShape 33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07552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Свойства степе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  <a:ea typeface="Arial"/>
              </a:rPr>
              <a:t>∙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+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/ 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–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(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  <a:ea typeface="Arial"/>
              </a:rPr>
              <a:t>∙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(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∙b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∙b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(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/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b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/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b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g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g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, если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g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,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g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, если 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g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, х 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g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, если 0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, х 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lt;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х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>
            <a:hlinkClick r:id="rId1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400"/>
                            </p:stCondLst>
                            <p:childTnLst>
                              <p:par>
                                <p:cTn id="4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700"/>
                            </p:stCondLst>
                            <p:childTnLst>
                              <p:par>
                                <p:cTn id="4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9300"/>
                            </p:stCondLst>
                            <p:childTnLst>
                              <p:par>
                                <p:cTn id="4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1400"/>
                            </p:stCondLst>
                            <p:childTnLst>
                              <p:par>
                                <p:cTn id="4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4800"/>
                            </p:stCondLst>
                            <p:childTnLst>
                              <p:par>
                                <p:cTn id="4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7300"/>
                            </p:stCondLst>
                            <p:childTnLst>
                              <p:par>
                                <p:cTn id="4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300"/>
                            </p:stCondLst>
                            <p:childTnLst>
                              <p:par>
                                <p:cTn id="4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Показательные уравн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lassic Russi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решаются по свойству показательной фун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•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если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&gt;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0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  <a:ea typeface="Arial"/>
              </a:rPr>
              <a:t>≠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1,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то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400" spc="-1" strike="noStrike" baseline="8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400" spc="-1" strike="noStrike" baseline="8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400" spc="-1" strike="noStrike" baseline="8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        справедливо        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    х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=х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100"/>
                            </p:stCondLst>
                            <p:childTnLst>
                              <p:par>
                                <p:cTn id="4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7900"/>
                            </p:stCondLst>
                            <p:childTnLst>
                              <p:par>
                                <p:cTn id="5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Решите уравнения ( устно)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5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=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=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7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-2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=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4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=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5,7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-3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2   2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=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3  9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=81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1,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5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=7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1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3,4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+2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=4,3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Monotype Corsiva"/>
              </a:rPr>
              <a:t>х+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х = 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5508720" y="1052640"/>
                <a:ext cx="2538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5435640" y="2349360"/>
                <a:ext cx="2538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2" name="AutoShape 9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824" h="21600">
                <a:moveTo>
                  <a:pt x="12517" y="14281"/>
                </a:moveTo>
                <a:lnTo>
                  <a:pt x="12517" y="12323"/>
                </a:lnTo>
                <a:cubicBezTo>
                  <a:pt x="12517" y="11496"/>
                  <a:pt x="12848" y="10800"/>
                  <a:pt x="13448" y="10800"/>
                </a:cubicBezTo>
                <a:cubicBezTo>
                  <a:pt x="14580" y="10800"/>
                  <a:pt x="15476" y="9434"/>
                  <a:pt x="15476" y="7849"/>
                </a:cubicBezTo>
                <a:cubicBezTo>
                  <a:pt x="15476" y="5534"/>
                  <a:pt x="13623" y="3794"/>
                  <a:pt x="11412" y="3794"/>
                </a:cubicBezTo>
                <a:cubicBezTo>
                  <a:pt x="9201" y="3794"/>
                  <a:pt x="7530" y="5534"/>
                  <a:pt x="7530" y="7849"/>
                </a:cubicBezTo>
                <a:lnTo>
                  <a:pt x="9384" y="7849"/>
                </a:lnTo>
                <a:cubicBezTo>
                  <a:pt x="9384" y="6709"/>
                  <a:pt x="10306" y="5821"/>
                  <a:pt x="11412" y="5821"/>
                </a:cubicBezTo>
                <a:cubicBezTo>
                  <a:pt x="12517" y="5821"/>
                  <a:pt x="13448" y="6709"/>
                  <a:pt x="13448" y="7849"/>
                </a:cubicBezTo>
                <a:cubicBezTo>
                  <a:pt x="13448" y="8589"/>
                  <a:pt x="12978" y="9320"/>
                  <a:pt x="12517" y="9320"/>
                </a:cubicBezTo>
                <a:cubicBezTo>
                  <a:pt x="11412" y="9320"/>
                  <a:pt x="10306" y="10800"/>
                  <a:pt x="10306" y="12323"/>
                </a:cubicBezTo>
                <a:lnTo>
                  <a:pt x="10306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560"/>
                            </p:stCondLst>
                            <p:childTnLst>
                              <p:par>
                                <p:cTn id="5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200"/>
                            </p:stCondLst>
                            <p:childTnLst>
                              <p:par>
                                <p:cTn id="5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200"/>
                            </p:stCondLst>
                            <p:childTnLst>
                              <p:par>
                                <p:cTn id="5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200"/>
                            </p:stCondLst>
                            <p:childTnLst>
                              <p:par>
                                <p:cTn id="5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200"/>
                            </p:stCondLst>
                            <p:childTnLst>
                              <p:par>
                                <p:cTn id="5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400"/>
                            </p:stCondLst>
                            <p:childTnLst>
                              <p:par>
                                <p:cTn id="6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00"/>
                            </p:stCondLst>
                            <p:childTnLst>
                              <p:par>
                                <p:cTn id="6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6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5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2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5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600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усть 5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, 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&gt;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600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=24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4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постор.кор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25, t =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x=2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Ответ: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892400" cy="71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+ 9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-1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810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2х-2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+3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810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2х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+3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-810=0 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усть 3</a:t>
            </a:r>
            <a:r>
              <a:rPr b="0" lang="ru-RU" sz="4000" spc="-1" strike="noStrike" baseline="30000">
                <a:solidFill>
                  <a:srgbClr val="000000"/>
                </a:solidFill>
                <a:latin typeface="Monotype Corsiva"/>
              </a:rPr>
              <a:t>х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=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, t&gt;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9t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7290=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291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-90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постор.кор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81, t=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=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x=4 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твет: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900000" y="26028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№ </a:t>
            </a: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252(1;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8"/>
              <p:cNvSpPr txBox="1"/>
              <p:nvPr/>
            </p:nvSpPr>
            <p:spPr>
              <a:xfrm>
                <a:off x="5724360" y="1484280"/>
                <a:ext cx="492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AutoShape 9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7301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5456" y="3976"/>
                </a:lnTo>
                <a:lnTo>
                  <a:pt x="5456" y="17989"/>
                </a:lnTo>
                <a:lnTo>
                  <a:pt x="3794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817236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824" h="21600">
                <a:moveTo>
                  <a:pt x="12517" y="14281"/>
                </a:moveTo>
                <a:lnTo>
                  <a:pt x="12517" y="12323"/>
                </a:lnTo>
                <a:cubicBezTo>
                  <a:pt x="12517" y="11496"/>
                  <a:pt x="12848" y="10800"/>
                  <a:pt x="13448" y="10800"/>
                </a:cubicBezTo>
                <a:cubicBezTo>
                  <a:pt x="14580" y="10800"/>
                  <a:pt x="15476" y="9434"/>
                  <a:pt x="15476" y="7849"/>
                </a:cubicBezTo>
                <a:cubicBezTo>
                  <a:pt x="15476" y="5534"/>
                  <a:pt x="13623" y="3794"/>
                  <a:pt x="11412" y="3794"/>
                </a:cubicBezTo>
                <a:cubicBezTo>
                  <a:pt x="9201" y="3794"/>
                  <a:pt x="7530" y="5534"/>
                  <a:pt x="7530" y="7849"/>
                </a:cubicBezTo>
                <a:lnTo>
                  <a:pt x="9384" y="7849"/>
                </a:lnTo>
                <a:cubicBezTo>
                  <a:pt x="9384" y="6709"/>
                  <a:pt x="10306" y="5821"/>
                  <a:pt x="11412" y="5821"/>
                </a:cubicBezTo>
                <a:cubicBezTo>
                  <a:pt x="12517" y="5821"/>
                  <a:pt x="13448" y="6709"/>
                  <a:pt x="13448" y="7849"/>
                </a:cubicBezTo>
                <a:cubicBezTo>
                  <a:pt x="13448" y="8589"/>
                  <a:pt x="12978" y="9320"/>
                  <a:pt x="12517" y="9320"/>
                </a:cubicBezTo>
                <a:cubicBezTo>
                  <a:pt x="11412" y="9320"/>
                  <a:pt x="10306" y="10800"/>
                  <a:pt x="10306" y="12323"/>
                </a:cubicBezTo>
                <a:lnTo>
                  <a:pt x="10306" y="14281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800"/>
                            </p:stCondLst>
                            <p:childTnLst>
                              <p:par>
                                <p:cTn id="6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0:42:33Z</dcterms:created>
  <dc:creator>Пользователь</dc:creator>
  <dc:description/>
  <dc:language>en-US</dc:language>
  <cp:lastModifiedBy>галина</cp:lastModifiedBy>
  <dcterms:modified xsi:type="dcterms:W3CDTF">2010-04-04T12:52:48Z</dcterms:modified>
  <cp:revision>56</cp:revision>
  <dc:subject/>
  <dc:title>Показательная функ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