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2BC0-77AB-4B1D-B28B-E8C7E61D7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3C0B-D65E-474C-ABDC-19E08424C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768C-E0DB-40C5-8E4B-42EA5858C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EF97-A513-4A2C-A099-08B77CD9F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C0520-80E6-4752-9E8F-5447DFFC8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2F2F4-D3DA-40C6-83DD-B8B5FC1C0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38F00-1F89-47EC-AA9B-5D48559C5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5044B-3103-4F4B-B8AC-2C7A1EC2E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41311-D5DF-4862-A87A-93E3D9C80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1791C-6C8C-4DFA-948B-A6C4C8244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B2731-A26F-4A9A-8BAE-FF9E81AE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1D91-75DD-4905-969D-3F1D74A23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CC6FD-9A66-4546-A603-83F18628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04031-4801-4F7F-96D2-399A55FD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7C40E-1F0F-4F9D-8401-65A3E5FD1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8C161-4288-4F48-AEA3-258BD6549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4F8BC-EEB9-4E44-A1BD-61685CCC5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4DC1-7077-487C-9D21-134BC9ED2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6C93-30BE-4D88-922C-2C6598FEE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8065-500D-4706-85BF-43970892F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4ABD-1F29-4501-9EC0-5A6D62702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F490-4822-4CA0-86DA-B48D0ACF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F347-3AD6-4838-817E-D72C7505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874C-B6E8-4C34-A07F-04690005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9497E-ADF3-42B8-92E6-8DE9B09A5C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D4C8C-69C1-4984-A534-7AB4894DF8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640" y="1700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Black"/>
              </a:rPr>
              <a:t>Факторы, влияющие на развитие и функционирование нервной системы</a:t>
            </a:r>
            <a:endParaRPr b="1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084720" y="5543640"/>
            <a:ext cx="3457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Автор: Никифорова Е.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учитель биологии и географ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1 категори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МБОУ школа-интернат №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г. Са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Домашнее задание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сказ параграф 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Практическая работа №3  Развитие утомления   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(с. 95)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Ход рабо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В течение 2 минут устно решайте пример и записывайте ответы в тетрадь (в начале урока – из первой карточки, в конце – из второй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Подсчитайте процент правильно решенных примеров (количество правильно решенных примеров умножить на 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Результаты сравните и сделайте вывод о развитии утом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Основные клетки нервной системы - нейроны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08000" y="1557360"/>
            <a:ext cx="4032360" cy="3021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140360" y="3397320"/>
            <a:ext cx="4779720" cy="3276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971640" y="4697280"/>
            <a:ext cx="29620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С возрастом число нервных клеток уменьш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Влияние вредных привычек на нервную систему: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00000" y="1699920"/>
            <a:ext cx="70567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Куре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мозг страдает от недостатка кислоро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Алкогол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нарушает процессы развития нервной системы (отсталост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Наркотик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снижа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акция на факторы внешн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ре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453360" y="3068640"/>
            <a:ext cx="2690640" cy="3789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132000" y="5084640"/>
            <a:ext cx="1657440" cy="15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921440" cy="20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В школьном возрасте нужно правильно распределять учебную нагрузку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547640" y="2421000"/>
            <a:ext cx="630576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 Black"/>
              </a:rPr>
              <a:t>Утомление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 –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это следствие напряженной и длительной работы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3610080" cy="2400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572000" y="3860640"/>
            <a:ext cx="429084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Этапы работоспособности школьника: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рабатывание (1 уро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тимальная работоспособность (2-3 уро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нижение умственной продуктивности (4-5 уро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томление (6 уро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утом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435640" y="5013360"/>
            <a:ext cx="1371600" cy="15825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164360" y="2852640"/>
            <a:ext cx="14479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Переутомление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рушение ритма сердечных сокращений и артериального да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теря аппет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дражи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приз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еспричинные страх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ессонн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стояние болез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164360" y="115920"/>
            <a:ext cx="1395360" cy="1860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732720" y="2781360"/>
            <a:ext cx="1888920" cy="12700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5508720" y="4869000"/>
            <a:ext cx="2016000" cy="14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Закрепление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 чего зависит развитие нервной системы плод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ие факторы отрицательно влияют на развитие нервной системы в подростковом возраст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 такое утомление? Как оно развивает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кажите причины возникновения переутомления и пути его предупреж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5:13:09Z</dcterms:created>
  <dc:creator>User</dc:creator>
  <dc:description/>
  <dc:language>en-US</dc:language>
  <cp:lastModifiedBy>Пользователь</cp:lastModifiedBy>
  <dcterms:modified xsi:type="dcterms:W3CDTF">2013-05-31T07:03:04Z</dcterms:modified>
  <cp:revision>5</cp:revision>
  <dc:subject/>
  <dc:title>Факторы, влияющие на развитие и функционирование нервной системы</dc:title>
</cp:coreProperties>
</file>