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1FE-62ED-4671-AFBC-174EBE76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B12-5823-4BA3-968E-560669BA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36A-B3AC-4FB2-AB14-B5590637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0F4-D108-4A85-A04B-9D0F583C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A9D5-2029-437E-85F7-A359257B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1763-8EBF-47E5-B77C-2F5B86B0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0110-B45C-4765-91D1-5AD4A04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5BAF-F5F8-4AA6-B7B4-C20462F4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4BEF-4616-4839-BC90-2502AD5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A9ED-D268-4097-9BFE-66859E60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F50C-8B75-4E0A-98BA-2E361A5E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CB6-6DE0-49C5-9DC6-C1572942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CD59-E987-473E-91BB-C538C17C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5941-302C-4179-B906-F667F98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6028-C765-49A0-97DB-97CE2C1F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5ED0-762C-4FFA-AD7B-DF06E36A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B64-799C-49E0-B4E1-5E5AEB5C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7BC-BFDE-437B-AB3B-F706D1EC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D9D-2277-426C-9C80-1578D694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36E-9624-43F7-B86F-D575C2D3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7A4-DA43-4110-BDF1-4B01600B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32A-1502-4DCD-8AD0-5005A598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826-B167-440F-89A6-54CBB22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54E-61D2-409A-B1CD-48C7FB66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51C-1302-40AB-9384-B27E6ABD0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2182-A9B5-41B0-9680-1DC3E9FF7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70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Факторы, влияющие на развитие и функционирование нервной системы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084720" y="5543640"/>
            <a:ext cx="34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Автор: Никифорова Е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учитель биологии и геогра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1 категор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МБОУ школа-интернат №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г. С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каз параграф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Практическая работа №3  Развитие утомления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с. 95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В течение 2 минут устно решайте пример и записывайте ответы в тетрадь (в начале урока – из первой карточки, в конце – из втор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дсчитайте процент правильно решенных примеров (количество правильно решенных примеров умножить на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Результаты сравните и сделайте вывод о развитии 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Основные клетки нервной системы - нейрон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4032360" cy="3021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40360" y="3397320"/>
            <a:ext cx="4779720" cy="327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4697280"/>
            <a:ext cx="2962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 возрастом число нервных клеток умень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Влияние вредных привычек на нервную систему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05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ур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мозг страдает от недостатка кислор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лкого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арушает процессы развития нервной системы (отстал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ркот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ниж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кция на факторы внеш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53360" y="3068640"/>
            <a:ext cx="2690640" cy="378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132000" y="5084640"/>
            <a:ext cx="16574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14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В школьном возрасте нужно правильно распределять учебную нагрузку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305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Утомление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это следствие напряженной и длительной работы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610080" cy="240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290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Этапы работоспособности школьника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абатывание (1 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тимальная работоспособность (2-3 уро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ние умственной продуктивности (4-5 уро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томление (6 ур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уто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35640" y="5013360"/>
            <a:ext cx="1371600" cy="158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164360" y="285264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Переутомле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ушение ритма сердечных сокращений и артериального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еря аппет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раж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при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причинные стра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со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боле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4360" y="115920"/>
            <a:ext cx="1395360" cy="1860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32720" y="2781360"/>
            <a:ext cx="1888920" cy="1270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01600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чего зависит развитие нервной системы пл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факторы отрицательно влияют на развитие нервной системы в подростковом возра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такое утомление? Как оно разви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ажите причины возникновения переутомления и пути его предуп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5:13:09Z</dcterms:created>
  <dc:creator>User</dc:creator>
  <dc:description/>
  <dc:language>en-US</dc:language>
  <cp:lastModifiedBy>Пользователь</cp:lastModifiedBy>
  <dcterms:modified xsi:type="dcterms:W3CDTF">2013-05-31T07:03:04Z</dcterms:modified>
  <cp:revision>5</cp:revision>
  <dc:subject/>
  <dc:title>Факторы, влияющие на развитие и функционирование нервной системы</dc:title>
</cp:coreProperties>
</file>