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8F1-39A0-4EBB-95E9-B3165732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F5F-8FF8-4F4C-94A9-23327843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EF8-ED82-4825-9FDE-365C397B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16C-DFAD-4D32-926B-24E0CFC2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F83-7C68-4A48-B006-F0654B15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55FF-5B63-4029-832C-1FF638F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49FA-A922-4683-8234-1CEE1ABD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0631-0513-4C9D-A34A-6296EF1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9EA-5B6A-431A-82C8-F338A2E1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4861-DF01-4C64-872B-BDFD809A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C0E8-7E2F-4674-A1FE-276D6B3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1C9-9ACE-447B-8665-AFF2227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2153-3983-4EC1-AE24-9489343A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1F70-8A73-4037-A33D-41ED952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3367-4A3E-4798-98AA-7EEF0EE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F6F-F629-4C6E-99C3-9B2AECE0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4DC-7A8D-4DAE-AE76-91386F45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B7E-A76C-498A-A957-BD495785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D30-D2CC-4B32-A80F-53F93D84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A20-1B94-49A2-B946-1D8D04B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282-E1F1-4D9F-99ED-2DB4B681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7AA-61F1-49CE-88E0-1F7C95D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4D0-F768-47B6-89A0-39385C5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355-752A-4DC9-8731-40C7043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EFE-38E2-4B49-80D7-8E4F29E0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4EEA-0312-48F6-9707-440CD2A7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Факторы, влияющие на развитие и функционирование нервной системы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5543640"/>
            <a:ext cx="34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втор: Никифорова Е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читель биологии 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катего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МБОУ школа-интернат №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г. С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каз параграф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рактическая работа №3  Развитие утомления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с. 95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 течение 2 минут устно решайте пример и записывайте ответы в тетрадь (в начале урока – из первой карточки, в конце – из втор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дсчитайте процент правильно решенных примеров (количество правильно решенных примеров умножить на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езультаты сравните и сделайте вывод о развитии 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сновные клетки нервной системы - нейрон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032360" cy="302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40360" y="3397320"/>
            <a:ext cx="477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697280"/>
            <a:ext cx="2962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 возрастом число нервных клеток умень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Влияние вредных привычек на нервную систему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05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р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мозг страдает от недостатка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лког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рушает процессы развития нервной системы (отстал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рко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ни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я на факторы внеш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53360" y="3068640"/>
            <a:ext cx="2690640" cy="378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32000" y="5084640"/>
            <a:ext cx="1657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14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В школьном возрасте нужно правильно распределять учебную нагрузк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305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Утомление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это следствие напряженной и длительной работ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610080" cy="240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290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Этапы работоспособности школьника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батывание (1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тимальная работоспособность (2-3 ур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умственной продуктивности (4-5 ур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омление (6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35640" y="50133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4360" y="285264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Переутомле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шение ритма сердечных сокращений и артериаль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ря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ри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причинные стра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со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395360" cy="18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32720" y="2781360"/>
            <a:ext cx="1888920" cy="127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0160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чего зависит развитие нервной системы пл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факторы отрицательно влияют на развитие нервной системы в подростковом возра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утомление? Как оно разви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жите причины возникновения переутомления и пути его предуп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5:13:09Z</dcterms:created>
  <dc:creator>User</dc:creator>
  <dc:description/>
  <dc:language>en-US</dc:language>
  <cp:lastModifiedBy>Пользователь</cp:lastModifiedBy>
  <dcterms:modified xsi:type="dcterms:W3CDTF">2013-05-31T07:03:04Z</dcterms:modified>
  <cp:revision>5</cp:revision>
  <dc:subject/>
  <dc:title>Факторы, влияющие на развитие и функционирование нервной системы</dc:title>
</cp:coreProperties>
</file>