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jpeg" ContentType="image/jpeg"/>
  <Override PartName="/ppt/media/image15.png" ContentType="image/png"/>
  <Override PartName="/ppt/media/image30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8C8-AD24-48B4-A2C6-B6ECAE8A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CAE-47C9-4802-9CBA-B0E1BE3E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42B-BF35-4393-9A3F-9935CE14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50A0-EC27-41C5-8A81-E3FF3665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530-0712-4B74-94B5-040ECE9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720-E684-4F49-8C8F-E90F7673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59C-8E53-4144-B595-5BF0727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83D-F929-43E4-A8BA-C0EE7FE5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787-5A67-4197-BDD7-00DD5947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202-F233-4B2B-8F6D-64479719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AF9-54F2-4FD9-B6A4-C8E6A824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09C-5DF4-4428-8006-F17DE8A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5A2-AEBD-4587-96D0-0D23E4BF8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.jpeg"/><Relationship Id="rId24" Type="http://schemas.openxmlformats.org/officeDocument/2006/relationships/image" Target="../media/image16.png"/><Relationship Id="rId25" Type="http://schemas.openxmlformats.org/officeDocument/2006/relationships/slide" Target="slide7.xml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8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19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0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6.png"/><Relationship Id="rId32" Type="http://schemas.openxmlformats.org/officeDocument/2006/relationships/image" Target="../media/image5.pn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slide" Target="slide12.xml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Авторские данные.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АВТОР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КАЗАРИНОВА НАТАЛЬЯ ВЛАДИМИРОВНА, УЧИТЕЛЬ ВЫСШЕЙ КАТЕГОРИИ, ПЕДАГОГИЧЕСКИЙ СТАЖ 18 ЛЕТ.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ОБРАЗОВАТЕЛЬНОЕ УЧРЕЖДЕНИЕ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МУНИЦИПАЛЬНОЕ ОБЩЕОБРАЗОВАТЕЛЬНОЕ УЧРЕЖДЕНИЕ «ГИМНАЗИЯ №4 ИМ.А.С. ПУШКИНА, Г. ЙОШКАР-ОЛА», РЕСПУБЛИКА МАРИЙ ЭЛ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ПРЕДМЕТ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ИСТОР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Comic Sans MS"/>
              </a:rPr>
              <a:t>ТЕМА: </a:t>
            </a:r>
            <a:r>
              <a:rPr b="0" i="1" lang="ru-RU" sz="28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Comic Sans MS"/>
              </a:rPr>
              <a:t>Перикл </a:t>
            </a:r>
            <a:r>
              <a:rPr b="0" i="1" lang="ru-RU" sz="3600" spc="-1" strike="noStrike">
                <a:solidFill>
                  <a:srgbClr val="800000"/>
                </a:solidFill>
                <a:latin typeface="Comic Sans MS"/>
              </a:rPr>
              <a:t>(Περικλέης)</a:t>
            </a:r>
            <a:br>
              <a:rPr sz="3600"/>
            </a:br>
            <a:r>
              <a:rPr b="0" i="1" lang="ru-RU" sz="3000" spc="-1" strike="noStrike">
                <a:solidFill>
                  <a:srgbClr val="800000"/>
                </a:solidFill>
                <a:latin typeface="Comic Sans MS"/>
              </a:rPr>
              <a:t>443 – 429 г.г. до н.э.</a:t>
            </a:r>
            <a:endParaRPr b="0" i="1" lang="en-US" sz="30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171" name="Picture 10" descr="Изображение:Pericles Pio-Clementino Inv269.jpg"/>
          <p:cNvPicPr/>
          <p:nvPr/>
        </p:nvPicPr>
        <p:blipFill>
          <a:blip r:embed="rId1"/>
          <a:stretch/>
        </p:blipFill>
        <p:spPr>
          <a:xfrm>
            <a:off x="250920" y="1201680"/>
            <a:ext cx="2724120" cy="5467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59280" y="1339920"/>
            <a:ext cx="597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ерикл с 443 г. до н. э. стал во главе афинского государства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 именем Перикла связаны законодательные мероприятия, которые привели к развитию демократии.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При Перикле был создан специальный фонд для раздачи малоимущим гражданам денег на посещение театра; велось строительство общественных зданий на Акрополе 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30 г. до н. э. он не был избран стратегом,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65000"/>
              </a:lnSpc>
              <a:spcBef>
                <a:spcPts val="751"/>
              </a:spcBef>
              <a:spcAft>
                <a:spcPts val="751"/>
              </a:spcAft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 429 г. до н. э. он вновь стал стратегом, но в том же году умер от чумы.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age:2004 02 29 Athèn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/>
          <p:cNvSpPr/>
          <p:nvPr/>
        </p:nvSpPr>
        <p:spPr>
          <a:xfrm>
            <a:off x="860436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1640" y="3957480"/>
            <a:ext cx="39592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660033"/>
                </a:solidFill>
                <a:latin typeface="Comic Sans MS"/>
              </a:rPr>
              <a:t>?</a:t>
            </a:r>
            <a:endParaRPr b="0" i="1" lang="en-US" sz="15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56000" y="27273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– метек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684360" cy="1255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3"/>
          <a:stretch/>
        </p:blipFill>
        <p:spPr>
          <a:xfrm>
            <a:off x="7380360" y="1268280"/>
            <a:ext cx="684000" cy="1255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4"/>
          <a:stretch/>
        </p:blipFill>
        <p:spPr>
          <a:xfrm>
            <a:off x="971640" y="1268280"/>
            <a:ext cx="684000" cy="12556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1762200" y="342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рава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580000" y="3476520"/>
            <a:ext cx="22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Обязанности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610160" y="3957480"/>
            <a:ext cx="420984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латить налоги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зако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Подчиняться гражданам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5000"/>
              </a:lnSpc>
              <a:spcBef>
                <a:spcPts val="675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660033"/>
                </a:solidFill>
                <a:latin typeface="Comic Sans MS"/>
              </a:rPr>
              <a:t>Нести военную службу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8604360" y="638316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За рамками демократи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538200" y="1341360"/>
            <a:ext cx="23032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ленн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3490920" y="1341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ират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250920" y="3429000"/>
            <a:ext cx="1728720" cy="50472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удники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6154560" y="4941720"/>
            <a:ext cx="2519640" cy="719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Домашни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абот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3562200" y="5589720"/>
            <a:ext cx="2592360" cy="64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Сельское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хозяйств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1258920" y="5445000"/>
            <a:ext cx="1655640" cy="505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Comic Sans MS"/>
              </a:rPr>
              <a:t>Ремесл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23" descr=""/>
          <p:cNvPicPr/>
          <p:nvPr/>
        </p:nvPicPr>
        <p:blipFill>
          <a:blip r:embed="rId1"/>
          <a:srcRect l="0" t="8801" r="0" b="0"/>
          <a:stretch/>
        </p:blipFill>
        <p:spPr>
          <a:xfrm>
            <a:off x="1690560" y="4221000"/>
            <a:ext cx="1244880" cy="126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"/>
          <p:cNvPicPr/>
          <p:nvPr/>
        </p:nvPicPr>
        <p:blipFill>
          <a:blip r:embed="rId2"/>
          <a:stretch/>
        </p:blipFill>
        <p:spPr>
          <a:xfrm>
            <a:off x="7018200" y="4149720"/>
            <a:ext cx="949320" cy="822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"/>
          <p:cNvPicPr/>
          <p:nvPr/>
        </p:nvPicPr>
        <p:blipFill>
          <a:blip r:embed="rId3"/>
          <a:srcRect l="0" t="11120" r="9322" b="0"/>
          <a:stretch/>
        </p:blipFill>
        <p:spPr>
          <a:xfrm>
            <a:off x="3922560" y="4437000"/>
            <a:ext cx="1303560" cy="11556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9"/>
          <p:cNvSpPr/>
          <p:nvPr/>
        </p:nvSpPr>
        <p:spPr>
          <a:xfrm>
            <a:off x="3201840" y="256536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ынок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30"/>
          <p:cNvSpPr/>
          <p:nvPr/>
        </p:nvSpPr>
        <p:spPr>
          <a:xfrm>
            <a:off x="6370560" y="1268280"/>
            <a:ext cx="2305080" cy="503280"/>
          </a:xfrm>
          <a:prstGeom prst="roundRect">
            <a:avLst>
              <a:gd name="adj" fmla="val 41407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Дети раб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698920" y="1844640"/>
            <a:ext cx="79200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4570560" y="1844640"/>
            <a:ext cx="0" cy="720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33"/>
          <p:cNvSpPr/>
          <p:nvPr/>
        </p:nvSpPr>
        <p:spPr>
          <a:xfrm flipH="1">
            <a:off x="5290920" y="1773360"/>
            <a:ext cx="136836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1617840" y="2924280"/>
            <a:ext cx="1584000" cy="50472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35"/>
          <p:cNvSpPr/>
          <p:nvPr/>
        </p:nvSpPr>
        <p:spPr>
          <a:xfrm flipH="1">
            <a:off x="2698920" y="3068640"/>
            <a:ext cx="100800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4641840" y="3068640"/>
            <a:ext cx="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37"/>
          <p:cNvSpPr/>
          <p:nvPr/>
        </p:nvSpPr>
        <p:spPr>
          <a:xfrm>
            <a:off x="5433840" y="3068640"/>
            <a:ext cx="180036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3"/>
          <p:cNvSpPr/>
          <p:nvPr/>
        </p:nvSpPr>
        <p:spPr>
          <a:xfrm>
            <a:off x="5172120" y="4626000"/>
            <a:ext cx="37926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79280" y="4626000"/>
            <a:ext cx="499284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Платон добавлял: «Чтобы рабы подчинялись, они не должны быть соотече­ственниками... За провинности нужно рабов наказывать... Каждое обращение к рабу должно быть приказом... Никогда не надо шутить с рабами»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5172120" y="3068640"/>
            <a:ext cx="3792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179280" y="3068640"/>
            <a:ext cx="4992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Ксенофонт также высказался по этому повода: «Для рабов же и такое воспитание, которое кажется чисто животным, годится, чтобы научить их повиноваться...»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5172120" y="787320"/>
            <a:ext cx="379260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79280" y="787320"/>
            <a:ext cx="499284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660033"/>
                </a:solidFill>
                <a:latin typeface="Comic Sans MS"/>
              </a:rPr>
              <a:t>Аристотель писал: «Человек не может обходиться без орудий. Одни из этих орудий являются одушевленными, другие – неодушевленными. Раб есть одушевленная собственность и наиболее совершенное из всех орудий»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172120" y="260280"/>
            <a:ext cx="3792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179280" y="260280"/>
            <a:ext cx="49928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сточни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179280" y="26028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179280" y="668196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17928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89647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179280" y="78732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5172120" y="260280"/>
            <a:ext cx="0" cy="64216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36"/>
          <p:cNvSpPr/>
          <p:nvPr/>
        </p:nvSpPr>
        <p:spPr>
          <a:xfrm>
            <a:off x="179280" y="30686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179280" y="462600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91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br>
              <a:rPr sz="4000"/>
            </a:br>
            <a:r>
              <a:rPr b="0" i="1" lang="ru-RU" sz="40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i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Свободой и защитой государства пользовались только полноправные граждане Афин.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Для того чтобы демократия в Афинах могла существовать был необходим труд рабов.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Источники: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Методические рекомендации к курсу "История Первобытного и Древнего мира": 5 класс - Автор: Данилов Д.Д., Монченко Л.Н. Издательство: М: Баласс Год издания: 2003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стория Древнего мира: Учебник для 5 класса основной школы - 304 с. Колпаков С.В., Рогожкин В.А., Тырин С.В. М: С-Инфо /Баласс (2004 г.)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Программа «Российская и всеобщая история для 5 – 9 классов»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Данилов Д.Д., Сизова Е.В., Кузнецов А.В., Кузнецова С.С., Николаева А.А. Всеобщая история. Древний мир: учебник  для 5-го класса основной школы. – М. Баласс, 2006.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ИНТЕРНЕТ-РЕСУРСЫ: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 - ИНТЕРНЕТ-ЭНЦИКЛОПЕДИЯ ВИКИПЕДИЯ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0%D1%84%D0%B8%D0%BD%D1%81%D0%BA%D0%B0%D1%8F_%D0%B4%D0%B5%D0%BC%D0%BE%D0%BA%D1%80%D0%B0%D1%82%D0%B8%D1%8F – Статья АФИНСКАЯ ДЕМОКРАТИЯ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C%D0%B5%D1%82%D0%B5%D0%BA%D0%B8 -  статья МЕТЭКИ 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33"/>
                </a:solidFill>
                <a:latin typeface="Comic Sans MS"/>
              </a:rPr>
              <a:t>HTTP://RU.WIKIPEDIA.ORG/WIKI/%D0%9F%D0%B5%D1%80%D0%B8%D0%BA%D0%BB - Статья ПЕРИКЛ.</a:t>
            </a:r>
            <a:endParaRPr b="0" i="1" lang="en-US" sz="18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Рисунок"/>
          <p:cNvPicPr/>
          <p:nvPr/>
        </p:nvPicPr>
        <p:blipFill>
          <a:blip r:embed="rId1"/>
          <a:stretch/>
        </p:blipFill>
        <p:spPr>
          <a:xfrm>
            <a:off x="0" y="6116760"/>
            <a:ext cx="9144000" cy="769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i="1" lang="en-US" sz="6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6600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>
            <a:off x="464184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1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«Человек не может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бходиться без оруди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ни из этих орудий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являют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душевленными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други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неодушевленными. Раб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есть одушевленна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бственность и самое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совершенное из всех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орудий»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358920" y="333360"/>
            <a:ext cx="4138560" cy="4527720"/>
          </a:xfrm>
          <a:custGeom>
            <a:avLst/>
            <a:gdLst>
              <a:gd name="textAreaLeft" fmla="*/ 274680 w 4138560"/>
              <a:gd name="textAreaRight" fmla="*/ 3863880 w 4138560"/>
              <a:gd name="textAreaTop" fmla="*/ 274680 h 4527720"/>
              <a:gd name="textAreaBottom" fmla="*/ 4253040 h 4527720"/>
            </a:gdLst>
            <a:ahLst/>
            <a:rect l="textAreaLeft" t="textAreaTop" r="textAreaRight" b="textAreaBottom"/>
            <a:pathLst>
              <a:path w="21600" h="23631">
                <a:moveTo>
                  <a:pt x="2029" y="0"/>
                </a:moveTo>
                <a:arcTo wR="2029" hR="2029" stAng="0" swAng="5400000"/>
                <a:lnTo>
                  <a:pt x="0" y="21602"/>
                </a:lnTo>
                <a:arcTo wR="2029" hR="2029" stAng="16200000" swAng="5400000"/>
                <a:lnTo>
                  <a:pt x="19571" y="23631"/>
                </a:lnTo>
                <a:arcTo wR="2029" hR="2029" stAng="10800000" swAng="5400000"/>
                <a:lnTo>
                  <a:pt x="21600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«Наш государственный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строй служит дл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дражания другим. Он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азывается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демократическим, потому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что основан не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меньшинстве, а на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ольшинстве граждан…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Бедность и темн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роисхождение или низкое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бщественное положение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не мешают человеку занять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почетную должность, если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он способен оказать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660033"/>
                </a:solidFill>
                <a:latin typeface="Comic Sans MS"/>
              </a:rPr>
              <a:t>услуги государству»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464184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358920" y="5037120"/>
            <a:ext cx="4138560" cy="1548000"/>
          </a:xfrm>
          <a:custGeom>
            <a:avLst/>
            <a:gdLst>
              <a:gd name="textAreaLeft" fmla="*/ 254880 w 4138560"/>
              <a:gd name="textAreaRight" fmla="*/ 3883680 w 4138560"/>
              <a:gd name="textAreaTop" fmla="*/ 254880 h 1548000"/>
              <a:gd name="textAreaBottom" fmla="*/ 1293120 h 1548000"/>
            </a:gdLst>
            <a:ahLst/>
            <a:rect l="textAreaLeft" t="textAreaTop" r="textAreaRight" b="textAreaBottom"/>
            <a:pathLst>
              <a:path w="57739" h="21600">
                <a:moveTo>
                  <a:pt x="5029" y="0"/>
                </a:moveTo>
                <a:arcTo wR="5029" hR="5029" stAng="0" swAng="5400000"/>
                <a:lnTo>
                  <a:pt x="0" y="16571"/>
                </a:lnTo>
                <a:arcTo wR="5029" hR="5029" stAng="16200000" swAng="5400000"/>
                <a:lnTo>
                  <a:pt x="52710" y="21600"/>
                </a:lnTo>
                <a:arcTo wR="5029" hR="5029" stAng="10800000" swAng="5400000"/>
                <a:lnTo>
                  <a:pt x="57739" y="5029"/>
                </a:lnTo>
                <a:arcTo wR="5029" hR="5029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Как вы думаете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можно ли учиться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60033"/>
                </a:solidFill>
                <a:latin typeface="Comic Sans MS"/>
              </a:rPr>
              <a:t>у афинян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528480" y="2205000"/>
            <a:ext cx="8075880" cy="1619280"/>
          </a:xfrm>
          <a:custGeom>
            <a:avLst/>
            <a:gdLst>
              <a:gd name="textAreaLeft" fmla="*/ 107280 w 8075880"/>
              <a:gd name="textAreaRight" fmla="*/ 7968600 w 8075880"/>
              <a:gd name="textAreaTop" fmla="*/ 107280 h 1619280"/>
              <a:gd name="textAreaBottom" fmla="*/ 1512000 h 1619280"/>
            </a:gdLst>
            <a:ahLst/>
            <a:rect l="textAreaLeft" t="textAreaTop" r="textAreaRight" b="textAreaBottom"/>
            <a:pathLst>
              <a:path w="107707" h="21600">
                <a:moveTo>
                  <a:pt x="2029" y="0"/>
                </a:moveTo>
                <a:arcTo wR="2029" hR="2029" stAng="0" swAng="5400000"/>
                <a:lnTo>
                  <a:pt x="0" y="19571"/>
                </a:lnTo>
                <a:arcTo wR="2029" hR="2029" stAng="16200000" swAng="5400000"/>
                <a:lnTo>
                  <a:pt x="105678" y="21600"/>
                </a:lnTo>
                <a:arcTo wR="2029" hR="2029" stAng="10800000" swAng="5400000"/>
                <a:lnTo>
                  <a:pt x="107707" y="2029"/>
                </a:lnTo>
                <a:arcTo wR="2029" hR="2029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Как могли сочетаться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0033"/>
                </a:solidFill>
                <a:latin typeface="Comic Sans MS"/>
              </a:rPr>
              <a:t>рабство и демократия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16">
            <a:hlinkClick r:id="rId6" action="ppaction://hlinksldjump"/>
          </p:cNvPr>
          <p:cNvSpPr/>
          <p:nvPr/>
        </p:nvSpPr>
        <p:spPr>
          <a:xfrm>
            <a:off x="867564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17840" y="1125360"/>
            <a:ext cx="48578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вободный человек, член общины, владелец земли, обладающий правами и обязанностями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317840" y="3357720"/>
            <a:ext cx="48578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Человек лишенный свободы, принадлежащий другим людя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520" y="907560"/>
            <a:ext cx="447048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осударство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Демократия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Полис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Раб –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Comic Sans MS"/>
              </a:rPr>
              <a:t>Гражданин - </a:t>
            </a:r>
            <a:endParaRPr b="0" i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317840" y="2349360"/>
            <a:ext cx="48578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рганизация управления обществом, людьми на определенной террит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317840" y="4365720"/>
            <a:ext cx="48578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Община свободных полноправных гражд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317840" y="5200560"/>
            <a:ext cx="48578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Способ правления при котором вопросы решают большинством голо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1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1" name="AutoShape 18">
            <a:hlinkClick r:id="rId1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19">
            <a:hlinkClick r:id="rId2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 fontScale="8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Comic Sans MS"/>
              </a:rPr>
              <a:t>Как изменилось положение Афин после греко-персидских войн?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5365440" y="-360"/>
            <a:ext cx="37782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Comic Sans MS"/>
              </a:rPr>
              <a:t>Вспомним изученное. 2 </a:t>
            </a:r>
            <a:endParaRPr b="0" i="1" lang="en-US" sz="2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разгромлены перс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 другие поли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громили пер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подчинились Спар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были полностью разоре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Афины разбогател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8">
            <a:hlinkClick r:id="rId1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план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Управление Афинами 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Перикл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00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omic Sans MS"/>
              </a:rPr>
              <a:t>За пределами демократии</a:t>
            </a:r>
            <a:endParaRPr b="0" i="1" lang="en-US" sz="32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Управление Афинами</a:t>
            </a:r>
            <a:endParaRPr b="0" i="1" lang="en-US" sz="44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2050920" y="1773360"/>
            <a:ext cx="49723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Солон (Σόλων)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Comic Sans MS"/>
              </a:rPr>
              <a:t>594 г. до н.э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35" descr=""/>
          <p:cNvPicPr/>
          <p:nvPr/>
        </p:nvPicPr>
        <p:blipFill>
          <a:blip r:embed="rId1"/>
          <a:stretch/>
        </p:blipFill>
        <p:spPr>
          <a:xfrm>
            <a:off x="2843280" y="2997360"/>
            <a:ext cx="3384360" cy="3058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8">
            <a:hlinkClick r:id="rId2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7"/>
          <p:cNvGraphicFramePr/>
          <p:nvPr/>
        </p:nvGraphicFramePr>
        <p:xfrm>
          <a:off x="5724360" y="200160"/>
          <a:ext cx="47952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00160"/>
                    <a:ext cx="47952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874800" y="5229360"/>
            <a:ext cx="45720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7531200" y="5589720"/>
            <a:ext cx="641160" cy="555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4"/>
          <p:cNvSpPr/>
          <p:nvPr/>
        </p:nvSpPr>
        <p:spPr>
          <a:xfrm>
            <a:off x="2230560" y="4653000"/>
            <a:ext cx="4678200" cy="1428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2989440" y="1398600"/>
            <a:ext cx="3238200" cy="517680"/>
          </a:xfrm>
          <a:custGeom>
            <a:avLst/>
            <a:gdLst>
              <a:gd name="textAreaLeft" fmla="*/ 75240 w 3238200"/>
              <a:gd name="textAreaRight" fmla="*/ 3162960 w 323820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3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587" y="21600"/>
                </a:lnTo>
                <a:arcTo wR="4447" hR="4447" stAng="10800000" swAng="5400000"/>
                <a:lnTo>
                  <a:pt x="13503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250920" y="2494080"/>
            <a:ext cx="2519280" cy="51732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0513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84" y="21600"/>
                </a:lnTo>
                <a:arcTo wR="4447" hR="4447" stAng="10800000" swAng="5400000"/>
                <a:lnTo>
                  <a:pt x="10513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2773440" y="325584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801600" y="4255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Object 19"/>
          <p:cNvGraphicFramePr/>
          <p:nvPr/>
        </p:nvGraphicFramePr>
        <p:xfrm>
          <a:off x="2987640" y="149400"/>
          <a:ext cx="496800" cy="83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7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149400"/>
                    <a:ext cx="49680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20" descr=""/>
          <p:cNvPicPr/>
          <p:nvPr/>
        </p:nvPicPr>
        <p:blipFill>
          <a:blip r:embed="rId10"/>
          <a:srcRect l="0" t="0" r="0" b="3999"/>
          <a:stretch/>
        </p:blipFill>
        <p:spPr>
          <a:xfrm>
            <a:off x="3289320" y="2075040"/>
            <a:ext cx="2724120" cy="12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Object 22"/>
          <p:cNvGraphicFramePr/>
          <p:nvPr/>
        </p:nvGraphicFramePr>
        <p:xfrm>
          <a:off x="684360" y="2997360"/>
          <a:ext cx="12157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2997360"/>
                    <a:ext cx="1215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25"/>
          <p:cNvSpPr/>
          <p:nvPr/>
        </p:nvSpPr>
        <p:spPr>
          <a:xfrm>
            <a:off x="-36360" y="59245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7379640" y="6140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27"/>
          <p:cNvGraphicFramePr/>
          <p:nvPr/>
        </p:nvGraphicFramePr>
        <p:xfrm>
          <a:off x="395280" y="1341360"/>
          <a:ext cx="2016000" cy="1096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1341360"/>
                    <a:ext cx="20160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28"/>
          <p:cNvGraphicFramePr/>
          <p:nvPr/>
        </p:nvGraphicFramePr>
        <p:xfrm>
          <a:off x="4368960" y="243000"/>
          <a:ext cx="406080" cy="80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68960" y="243000"/>
                    <a:ext cx="406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29" descr=""/>
          <p:cNvPicPr/>
          <p:nvPr/>
        </p:nvPicPr>
        <p:blipFill>
          <a:blip r:embed="rId17"/>
          <a:stretch/>
        </p:blipFill>
        <p:spPr>
          <a:xfrm>
            <a:off x="5508720" y="3933720"/>
            <a:ext cx="342720" cy="8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18"/>
          <a:stretch/>
        </p:blipFill>
        <p:spPr>
          <a:xfrm>
            <a:off x="6156360" y="5157720"/>
            <a:ext cx="81756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2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1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истокра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0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Дем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21"/>
          <a:stretch/>
        </p:blipFill>
        <p:spPr>
          <a:xfrm>
            <a:off x="3300480" y="3946680"/>
            <a:ext cx="334800" cy="850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"/>
          <p:cNvPicPr/>
          <p:nvPr/>
        </p:nvPicPr>
        <p:blipFill>
          <a:blip r:embed="rId22"/>
          <a:stretch/>
        </p:blipFill>
        <p:spPr>
          <a:xfrm>
            <a:off x="1835280" y="5157720"/>
            <a:ext cx="1234800" cy="8352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4"/>
          <p:cNvSpPr/>
          <p:nvPr/>
        </p:nvSpPr>
        <p:spPr>
          <a:xfrm>
            <a:off x="6661080" y="2506680"/>
            <a:ext cx="2158920" cy="517680"/>
          </a:xfrm>
          <a:custGeom>
            <a:avLst/>
            <a:gdLst>
              <a:gd name="textAreaLeft" fmla="*/ 75240 w 2158920"/>
              <a:gd name="textAreaRight" fmla="*/ 2083680 w 215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9003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5586" y="21600"/>
                </a:lnTo>
                <a:arcTo wR="4447" hR="4447" stAng="10800000" swAng="5400000"/>
                <a:lnTo>
                  <a:pt x="9003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Ареопаг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4"/>
          <a:stretch/>
        </p:blipFill>
        <p:spPr>
          <a:xfrm>
            <a:off x="7308720" y="1697040"/>
            <a:ext cx="1266840" cy="809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5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AutoShape 36">
            <a:hlinkClick r:id="rId25" action="ppaction://hlinksldjump"/>
          </p:cNvPr>
          <p:cNvSpPr/>
          <p:nvPr/>
        </p:nvSpPr>
        <p:spPr>
          <a:xfrm>
            <a:off x="108000" y="638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AutoShape 37"/>
          <p:cNvSpPr/>
          <p:nvPr/>
        </p:nvSpPr>
        <p:spPr>
          <a:xfrm>
            <a:off x="270036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Вожд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399744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Жре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AutoShape 39"/>
          <p:cNvSpPr/>
          <p:nvPr/>
        </p:nvSpPr>
        <p:spPr>
          <a:xfrm>
            <a:off x="5292720" y="98100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Судь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0"/>
          <p:cNvSpPr/>
          <p:nvPr/>
        </p:nvSpPr>
        <p:spPr>
          <a:xfrm flipV="1">
            <a:off x="6156360" y="3068280"/>
            <a:ext cx="1584360" cy="180036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41"/>
          <p:cNvSpPr/>
          <p:nvPr/>
        </p:nvSpPr>
        <p:spPr>
          <a:xfrm flipH="1" flipV="1">
            <a:off x="1402920" y="4005000"/>
            <a:ext cx="1584360" cy="158436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42"/>
          <p:cNvSpPr/>
          <p:nvPr/>
        </p:nvSpPr>
        <p:spPr>
          <a:xfrm flipH="1" flipV="1">
            <a:off x="1692360" y="2491920"/>
            <a:ext cx="1727280" cy="2305080"/>
          </a:xfrm>
          <a:prstGeom prst="line">
            <a:avLst/>
          </a:prstGeom>
          <a:ln w="38160">
            <a:solidFill>
              <a:srgbClr val="8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43"/>
          <p:cNvSpPr/>
          <p:nvPr/>
        </p:nvSpPr>
        <p:spPr>
          <a:xfrm flipV="1">
            <a:off x="3780000" y="3789000"/>
            <a:ext cx="21564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44"/>
          <p:cNvSpPr/>
          <p:nvPr/>
        </p:nvSpPr>
        <p:spPr>
          <a:xfrm flipH="1" flipV="1">
            <a:off x="5148360" y="3789000"/>
            <a:ext cx="287280" cy="863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45"/>
          <p:cNvSpPr/>
          <p:nvPr/>
        </p:nvSpPr>
        <p:spPr>
          <a:xfrm flipH="1">
            <a:off x="2339640" y="1268280"/>
            <a:ext cx="57636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46"/>
          <p:cNvSpPr/>
          <p:nvPr/>
        </p:nvSpPr>
        <p:spPr>
          <a:xfrm flipV="1">
            <a:off x="4572000" y="191628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47"/>
          <p:cNvSpPr/>
          <p:nvPr/>
        </p:nvSpPr>
        <p:spPr>
          <a:xfrm flipH="1" flipV="1">
            <a:off x="6156000" y="1844640"/>
            <a:ext cx="576360" cy="720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48"/>
          <p:cNvSpPr/>
          <p:nvPr/>
        </p:nvSpPr>
        <p:spPr>
          <a:xfrm flipV="1">
            <a:off x="6084720" y="1413000"/>
            <a:ext cx="1151280" cy="1800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49"/>
          <p:cNvSpPr/>
          <p:nvPr/>
        </p:nvSpPr>
        <p:spPr>
          <a:xfrm>
            <a:off x="7164360" y="105264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Закон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4"/>
          <p:cNvSpPr/>
          <p:nvPr/>
        </p:nvSpPr>
        <p:spPr>
          <a:xfrm>
            <a:off x="2230560" y="4030560"/>
            <a:ext cx="4678200" cy="269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32" descr=""/>
          <p:cNvPicPr/>
          <p:nvPr/>
        </p:nvPicPr>
        <p:blipFill>
          <a:blip r:embed="rId1"/>
          <a:srcRect l="0" t="0" r="0" b="7838"/>
          <a:stretch/>
        </p:blipFill>
        <p:spPr>
          <a:xfrm>
            <a:off x="2087640" y="5300640"/>
            <a:ext cx="971640" cy="720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4"/>
          <p:cNvSpPr/>
          <p:nvPr/>
        </p:nvSpPr>
        <p:spPr>
          <a:xfrm>
            <a:off x="2917800" y="13986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2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Архонт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250920" y="2205000"/>
            <a:ext cx="2519280" cy="517680"/>
          </a:xfrm>
          <a:custGeom>
            <a:avLst/>
            <a:gdLst>
              <a:gd name="textAreaLeft" fmla="*/ 75240 w 2519280"/>
              <a:gd name="textAreaRight" fmla="*/ 2444040 w 251928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05058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00611" y="21600"/>
                </a:lnTo>
                <a:arcTo wR="4447" hR="4447" stAng="10800000" swAng="5400000"/>
                <a:lnTo>
                  <a:pt x="105058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Опол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6194520" y="2205000"/>
            <a:ext cx="2879640" cy="517680"/>
          </a:xfrm>
          <a:custGeom>
            <a:avLst/>
            <a:gdLst>
              <a:gd name="textAreaLeft" fmla="*/ 75240 w 2879640"/>
              <a:gd name="textAreaRight" fmla="*/ 2804400 w 287964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2008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15636" y="21600"/>
                </a:lnTo>
                <a:arcTo wR="4447" hR="4447" stAng="10800000" swAng="5400000"/>
                <a:lnTo>
                  <a:pt x="12008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4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omic Sans MS"/>
              </a:rPr>
              <a:t>Верховный суд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71640" y="2954160"/>
            <a:ext cx="3598920" cy="517680"/>
          </a:xfrm>
          <a:custGeom>
            <a:avLst/>
            <a:gdLst>
              <a:gd name="textAreaLeft" fmla="*/ 75240 w 3598920"/>
              <a:gd name="textAreaRight" fmla="*/ 3523680 w 359892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50074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45627" y="21600"/>
                </a:lnTo>
                <a:arcTo wR="4447" hR="4447" stAng="10800000" swAng="5400000"/>
                <a:lnTo>
                  <a:pt x="150074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5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Народное собра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952720" y="414972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6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Капита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952720" y="479736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7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Всадн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952720" y="5445000"/>
            <a:ext cx="3238560" cy="51768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680"/>
              <a:gd name="textAreaBottom" fmla="*/ 442440 h 517680"/>
            </a:gdLst>
            <a:ahLst/>
            <a:rect l="textAreaLeft" t="textAreaTop" r="textAreaRight" b="textAreaBottom"/>
            <a:pathLst>
              <a:path w="135049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02" y="21600"/>
                </a:lnTo>
                <a:arcTo wR="4447" hR="4447" stAng="10800000" swAng="5400000"/>
                <a:lnTo>
                  <a:pt x="135049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8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Гопли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952720" y="6093000"/>
            <a:ext cx="3238560" cy="517320"/>
          </a:xfrm>
          <a:custGeom>
            <a:avLst/>
            <a:gdLst>
              <a:gd name="textAreaLeft" fmla="*/ 75240 w 3238560"/>
              <a:gd name="textAreaRight" fmla="*/ 3163320 w 3238560"/>
              <a:gd name="textAreaTop" fmla="*/ 75240 h 517320"/>
              <a:gd name="textAreaBottom" fmla="*/ 442080 h 517320"/>
            </a:gdLst>
            <a:ahLst/>
            <a:rect l="textAreaLeft" t="textAreaTop" r="textAreaRight" b="textAreaBottom"/>
            <a:pathLst>
              <a:path w="135143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130696" y="21600"/>
                </a:lnTo>
                <a:arcTo wR="4447" hR="4447" stAng="10800000" swAng="5400000"/>
                <a:lnTo>
                  <a:pt x="135143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9">
              <a:alphaModFix amt="33000"/>
            </a:blip>
            <a:srcRect/>
            <a:tile tx="0" ty="0" sx="100000" sy="100000" algn="ctr"/>
          </a:blip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Comic Sans MS"/>
              </a:rPr>
              <a:t>Ф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7920" y="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33"/>
                </a:solidFill>
                <a:latin typeface="Comic Sans MS"/>
              </a:rPr>
              <a:t>Афинская демократ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1" name="Object 18"/>
          <p:cNvGraphicFramePr/>
          <p:nvPr/>
        </p:nvGraphicFramePr>
        <p:xfrm>
          <a:off x="4141800" y="247680"/>
          <a:ext cx="860400" cy="80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Object 1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41800" y="247680"/>
                    <a:ext cx="8604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9"/>
          <p:cNvGraphicFramePr/>
          <p:nvPr/>
        </p:nvGraphicFramePr>
        <p:xfrm>
          <a:off x="5724360" y="189000"/>
          <a:ext cx="406440" cy="809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Object 1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24360" y="189000"/>
                    <a:ext cx="4064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0"/>
          <p:cNvGraphicFramePr/>
          <p:nvPr/>
        </p:nvGraphicFramePr>
        <p:xfrm>
          <a:off x="2771640" y="220680"/>
          <a:ext cx="49716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Object 2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71640" y="220680"/>
                    <a:ext cx="4971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21" descr=""/>
          <p:cNvPicPr/>
          <p:nvPr/>
        </p:nvPicPr>
        <p:blipFill>
          <a:blip r:embed="rId16"/>
          <a:srcRect l="0" t="0" r="0" b="3999"/>
          <a:stretch/>
        </p:blipFill>
        <p:spPr>
          <a:xfrm>
            <a:off x="3276720" y="1916280"/>
            <a:ext cx="2334960" cy="103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"/>
          <p:cNvPicPr/>
          <p:nvPr/>
        </p:nvPicPr>
        <p:blipFill>
          <a:blip r:embed="rId17"/>
          <a:stretch/>
        </p:blipFill>
        <p:spPr>
          <a:xfrm>
            <a:off x="6942240" y="1058760"/>
            <a:ext cx="1806480" cy="12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23"/>
          <p:cNvGraphicFramePr/>
          <p:nvPr/>
        </p:nvGraphicFramePr>
        <p:xfrm>
          <a:off x="1692360" y="2781360"/>
          <a:ext cx="749160" cy="8776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40" name="Object 2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92360" y="2781360"/>
                    <a:ext cx="74916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4"/>
          <p:cNvGraphicFramePr/>
          <p:nvPr/>
        </p:nvGraphicFramePr>
        <p:xfrm>
          <a:off x="900000" y="3429000"/>
          <a:ext cx="1008000" cy="91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2" name="Object 24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0000" y="3429000"/>
                    <a:ext cx="1008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5"/>
          <p:cNvGraphicFramePr/>
          <p:nvPr/>
        </p:nvGraphicFramePr>
        <p:xfrm>
          <a:off x="179280" y="4221000"/>
          <a:ext cx="892440" cy="831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44" name="Object 25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79280" y="4221000"/>
                    <a:ext cx="8924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Picture 26" descr=""/>
          <p:cNvPicPr/>
          <p:nvPr/>
        </p:nvPicPr>
        <p:blipFill>
          <a:blip r:embed="rId24"/>
          <a:srcRect l="9110" t="7959" r="4327" b="4576"/>
          <a:stretch/>
        </p:blipFill>
        <p:spPr>
          <a:xfrm>
            <a:off x="2951280" y="3860640"/>
            <a:ext cx="684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"/>
          <p:cNvPicPr/>
          <p:nvPr/>
        </p:nvPicPr>
        <p:blipFill>
          <a:blip r:embed="rId25"/>
          <a:srcRect l="10797" t="5720" r="7060" b="5720"/>
          <a:stretch/>
        </p:blipFill>
        <p:spPr>
          <a:xfrm>
            <a:off x="5651640" y="3875040"/>
            <a:ext cx="355320" cy="777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8" descr=""/>
          <p:cNvPicPr/>
          <p:nvPr/>
        </p:nvPicPr>
        <p:blipFill>
          <a:blip r:embed="rId26"/>
          <a:srcRect l="0" t="3739" r="4763" b="4570"/>
          <a:stretch/>
        </p:blipFill>
        <p:spPr>
          <a:xfrm>
            <a:off x="2411280" y="4506840"/>
            <a:ext cx="576360" cy="793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9" descr=""/>
          <p:cNvPicPr/>
          <p:nvPr/>
        </p:nvPicPr>
        <p:blipFill>
          <a:blip r:embed="rId27"/>
          <a:srcRect l="3478" t="3600" r="12984" b="13681"/>
          <a:stretch/>
        </p:blipFill>
        <p:spPr>
          <a:xfrm>
            <a:off x="6084720" y="4473720"/>
            <a:ext cx="648000" cy="82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0" descr=""/>
          <p:cNvPicPr/>
          <p:nvPr/>
        </p:nvPicPr>
        <p:blipFill>
          <a:blip r:embed="rId28"/>
          <a:srcRect l="0" t="11120" r="9322" b="0"/>
          <a:stretch/>
        </p:blipFill>
        <p:spPr>
          <a:xfrm>
            <a:off x="2268360" y="6093000"/>
            <a:ext cx="648000" cy="57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1" descr=""/>
          <p:cNvPicPr/>
          <p:nvPr/>
        </p:nvPicPr>
        <p:blipFill>
          <a:blip r:embed="rId29"/>
          <a:srcRect l="0" t="5251" r="17808" b="10764"/>
          <a:stretch/>
        </p:blipFill>
        <p:spPr>
          <a:xfrm>
            <a:off x="6156360" y="6165720"/>
            <a:ext cx="539640" cy="574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3" descr=""/>
          <p:cNvPicPr/>
          <p:nvPr/>
        </p:nvPicPr>
        <p:blipFill>
          <a:blip r:embed="rId30"/>
          <a:srcRect l="0" t="8801" r="0" b="0"/>
          <a:stretch/>
        </p:blipFill>
        <p:spPr>
          <a:xfrm>
            <a:off x="6181560" y="5373720"/>
            <a:ext cx="622440" cy="631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4"/>
          <p:cNvSpPr/>
          <p:nvPr/>
        </p:nvSpPr>
        <p:spPr>
          <a:xfrm>
            <a:off x="3801600" y="367992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Граждан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179280" y="6093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Переселенцы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7"/>
          <p:cNvSpPr/>
          <p:nvPr/>
        </p:nvSpPr>
        <p:spPr>
          <a:xfrm>
            <a:off x="7307280" y="630864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mic Sans MS"/>
              </a:rPr>
              <a:t>Раб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8" descr=""/>
          <p:cNvPicPr/>
          <p:nvPr/>
        </p:nvPicPr>
        <p:blipFill>
          <a:blip r:embed="rId31"/>
          <a:stretch/>
        </p:blipFill>
        <p:spPr>
          <a:xfrm>
            <a:off x="7459560" y="5734080"/>
            <a:ext cx="641520" cy="55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0" descr=""/>
          <p:cNvPicPr/>
          <p:nvPr/>
        </p:nvPicPr>
        <p:blipFill>
          <a:blip r:embed="rId32"/>
          <a:stretch/>
        </p:blipFill>
        <p:spPr>
          <a:xfrm>
            <a:off x="755640" y="5373720"/>
            <a:ext cx="457200" cy="838080"/>
          </a:xfrm>
          <a:prstGeom prst="rect">
            <a:avLst/>
          </a:prstGeom>
          <a:ln w="0">
            <a:noFill/>
          </a:ln>
        </p:spPr>
      </p:pic>
      <p:sp>
        <p:nvSpPr>
          <p:cNvPr id="157" name="Line 41"/>
          <p:cNvSpPr/>
          <p:nvPr/>
        </p:nvSpPr>
        <p:spPr>
          <a:xfrm flipH="1" flipV="1">
            <a:off x="1042920" y="4868640"/>
            <a:ext cx="1225440" cy="1368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42"/>
          <p:cNvSpPr/>
          <p:nvPr/>
        </p:nvSpPr>
        <p:spPr>
          <a:xfrm flipH="1" flipV="1">
            <a:off x="1403280" y="4292280"/>
            <a:ext cx="1152720" cy="115236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43"/>
          <p:cNvSpPr/>
          <p:nvPr/>
        </p:nvSpPr>
        <p:spPr>
          <a:xfrm flipH="1" flipV="1">
            <a:off x="2123640" y="3645000"/>
            <a:ext cx="576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44"/>
          <p:cNvSpPr/>
          <p:nvPr/>
        </p:nvSpPr>
        <p:spPr>
          <a:xfrm flipV="1">
            <a:off x="6804000" y="2744280"/>
            <a:ext cx="1152720" cy="140364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45"/>
          <p:cNvSpPr/>
          <p:nvPr/>
        </p:nvSpPr>
        <p:spPr>
          <a:xfrm flipV="1">
            <a:off x="3708360" y="3500280"/>
            <a:ext cx="28728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46"/>
          <p:cNvSpPr/>
          <p:nvPr/>
        </p:nvSpPr>
        <p:spPr>
          <a:xfrm flipH="1" flipV="1">
            <a:off x="5148000" y="3500280"/>
            <a:ext cx="215640" cy="540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2340000" y="1052640"/>
            <a:ext cx="1295280" cy="298440"/>
          </a:xfrm>
          <a:custGeom>
            <a:avLst/>
            <a:gdLst>
              <a:gd name="textAreaLeft" fmla="*/ 43200 w 1295280"/>
              <a:gd name="textAreaRight" fmla="*/ 1252080 w 129528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3661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89214" y="21600"/>
                </a:lnTo>
                <a:arcTo wR="4447" hR="4447" stAng="10800000" swAng="5400000"/>
                <a:lnTo>
                  <a:pt x="93661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3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Стратег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48"/>
          <p:cNvSpPr/>
          <p:nvPr/>
        </p:nvSpPr>
        <p:spPr>
          <a:xfrm>
            <a:off x="3852720" y="1052640"/>
            <a:ext cx="1366920" cy="298440"/>
          </a:xfrm>
          <a:custGeom>
            <a:avLst/>
            <a:gdLst>
              <a:gd name="textAreaLeft" fmla="*/ 43200 w 1366920"/>
              <a:gd name="textAreaRight" fmla="*/ 1323720 w 1366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98840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94393" y="21600"/>
                </a:lnTo>
                <a:arcTo wR="4447" hR="4447" stAng="10800000" swAng="5400000"/>
                <a:lnTo>
                  <a:pt x="98840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4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Казначе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9"/>
          <p:cNvSpPr/>
          <p:nvPr/>
        </p:nvSpPr>
        <p:spPr>
          <a:xfrm>
            <a:off x="5435640" y="1042920"/>
            <a:ext cx="1150920" cy="298440"/>
          </a:xfrm>
          <a:custGeom>
            <a:avLst/>
            <a:gdLst>
              <a:gd name="textAreaLeft" fmla="*/ 43200 w 1150920"/>
              <a:gd name="textAreaRight" fmla="*/ 1107720 w 1150920"/>
              <a:gd name="textAreaTop" fmla="*/ 43200 h 298440"/>
              <a:gd name="textAreaBottom" fmla="*/ 255240 h 298440"/>
            </a:gdLst>
            <a:ahLst/>
            <a:rect l="textAreaLeft" t="textAreaTop" r="textAreaRight" b="textAreaBottom"/>
            <a:pathLst>
              <a:path w="83225" h="21600">
                <a:moveTo>
                  <a:pt x="4447" y="0"/>
                </a:moveTo>
                <a:arcTo wR="4447" hR="4447" stAng="0" swAng="5400000"/>
                <a:lnTo>
                  <a:pt x="0" y="17153"/>
                </a:lnTo>
                <a:arcTo wR="4447" hR="4447" stAng="16200000" swAng="5400000"/>
                <a:lnTo>
                  <a:pt x="78778" y="21600"/>
                </a:lnTo>
                <a:arcTo wR="4447" hR="4447" stAng="10800000" swAng="5400000"/>
                <a:lnTo>
                  <a:pt x="83225" y="4447"/>
                </a:lnTo>
                <a:arcTo wR="4447" hR="4447" stAng="5400000" swAng="5400000"/>
                <a:close/>
              </a:path>
            </a:pathLst>
          </a:custGeom>
          <a:blipFill rotWithShape="0">
            <a:blip r:embed="rId35">
              <a:alphaModFix amt="33000"/>
            </a:blip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Comic Sans MS"/>
              </a:rPr>
              <a:t>Жрец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50"/>
          <p:cNvSpPr/>
          <p:nvPr/>
        </p:nvSpPr>
        <p:spPr>
          <a:xfrm flipH="1">
            <a:off x="1692360" y="1413000"/>
            <a:ext cx="792000" cy="792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51"/>
          <p:cNvSpPr/>
          <p:nvPr/>
        </p:nvSpPr>
        <p:spPr>
          <a:xfrm flipV="1">
            <a:off x="3059280" y="1916280"/>
            <a:ext cx="36036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52"/>
          <p:cNvSpPr/>
          <p:nvPr/>
        </p:nvSpPr>
        <p:spPr>
          <a:xfrm flipH="1" flipV="1">
            <a:off x="5508360" y="1916280"/>
            <a:ext cx="431640" cy="100800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53">
            <a:hlinkClick r:id="rId36" action="ppaction://hlinksldjump"/>
          </p:cNvPr>
          <p:cNvSpPr/>
          <p:nvPr/>
        </p:nvSpPr>
        <p:spPr>
          <a:xfrm>
            <a:off x="867564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58:39Z</dcterms:created>
  <dc:creator>Kazarinova.N</dc:creator>
  <dc:description/>
  <dc:language>en-US</dc:language>
  <cp:lastModifiedBy>ZooM</cp:lastModifiedBy>
  <dcterms:modified xsi:type="dcterms:W3CDTF">2013-11-07T13:26:01Z</dcterms:modified>
  <cp:revision>28</cp:revision>
  <dc:subject/>
  <dc:title>Afinskaja demokratija</dc:title>
</cp:coreProperties>
</file>