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E25-F337-4C3C-8C81-FD8ECEE9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B27-9E0A-4329-BF83-B54C7F5B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6C3-4846-4065-9490-EBD3645B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C6C-36CE-43D5-9AD6-EABC486F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3823-3A81-46D7-810A-9AF9F58A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0149-DAAD-40AF-A935-7C213DBD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03C3-F864-407C-8083-5A0A4F3D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6BAF-5F76-46CD-AB9B-26C67F46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67E2-F21A-423E-A9B3-937020B7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3216-39CA-462C-ABAE-4007E398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DE9E-8A74-482B-9401-468F10C6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8FB-9E5A-407D-833A-BF7D8340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63A7-507C-415F-AD08-A2D47C9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F57A-07A8-448E-A0DC-2BD98567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13B1-9307-4419-9BFE-770FA7A3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F2FE-B2B5-40F3-8BA4-653E4679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8D30-E0D7-471D-AFE4-63754926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EAF-475D-498F-8751-84A9C66D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3A4-8E0E-4568-83E3-1031466C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03C-F53B-4F69-9A73-B2F7B279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0B5-1267-4D35-BB9F-44173C18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CCC-7966-43D8-834B-4E2C205F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A7F-789F-4438-90A4-0AB73367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158-E725-4C06-8901-3E3418F7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FA89-A4FD-45BA-B3AB-8AD0F0F14C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5306-F7F1-442A-BEA5-B01DEE33837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76320" y="2987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Прошедшие рейды и т.п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762120" y="5181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Кла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А.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733920" y="5410080"/>
            <a:ext cx="4724280" cy="1098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90600">
            <a:off x="6902280" y="228600"/>
            <a:ext cx="2013120" cy="365760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600200" y="609480"/>
          <a:ext cx="6095880" cy="5985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жедневный рей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ёдор, Логовас, Гив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ждый ден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ний рей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румян, т.Со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румян: 1 в 3дня; т. Соня: 1 раз в 9 дн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га рей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рис Н., Д. Мэ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?. Будет написано в клан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81080" y="914400"/>
            <a:ext cx="5686560" cy="430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ругое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0"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6600"/>
                </a:solidFill>
                <a:uFillTx/>
                <a:latin typeface="Arial"/>
              </a:rPr>
              <a:t>Наш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АДМ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rot="214200">
            <a:off x="151920" y="761760"/>
            <a:ext cx="2828880" cy="5143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 rot="21382800">
            <a:off x="6099120" y="763200"/>
            <a:ext cx="2892600" cy="5257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191040" y="914400"/>
            <a:ext cx="2761920" cy="502920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Групповые бои и т.п.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 rot="274800">
            <a:off x="2133720" y="1371600"/>
            <a:ext cx="4419360" cy="385128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62520" y="251460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omb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comb dir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293400">
            <a:off x="1142640" y="1828800"/>
            <a:ext cx="4800600" cy="35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ВСТУПАЙ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370800">
            <a:off x="4952880" y="609480"/>
            <a:ext cx="3810240" cy="22687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0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79c"/>
                </a:solidFill>
                <a:latin typeface="Arial"/>
              </a:rPr>
              <a:t>Следующий рейд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На Бориса Николаеви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НЕ ПРОПУСТИ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Дата будет написана в кла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сегда ваш админ Вова Соколов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0">
    <p:push dir="r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99072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Фёдор Михалыч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9718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20 рей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402600">
            <a:off x="5943600" y="457200"/>
            <a:ext cx="259092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 rot="21263400">
            <a:off x="3124080" y="1295280"/>
            <a:ext cx="1614600" cy="175284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81080" y="2819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оговас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657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5 рей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 rot="21239400">
            <a:off x="3809880" y="457200"/>
            <a:ext cx="2711520" cy="37339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Гиви Зурабович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3 рей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21415200">
            <a:off x="1904760" y="304920"/>
            <a:ext cx="6781680" cy="37861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533520" y="2666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арумя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14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3 рей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обед: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279c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1328800">
            <a:off x="5409720" y="380520"/>
            <a:ext cx="2884680" cy="411480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457200" y="36734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Тётя Сон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988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 рей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обед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 rot="251400">
            <a:off x="4876560" y="609480"/>
            <a:ext cx="2793960" cy="382284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09480" y="3139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Борис Николаевич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1 рей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Побед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 rot="481200">
            <a:off x="2971440" y="533520"/>
            <a:ext cx="2986200" cy="327636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685800" y="243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Деревянный Мэнт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362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1 рей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Побед: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Проигрышей: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 rot="384600">
            <a:off x="6248160" y="304920"/>
            <a:ext cx="2460600" cy="335268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5" dur="3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Таблица рейдов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кл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105160" cy="118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5-28T16:42:4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