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735-CFB9-4ABB-81D1-E31CB2C0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CB5-7841-460E-ACE4-E6073DE8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B4E-9937-4E8F-8C3E-5978A9E9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94A-41D2-4DC0-9AF6-78100797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99CB-079A-4AE7-AAAC-1ED7F62B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9FEE-EEAE-4EB1-A19A-690A8308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EBB1-6755-49F8-BFBD-24DDEBD6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8322-33F7-49E7-B7C1-2956BFD2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346C-5DF8-4A5E-A438-8F285178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0478-9CA5-4DC1-B73C-35865A4C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BF1F-B9CC-4EFE-88C9-AAF0D41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3B1-9469-4190-B430-8A57D97A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13F3-BA3A-4294-AEF7-5019C204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1505-2B70-45ED-AB83-22B4BE1E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22CF-C63D-4ADA-87C7-A795F155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741C-84FE-495D-8EFA-DDBAE6B3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C2EA-AC89-420A-9DFC-FB68E050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536-DA30-492D-A328-30830CF5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709-FC12-4420-A5FE-223BFF3D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AB2-44EF-4D89-8410-55183439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B0B-CCA0-4648-BFB5-A49FD146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489-3FBD-4796-8EDF-B82607FF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8D4-0453-4A37-B427-D200B87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DA9-827E-4F47-99E6-8B14335C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D269-F7AD-4D2A-AF80-5769DBCD4D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0F05-3D43-409E-A1A9-9313224057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76320" y="2987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Прошедшие рейды и т.п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762120" y="5181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Кл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А.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33920" y="5410080"/>
            <a:ext cx="4724280" cy="1098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90600">
            <a:off x="6902280" y="228600"/>
            <a:ext cx="2013120" cy="365760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600200" y="609480"/>
          <a:ext cx="6095880" cy="5985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жедневный рей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ёдор, Логовас, Гив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ждый ден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 рей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румян, т.Со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румян: 1 в 3дня; т. Соня: 1 раз в 9 дн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га рей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рис Н., Д. Мэ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?. Будет написано в клан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81080" y="914400"/>
            <a:ext cx="5686560" cy="430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ругое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0"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6600"/>
                </a:solidFill>
                <a:uFillTx/>
                <a:latin typeface="Arial"/>
              </a:rPr>
              <a:t>Наш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АДМ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rot="214200">
            <a:off x="151920" y="761760"/>
            <a:ext cx="2828880" cy="5143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 rot="21382800">
            <a:off x="6099120" y="763200"/>
            <a:ext cx="2892600" cy="5257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191040" y="914400"/>
            <a:ext cx="2761920" cy="502920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Групповые бои и т.п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 rot="274800">
            <a:off x="2133720" y="1371600"/>
            <a:ext cx="4419360" cy="385128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62520" y="25146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comb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293400">
            <a:off x="1142640" y="1828800"/>
            <a:ext cx="4800600" cy="35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ВСТУПАЙ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370800">
            <a:off x="4952880" y="609480"/>
            <a:ext cx="3810240" cy="22687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0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79c"/>
                </a:solidFill>
                <a:latin typeface="Arial"/>
              </a:rPr>
              <a:t>Следующий рейд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На Бориса Николаеви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НЕ ПРОПУСТИ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Дата будет написана в кла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сегда ваш админ Вова Соколов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push dir="r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99072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Фёдор Михалыч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718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20 рей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402600">
            <a:off x="5943600" y="457200"/>
            <a:ext cx="259092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 rot="21263400">
            <a:off x="3124080" y="1295280"/>
            <a:ext cx="1614600" cy="175284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8108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оговас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657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5 рей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rot="21239400">
            <a:off x="3809880" y="457200"/>
            <a:ext cx="2711520" cy="37339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Гиви Зурабович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3 рей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21415200">
            <a:off x="1904760" y="304920"/>
            <a:ext cx="6781680" cy="37861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533520" y="2666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арумя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14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3 рей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1328800">
            <a:off x="5409720" y="380520"/>
            <a:ext cx="2884680" cy="411480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457200" y="36734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ётя Сон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98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 рей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обед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251400">
            <a:off x="4876560" y="609480"/>
            <a:ext cx="2793960" cy="382284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09480" y="3139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Борис Николаевич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1 рей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Побед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 rot="481200">
            <a:off x="2971440" y="533520"/>
            <a:ext cx="2986200" cy="327636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685800" y="243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Деревянный Мэнт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 рей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Побед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rot="384600">
            <a:off x="6248160" y="304920"/>
            <a:ext cx="2460600" cy="335268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3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Таблица рейдов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кл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105160" cy="11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28T16:42:4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