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664-58FF-43F6-8810-D140411D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F55-4F17-4C12-904C-9CAEECDB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11F-BD73-44A6-B412-8316F034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803-4F68-48FD-B527-75505770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7A9C-0300-4DF6-95A3-04DCB68E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EE40-473F-4403-90B8-A5D8483A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86E5-AB89-422B-B52D-FBEA8BED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41FF-467D-4580-9A63-E9DC631B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593E-28BC-4E62-8F5F-D0AE6C4A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AF4C-3E20-49C5-9D68-A8947473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FC45-004B-4B08-AD20-3DEA29B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8BB-7028-49B4-BDFC-22779BB1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8FF0-4020-4D6C-B981-5FF15CE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9029-019E-4FEE-A374-76523C8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0186-F54B-4FE1-81EB-E187CD5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4879-198F-4B69-B6F0-D7DBAC37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CA33-3647-4142-8987-13A69A12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A92-03F8-4942-A4A8-65A6A170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964-A14E-4DA8-AD7C-005EFD0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B58-4856-4903-A608-C6F66329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09D-A6DC-4287-AAE1-2E6804E5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AE5-441C-4304-89E5-53F418C1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900-931F-48CC-A3D6-1E00883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928-8195-4D25-B94C-69B388A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1343-D114-41AE-ACAE-D8FE8FB2D3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417F-176C-41B2-BEDC-B02B87A3F5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76320" y="2987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Прошедшие рейды и т.п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762120" y="5181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Кл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А.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33920" y="5410080"/>
            <a:ext cx="4724280" cy="1098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90600">
            <a:off x="6902280" y="228600"/>
            <a:ext cx="2013120" cy="365760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600200" y="609480"/>
          <a:ext cx="6095880" cy="5985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жедневный рей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ёдор, Логовас, Гив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ждый ден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 рей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румян, т.Со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румян: 1 в 3дня; т. Соня: 1 раз в 9 дн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га рей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рис Н., Д. Мэ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?. Будет написано в клан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81080" y="914400"/>
            <a:ext cx="5686560" cy="430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ругое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0"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6600"/>
                </a:solidFill>
                <a:uFillTx/>
                <a:latin typeface="Arial"/>
              </a:rPr>
              <a:t>Наш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АДМ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rot="214200">
            <a:off x="151920" y="761760"/>
            <a:ext cx="2828880" cy="5143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 rot="21382800">
            <a:off x="6099120" y="763200"/>
            <a:ext cx="2892600" cy="5257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191040" y="914400"/>
            <a:ext cx="2761920" cy="502920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Групповые бои и т.п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 rot="274800">
            <a:off x="2133720" y="1371600"/>
            <a:ext cx="4419360" cy="385128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62520" y="25146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comb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293400">
            <a:off x="1142640" y="1828800"/>
            <a:ext cx="4800600" cy="35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ВСТУПАЙ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370800">
            <a:off x="4952880" y="609480"/>
            <a:ext cx="3810240" cy="22687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0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79c"/>
                </a:solidFill>
                <a:latin typeface="Arial"/>
              </a:rPr>
              <a:t>Следующий рейд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На Бориса Николаеви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НЕ ПРОПУСТИ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Дата будет написана в кла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сегда ваш админ Вова Соколов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push dir="r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99072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Фёдор Михалыч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718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20 рей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402600">
            <a:off x="5943600" y="457200"/>
            <a:ext cx="259092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 rot="21263400">
            <a:off x="3124080" y="1295280"/>
            <a:ext cx="1614600" cy="175284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8108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оговас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657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5 рей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rot="21239400">
            <a:off x="3809880" y="457200"/>
            <a:ext cx="2711520" cy="37339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Гиви Зурабович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3 рей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21415200">
            <a:off x="1904760" y="304920"/>
            <a:ext cx="6781680" cy="37861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533520" y="2666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арумя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14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3 рей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1328800">
            <a:off x="5409720" y="380520"/>
            <a:ext cx="2884680" cy="411480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457200" y="36734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ётя Сон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98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 рей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обед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251400">
            <a:off x="4876560" y="609480"/>
            <a:ext cx="2793960" cy="382284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09480" y="3139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Борис Николаевич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1 рей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Побед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 rot="481200">
            <a:off x="2971440" y="533520"/>
            <a:ext cx="2986200" cy="327636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685800" y="243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Деревянный Мэнт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 рей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Побед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rot="384600">
            <a:off x="6248160" y="304920"/>
            <a:ext cx="2460600" cy="335268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3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Таблица рейдов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кл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105160" cy="11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28T16:42:4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