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07C-30F7-456C-ABAF-1A78F27D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724-5610-449E-94C6-89972551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F1B-B4C5-49A0-995E-D842EEBB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FB4-BF0A-48F8-81E0-92BEE848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09F-185B-4E5E-8733-838BA7B3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429-5890-4075-A43F-F614775E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D87-ADE6-42A8-8554-2B4BEE46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9AF-6689-483C-BB63-4BAC1B2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F21-7A94-4716-B631-8220CE7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4A1-6367-47D7-A0FC-384BF6D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85F-8DFE-42AA-9D0E-47F0AA5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8A3-F816-4DFA-BE2C-A855741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542D-D101-4869-8449-8E7E9FA9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5.xm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" Target="slide5.xm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Arial"/>
              </a:rPr>
              <a:t>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836640"/>
            <a:ext cx="7632720" cy="2087640"/>
          </a:xfrm>
          <a:prstGeom prst="rect">
            <a:avLst/>
          </a:prstGeom>
          <a:gradFill rotWithShape="0">
            <a:gsLst>
              <a:gs pos="0">
                <a:srgbClr val="ccffff">
                  <a:alpha val="49019"/>
                </a:srgbClr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Седьмое апре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429000"/>
            <a:ext cx="8275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Georgia"/>
              </a:rPr>
              <a:t>Что мы знаем 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Georgia"/>
              </a:rPr>
              <a:t>местоимени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лакт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мически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рби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к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фанд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э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рона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тр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820728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Georgia"/>
              </a:rPr>
              <a:t>Проверьт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655640" cy="147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1282680" cy="129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1862600">
            <a:off x="6803640" y="692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00000" y="2133720"/>
            <a:ext cx="196236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924360" y="1125360"/>
            <a:ext cx="129708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 rot="20198400">
            <a:off x="6877080" y="458100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356000" y="472428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948360" y="2276640"/>
            <a:ext cx="1428840" cy="1076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19414200">
            <a:off x="250920" y="2204640"/>
            <a:ext cx="25556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331548"/>
                <a:gd name="adj2" fmla="val 7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просительные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880800">
            <a:off x="178920" y="189000"/>
            <a:ext cx="2448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1331012"/>
                <a:gd name="adj2" fmla="val 59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Личные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8324400">
            <a:off x="1025640" y="2912760"/>
            <a:ext cx="2388960" cy="14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24488"/>
                <a:gd name="adj2" fmla="val 72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носительные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48000" y="404640"/>
            <a:ext cx="244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945584"/>
                <a:gd name="adj2" fmla="val 56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зврат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9351600">
            <a:off x="6551280" y="472392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203801"/>
                <a:gd name="adj2" fmla="val 55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итяж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 rot="12657600">
            <a:off x="323640" y="5083920"/>
            <a:ext cx="290664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894457"/>
                <a:gd name="adj2" fmla="val 43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риц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20110800">
            <a:off x="3348000" y="4436640"/>
            <a:ext cx="31161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467780"/>
                <a:gd name="adj2" fmla="val 5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еопределен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 rot="7592400">
            <a:off x="6660360" y="2203200"/>
            <a:ext cx="248292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960461"/>
                <a:gd name="adj2" fmla="val 4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предели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18396600">
            <a:off x="5607000" y="521640"/>
            <a:ext cx="26845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671130"/>
                <a:gd name="adj2" fmla="val 5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каз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">
            <a:hlinkClick r:id="rId11" action="ppaction://hlinksldjump"/>
          </p:cNvPr>
          <p:cNvSpPr/>
          <p:nvPr/>
        </p:nvSpPr>
        <p:spPr>
          <a:xfrm>
            <a:off x="1116000" y="371628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5229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3794"/>
                </a:moveTo>
                <a:lnTo>
                  <a:pt x="21460" y="10800"/>
                </a:lnTo>
                <a:lnTo>
                  <a:pt x="7448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70028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141300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3" h="21600">
                <a:moveTo>
                  <a:pt x="13122" y="14281"/>
                </a:moveTo>
                <a:lnTo>
                  <a:pt x="13122" y="12323"/>
                </a:lnTo>
                <a:cubicBezTo>
                  <a:pt x="13122" y="11496"/>
                  <a:pt x="13453" y="10800"/>
                  <a:pt x="14053" y="10800"/>
                </a:cubicBezTo>
                <a:cubicBezTo>
                  <a:pt x="15185" y="10800"/>
                  <a:pt x="16081" y="9434"/>
                  <a:pt x="16081" y="7849"/>
                </a:cubicBezTo>
                <a:cubicBezTo>
                  <a:pt x="16081" y="5534"/>
                  <a:pt x="14227" y="3794"/>
                  <a:pt x="12017" y="3794"/>
                </a:cubicBezTo>
                <a:cubicBezTo>
                  <a:pt x="9806" y="3794"/>
                  <a:pt x="8135" y="5534"/>
                  <a:pt x="8135" y="7849"/>
                </a:cubicBezTo>
                <a:lnTo>
                  <a:pt x="9989" y="7849"/>
                </a:lnTo>
                <a:cubicBezTo>
                  <a:pt x="9989" y="6709"/>
                  <a:pt x="10911" y="5821"/>
                  <a:pt x="12017" y="5821"/>
                </a:cubicBezTo>
                <a:cubicBezTo>
                  <a:pt x="13122" y="5821"/>
                  <a:pt x="14053" y="6709"/>
                  <a:pt x="14053" y="7849"/>
                </a:cubicBezTo>
                <a:cubicBezTo>
                  <a:pt x="14053" y="8589"/>
                  <a:pt x="13583" y="9320"/>
                  <a:pt x="13122" y="9320"/>
                </a:cubicBezTo>
                <a:cubicBezTo>
                  <a:pt x="12017" y="9320"/>
                  <a:pt x="10911" y="10800"/>
                  <a:pt x="10911" y="12323"/>
                </a:cubicBezTo>
                <a:lnTo>
                  <a:pt x="10911" y="14281"/>
                </a:lnTo>
                <a:close/>
              </a:path>
            </a:pathLst>
          </a:custGeom>
          <a:solidFill>
            <a:srgbClr val="efb7d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459160" cy="170028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578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«Я вошел в кабину, пахнущую полевым ветром, меня усадили в кресло, бесшумно захлопнули люк. Я остался наедине с приборами, освещенными уже не дневным, солнечным светом, а искусственным. Мне было слышно все, что делалось за бортом корабля на такой милой, ставшей еще дороже Земле. Теперь с ней я мог поддерживать связь только по ради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595008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45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Картина Вселенной, которая возникла в XX веке благодаря усилиям астрономов, рождает много вопросов. Существует ли у Вселенной «край»? Что находится за ее обозримыми для человечества границами? Как возникла Вселенная? Как она развивается? Многое, что скрывается в галактике,  мы знаем. Например,  наша галактика не является центральной, и Солнце — не центр вселенной. Самые удаленные объекты мы видим такими, какими они были в самом начале эволюции Вселенн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ак Солнце мы видим таким, каким оно было восемь минут назад, Альфу Кентавра — какой она была четыре года назад, а галактику Андромеды — какой она была почти 3 млн. лет наза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8360" y="602136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258920" cy="1268280"/>
          </a:xfrm>
          <a:prstGeom prst="ellipse">
            <a:avLst/>
          </a:prstGeom>
          <a:solidFill>
            <a:srgbClr val="800080">
              <a:alpha val="46000"/>
            </a:srgbClr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89000"/>
            <a:ext cx="1512720" cy="143964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efb7df">
                  <a:alpha val="36078"/>
                </a:srgbClr>
              </a:gs>
            </a:gsLst>
            <a:lin ang="5400000"/>
          </a:gradFill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98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99">
                  <a:alpha val="35294"/>
                </a:srgbClr>
              </a:gs>
              <a:gs pos="100000">
                <a:srgbClr val="757546"/>
              </a:gs>
            </a:gsLst>
            <a:lin ang="5400000"/>
          </a:gradFill>
          <a:ln w="12600">
            <a:solidFill>
              <a:srgbClr val="64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69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-то раз во дворе из собачьей м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ять чумазых поросят кушали соси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апа к ним подошел, крикнул возмущен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 Так съедите вы у пса весь обед евонный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кричала хрюшка-мать: «Отойди от будки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ям надо наполнять ихние желудк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апа грустно пробурчал в пятачок широк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 Слушать я уже устал ейные упр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ям всё прощают тут, дети хрюшками раст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такая дребедень происходит кажный день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Georgia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Georgia"/>
              </a:rPr>
              <a:t>А.Х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02136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26936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(1)Все мы видели способности Юрия Гагарина. (2)Видели, как он быстро и свободно ориентируется в научных проблемах и космической технике.(3)Он охотно делился своими знаниями с другими. (4)Но раньше нас разглядел это в Юрии, увидел в нем человека с задатками ученого академик Сергей Павлович Королев.(5)Он заметил, что в Юре сочетается природное мужество, аналитический ум и исключительное трудолюбие. А. Ле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69440" y="613872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82760" y="177480"/>
            <a:ext cx="6378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Georgia"/>
              </a:rPr>
              <a:t>1.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Georgia"/>
              </a:rPr>
              <a:t>2.Подобрать текст (50 слов), выделить местоимения и определить разря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6522600">
            <a:off x="610560" y="429084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45:42Z</dcterms:created>
  <dc:creator>Соснитская Елена</dc:creator>
  <dc:description/>
  <dc:language>en-US</dc:language>
  <cp:lastModifiedBy>Соснитская Елена</cp:lastModifiedBy>
  <dcterms:modified xsi:type="dcterms:W3CDTF">2011-04-07T13:40:51Z</dcterms:modified>
  <cp:revision>7</cp:revision>
  <dc:subject/>
  <dc:title>Слайд 1</dc:title>
</cp:coreProperties>
</file>