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F9B-A008-4D2E-BAD5-3487BFB5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96C-43F9-4E09-BC13-41F3D30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8CA-925F-4868-80FE-CFA2651D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815-DBB3-4E4D-B0A2-1DECFA28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7F1-C461-48D1-90E5-FC62FC83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025-2A4A-401C-84D9-7452DB10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EC4-0DB6-4B4D-849E-CDE1E4DE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613-15F8-4EBB-8FD9-1E191D97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110-5AD0-4A92-805B-286D9537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D42-FF35-418C-B70B-6D2DD39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60C-1C06-4D24-96C4-4E972F6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5F9-2A21-4741-B83E-10FCFA1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50B9-8708-4FDA-81A3-08CA22E6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5.xml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" Target="slide5.xml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Arial"/>
              </a:rPr>
              <a:t>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836640"/>
            <a:ext cx="7632720" cy="2087640"/>
          </a:xfrm>
          <a:prstGeom prst="rect">
            <a:avLst/>
          </a:prstGeom>
          <a:gradFill rotWithShape="0">
            <a:gsLst>
              <a:gs pos="0">
                <a:srgbClr val="ccffff">
                  <a:alpha val="49019"/>
                </a:srgbClr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Седьмое апре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3333cc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429000"/>
            <a:ext cx="8275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Что мы знаем о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Georgia"/>
              </a:rPr>
              <a:t>местоимении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Г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лакт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и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мически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би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к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фанд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э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рона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стр</a:t>
            </a:r>
            <a:r>
              <a:rPr b="1" lang="en-US" sz="4400" spc="-1" strike="noStrike">
                <a:solidFill>
                  <a:srgbClr val="ff0066"/>
                </a:solidFill>
                <a:latin typeface="Georgia"/>
              </a:rPr>
              <a:t>о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820728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757575"/>
              </a:gs>
            </a:gsLst>
            <a:lin ang="5400000"/>
          </a:gra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Georgia"/>
              </a:rPr>
              <a:t>Проверьт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655640" cy="147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1282680" cy="129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 rot="11862600">
            <a:off x="6803640" y="692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00000" y="2133720"/>
            <a:ext cx="196236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924360" y="1125360"/>
            <a:ext cx="129708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 rot="20198400">
            <a:off x="6877080" y="4581000"/>
            <a:ext cx="1428840" cy="1038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4356000" y="472428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948360" y="2276640"/>
            <a:ext cx="1428840" cy="1076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 rot="19414200">
            <a:off x="250920" y="2204640"/>
            <a:ext cx="2555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331548"/>
                <a:gd name="adj2" fmla="val 7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пр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880800">
            <a:off x="178920" y="189000"/>
            <a:ext cx="2448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1331012"/>
                <a:gd name="adj2" fmla="val 59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Личные</a:t>
            </a:r>
            <a:endParaRPr b="0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8324400">
            <a:off x="1025640" y="2912760"/>
            <a:ext cx="2388960" cy="14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124488"/>
                <a:gd name="adj2" fmla="val 72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носительные</a:t>
            </a:r>
            <a:endParaRPr b="1" lang="en-US" sz="20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48000" y="404640"/>
            <a:ext cx="244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45584"/>
                <a:gd name="adj2" fmla="val 56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зврат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 rot="9351600">
            <a:off x="6551280" y="4723920"/>
            <a:ext cx="2592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203801"/>
                <a:gd name="adj2" fmla="val 55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ритяж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 rot="12657600">
            <a:off x="323640" y="5083920"/>
            <a:ext cx="290664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894457"/>
                <a:gd name="adj2" fmla="val 43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триц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 rot="20110800">
            <a:off x="3348000" y="4436640"/>
            <a:ext cx="31161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467780"/>
                <a:gd name="adj2" fmla="val 5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еопределен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 rot="7592400">
            <a:off x="6660360" y="2203200"/>
            <a:ext cx="2482920" cy="14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9960461"/>
                <a:gd name="adj2" fmla="val 41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предели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18396600">
            <a:off x="5607000" y="521640"/>
            <a:ext cx="26845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671130"/>
                <a:gd name="adj2" fmla="val 5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Указательные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">
            <a:hlinkClick r:id="rId11" action="ppaction://hlinksldjump"/>
          </p:cNvPr>
          <p:cNvSpPr/>
          <p:nvPr/>
        </p:nvSpPr>
        <p:spPr>
          <a:xfrm>
            <a:off x="1116000" y="3716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5229360"/>
            <a:ext cx="288720" cy="215640"/>
          </a:xfrm>
          <a:custGeom>
            <a:avLst/>
            <a:gdLst>
              <a:gd name="textAreaLeft" fmla="*/ 13680 w 288720"/>
              <a:gd name="textAreaRight" fmla="*/ 275040 w 288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08" y="1400"/>
                </a:lnTo>
                <a:lnTo>
                  <a:pt x="1400" y="140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08" y="20200"/>
                </a:lnTo>
                <a:lnTo>
                  <a:pt x="27508" y="140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08" y="2020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08" h="21600">
                <a:moveTo>
                  <a:pt x="7448" y="3794"/>
                </a:moveTo>
                <a:lnTo>
                  <a:pt x="21460" y="10800"/>
                </a:lnTo>
                <a:lnTo>
                  <a:pt x="7448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70028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141300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3794"/>
                </a:moveTo>
                <a:lnTo>
                  <a:pt x="21388" y="10800"/>
                </a:lnTo>
                <a:lnTo>
                  <a:pt x="7376" y="17806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33" h="21600">
                <a:moveTo>
                  <a:pt x="13122" y="14281"/>
                </a:moveTo>
                <a:lnTo>
                  <a:pt x="13122" y="12323"/>
                </a:lnTo>
                <a:cubicBezTo>
                  <a:pt x="13122" y="11496"/>
                  <a:pt x="13453" y="10800"/>
                  <a:pt x="14053" y="10800"/>
                </a:cubicBezTo>
                <a:cubicBezTo>
                  <a:pt x="15185" y="10800"/>
                  <a:pt x="16081" y="9434"/>
                  <a:pt x="16081" y="7849"/>
                </a:cubicBezTo>
                <a:cubicBezTo>
                  <a:pt x="16081" y="5534"/>
                  <a:pt x="14227" y="3794"/>
                  <a:pt x="12017" y="3794"/>
                </a:cubicBezTo>
                <a:cubicBezTo>
                  <a:pt x="9806" y="3794"/>
                  <a:pt x="8135" y="5534"/>
                  <a:pt x="8135" y="7849"/>
                </a:cubicBezTo>
                <a:lnTo>
                  <a:pt x="9989" y="7849"/>
                </a:lnTo>
                <a:cubicBezTo>
                  <a:pt x="9989" y="6709"/>
                  <a:pt x="10911" y="5821"/>
                  <a:pt x="12017" y="5821"/>
                </a:cubicBezTo>
                <a:cubicBezTo>
                  <a:pt x="13122" y="5821"/>
                  <a:pt x="14053" y="6709"/>
                  <a:pt x="14053" y="7849"/>
                </a:cubicBezTo>
                <a:cubicBezTo>
                  <a:pt x="14053" y="8589"/>
                  <a:pt x="13583" y="9320"/>
                  <a:pt x="13122" y="9320"/>
                </a:cubicBezTo>
                <a:cubicBezTo>
                  <a:pt x="12017" y="9320"/>
                  <a:pt x="10911" y="10800"/>
                  <a:pt x="10911" y="12323"/>
                </a:cubicBezTo>
                <a:lnTo>
                  <a:pt x="10911" y="14281"/>
                </a:lnTo>
                <a:close/>
              </a:path>
            </a:pathLst>
          </a:custGeom>
          <a:solidFill>
            <a:srgbClr val="efb7d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459160" cy="170028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578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«Я вошел в кабину, пахнущую полевым ветром, меня усадили в кресло, бесшумно захлопнули люк. Я остался наедине с приборами, освещенными уже не дневным, солнечным светом, а искусственным. Мне было слышно все, что делалось за бортом корабля на такой милой, ставшей еще дороже Земле. Теперь с ней я мог поддерживать связь только по ради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0" y="595008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4560"/>
            <a:ext cx="8642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Картина Вселенной, которая возникла в XX веке благодаря усилиям астрономов, рождает много вопросов. Существует ли у Вселенной «край»? Что находится за ее обозримыми для человечества границами? Как возникла Вселенная? Как она развивается? Многое, что скрывается в галактике,  мы знаем. Например,  наша галактика не является центральной, и Солнце — не центр вселенной. Самые удаленные объекты мы видим такими, какими они были в самом начале эволюции Вселенн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Так Солнце мы видим таким, каким оно было восемь минут назад, Альфу Кентавра — какой она была четыре года назад, а галактику Андромеды — какой она была почти 3 млн. лет наза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1258920" cy="1268280"/>
          </a:xfrm>
          <a:prstGeom prst="ellipse">
            <a:avLst/>
          </a:prstGeom>
          <a:solidFill>
            <a:srgbClr val="800080">
              <a:alpha val="46000"/>
            </a:srgbClr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89000"/>
            <a:ext cx="1512720" cy="143964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efb7df">
                  <a:alpha val="36078"/>
                </a:srgbClr>
              </a:gs>
            </a:gsLst>
            <a:lin ang="5400000"/>
          </a:gradFill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98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99">
                  <a:alpha val="35294"/>
                </a:srgbClr>
              </a:gs>
              <a:gs pos="100000">
                <a:srgbClr val="757546"/>
              </a:gs>
            </a:gsLst>
            <a:lin ang="5400000"/>
          </a:gradFill>
          <a:ln w="12600">
            <a:solidFill>
              <a:srgbClr val="645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6928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-то раз во дворе из собачьей ми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ять чумазых поросят кушали соси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к ним подошел, крикнул возмущен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Так съедите вы у пса весь обед евонный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кричала хрюшка-мать: «Отойди от будки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надо наполнять ихние желудк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апа грустно пробурчал в пятачок широк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 Слушать я уже устал ейные упр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ям всё прощают тут, дети хрюшками раст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 такая дребедень происходит кажный день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cc0099"/>
                </a:solidFill>
                <a:latin typeface="Georgia"/>
              </a:rPr>
              <a:t>А.Х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02136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143000" cy="89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126936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(1)Все мы видели способности Юрия Гагарина. (2)Видели, как он быстро и свободно ориентируется в научных проблемах и космической технике.(3)Он охотно делился своими знаниями с другими. (4)Но раньше нас разглядел это в Юрии, увидел в нем человека с задатками ученого академик Сергей Павлович Королев.(5)Он заметил, что в Юре сочетается природное мужество, аналитический ум и исключительное трудолюбие. А. Ле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569440" y="6138720"/>
            <a:ext cx="574560" cy="71928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7037">
                <a:moveTo>
                  <a:pt x="0" y="0"/>
                </a:moveTo>
                <a:lnTo>
                  <a:pt x="21600" y="0"/>
                </a:lnTo>
                <a:lnTo>
                  <a:pt x="21600" y="27037"/>
                </a:lnTo>
                <a:lnTo>
                  <a:pt x="0" y="27037"/>
                </a:lnTo>
                <a:close/>
              </a:path>
              <a:path fill="lightenLess" w="21600" h="270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7">
                <a:moveTo>
                  <a:pt x="21600" y="0"/>
                </a:moveTo>
                <a:lnTo>
                  <a:pt x="21600" y="27037"/>
                </a:lnTo>
                <a:lnTo>
                  <a:pt x="20200" y="25637"/>
                </a:lnTo>
                <a:lnTo>
                  <a:pt x="20200" y="1400"/>
                </a:lnTo>
                <a:close/>
              </a:path>
              <a:path fill="darkenLess" w="21600" h="27037">
                <a:moveTo>
                  <a:pt x="21600" y="27037"/>
                </a:moveTo>
                <a:lnTo>
                  <a:pt x="0" y="27037"/>
                </a:lnTo>
                <a:lnTo>
                  <a:pt x="1400" y="25637"/>
                </a:lnTo>
                <a:lnTo>
                  <a:pt x="20200" y="25637"/>
                </a:lnTo>
                <a:close/>
              </a:path>
              <a:path fill="lighten" w="21600" h="27037">
                <a:moveTo>
                  <a:pt x="0" y="270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7"/>
                </a:lnTo>
                <a:close/>
              </a:path>
              <a:path fill="darken" w="21600" h="27037">
                <a:moveTo>
                  <a:pt x="10800" y="6556"/>
                </a:moveTo>
                <a:lnTo>
                  <a:pt x="13376" y="9167"/>
                </a:ln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lnTo>
                  <a:pt x="17763" y="13519"/>
                </a:lnTo>
                <a:lnTo>
                  <a:pt x="16109" y="13519"/>
                </a:lnTo>
                <a:lnTo>
                  <a:pt x="16109" y="20708"/>
                </a:lnTo>
                <a:lnTo>
                  <a:pt x="5491" y="20708"/>
                </a:lnTo>
                <a:lnTo>
                  <a:pt x="5491" y="13519"/>
                </a:lnTo>
                <a:lnTo>
                  <a:pt x="3837" y="13519"/>
                </a:lnTo>
                <a:close/>
              </a:path>
              <a:path fill="darkenLess" w="21600" h="27037">
                <a:moveTo>
                  <a:pt x="13376" y="9167"/>
                </a:moveTo>
                <a:lnTo>
                  <a:pt x="13376" y="7426"/>
                </a:lnTo>
                <a:lnTo>
                  <a:pt x="15152" y="7426"/>
                </a:lnTo>
                <a:lnTo>
                  <a:pt x="15152" y="10942"/>
                </a:lnTo>
                <a:close/>
              </a:path>
              <a:path fill="darkenLess" w="21600" h="27037">
                <a:moveTo>
                  <a:pt x="9877" y="17017"/>
                </a:moveTo>
                <a:lnTo>
                  <a:pt x="11723" y="17017"/>
                </a:lnTo>
                <a:lnTo>
                  <a:pt x="11723" y="20708"/>
                </a:lnTo>
                <a:lnTo>
                  <a:pt x="16109" y="20708"/>
                </a:lnTo>
                <a:lnTo>
                  <a:pt x="16109" y="13519"/>
                </a:lnTo>
                <a:lnTo>
                  <a:pt x="5491" y="13519"/>
                </a:lnTo>
                <a:lnTo>
                  <a:pt x="5491" y="20708"/>
                </a:lnTo>
                <a:lnTo>
                  <a:pt x="9877" y="2070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82760" y="177480"/>
            <a:ext cx="6378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Georgi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1.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Georgia"/>
              </a:rPr>
              <a:t>2.Подобрать текст (50 слов), выделить местоимения и определить разря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6522600">
            <a:off x="610560" y="4290840"/>
            <a:ext cx="18734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2:45:42Z</dcterms:created>
  <dc:creator>Соснитская Елена</dc:creator>
  <dc:description/>
  <dc:language>en-US</dc:language>
  <cp:lastModifiedBy>Соснитская Елена</cp:lastModifiedBy>
  <dcterms:modified xsi:type="dcterms:W3CDTF">2011-04-07T13:40:51Z</dcterms:modified>
  <cp:revision>7</cp:revision>
  <dc:subject/>
  <dc:title>Слайд 1</dc:title>
</cp:coreProperties>
</file>