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5A1-3E3E-44FE-BD7E-02694169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1DF-B300-4376-9DCC-3D9181E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5A-F33E-4C9F-804A-BC7E8A9C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5B6-6B15-4433-B492-82461AE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69E-19C7-4868-936F-40E38ECC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555-B9A8-4EC5-A20A-2C8873B3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5FD-FD1C-4E77-A88A-EFD6BFA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632-FD02-470E-9F4A-D6C2BDF2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9404-4C78-4934-A2F8-35A21136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367-9E6E-4BC5-A43F-0A67D24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DE85-1730-4E1A-A86D-FB8C069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C94-74BB-4953-B1E9-C0AE7671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F985-A54D-4D2D-B5B4-B32BCFBD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ACED-A151-4BA4-A95A-F267E2D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E465-E451-47CD-A370-0AFADCCB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A8A-6D8C-49DC-B423-35D76C48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05A-A874-4129-B47B-734D3B86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7CE6-0452-419E-B910-BA01C47A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26BF-7F55-44E5-A1FA-5D0B158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3D74-8D91-44EF-BB57-9F73109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0951-A62B-4ED2-B0BE-263901E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5F4B-3697-440C-B56F-D9BD91CC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06C-7C32-4EDD-B6B0-200B569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B3DC-0A85-44B1-8AE0-F2676F6C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2C81-8ECA-4B41-8A69-08C4F0DF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0B44-9CD8-4AA2-8900-164C0FC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EF8E-7F10-4C37-A6C9-1B866DE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CB59-49D3-426B-8683-C7356619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65EA-9AC6-40A0-9182-3C49BCDC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AD3F-9BA1-4044-AD93-5E4209D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46FC-C495-4CB1-A0F9-40748B15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C519-CC8A-4AFE-8192-F1D6A17B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5E0C-8E29-48BE-B395-DB080F96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CBC-5725-4206-A9CB-591060FC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F982-B575-4086-B707-416338ED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8F0E-8D03-4FB3-9D14-30F81D7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623E-BFA5-438D-B0CB-6E66258B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D655-5DB8-4F06-ADFA-D748A97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5322-BBA1-495D-B4D0-06551E1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37C1-1585-4656-B115-D7F1BDB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851F-1EDA-4A3C-870A-6328666C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7E63-3A24-46CA-870B-8E3B026C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619A-15DB-4334-B7EA-C0F280C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C2D9-D120-4537-8CB9-4D78E87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DC3-6461-448C-9EBA-7027F19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426D-87C2-4577-8076-30A5416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1C76D-991F-4EA4-A208-DC4F91C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ED32-9E0E-44CB-8BA8-545056F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9EF9-C88C-4151-966F-5AC2E144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3F7B-DB08-4C20-AD0F-4550EBE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92D2-EA1A-460C-BEF8-D65E3FB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1654-547C-473E-8818-C38D49A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8EFA-C442-4230-88A2-8CD56E5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9224-5615-4531-A836-81C5005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74AD-559F-4F46-BEF9-0154F229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9A7-E692-4DE6-86DD-37B0C087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B5C4-F87E-4421-AEF5-99DCC1D9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F5B2-D239-41D9-889E-58439149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4525-8B46-4B84-8ED0-730DE9C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D456-8290-470F-9023-D9FC6738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A62B-3C0E-47F5-895A-5A5AB7C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5CE2-CB5B-43DB-AE29-2AD23DCF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78B2-2D34-4F6D-A505-358F33F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A74C-AC35-4033-B3A9-73465F3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2E1C-5244-496D-8560-BE048A1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232C-A419-4794-8059-1D8AB9C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C4A-1C31-45A3-8F81-98308C6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6EAF-AFA1-4706-AB88-4135CBD4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D114-25A1-4601-931F-F4C4350D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3787-0C46-4349-9ED2-B3B36A45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31B6-941A-4CE0-85C0-45A8095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BB86E-0B2C-4131-A92B-3E9C14FF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E6EF-A703-4D5A-BB97-E2E7096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9E2C-0288-4626-851C-09629C3E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075F-3ECB-478A-8730-A06AC5B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A53A-FCB5-41F8-8674-5EF22B8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C03B-49A6-4A78-8062-390FDB5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560-7FBB-42E4-806A-8D47CAD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AF2D-EF37-4934-88F9-D675FEE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3FD1-0600-4667-BE57-7EB24DB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F66A-D1A3-4AF4-9216-D7268526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4B5A-C84F-4A4D-B319-E3394812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31F1-0A0B-43D3-A4CB-FFEBD55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E30B-50C4-4745-AEBE-BCFBED42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30EB-37F6-486B-BF24-058B1437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4346-1027-4432-855F-17AC6E1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4128-0609-4C86-B025-4C8DC761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7BFA-41A2-4DB1-A1E5-76C0CD09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7E0-E553-4DF5-BE47-9F41963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47EE-15A0-4513-81D6-D4C4A57E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51B2E-6286-4AA3-B58B-BA5910B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B698-876D-4A5E-A1DD-18D27F1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684E-DBA6-49B7-8156-64B7535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1F47-9D8B-4CD1-8D4B-9B022FF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4C99-577D-441C-B528-A7AB74C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AE44-D6CE-437B-B3AC-AA744130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854-C7BC-4BDD-94FA-3C457279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D1D-C3D0-4E98-B829-03CC876A76A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BFD-CE21-4605-975A-2334F295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0779-9C34-496D-899D-CDFEEACB4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17F-F3BA-4987-8A45-8F9DF52A6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5AC-6553-472D-8690-F99DF509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5D9-8020-4AF2-8955-27850555894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A56C-A1B7-4500-97C1-F9B1B5F12BB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3" descr="1220042264_07new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Заголовок 1"/>
          <p:cNvSpPr/>
          <p:nvPr/>
        </p:nvSpPr>
        <p:spPr>
          <a:xfrm>
            <a:off x="609480" y="309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1447920" y="309600"/>
            <a:ext cx="7196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ФЕДЕРАЛЬНОЕ ГОСУДАРСТВЕННОЕ ОБРАЗОВАТЕЛЬНОЕ УЧРЕЖДЕНИЕ                                                                   СРЕДНЕГО ПРОФЕССИОНАЛЬНОГО ОБРАЗОВАН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«КРАСНОЯРСКИЙ МЕДИКО-ФАРМАЦЕВТИЧЕСКИЙ КОЛЛЕДЖ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МИНИСТЕРСТВА ЗДРАВООХРАНЕНИЯ И СОЦИАЛЬНОГО РАЗВИТИЯ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Object 21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1214280" cy="1357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500040" y="214308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Научно-исследовательская рабо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«Качественный состав меда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285840" y="5857920"/>
            <a:ext cx="273672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оярск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4929120" y="4857840"/>
            <a:ext cx="3888000" cy="1571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 студент 105 гр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абораторной диагностики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ехин Дмитри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преподаватель хим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ндарева Любовь Викторов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457200" y="519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entury Gothic"/>
              </a:rPr>
              <a:t>Этапы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1843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Литературный обзор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2301840"/>
          <a:ext cx="3357720" cy="4556160"/>
        </p:xfrm>
        <a:graphic>
          <a:graphicData uri="http://schemas.openxmlformats.org/drawingml/2006/table">
            <a:tbl>
              <a:tblPr/>
              <a:tblGrid>
                <a:gridCol w="1677960"/>
                <a:gridCol w="167976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-р обесцветилс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крашен в сини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бесцветился  раств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76" name="Рисунок 5" descr="P1000201.JPG"/>
          <p:cNvPicPr/>
          <p:nvPr/>
        </p:nvPicPr>
        <p:blipFill>
          <a:blip r:embed="rId1"/>
          <a:stretch/>
        </p:blipFill>
        <p:spPr>
          <a:xfrm>
            <a:off x="5330880" y="2500200"/>
            <a:ext cx="3813120" cy="435780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4791240" y="2066760"/>
            <a:ext cx="1060200" cy="49802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0"/>
          <p:cNvSpPr/>
          <p:nvPr/>
        </p:nvSpPr>
        <p:spPr>
          <a:xfrm>
            <a:off x="-571680" y="285840"/>
            <a:ext cx="91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диастазного чис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357720" y="2286000"/>
          <a:ext cx="1571400" cy="459432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Диастазное чи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Мень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80" name="Прямоугольник 8"/>
          <p:cNvSpPr/>
          <p:nvPr/>
        </p:nvSpPr>
        <p:spPr>
          <a:xfrm>
            <a:off x="571680" y="9288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огласно существующим стандартам в натуральном меде диастазное число должно быть не менее 5 ед. Гот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0" y="2571840"/>
          <a:ext cx="3000240" cy="442908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82" name="Рисунок 5" descr="P1000203.JPG"/>
          <p:cNvPicPr/>
          <p:nvPr/>
        </p:nvPicPr>
        <p:blipFill>
          <a:blip r:embed="rId1"/>
          <a:stretch/>
        </p:blipFill>
        <p:spPr>
          <a:xfrm>
            <a:off x="5014800" y="2928960"/>
            <a:ext cx="4129200" cy="392904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3" descr=""/>
          <p:cNvPicPr/>
          <p:nvPr/>
        </p:nvPicPr>
        <p:blipFill>
          <a:blip r:embed="rId2"/>
          <a:stretch/>
        </p:blipFill>
        <p:spPr>
          <a:xfrm>
            <a:off x="4206960" y="3139920"/>
            <a:ext cx="925560" cy="3937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0"/>
          <p:cNvSpPr/>
          <p:nvPr/>
        </p:nvSpPr>
        <p:spPr>
          <a:xfrm>
            <a:off x="142920" y="35100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фруктозы   реакцией 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мл раствора мед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+1 мл конц. соляной кисло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кристаллика резорци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месь нагрели и наблюдали красное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окрашивани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57680" y="2571840"/>
          <a:ext cx="1643040" cy="4500360"/>
        </p:xfrm>
        <a:graphic>
          <a:graphicData uri="http://schemas.openxmlformats.org/drawingml/2006/table">
            <a:tbl>
              <a:tblPr/>
              <a:tblGrid>
                <a:gridCol w="164304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фрукто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857680"/>
          <a:ext cx="3071880" cy="4033800"/>
        </p:xfrm>
        <a:graphic>
          <a:graphicData uri="http://schemas.openxmlformats.org/drawingml/2006/table">
            <a:tbl>
              <a:tblPr/>
              <a:tblGrid>
                <a:gridCol w="1535040"/>
                <a:gridCol w="1536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ирпичн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о-зелен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87" name="Рисунок 5" descr="P1000205.JPG"/>
          <p:cNvPicPr/>
          <p:nvPr/>
        </p:nvPicPr>
        <p:blipFill>
          <a:blip r:embed="rId1"/>
          <a:stretch/>
        </p:blipFill>
        <p:spPr>
          <a:xfrm>
            <a:off x="5216400" y="3143160"/>
            <a:ext cx="3927600" cy="3714840"/>
          </a:xfrm>
          <a:prstGeom prst="rect">
            <a:avLst/>
          </a:prstGeom>
          <a:ln w="0">
            <a:noFill/>
          </a:ln>
        </p:spPr>
      </p:pic>
      <p:pic>
        <p:nvPicPr>
          <p:cNvPr id="388" name="Заголовок 3" descr=""/>
          <p:cNvPicPr/>
          <p:nvPr/>
        </p:nvPicPr>
        <p:blipFill>
          <a:blip r:embed="rId2"/>
          <a:stretch/>
        </p:blipFill>
        <p:spPr>
          <a:xfrm>
            <a:off x="4565520" y="2706840"/>
            <a:ext cx="787680" cy="437040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0"/>
          <p:cNvSpPr/>
          <p:nvPr/>
        </p:nvSpPr>
        <p:spPr>
          <a:xfrm>
            <a:off x="214200" y="357120"/>
            <a:ext cx="86439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Реакция Троммера на глюкозу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мл раствора мед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+3 капли 10% раствора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 капли 7% раствора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uSO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месь осторожно нагрели и наблюдали появление желтого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садка ( СиОН), переходящего в кирпично-красный цв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( Си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Gothic"/>
              </a:rPr>
              <a:t>2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 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071880" y="2857680"/>
          <a:ext cx="1749240" cy="4071600"/>
        </p:xfrm>
        <a:graphic>
          <a:graphicData uri="http://schemas.openxmlformats.org/drawingml/2006/table">
            <a:tbl>
              <a:tblPr/>
              <a:tblGrid>
                <a:gridCol w="1749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глюко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2643120"/>
          <a:ext cx="3500280" cy="4214880"/>
        </p:xfrm>
        <a:graphic>
          <a:graphicData uri="http://schemas.openxmlformats.org/drawingml/2006/table">
            <a:tbl>
              <a:tblPr/>
              <a:tblGrid>
                <a:gridCol w="1714680"/>
                <a:gridCol w="17856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-коричнев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Банка с красной крышк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-коричнев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92" name="Рисунок 5" descr="P1000209.JPG"/>
          <p:cNvPicPr/>
          <p:nvPr/>
        </p:nvPicPr>
        <p:blipFill>
          <a:blip r:embed="rId1"/>
          <a:stretch/>
        </p:blipFill>
        <p:spPr>
          <a:xfrm>
            <a:off x="5337000" y="2643120"/>
            <a:ext cx="3807000" cy="4214880"/>
          </a:xfrm>
          <a:prstGeom prst="rect">
            <a:avLst/>
          </a:prstGeom>
          <a:ln w="0">
            <a:noFill/>
          </a:ln>
        </p:spPr>
      </p:pic>
      <p:pic>
        <p:nvPicPr>
          <p:cNvPr id="393" name="Заголовок 3" descr=""/>
          <p:cNvPicPr/>
          <p:nvPr/>
        </p:nvPicPr>
        <p:blipFill>
          <a:blip r:embed="rId2"/>
          <a:stretch/>
        </p:blipFill>
        <p:spPr>
          <a:xfrm>
            <a:off x="4565520" y="2494080"/>
            <a:ext cx="927360" cy="45831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10"/>
          <p:cNvSpPr/>
          <p:nvPr/>
        </p:nvSpPr>
        <p:spPr>
          <a:xfrm>
            <a:off x="642960" y="2858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аминокислот  с помощью нингидриновой реакци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расно-коричневое окрашивание,  говорит о наличии аминокислоты пролин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олин — это одна из главных незаменимых аминокислот, которую организм использует для выработки коллагена. Эта аминокислота способствует формированию здоровых суставов, сухожилий, связок и сердечной мышц и образованию гемоглобин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500280" y="2643120"/>
          <a:ext cx="1428840" cy="42148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про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2428920"/>
          <a:ext cx="3000240" cy="442908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Желт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Желт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97" name="Рисунок 5" descr="P1000211.JPG"/>
          <p:cNvPicPr/>
          <p:nvPr/>
        </p:nvPicPr>
        <p:blipFill>
          <a:blip r:embed="rId1"/>
          <a:stretch/>
        </p:blipFill>
        <p:spPr>
          <a:xfrm>
            <a:off x="5375160" y="2227320"/>
            <a:ext cx="3768840" cy="4630680"/>
          </a:xfrm>
          <a:prstGeom prst="rect">
            <a:avLst/>
          </a:prstGeom>
          <a:ln w="0">
            <a:noFill/>
          </a:ln>
        </p:spPr>
      </p:pic>
      <p:pic>
        <p:nvPicPr>
          <p:cNvPr id="398" name="Заголовок 3" descr=""/>
          <p:cNvPicPr/>
          <p:nvPr/>
        </p:nvPicPr>
        <p:blipFill>
          <a:blip r:embed="rId2"/>
          <a:stretch/>
        </p:blipFill>
        <p:spPr>
          <a:xfrm>
            <a:off x="4705200" y="2279520"/>
            <a:ext cx="714600" cy="45849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0"/>
          <p:cNvSpPr/>
          <p:nvPr/>
        </p:nvSpPr>
        <p:spPr>
          <a:xfrm>
            <a:off x="285840" y="2142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Обнаружение тиамина в меде: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елтое окрашивание, говорит о наличии водорастворимого витамина В1 тиами́н. Участвует в обмене аминокислот, положительно влияет на сердечно-сосудитстую, нервную, пищеварительную, эндокринные систем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000240" y="2428920"/>
          <a:ext cx="1619280" cy="4429080"/>
        </p:xfrm>
        <a:graphic>
          <a:graphicData uri="http://schemas.openxmlformats.org/drawingml/2006/table">
            <a:tbl>
              <a:tblPr/>
              <a:tblGrid>
                <a:gridCol w="161928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тиам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57120" y="514800"/>
            <a:ext cx="84297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ключении хочется сказать, что проведя большую работу, был изучен литературный  материал, который  помог  изучить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й состав мёда. Мёд состоит из: 16-21% воды, 32-35% глюкозы, 38-40% фруктозы, 7 % сахарозы, 3% декстринов, 0.43% органических кислот, 0.04% белков и 0.2% минеральных вещест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став мёда входят также различные минеральные соли и около тридцати микроэлементов (соли меди, марганца, йода, цинка, алюминия, кобальта, никеля). Минеральных веществ иногда не достает в ежедневно употребляемых пищевых продуктах. Употребление же мёда восполняет их недостаток в организме и способствует восстановлению здоровья.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500040" y="386928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проведены качественные реакции на мед, с помощью которых в различных видах меда были обнаружены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   реакцией Селивано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бонат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минокислоты  с помощью нингидриновой реакц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люкоза реакцией Троммер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иамин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ределили диастазное числ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уемый нами мед  соответствует всем нормам пищевого продукта!!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428760" y="-18000"/>
            <a:ext cx="842940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блиографический список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фантьев Э.Е., Верзилина М.К., Котлярова В.С. «Внеклассная работа по химии с использованием хроматографии» Москва «Просвещение» 1983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шинский И.И., Новошинская Н.С. «Органическая химия, 11 класс. Издание 2» Москва, ОНИКС, Мир и Образование, 2006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инович В.А., Хавин З.Л. «Краткий химический справочник. Издание 2. Исправленное и дополненное. Издательство «Химия», Ленинградское отделение» 1978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сова Л.Ф. «Нетрадиционные формы и методы проведения уроков химии» Краснодар, 2001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льпин Г.Б. «Эта увлекательная химия. Рецензент: доктор химических наук Гольдфельд М.Г., Москва: Химия» 1984 г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oodhoney.ru  -  «Всё о мёде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edovoi.ru  -  «Медонос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7290000.ru/narod/narod30-3.html  -  «Лавка Жизни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images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8360" y="1916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4800" spc="-1" strike="noStrike" u="sng">
                <a:solidFill>
                  <a:srgbClr val="e90062"/>
                </a:solidFill>
                <a:uFillTx/>
                <a:latin typeface="Century Gothic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66855896ec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Цель работы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сследовать многообразный и сложный  химический состав меда и его лечебные свойст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зучить состав меда, его лечебные свойств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зучить методику  проведения  качественных реакций  для обнаружения  веществ в мед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3" descr="20357085_med_2a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49968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Гипотеза: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Ценность меда как продукта питания зависит от сложного химического соста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Объект исследования: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различные сорта мед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 исследования: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сложный и многообразный состав меда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519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entury Gothic"/>
              </a:rPr>
              <a:t>Этапы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1843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entury Gothic"/>
                <a:hlinkClick r:id="rId1" action="ppaction://hlinksldjump"/>
              </a:rPr>
              <a:t>Литературный обзор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3" descr="000001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«В мёде природа представила нам один и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Драгоценнейших своих даров, значе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Которого для человеческого организма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Настоящее время слишком недостаточно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Познано или очень слабо познается».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Е. Цандер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3" descr="imagesм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о определению И.А.Каблукова: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«Мед – сладкое ароматическое вещество, собираемое пчелами из нектарников или с других частей растений, после соответствующей переработки в медовом желудочке откладываемое в сотах»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Мед   - это прежде всего биологический продукт, в котором содержится 500 необходимых для нашего организма компонент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4" descr="ho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Углевод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Фруктоза 38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глюкоза 31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сахароза 1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другие сахара (мальтоза, мелезитоза) – 9%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Ферме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диастаз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Аминокисло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пролин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итамины 6,5 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тиамин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да 17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Стрелка влево 5"/>
          <p:cNvSpPr/>
          <p:nvPr/>
        </p:nvSpPr>
        <p:spPr>
          <a:xfrm>
            <a:off x="7715160" y="614376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imagesв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500040" y="1143000"/>
          <a:ext cx="8318520" cy="5386320"/>
        </p:xfrm>
        <a:graphic>
          <a:graphicData uri="http://schemas.openxmlformats.org/drawingml/2006/table">
            <a:tbl>
              <a:tblPr/>
              <a:tblGrid>
                <a:gridCol w="2236680"/>
                <a:gridCol w="3214800"/>
                <a:gridCol w="2867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Воздействие меда на орган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ростые угле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рукт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егко всасываются – через 20 мин после приема появляются в кро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сваивается легче глюкозы без траты инсулина, поэтому не вызывает диабе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пособствует усвоени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Быстро восстанавливает работоспособ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потребляют в качестве сахарозамени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Прямоугольник 6"/>
          <p:cNvSpPr/>
          <p:nvPr/>
        </p:nvSpPr>
        <p:spPr>
          <a:xfrm>
            <a:off x="857160" y="28584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Воздействие углеводов на организ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3" descr="66855896ec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Содержимое 2"/>
          <p:cNvSpPr/>
          <p:nvPr/>
        </p:nvSpPr>
        <p:spPr>
          <a:xfrm>
            <a:off x="642960" y="192888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аз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фермент, способствующий разложению крахмала. Методом для определения диастазной активности меда является стандартизированый метод Готе, основанный на способности фермента расщеплять крахмал. Активность диастазы выражается диастазным число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азное числ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это число миллилитров 1%-ного растворимого крахмала, которое разлагается за один час амилолитическими ферментами, содержащимися в одном грамме безводного вещества меда. Один миллилитр раствора крахмала соответствует одной единице активности. Согласно существующим стандартам в натуральном меде диастазное число должно быть не менее 5 ед. Го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781200" y="30240"/>
            <a:ext cx="7912080" cy="1116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6"/>
          <p:cNvSpPr/>
          <p:nvPr/>
        </p:nvSpPr>
        <p:spPr>
          <a:xfrm>
            <a:off x="857160" y="121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fermentum – закваска) специфические белковые катализаторы, присутствующие во всех живых клетк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4:11:36Z</dcterms:created>
  <dc:creator>Дмитрий Павлович</dc:creator>
  <dc:description/>
  <dc:language>en-US</dc:language>
  <cp:lastModifiedBy>Василий</cp:lastModifiedBy>
  <dcterms:modified xsi:type="dcterms:W3CDTF">2011-09-22T15:20:30Z</dcterms:modified>
  <cp:revision>67</cp:revision>
  <dc:subject/>
  <dc:title>                              Проект Состав мёда </dc:title>
</cp:coreProperties>
</file>