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9F2-4F4B-4411-B736-F89A48B3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DCC-7C70-4B55-BFE9-D4C78A04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EA99-7C5E-4380-8D79-8CA73760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9BE4-98F8-4090-A246-4118317A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AEFC-024B-4E85-B0A8-71BB212D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E8A3-4897-4B71-B6CB-BCFBD9D9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9B5C-81D6-4FB0-B1FC-D968A365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354F-1B3D-4163-83AD-C4B4DFD1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AC30-F614-428E-AB89-E8B88D80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7E42-3B2B-4DD2-92B1-C88E243C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705E-5D13-4D46-B9E4-DB414A90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0086-F49B-414C-938F-8B6924CA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6975-28DB-4635-80F8-A816DAB1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2F6A-5677-4EB3-9D35-8520E951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5B9D-CE28-474F-A39A-AA098314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250B-771E-4C77-A954-88DB8B21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C757-3616-4484-916F-1566D53A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F1646-5E05-4DFA-B791-0BDA70A0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4AE68-0F2F-4DFD-83AF-91BF411E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61E1B-F4A2-4351-8A3F-8DBB5C3E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982A7-6069-4778-A094-B9AA8556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B279C-D648-49FF-95EC-0D0D9362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A6C0-DA7B-42B3-AC6C-688F25FA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4AE11-C685-4BB6-A600-01EFD02D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4D295-DC49-40D8-918E-314BAB5F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08E6A-8CE4-4DB0-9FAB-65A80298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D71D7-D958-4853-80E9-DB36F09E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EC068-8A36-449A-8BCD-79A930DC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B9CC7-D045-4DC5-8205-D439744C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26378-E8D7-42CC-9350-37E37C2D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ACDD2-0D4A-47E6-855E-5DD98350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D309B-7900-45C4-8619-43021634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0095C-7B81-477B-AB7F-F0A5C8E9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D6BC-C67C-4DB0-96A1-323A356F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EF93C-EFCF-47E5-9F0E-B14F9C20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2FA5E-4020-4A5A-B4AE-ABA43E3B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FEE04-5515-4A51-B12D-9A8DDB1B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5DA82-72DE-4B33-A322-03614B32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DB938-01F5-492A-B3D2-D2B31214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6B8A8-82F7-4B7B-B686-82481D95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4382B-A211-454C-A3A5-1A6382FC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20261-DB7A-4012-9EBE-EBDD228A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0F9D0-C0AF-4DDE-938D-A89077A0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68D88-7F03-4B1F-B44C-AB882E24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228-03FC-49DD-A2B2-C77A9BC8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CA511-79AA-442B-B52F-B7D8A0C4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9A505-0716-4C8F-864D-9531A49A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12E8F-C049-453F-A738-4CADDCE7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A879B-380E-4693-9799-4CC350AF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22120-8775-48E8-83E3-4D5DC8F6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3F7D5-62C5-4569-94EB-416D82FF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03282-6093-488E-A991-B51E1E58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A6053-7FE0-4F03-8AB7-19EFF403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9C9F6-4F99-47B3-8774-B769F687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891A9-BF32-4A26-B57E-BB3623F2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5F24-5554-4C15-843C-9FEFD136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D334A-C3F8-46E2-97B7-D2B286E4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6DB26-6B0C-43EC-8437-CF137A11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61775-E365-4322-8EAD-CC8FE939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2E865-F02A-46C7-BF33-16630CEA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66780-62CC-4C9B-966A-411B84DA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C5E52-34E7-4C84-85A5-16B1CC68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6280D-76AC-4363-8872-B42177F8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2CA0D-7BF4-447D-8F54-03A73F6A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F2391-A1BA-4B03-A8A8-47102491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AE13C-C8C7-49C1-9400-1E4F8381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FF55-92FC-4887-971D-C2CA9FC2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5A1F2-D3E6-4A46-9C75-DB94934D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BBE58-AF0E-4EB0-BC3E-FAD2D2F6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8C7C6-22AE-4C7F-883B-A898B308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2ED4E-CF59-4B58-BC23-7DA0B467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69CDD-2FEE-4B5F-81A4-49AA4A08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479B2-7567-45D9-89E2-011E3217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3CCC9-9D97-47CF-ADB3-C696289C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969B4-0217-470A-9331-6839653B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A80F4-327E-46E6-8A5F-B753A8E6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22FEA-F80B-4941-AB16-F1AD5082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EFD-58B0-44BA-B5A7-2A5821E9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FD255-8990-4FAA-87CE-0BB8FB16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8AA66-17D5-4656-B135-BC8B7BF4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07ADA-7354-4991-8560-E15AEA00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7F48E-2F40-4865-A70B-82607325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1037B-5608-42E6-BBBA-0525EBC0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AFB2A-CEAE-4519-A928-77418F1F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AF657-46B6-412E-82A5-6E6EF3B5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0EED0-0E25-4BAA-B004-75A6C484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C7ED4-D72F-44A1-9578-8A431F75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A64A2-7BB6-4610-9882-07D7CA38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BB0C-F8C1-42E9-A5A0-7AB39956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0C0A8-BB4B-41D1-B759-5B66D459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68ABB-5BA1-4F68-9A9C-611F714B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E13B2-760B-41A7-86E1-6C70CDE2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1A103-B0B6-4B6D-AB24-E6BA1BA3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3599B-3032-4C8F-B50B-A826B250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F5A65-4E8B-4922-BA4C-6D96C482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32928-F3A6-42AA-8BD6-7CD37362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19B6-75D8-4B87-8CB1-9A01161CF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B2CF-FCF7-422F-B73A-7A0885C460D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69A0-9DD2-4E13-8AD6-2AB47D777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1D3B-8DE8-4AB7-9EF2-66C1C30A6E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67F1-1B80-426D-8A1D-27BA1ABFD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B18F-D888-4B10-8F65-613A5D79F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EDBF-F6F1-433D-A42B-3578214CCCF2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CC10-AE48-4D83-8D9C-CEF34630288B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Рисунок 3" descr="1220042264_07new.jpg"/>
          <p:cNvPicPr/>
          <p:nvPr/>
        </p:nvPicPr>
        <p:blipFill>
          <a:blip r:embed="rId1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Заголовок 1"/>
          <p:cNvSpPr/>
          <p:nvPr/>
        </p:nvSpPr>
        <p:spPr>
          <a:xfrm>
            <a:off x="609480" y="309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endParaRPr b="0" lang="en-US" sz="4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1447920" y="309600"/>
            <a:ext cx="719604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ФЕДЕРАЛЬНОЕ ГОСУДАРСТВЕННОЕ ОБРАЗОВАТЕЛЬНОЕ УЧРЕЖДЕНИЕ                                                                   СРЕДНЕГО ПРОФЕССИОНАЛЬНОГО ОБРАЗОВАНИЯ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«КРАСНОЯРСКИЙ МЕДИКО-ФАРМАЦЕВТИЧЕСКИЙ КОЛЛЕДЖ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МИНИСТЕРСТВА ЗДРАВООХРАНЕНИЯ И СОЦИАЛЬНОГО РАЗВИТИЯ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8" name="Object 21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1214280" cy="135720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4"/>
          <p:cNvSpPr/>
          <p:nvPr/>
        </p:nvSpPr>
        <p:spPr>
          <a:xfrm>
            <a:off x="500040" y="2143080"/>
            <a:ext cx="82296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entury Gothic"/>
              </a:rPr>
              <a:t>Научно-исследовательская работ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«Качественный состав меда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                       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285840" y="5857920"/>
            <a:ext cx="273672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асноярск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AutoShape 14"/>
          <p:cNvSpPr/>
          <p:nvPr/>
        </p:nvSpPr>
        <p:spPr>
          <a:xfrm>
            <a:off x="4929120" y="4857840"/>
            <a:ext cx="3888000" cy="157140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ыполнил студент 105 гр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Лабораторной диагностики»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техин Дмитрий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уководитель преподаватель хими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ондарева Любовь Викторовн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457200" y="519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Century Gothic"/>
              </a:rPr>
              <a:t>Этапы исследования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457200" y="1843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17bbf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entury Gothic"/>
              </a:rPr>
              <a:t>Литературный обзор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100"/>
              </a:spcBef>
              <a:buClr>
                <a:srgbClr val="17bbf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entury Gothic"/>
              </a:rPr>
              <a:t>Исследование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100"/>
              </a:spcBef>
              <a:buClr>
                <a:srgbClr val="17bbf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entury Gothic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0" y="2301840"/>
          <a:ext cx="3357720" cy="4556160"/>
        </p:xfrm>
        <a:graphic>
          <a:graphicData uri="http://schemas.openxmlformats.org/drawingml/2006/table">
            <a:tbl>
              <a:tblPr/>
              <a:tblGrid>
                <a:gridCol w="1677960"/>
                <a:gridCol w="1679760"/>
              </a:tblGrid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Название мё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Наблю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)Емельяновский рай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раствор обесцветил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)Назаровск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р-р обесцветилс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)Краевая больниц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раствор обесцветил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)Алтайск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раствор окрашен в синий 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)Сухобузим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обесцветился  раство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pic>
        <p:nvPicPr>
          <p:cNvPr id="376" name="Рисунок 5" descr="P1000201.JPG"/>
          <p:cNvPicPr/>
          <p:nvPr/>
        </p:nvPicPr>
        <p:blipFill>
          <a:blip r:embed="rId1"/>
          <a:stretch/>
        </p:blipFill>
        <p:spPr>
          <a:xfrm>
            <a:off x="5330880" y="2500200"/>
            <a:ext cx="3813120" cy="4357800"/>
          </a:xfrm>
          <a:prstGeom prst="rect">
            <a:avLst/>
          </a:prstGeom>
          <a:ln w="0">
            <a:noFill/>
          </a:ln>
        </p:spPr>
      </p:pic>
      <p:pic>
        <p:nvPicPr>
          <p:cNvPr id="377" name="Заголовок 1" descr=""/>
          <p:cNvPicPr/>
          <p:nvPr/>
        </p:nvPicPr>
        <p:blipFill>
          <a:blip r:embed="rId2"/>
          <a:stretch/>
        </p:blipFill>
        <p:spPr>
          <a:xfrm>
            <a:off x="4791240" y="2066760"/>
            <a:ext cx="1060200" cy="498024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10"/>
          <p:cNvSpPr/>
          <p:nvPr/>
        </p:nvSpPr>
        <p:spPr>
          <a:xfrm>
            <a:off x="-571680" y="285840"/>
            <a:ext cx="91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  <a:ea typeface="Arial"/>
              </a:rPr>
              <a:t>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  <a:ea typeface="Arial"/>
              </a:rPr>
              <a:t>Определение диастазного числ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3357720" y="2286000"/>
          <a:ext cx="1571400" cy="4594320"/>
        </p:xfrm>
        <a:graphic>
          <a:graphicData uri="http://schemas.openxmlformats.org/drawingml/2006/table">
            <a:tbl>
              <a:tblPr/>
              <a:tblGrid>
                <a:gridCol w="15714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Диастазное числ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Выше 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выше 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выше 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Меньше 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выше 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sp>
        <p:nvSpPr>
          <p:cNvPr id="380" name="Прямоугольник 8"/>
          <p:cNvSpPr/>
          <p:nvPr/>
        </p:nvSpPr>
        <p:spPr>
          <a:xfrm>
            <a:off x="571680" y="92880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Согласно существующим стандартам в натуральном меде диастазное число должно быть не менее 5 ед. Готе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0" y="2571840"/>
          <a:ext cx="3000240" cy="442908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Название мё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)Емельяновский рай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расное окраши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)Назаровск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расное окраши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)Краевая больниц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расное окраши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)Алтайски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расное окраши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)Сухобузим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расное окраши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pic>
        <p:nvPicPr>
          <p:cNvPr id="382" name="Рисунок 5" descr="P1000203.JPG"/>
          <p:cNvPicPr/>
          <p:nvPr/>
        </p:nvPicPr>
        <p:blipFill>
          <a:blip r:embed="rId1"/>
          <a:stretch/>
        </p:blipFill>
        <p:spPr>
          <a:xfrm>
            <a:off x="5014800" y="2928960"/>
            <a:ext cx="4129200" cy="3929040"/>
          </a:xfrm>
          <a:prstGeom prst="rect">
            <a:avLst/>
          </a:prstGeom>
          <a:ln w="0">
            <a:noFill/>
          </a:ln>
        </p:spPr>
      </p:pic>
      <p:pic>
        <p:nvPicPr>
          <p:cNvPr id="383" name="Заголовок 3" descr=""/>
          <p:cNvPicPr/>
          <p:nvPr/>
        </p:nvPicPr>
        <p:blipFill>
          <a:blip r:embed="rId2"/>
          <a:stretch/>
        </p:blipFill>
        <p:spPr>
          <a:xfrm>
            <a:off x="4206960" y="3139920"/>
            <a:ext cx="925560" cy="393732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10"/>
          <p:cNvSpPr/>
          <p:nvPr/>
        </p:nvSpPr>
        <p:spPr>
          <a:xfrm>
            <a:off x="142920" y="351000"/>
            <a:ext cx="87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  <a:ea typeface="Arial"/>
              </a:rPr>
              <a:t>Определение фруктозы   реакцией 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3 мл раствора мед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+1 мл конц. соляной кислоты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3 кристаллика резорцин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Смесь нагрели и наблюдали красное 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окрашивание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857680" y="2571840"/>
          <a:ext cx="1643040" cy="4500360"/>
        </p:xfrm>
        <a:graphic>
          <a:graphicData uri="http://schemas.openxmlformats.org/drawingml/2006/table">
            <a:tbl>
              <a:tblPr/>
              <a:tblGrid>
                <a:gridCol w="164304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Содержание фруктоз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2857680"/>
          <a:ext cx="3071880" cy="4033800"/>
        </p:xfrm>
        <a:graphic>
          <a:graphicData uri="http://schemas.openxmlformats.org/drawingml/2006/table">
            <a:tbl>
              <a:tblPr/>
              <a:tblGrid>
                <a:gridCol w="1535040"/>
                <a:gridCol w="15368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Название мё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)Емельяновский рай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ирпичный 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)Назаровск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оричнево-зелены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)Краевая больниц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цвет крас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)Алтайски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Цвет крас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) Сухобузим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цвет крас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pic>
        <p:nvPicPr>
          <p:cNvPr id="387" name="Рисунок 5" descr="P1000205.JPG"/>
          <p:cNvPicPr/>
          <p:nvPr/>
        </p:nvPicPr>
        <p:blipFill>
          <a:blip r:embed="rId1"/>
          <a:stretch/>
        </p:blipFill>
        <p:spPr>
          <a:xfrm>
            <a:off x="5216400" y="3143160"/>
            <a:ext cx="3927600" cy="3714840"/>
          </a:xfrm>
          <a:prstGeom prst="rect">
            <a:avLst/>
          </a:prstGeom>
          <a:ln w="0">
            <a:noFill/>
          </a:ln>
        </p:spPr>
      </p:pic>
      <p:pic>
        <p:nvPicPr>
          <p:cNvPr id="388" name="Заголовок 3" descr=""/>
          <p:cNvPicPr/>
          <p:nvPr/>
        </p:nvPicPr>
        <p:blipFill>
          <a:blip r:embed="rId2"/>
          <a:stretch/>
        </p:blipFill>
        <p:spPr>
          <a:xfrm>
            <a:off x="4565520" y="2706840"/>
            <a:ext cx="787680" cy="437040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10"/>
          <p:cNvSpPr/>
          <p:nvPr/>
        </p:nvSpPr>
        <p:spPr>
          <a:xfrm>
            <a:off x="214200" y="357120"/>
            <a:ext cx="86439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  <a:ea typeface="Arial"/>
              </a:rPr>
              <a:t>Реакция Троммера на глюкозу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3 мл раствора мед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+3 капли 10% раствора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NaO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4 капли 7% раствора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uSO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4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Смесь осторожно нагрели и наблюдали появление желтого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осадка ( СиОН), переходящего в кирпично-красный цвет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( Си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Century Gothic"/>
              </a:rPr>
              <a:t>2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О 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3071880" y="2857680"/>
          <a:ext cx="1749240" cy="4071600"/>
        </p:xfrm>
        <a:graphic>
          <a:graphicData uri="http://schemas.openxmlformats.org/drawingml/2006/table">
            <a:tbl>
              <a:tblPr/>
              <a:tblGrid>
                <a:gridCol w="1749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Содержание глюкоз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отсутствует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0" y="2643120"/>
          <a:ext cx="3500280" cy="4214880"/>
        </p:xfrm>
        <a:graphic>
          <a:graphicData uri="http://schemas.openxmlformats.org/drawingml/2006/table">
            <a:tbl>
              <a:tblPr/>
              <a:tblGrid>
                <a:gridCol w="1714680"/>
                <a:gridCol w="178560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Название мё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)Емельяновский рай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расно-коричневое окраши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)Назаровск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Раствор обесцветил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)Банка с красной крышк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расно-коричневое окраши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)Алтайски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Раствор обесцветил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) Сухобузим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Раствор обесцветил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pic>
        <p:nvPicPr>
          <p:cNvPr id="392" name="Рисунок 5" descr="P1000209.JPG"/>
          <p:cNvPicPr/>
          <p:nvPr/>
        </p:nvPicPr>
        <p:blipFill>
          <a:blip r:embed="rId1"/>
          <a:stretch/>
        </p:blipFill>
        <p:spPr>
          <a:xfrm>
            <a:off x="5337000" y="2643120"/>
            <a:ext cx="3807000" cy="4214880"/>
          </a:xfrm>
          <a:prstGeom prst="rect">
            <a:avLst/>
          </a:prstGeom>
          <a:ln w="0">
            <a:noFill/>
          </a:ln>
        </p:spPr>
      </p:pic>
      <p:pic>
        <p:nvPicPr>
          <p:cNvPr id="393" name="Заголовок 3" descr=""/>
          <p:cNvPicPr/>
          <p:nvPr/>
        </p:nvPicPr>
        <p:blipFill>
          <a:blip r:embed="rId2"/>
          <a:stretch/>
        </p:blipFill>
        <p:spPr>
          <a:xfrm>
            <a:off x="4565520" y="2494080"/>
            <a:ext cx="927360" cy="458316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оугольник 10"/>
          <p:cNvSpPr/>
          <p:nvPr/>
        </p:nvSpPr>
        <p:spPr>
          <a:xfrm>
            <a:off x="642960" y="28584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Определение аминокислот  с помощью нингидриновой реакции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Красно-коричневое окрашивание,  говорит о наличии аминокислоты пролин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ролин — это одна из главных незаменимых аминокислот, которую организм использует для выработки коллагена. Эта аминокислота способствует формированию здоровых суставов, сухожилий, связок и сердечной мышц и образованию гемоглобин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3500280" y="2643120"/>
          <a:ext cx="1428840" cy="42148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Содержание прол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отсутству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отсутству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отсутству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0" y="2428920"/>
          <a:ext cx="3000240" cy="442908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</a:tblGrid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Название мё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)Емельяновский рай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оричневый 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)Назаровск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Желтый 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)Краевая больниц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оричневый 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)Алтайски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Желтый 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) Сухобузим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оричневый 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pic>
        <p:nvPicPr>
          <p:cNvPr id="397" name="Рисунок 5" descr="P1000211.JPG"/>
          <p:cNvPicPr/>
          <p:nvPr/>
        </p:nvPicPr>
        <p:blipFill>
          <a:blip r:embed="rId1"/>
          <a:stretch/>
        </p:blipFill>
        <p:spPr>
          <a:xfrm>
            <a:off x="5375160" y="2227320"/>
            <a:ext cx="3768840" cy="4630680"/>
          </a:xfrm>
          <a:prstGeom prst="rect">
            <a:avLst/>
          </a:prstGeom>
          <a:ln w="0">
            <a:noFill/>
          </a:ln>
        </p:spPr>
      </p:pic>
      <p:pic>
        <p:nvPicPr>
          <p:cNvPr id="398" name="Заголовок 3" descr=""/>
          <p:cNvPicPr/>
          <p:nvPr/>
        </p:nvPicPr>
        <p:blipFill>
          <a:blip r:embed="rId2"/>
          <a:stretch/>
        </p:blipFill>
        <p:spPr>
          <a:xfrm>
            <a:off x="4705200" y="2279520"/>
            <a:ext cx="714600" cy="458496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10"/>
          <p:cNvSpPr/>
          <p:nvPr/>
        </p:nvSpPr>
        <p:spPr>
          <a:xfrm>
            <a:off x="285840" y="21420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Обнаружение тиамина в меде: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Желтое окрашивание, говорит о наличии водорастворимого витамина В1 тиами́н. Участвует в обмене аминокислот, положительно влияет на сердечно-сосудитстую, нервную, пищеварительную, эндокринные системы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3000240" y="2428920"/>
          <a:ext cx="1619280" cy="4429080"/>
        </p:xfrm>
        <a:graphic>
          <a:graphicData uri="http://schemas.openxmlformats.org/drawingml/2006/table">
            <a:tbl>
              <a:tblPr/>
              <a:tblGrid>
                <a:gridCol w="1619280"/>
              </a:tblGrid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Содержание тиам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Отсутству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Отсутству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рисутству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Отсутству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357120" y="514800"/>
            <a:ext cx="842976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заключении хочется сказать, что проведя большую работу, был изучен литературный  материал, который  помог  изучить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45072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мический состав мёда. Мёд состоит из: 16-21% воды, 32-35% глюкозы, 38-40% фруктозы, 7 % сахарозы, 3% декстринов, 0.43% органических кислот, 0.04% белков и 0.2% минеральных веществ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45072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остав мёда входят также различные минеральные соли и около тридцати микроэлементов (соли меди, марганца, йода, цинка, алюминия, кобальта, никеля). Минеральных веществ иногда не достает в ежедневно употребляемых пищевых продуктах. Употребление же мёда восполняет их недостаток в организме и способствует восстановлению здоровья.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Rectangle 1"/>
          <p:cNvSpPr/>
          <p:nvPr/>
        </p:nvSpPr>
        <p:spPr>
          <a:xfrm>
            <a:off x="500040" y="3869280"/>
            <a:ext cx="8286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и проведены качественные реакции на мед, с помощью которых в различных видах меда были обнаружены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уктоза   реакцией Селиванов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рбонаты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минокислоты  с помощью нингидриновой реакци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люкоза реакцией Троммера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иамин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пределили диастазное числ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уемый нами мед  соответствует всем нормам пищевого продукта!!!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"/>
          <p:cNvSpPr/>
          <p:nvPr/>
        </p:nvSpPr>
        <p:spPr>
          <a:xfrm>
            <a:off x="428760" y="-18000"/>
            <a:ext cx="8429400" cy="63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блиографический список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фантьев Э.Е., Верзилина М.К., Котлярова В.С. «Внеклассная работа по химии с использованием хроматографии» Москва «Просвещение» 1983 г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шинский И.И., Новошинская Н.С. «Органическая химия, 11 класс. Издание 2» Москва, ОНИКС, Мир и Образование, 2006 г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инович В.А., Хавин З.Л. «Краткий химический справочник. Издание 2. Исправленное и дополненное. Издательство «Химия», Ленинградское отделение» 1978 г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осова Л.Ф. «Нетрадиционные формы и методы проведения уроков химии» Краснодар, 2001 г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льпин Г.Б. «Эта увлекательная химия. Рецензент: доктор химических наук Гольдфельд М.Г., Москва: Химия» 1984 г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goodhoney.ru  -  «Всё о мёде» (сайт в Интернете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edovoi.ru  -  «Медонос» (сайт в Интернете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7290000.ru/narod/narod30-3.html  -  «Лавка Жизни» (сайт в Интернете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Рисунок 3" descr="images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68360" y="1916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4800" spc="-1" strike="noStrike" u="sng">
                <a:solidFill>
                  <a:srgbClr val="e90062"/>
                </a:solidFill>
                <a:uFillTx/>
                <a:latin typeface="Century Gothic"/>
              </a:rPr>
              <a:t>Спасибо за внимание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Рисунок 3" descr="66855896ec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28584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Цель работы 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entury Gothic"/>
              </a:rPr>
              <a:t>Исследовать многообразный и сложный  химический состав меда и его лечебные свойств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Задачи 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entury Gothic"/>
              </a:rPr>
              <a:t>Изучить состав меда, его лечебные свойств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entury Gothic"/>
              </a:rPr>
              <a:t>Изучить методику  проведения  качественных реакций  для обнаружения  веществ в меде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3" descr="20357085_med_2a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499680"/>
            <a:ext cx="8229600" cy="59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Гипотеза: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entury Gothic"/>
              </a:rPr>
              <a:t>Ценность меда как продукта питания зависит от сложного химического состав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Объект исследования: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entury Gothic"/>
              </a:rPr>
              <a:t>различные сорта мед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Предмет исследования: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entury Gothic"/>
              </a:rPr>
              <a:t>сложный и многообразный состав меда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457200" y="519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Century Gothic"/>
              </a:rPr>
              <a:t>Этапы исследования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457200" y="1843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17bbf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7bbfd"/>
                </a:solidFill>
                <a:uFillTx/>
                <a:latin typeface="Century Gothic"/>
                <a:hlinkClick r:id="rId1" action="ppaction://hlinksldjump"/>
              </a:rPr>
              <a:t>Литературный обзор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100"/>
              </a:spcBef>
              <a:buClr>
                <a:srgbClr val="17bbf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7bbfd"/>
                </a:solidFill>
                <a:uFillTx/>
                <a:latin typeface="Century Gothic"/>
                <a:hlinkClick r:id="rId2" action="ppaction://hlinksldjump"/>
              </a:rPr>
              <a:t>Исследование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100"/>
              </a:spcBef>
              <a:buClr>
                <a:srgbClr val="17bbf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entury Gothic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Рисунок 3" descr="000001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«В мёде природа представила нам один из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Драгоценнейших своих даров, значени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Которого для человеческого организма 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Настоящее время слишком недостаточно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Познано или очень слабо познается».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Е. Цандер   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3" descr="imagesм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428400"/>
            <a:ext cx="822960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По определению И.А.Каблукова: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«Мед – сладкое ароматическое вещество, собираемое пчелами из нектарников или с других частей растений, после соответствующей переработки в медовом желудочке откладываемое в сотах»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Мед   - это прежде всего биологический продукт, в котором содержится 500 необходимых для нашего организма компонентов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4" descr="hone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Заголовок 1" descr=""/>
          <p:cNvPicPr/>
          <p:nvPr/>
        </p:nvPicPr>
        <p:blipFill>
          <a:blip r:embed="rId2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Углеводы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Фруктоза 38%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глюкоза 31%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сахароза 1%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другие сахара (мальтоза, мелезитоза) – 9%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Ферменты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диастаз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Аминокислоты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пролин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итамины 6,5 %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тиамин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ода 17%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Стрелка влево 5"/>
          <p:cNvSpPr/>
          <p:nvPr/>
        </p:nvSpPr>
        <p:spPr>
          <a:xfrm>
            <a:off x="7715160" y="6143760"/>
            <a:ext cx="978120" cy="48420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3" descr="imagesв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7" name=""/>
          <p:cNvGraphicFramePr/>
          <p:nvPr/>
        </p:nvGraphicFramePr>
        <p:xfrm>
          <a:off x="500040" y="1143000"/>
          <a:ext cx="8318520" cy="5386320"/>
        </p:xfrm>
        <a:graphic>
          <a:graphicData uri="http://schemas.openxmlformats.org/drawingml/2006/table">
            <a:tbl>
              <a:tblPr/>
              <a:tblGrid>
                <a:gridCol w="2236680"/>
                <a:gridCol w="3214800"/>
                <a:gridCol w="28670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Сост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Воздействие меда на организ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Приме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Простые углев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Фрукто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Легко всасываются – через 20 мин после приема появляются в кров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Усваивается легче глюкозы без траты инсулина, поэтому не вызывает диабет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Способствует усвоени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F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Быстро восстанавливает работоспособ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Употребляют в качестве сахарозамени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Прямоугольник 6"/>
          <p:cNvSpPr/>
          <p:nvPr/>
        </p:nvSpPr>
        <p:spPr>
          <a:xfrm>
            <a:off x="857160" y="285840"/>
            <a:ext cx="77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Воздействие углеводов на организм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Рисунок 3" descr="66855896ec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Содержимое 2"/>
          <p:cNvSpPr/>
          <p:nvPr/>
        </p:nvSpPr>
        <p:spPr>
          <a:xfrm>
            <a:off x="642960" y="1928880"/>
            <a:ext cx="82296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стаз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фермент, способствующий разложению крахмала. Методом для определения диастазной активности меда является стандартизированый метод Готе, основанный на способности фермента расщеплять крахмал. Активность диастазы выражается диастазным числом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стазное числ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это число миллилитров 1%-ного растворимого крахмала, которое разлагается за один час амилолитическими ферментами, содержащимися в одном грамме безводного вещества меда. Один миллилитр раствора крахмала соответствует одной единице активности. Согласно существующим стандартам в натуральном меде диастазное число должно быть не менее 5 ед. Готе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Заголовок 1" descr=""/>
          <p:cNvPicPr/>
          <p:nvPr/>
        </p:nvPicPr>
        <p:blipFill>
          <a:blip r:embed="rId2"/>
          <a:stretch/>
        </p:blipFill>
        <p:spPr>
          <a:xfrm>
            <a:off x="781200" y="30240"/>
            <a:ext cx="7912080" cy="111600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6"/>
          <p:cNvSpPr/>
          <p:nvPr/>
        </p:nvSpPr>
        <p:spPr>
          <a:xfrm>
            <a:off x="857160" y="1214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мен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лат. fermentum – закваска) специфические белковые катализаторы, присутствующие во всех живых клетка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4:11:36Z</dcterms:created>
  <dc:creator>Дмитрий Павлович</dc:creator>
  <dc:description/>
  <dc:language>en-US</dc:language>
  <cp:lastModifiedBy>Василий</cp:lastModifiedBy>
  <dcterms:modified xsi:type="dcterms:W3CDTF">2011-09-22T15:20:30Z</dcterms:modified>
  <cp:revision>67</cp:revision>
  <dc:subject/>
  <dc:title>                              Проект Состав мёда </dc:title>
</cp:coreProperties>
</file>