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558-650B-4B6C-BEE4-B9DC4A60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9CF-BE4D-47CD-880D-B7F96771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B42-DBFA-4114-A085-AEF6B2D1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3D7-4624-41A5-BFA8-1E988BA6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080-0A81-4048-AFDE-052BEDF1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832-4877-4355-B8E4-FEFD2907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FB1-32EF-4213-900F-044DDE9A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3C5-9803-4B58-99F7-0226169E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195-BC55-473E-8542-8B283A8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BE3-96DE-4739-A8AC-121A835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54F-0527-4F7C-896D-D18F1EC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A6B-8092-49AC-919B-A3C28C0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68FA-30DD-4899-880D-E8C2372F4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95400"/>
            <a:ext cx="67690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Математический  диктант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206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умма квадратов чисел а и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179064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Дополнить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вадрат суммы двух выражений равен квадрату первого выражения плюс удвоенное произведение первого и второго выражения 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9280" y="3540240"/>
            <a:ext cx="87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вадрат разности чисе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79280" y="4165560"/>
            <a:ext cx="878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4) Разность между число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удвоенным произведением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79280" y="5145120"/>
            <a:ext cx="842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5) Преобразовать выражение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(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– 4с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в многочлен стандартно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4514760" y="3222720"/>
                <a:ext cx="1112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1"/>
              <p:cNvSpPr txBox="1"/>
              <p:nvPr/>
            </p:nvSpPr>
            <p:spPr>
              <a:xfrm>
                <a:off x="5651640" y="3397320"/>
                <a:ext cx="1747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Text Box 12"/>
          <p:cNvSpPr/>
          <p:nvPr/>
        </p:nvSpPr>
        <p:spPr>
          <a:xfrm>
            <a:off x="3922560" y="29084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плюс квадрат второго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5695920" y="1065240"/>
                <a:ext cx="1658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4"/>
              <p:cNvSpPr txBox="1"/>
              <p:nvPr/>
            </p:nvSpPr>
            <p:spPr>
              <a:xfrm>
                <a:off x="5364000" y="4518000"/>
                <a:ext cx="2446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6"/>
              <p:cNvSpPr txBox="1"/>
              <p:nvPr/>
            </p:nvSpPr>
            <p:spPr>
              <a:xfrm>
                <a:off x="177840" y="5843520"/>
                <a:ext cx="8669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ормула разности квадратов, используется для быстрого сче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920" y="328608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9 * 81 = (80 – 1)(80 + 1) = 8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6400 – 1 = 63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86240" y="21891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мотрит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8440" y="3860640"/>
            <a:ext cx="69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2*38 = (40 + 2)(40 – 2) = 4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600 – 4 = 159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4437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2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(29-28)(29+28)=1*57=5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28720" y="5084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6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(73+63)(73-63)=136*10=136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Запишите в виде степени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7"/>
          <p:cNvGraphicFramePr/>
          <p:nvPr/>
        </p:nvGraphicFramePr>
        <p:xfrm>
          <a:off x="3059280" y="1916280"/>
          <a:ext cx="13612680" cy="90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916280"/>
                    <a:ext cx="13612680" cy="90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8"/>
          <p:cNvSpPr/>
          <p:nvPr/>
        </p:nvSpPr>
        <p:spPr>
          <a:xfrm>
            <a:off x="2987640" y="1773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059280" y="1628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2660760" y="1844640"/>
                <a:ext cx="1735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2"/>
              <p:cNvSpPr txBox="1"/>
              <p:nvPr/>
            </p:nvSpPr>
            <p:spPr>
              <a:xfrm>
                <a:off x="216000" y="1650960"/>
                <a:ext cx="23400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92600" y="1685880"/>
                <a:ext cx="2278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17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0" y="3645000"/>
                <a:ext cx="291636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19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8"/>
              <p:cNvSpPr txBox="1"/>
              <p:nvPr/>
            </p:nvSpPr>
            <p:spPr>
              <a:xfrm>
                <a:off x="4788000" y="3429000"/>
                <a:ext cx="24480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0"/>
              <p:cNvSpPr txBox="1"/>
              <p:nvPr/>
            </p:nvSpPr>
            <p:spPr>
              <a:xfrm>
                <a:off x="7236000" y="1635120"/>
                <a:ext cx="18205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2916360" y="3402000"/>
                <a:ext cx="172692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164360" y="3557520"/>
                <a:ext cx="171468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айдите значение 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052720" y="1628640"/>
            <a:ext cx="7559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10000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 + 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971640" y="1773360"/>
            <a:ext cx="7272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Century"/>
              </a:rPr>
              <a:t>Тема урока: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Century"/>
              </a:rPr>
              <a:t>"Разность квадратов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403280" y="620640"/>
            <a:ext cx="662472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"/>
              </a:rPr>
              <a:t>Разность квадра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"/>
              <a:ea typeface="Century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085040" y="1988280"/>
            <a:ext cx="719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 = 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192320" y="3933000"/>
            <a:ext cx="70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987640" y="549360"/>
            <a:ext cx="2800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МЕЧ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путайте термины 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разность квадратов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квадрат разност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6360" y="264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ность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формула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24000" y="4521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вадрат раз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формула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- 2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Разность квадратов двух  чисел (выражений) равна произведению суммы этих чисел (выражений) на их разность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р  1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ыполнить умножени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3х – 2у)(3х + 2у).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2828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3х – 2у)(3х + 2у) = (3х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у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9х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 4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826920" y="988920"/>
            <a:ext cx="698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имер  2.</a:t>
            </a:r>
            <a:br>
              <a:rPr sz="40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Представить двучлен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3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 - 9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в виде произведения двучлен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11280" y="2852640"/>
            <a:ext cx="82818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= (4х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,      9 = 3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ит, заданный двучлен есть разность квадратов, т.е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 нему можно применить формулу 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прочитанную справа налево. Тогд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9 = 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= 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+ 3)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17:24Z</dcterms:created>
  <dc:creator>user</dc:creator>
  <dc:description/>
  <dc:language>en-US</dc:language>
  <cp:lastModifiedBy>ZooM</cp:lastModifiedBy>
  <dcterms:modified xsi:type="dcterms:W3CDTF">2013-10-16T15:13:34Z</dcterms:modified>
  <cp:revision>10</cp:revision>
  <dc:subject/>
  <dc:title>Слайд 1</dc:title>
</cp:coreProperties>
</file>