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5D0-CC51-4445-B2E9-1025AA68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A30-BC46-42A5-AE36-DDBB4FD0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89A-7B29-415C-94D4-5E4C9435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C3E-0E24-451F-B290-528BDC96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BBF-1FD9-4977-BEB7-2BBA5E6E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C3B-4BD8-4270-99D6-7E3479A7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FBB-31F0-40D8-B0E7-13FCEA6A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F6D-CD11-49A0-926B-A24D8A85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E96-24BE-4A2F-925E-AC7D4C6A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7DB-96A4-4899-88DB-EC171674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229-2D21-49F9-96D3-F28BBCE4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056-6A74-4D90-99F1-22A1F6FD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90B2-50C6-4D19-8267-788E4AF28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32000" y="95400"/>
            <a:ext cx="676908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Математический  диктант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50920" y="120636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Сумма квадратов чисел а и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920" y="179064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2)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Дополнить 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: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квадрат суммы двух выражений равен квадрату первого выражения плюс удвоенное произведение первого и второго выражения 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79280" y="3540240"/>
            <a:ext cx="871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Квадрат разности чисел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79280" y="4165560"/>
            <a:ext cx="8785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4) Разность между числом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и удвоенным произведением чисе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179280" y="5145120"/>
            <a:ext cx="842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5) Преобразовать выражение 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(3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400" spc="-1" strike="noStrike">
                <a:solidFill>
                  <a:srgbClr val="000000"/>
                </a:solidFill>
                <a:latin typeface="Century"/>
              </a:rPr>
              <a:t> – 4с)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entury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в многочлен стандартного 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10"/>
              <p:cNvSpPr txBox="1"/>
              <p:nvPr/>
            </p:nvSpPr>
            <p:spPr>
              <a:xfrm>
                <a:off x="4514760" y="3222720"/>
                <a:ext cx="11124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1"/>
              <p:cNvSpPr txBox="1"/>
              <p:nvPr/>
            </p:nvSpPr>
            <p:spPr>
              <a:xfrm>
                <a:off x="5651640" y="3397320"/>
                <a:ext cx="17478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" name="Text Box 12"/>
          <p:cNvSpPr/>
          <p:nvPr/>
        </p:nvSpPr>
        <p:spPr>
          <a:xfrm>
            <a:off x="3922560" y="290844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плюс квадрат второго вы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13"/>
              <p:cNvSpPr txBox="1"/>
              <p:nvPr/>
            </p:nvSpPr>
            <p:spPr>
              <a:xfrm>
                <a:off x="5695920" y="1065240"/>
                <a:ext cx="1658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14"/>
              <p:cNvSpPr txBox="1"/>
              <p:nvPr/>
            </p:nvSpPr>
            <p:spPr>
              <a:xfrm>
                <a:off x="5364000" y="4518000"/>
                <a:ext cx="24465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16"/>
              <p:cNvSpPr txBox="1"/>
              <p:nvPr/>
            </p:nvSpPr>
            <p:spPr>
              <a:xfrm>
                <a:off x="177840" y="5843520"/>
                <a:ext cx="8669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c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ормула разности квадратов, используется для быстрого сче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920" y="328608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79 * 81 = (80 – 1)(80 + 1) = 8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1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6400 – 1 = 639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786240" y="218916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мотрит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838440" y="3860640"/>
            <a:ext cx="69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2*38 = (40 + 2)(40 – 2) = 40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1600 – 4 = 159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26920" y="443700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28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(29-28)(29+28)=1*57=5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28720" y="508464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73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63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(73+63)(73-63)=136*10=136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Запишите в виде степени выра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7"/>
          <p:cNvGraphicFramePr/>
          <p:nvPr/>
        </p:nvGraphicFramePr>
        <p:xfrm>
          <a:off x="3059280" y="1916280"/>
          <a:ext cx="13612680" cy="909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916280"/>
                    <a:ext cx="13612680" cy="90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8"/>
          <p:cNvSpPr/>
          <p:nvPr/>
        </p:nvSpPr>
        <p:spPr>
          <a:xfrm>
            <a:off x="2987640" y="1773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059280" y="162864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1"/>
              <p:cNvSpPr txBox="1"/>
              <p:nvPr/>
            </p:nvSpPr>
            <p:spPr>
              <a:xfrm>
                <a:off x="2660760" y="1844640"/>
                <a:ext cx="17352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12"/>
              <p:cNvSpPr txBox="1"/>
              <p:nvPr/>
            </p:nvSpPr>
            <p:spPr>
              <a:xfrm>
                <a:off x="216000" y="1650960"/>
                <a:ext cx="234000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4"/>
              <p:cNvSpPr txBox="1"/>
              <p:nvPr/>
            </p:nvSpPr>
            <p:spPr>
              <a:xfrm>
                <a:off x="4692600" y="1685880"/>
                <a:ext cx="22780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Rectangle 17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6"/>
              <p:cNvSpPr txBox="1"/>
              <p:nvPr/>
            </p:nvSpPr>
            <p:spPr>
              <a:xfrm>
                <a:off x="0" y="3645000"/>
                <a:ext cx="2916360" cy="18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Rectangle 19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8"/>
              <p:cNvSpPr txBox="1"/>
              <p:nvPr/>
            </p:nvSpPr>
            <p:spPr>
              <a:xfrm>
                <a:off x="4788000" y="3429000"/>
                <a:ext cx="2448000" cy="21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0"/>
              <p:cNvSpPr txBox="1"/>
              <p:nvPr/>
            </p:nvSpPr>
            <p:spPr>
              <a:xfrm>
                <a:off x="7236000" y="1635120"/>
                <a:ext cx="182052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21"/>
              <p:cNvSpPr txBox="1"/>
              <p:nvPr/>
            </p:nvSpPr>
            <p:spPr>
              <a:xfrm>
                <a:off x="2916360" y="3402000"/>
                <a:ext cx="172692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2"/>
              <p:cNvSpPr txBox="1"/>
              <p:nvPr/>
            </p:nvSpPr>
            <p:spPr>
              <a:xfrm>
                <a:off x="7164360" y="3557520"/>
                <a:ext cx="1714680" cy="19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Найдите значение 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052720" y="1628640"/>
            <a:ext cx="7559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= 10000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2 + 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971640" y="1773360"/>
            <a:ext cx="7272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Century"/>
              </a:rPr>
              <a:t>Тема урока: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Century"/>
              </a:rPr>
              <a:t>"Разность квадратов"</a:t>
            </a:r>
            <a:endParaRPr b="1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403280" y="620640"/>
            <a:ext cx="6624720" cy="6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"/>
              </a:rPr>
              <a:t>Разность квадра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entury"/>
              <a:ea typeface="Century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085040" y="1988280"/>
            <a:ext cx="719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(а +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)(а –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) = а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192320" y="3933000"/>
            <a:ext cx="704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6000" spc="-1" strike="noStrike" baseline="30000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(а +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)(а –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6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2987640" y="549360"/>
            <a:ext cx="2800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МЕЧ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50920" y="141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 путайте термины </a:t>
            </a: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«разность квадратов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«квадрат разност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6360" y="2644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зность квадрато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 это формула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(а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)(а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24000" y="45212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Квадрат разно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 это формула (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а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- 2а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555920"/>
            <a:ext cx="829152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Times New Roman"/>
              </a:rPr>
              <a:t>Разность квадратов двух  чисел (выражений) равна произведению суммы этих чисел (выражений) на их разность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1600" y="1125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р  1.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Выполнить умножени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(3х – 2у)(3х + 2у).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9280" y="282888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(3х – 2у)(3х + 2у) = (3х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- 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у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9х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- 4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826920" y="988920"/>
            <a:ext cx="69850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имер  2.</a:t>
            </a:r>
            <a:br>
              <a:rPr sz="4000"/>
            </a:b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Представить двучлен  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3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 - 9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в виде произведения двучленов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11280" y="2852640"/>
            <a:ext cx="828180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м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= (4х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²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,      9 = 3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²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значит, заданный двучлен есть разность квадратов, т.е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 нему можно применить формулу 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прочитанную справа налево. Тогда 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16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– 9 = (4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= (4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+ 3)(4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4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21:17:24Z</dcterms:created>
  <dc:creator>user</dc:creator>
  <dc:description/>
  <dc:language>en-US</dc:language>
  <cp:lastModifiedBy>ZooM</cp:lastModifiedBy>
  <dcterms:modified xsi:type="dcterms:W3CDTF">2013-10-16T15:13:34Z</dcterms:modified>
  <cp:revision>10</cp:revision>
  <dc:subject/>
  <dc:title>Слайд 1</dc:title>
</cp:coreProperties>
</file>