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5.gif" ContentType="image/gif"/>
  <Override PartName="/ppt/media/type.wav" ContentType="audio/x-wav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6EB9-ED8D-4793-98BD-8510E6BB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3EE0-907E-4395-BA9A-931FBAEE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ACB-01BC-461A-819F-16CCB0F2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1343-15DF-4151-BBC6-73F2182D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5C35-740D-4D87-8872-BA8DF7B6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B49E-7A1B-4EE4-9611-B5CAEBD0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EBB7-A217-4B11-BB1E-ACE0FB9A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0217-961A-4651-972F-926BCE76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B204-35C8-4C17-A6D5-DF23D870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C84B-DE74-40BB-9ED0-3D4F2FC9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27E8-21B5-456D-98BB-B5AD2CB0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41E5-F42F-403F-A2F2-580F3CC1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D33C-68D5-45A4-9565-6829BB19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A4C7-F51C-45C5-B60C-4361539D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7E47-F724-4B1A-85E0-E6E4B034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9C19-3467-4108-A981-997CB894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BC9D-CDE7-4670-9AC0-B19166BB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6BE14-F8E4-491F-BFB1-FD306BC2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F7D2D-5896-43FD-96F4-B621F164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322D7-4898-4150-A31F-DF23D9FE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25EE0-5240-42E1-9F20-B97446EA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BD24A-D816-41E9-9415-CA3204B0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03D4-44D2-4124-AF33-2B78539D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268AE-7C6E-4227-9781-8F4B6C59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B4E74-FBA2-42EF-8E25-DEEFD0A1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AA298-9299-4422-A1DE-C922369D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00D00-A2D3-4E63-95EC-E9D3A3DE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3BD52-D8B3-4D71-8D6D-327DBE0C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6D0F0-B67F-4707-A477-00D22F1F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1FF67-6D3E-42B9-84A7-8E9C721B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B0BFC-0DAB-43BB-BEEB-91321A82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E2ED8-3C03-4564-BCAC-DA052B2B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64A87-3CF1-4DDA-8C9D-9A772424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D53C-DCA1-4896-9D4C-ABF350EC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7AC8F-2AA7-47D3-8788-0A254F61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DAD8E-F12F-4155-98E5-7B1E81A7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48852-811B-40EC-9E32-91CB058B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9F041-FFE4-4677-B310-55F97C34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2AFEC-1498-445F-88C0-F20623F9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825B9-6301-4FFF-AB26-0B7E07D1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48598-B825-4B89-8569-F5136078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B0958-9349-46D1-8EBE-28DB4C46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2476B-3F1C-4275-AB70-748A0E25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9AE272-BB5B-4FF9-B783-A8450602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18FC-BCB4-4D56-B436-4694D716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53AFCE-11ED-45E1-958B-E69F1C76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195D11-C1FF-4E5B-9F17-1A569F4A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7CF31D-A539-4AB2-85CB-1E47D76C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B68B8-C6DC-4E8D-AEED-E0E0BD99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F0CC97-D76D-452D-B69D-88A1A643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D44CED-0F41-41D7-8CC6-A1D3FFAB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0CBE07-B93E-4DC5-9599-A468488D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D35632-ECDE-4C72-9F31-41FF4EE1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E76CC4-3DB8-4A36-B37F-44E85C64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0A7F8B-E95A-4442-BFC3-D34D89C2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337-CBAB-4E9A-8B7D-84B25A46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85AFC6-95FA-4E7D-A3FF-44127878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A890D-233C-449A-8D32-A6B4A71A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C869A-E000-4783-B7CB-EF73A805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BF7ED-0A48-44A0-8B53-4F0D2DCD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B446F-D914-42B4-A4E0-614977DE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B0CB5-CF73-4E4B-858D-95B36A3C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5E812-326C-43C9-869B-DD904775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D0F2C-8C70-44C5-89AD-FD7AE5A8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5EADB-9140-41E9-9F06-31472C05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64968-CC3D-44F5-B000-CD9619CC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05BF-EABF-41F3-91B7-957309B6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09592-4B76-454F-A131-3E46307B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B8CB7-53B0-4EEE-A49A-36BE14BF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0B8D1-5E9E-4085-BA0F-5EDC06E4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29A5-95FB-4C8F-9100-825B4418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3336-6B28-401D-91AF-22F5FFA6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5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611280" y="-1087560"/>
            <a:ext cx="1228680" cy="21844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27080" y="28440"/>
            <a:ext cx="1276200" cy="2268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-30240" y="1494000"/>
            <a:ext cx="1189080" cy="1322280"/>
            <a:chOff x="-30240" y="1494000"/>
            <a:chExt cx="1189080" cy="132228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-30240" y="1494000"/>
              <a:ext cx="118908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260280" y="1622160"/>
              <a:ext cx="5968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760320" y="0"/>
            <a:ext cx="60976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67F8-D920-46EB-A280-103FC074B3EC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762120" y="0"/>
            <a:ext cx="54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5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611280" y="-1087560"/>
            <a:ext cx="1228680" cy="21844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27080" y="28440"/>
            <a:ext cx="1276200" cy="2268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-30240" y="1494000"/>
            <a:ext cx="1189080" cy="1322280"/>
            <a:chOff x="-30240" y="1494000"/>
            <a:chExt cx="1189080" cy="1322280"/>
          </a:xfrm>
        </p:grpSpPr>
        <p:pic>
          <p:nvPicPr>
            <p:cNvPr id="5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-30240" y="1494000"/>
              <a:ext cx="118908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260280" y="1622160"/>
              <a:ext cx="5968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760320" y="0"/>
            <a:ext cx="60976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762120" y="0"/>
            <a:ext cx="54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682560" y="1878120"/>
            <a:ext cx="176400" cy="298440"/>
            <a:chOff x="682560" y="1878120"/>
            <a:chExt cx="176400" cy="298440"/>
          </a:xfrm>
        </p:grpSpPr>
        <p:pic>
          <p:nvPicPr>
            <p:cNvPr id="56" name="Овал 12" descr=""/>
            <p:cNvPicPr/>
            <p:nvPr/>
          </p:nvPicPr>
          <p:blipFill>
            <a:blip r:embed="rId3"/>
            <a:stretch/>
          </p:blipFill>
          <p:spPr>
            <a:xfrm>
              <a:off x="682560" y="1878120"/>
              <a:ext cx="17640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714240" y="1925640"/>
              <a:ext cx="111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868320" y="1793880"/>
            <a:ext cx="47520" cy="8424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08E8-6225-4350-89BF-1E68773BA05C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5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611280" y="-1087560"/>
            <a:ext cx="1228680" cy="21844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27080" y="28440"/>
            <a:ext cx="1276200" cy="2268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-30240" y="1494000"/>
            <a:ext cx="1189080" cy="1322280"/>
            <a:chOff x="-30240" y="1494000"/>
            <a:chExt cx="1189080" cy="1322280"/>
          </a:xfrm>
        </p:grpSpPr>
        <p:pic>
          <p:nvPicPr>
            <p:cNvPr id="10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-30240" y="1494000"/>
              <a:ext cx="118908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260280" y="1622160"/>
              <a:ext cx="5968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760320" y="0"/>
            <a:ext cx="60976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762120" y="0"/>
            <a:ext cx="54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1712880" y="0"/>
            <a:ext cx="51436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1714680" y="0"/>
            <a:ext cx="568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1620720" y="3749760"/>
            <a:ext cx="177840" cy="298440"/>
            <a:chOff x="1620720" y="3749760"/>
            <a:chExt cx="177840" cy="298440"/>
          </a:xfrm>
        </p:grpSpPr>
        <p:pic>
          <p:nvPicPr>
            <p:cNvPr id="110" name="Овал 15" descr=""/>
            <p:cNvPicPr/>
            <p:nvPr/>
          </p:nvPicPr>
          <p:blipFill>
            <a:blip r:embed="rId3"/>
            <a:stretch/>
          </p:blipFill>
          <p:spPr>
            <a:xfrm>
              <a:off x="1620720" y="3749760"/>
              <a:ext cx="1778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652760" y="3794040"/>
              <a:ext cx="110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1806480" y="3660840"/>
            <a:ext cx="47880" cy="8568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FAC5-6837-4D62-9887-1F5CEC2FFA47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5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611280" y="-1087560"/>
            <a:ext cx="1228680" cy="21844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27080" y="28440"/>
            <a:ext cx="1276200" cy="2268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-30240" y="1494000"/>
            <a:ext cx="1189080" cy="1322280"/>
            <a:chOff x="-30240" y="1494000"/>
            <a:chExt cx="1189080" cy="1322280"/>
          </a:xfrm>
        </p:grpSpPr>
        <p:pic>
          <p:nvPicPr>
            <p:cNvPr id="15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-30240" y="1494000"/>
              <a:ext cx="118908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260280" y="1622160"/>
              <a:ext cx="5968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760320" y="0"/>
            <a:ext cx="60976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762120" y="0"/>
            <a:ext cx="54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Прямоугольник 12"/>
          <p:cNvGrpSpPr/>
          <p:nvPr/>
        </p:nvGrpSpPr>
        <p:grpSpPr>
          <a:xfrm>
            <a:off x="457200" y="1322280"/>
            <a:ext cx="3657600" cy="6327720"/>
            <a:chOff x="457200" y="1322280"/>
            <a:chExt cx="3657600" cy="6327720"/>
          </a:xfrm>
        </p:grpSpPr>
        <p:pic>
          <p:nvPicPr>
            <p:cNvPr id="162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457200" y="1322280"/>
              <a:ext cx="3657600" cy="632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71680" y="1422360"/>
              <a:ext cx="3429000" cy="60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Блок-схема: процесс 13"/>
          <p:cNvSpPr/>
          <p:nvPr/>
        </p:nvSpPr>
        <p:spPr>
          <a:xfrm rot="19468200">
            <a:off x="297000" y="1272960"/>
            <a:ext cx="514080" cy="2714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Блок-схема: процесс 15"/>
          <p:cNvSpPr/>
          <p:nvPr/>
        </p:nvSpPr>
        <p:spPr>
          <a:xfrm flipH="1" rot="2103600">
            <a:off x="3752280" y="1249200"/>
            <a:ext cx="486720" cy="27180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F880-68AA-42DF-8256-94B66C1363FB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0" y="0"/>
            <a:ext cx="6870600" cy="9143640"/>
            <a:chOff x="0" y="0"/>
            <a:chExt cx="6870600" cy="9143640"/>
          </a:xfrm>
        </p:grpSpPr>
        <p:sp>
          <p:nvSpPr>
            <p:cNvPr id="208" name=""/>
            <p:cNvSpPr/>
            <p:nvPr/>
          </p:nvSpPr>
          <p:spPr>
            <a:xfrm>
              <a:off x="6230160" y="1800"/>
              <a:ext cx="628560" cy="914184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57480" y="0"/>
              <a:ext cx="22824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7400" y="0"/>
              <a:ext cx="5140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85960" y="0"/>
              <a:ext cx="285840" cy="9143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00200" y="0"/>
              <a:ext cx="45684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1320" y="0"/>
              <a:ext cx="68580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2720" y="0"/>
              <a:ext cx="22860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0"/>
              <a:ext cx="34272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71840" y="0"/>
              <a:ext cx="28548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14880" y="0"/>
              <a:ext cx="6285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85720" y="0"/>
              <a:ext cx="171360" cy="9143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29400" y="0"/>
              <a:ext cx="299880" cy="9143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44000" y="0"/>
              <a:ext cx="1713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86760" y="0"/>
              <a:ext cx="799920" cy="9143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72400" y="0"/>
              <a:ext cx="7426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72360" y="0"/>
              <a:ext cx="6285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01280" y="0"/>
              <a:ext cx="2854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91040" y="0"/>
              <a:ext cx="18072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17000" y="0"/>
              <a:ext cx="3999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80" y="8201880"/>
              <a:ext cx="6858720" cy="94140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8184600"/>
              <a:ext cx="6870600" cy="3682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13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4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8D48-4788-49A2-97AE-32580B0331E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dt" idx="15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0" y="0"/>
            <a:ext cx="6870600" cy="9143640"/>
            <a:chOff x="0" y="0"/>
            <a:chExt cx="6870600" cy="9143640"/>
          </a:xfrm>
        </p:grpSpPr>
        <p:sp>
          <p:nvSpPr>
            <p:cNvPr id="271" name=""/>
            <p:cNvSpPr/>
            <p:nvPr/>
          </p:nvSpPr>
          <p:spPr>
            <a:xfrm>
              <a:off x="6230160" y="1800"/>
              <a:ext cx="628560" cy="914184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57480" y="0"/>
              <a:ext cx="22824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57400" y="0"/>
              <a:ext cx="5140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85960" y="0"/>
              <a:ext cx="285840" cy="9143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00200" y="0"/>
              <a:ext cx="45684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1320" y="0"/>
              <a:ext cx="68580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720" y="0"/>
              <a:ext cx="22860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0" y="0"/>
              <a:ext cx="34272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71840" y="0"/>
              <a:ext cx="28548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14880" y="0"/>
              <a:ext cx="6285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85720" y="0"/>
              <a:ext cx="171360" cy="9143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29400" y="0"/>
              <a:ext cx="299880" cy="9143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44000" y="0"/>
              <a:ext cx="1713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86760" y="0"/>
              <a:ext cx="799920" cy="9143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72400" y="0"/>
              <a:ext cx="7426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72360" y="0"/>
              <a:ext cx="6285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01280" y="0"/>
              <a:ext cx="2854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91040" y="0"/>
              <a:ext cx="18072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17000" y="0"/>
              <a:ext cx="3999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80" y="8201880"/>
              <a:ext cx="6858720" cy="94140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8184600"/>
              <a:ext cx="6870600" cy="3682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6"/>
          </p:nvPr>
        </p:nvSpPr>
        <p:spPr>
          <a:xfrm>
            <a:off x="342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ftr" idx="17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8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C455-74FE-4A44-B8F1-A2C8AE86611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4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3"/>
          <p:cNvSpPr/>
          <p:nvPr/>
        </p:nvSpPr>
        <p:spPr>
          <a:xfrm flipV="1">
            <a:off x="6308640" y="9144000"/>
            <a:ext cx="549360" cy="69840"/>
          </a:xfrm>
          <a:prstGeom prst="rect">
            <a:avLst/>
          </a:prstGeom>
          <a:solidFill>
            <a:srgbClr val="fdd7ba"/>
          </a:solidFill>
          <a:ln w="2556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Рисунок 5" descr="книжка.gif"/>
          <p:cNvPicPr/>
          <p:nvPr/>
        </p:nvPicPr>
        <p:blipFill>
          <a:blip r:embed="rId1"/>
          <a:stretch/>
        </p:blipFill>
        <p:spPr>
          <a:xfrm>
            <a:off x="1628640" y="4356000"/>
            <a:ext cx="4214880" cy="22780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84280" y="6732720"/>
            <a:ext cx="46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оретц Анна Василье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У «СОШ №17», г. Краснотурьинс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ердлов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60280" y="250920"/>
            <a:ext cx="633744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отправлемс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гост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 детским писателя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Рисунок 3" descr="обложка желудь низ.png"/>
          <p:cNvPicPr/>
          <p:nvPr/>
        </p:nvPicPr>
        <p:blipFill>
          <a:blip r:embed="rId1"/>
          <a:stretch/>
        </p:blipFill>
        <p:spPr>
          <a:xfrm>
            <a:off x="3619440" y="0"/>
            <a:ext cx="3238560" cy="350532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7" descr="сказочное окно.png"/>
          <p:cNvPicPr/>
          <p:nvPr/>
        </p:nvPicPr>
        <p:blipFill>
          <a:blip r:embed="rId2"/>
          <a:stretch/>
        </p:blipFill>
        <p:spPr>
          <a:xfrm>
            <a:off x="2000160" y="3929040"/>
            <a:ext cx="4071960" cy="48499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343880" y="1901880"/>
            <a:ext cx="247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ус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ро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каз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3" descr="обложка желудь низ.png"/>
          <p:cNvPicPr/>
          <p:nvPr/>
        </p:nvPicPr>
        <p:blipFill>
          <a:blip r:embed="rId1"/>
          <a:stretch/>
        </p:blipFill>
        <p:spPr>
          <a:xfrm>
            <a:off x="3619440" y="0"/>
            <a:ext cx="3238560" cy="3505320"/>
          </a:xfrm>
          <a:prstGeom prst="rect">
            <a:avLst/>
          </a:prstGeom>
          <a:ln w="0">
            <a:noFill/>
          </a:ln>
        </p:spPr>
      </p:pic>
      <p:sp>
        <p:nvSpPr>
          <p:cNvPr id="377" name="Загнутый угол 11"/>
          <p:cNvSpPr/>
          <p:nvPr/>
        </p:nvSpPr>
        <p:spPr>
          <a:xfrm rot="21231000">
            <a:off x="1247760" y="1711440"/>
            <a:ext cx="4214880" cy="4857480"/>
          </a:xfrm>
          <a:prstGeom prst="foldedCorner">
            <a:avLst>
              <a:gd name="adj" fmla="val 36944"/>
            </a:avLst>
          </a:prstGeom>
          <a:solidFill>
            <a:srgbClr val="ffffff"/>
          </a:solidFill>
          <a:ln w="76320">
            <a:solidFill>
              <a:srgbClr val="1e1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РГ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ДА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Рисунок 13" descr="Винни-пух.jpg"/>
          <p:cNvPicPr/>
          <p:nvPr/>
        </p:nvPicPr>
        <p:blipFill>
          <a:blip r:embed="rId2"/>
          <a:srcRect l="63753" t="18952" r="4375" b="13358"/>
          <a:stretch/>
        </p:blipFill>
        <p:spPr>
          <a:xfrm>
            <a:off x="4786200" y="6286680"/>
            <a:ext cx="1519200" cy="2233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Рисунок 3" descr="обложка желудь низ.png"/>
          <p:cNvPicPr/>
          <p:nvPr/>
        </p:nvPicPr>
        <p:blipFill>
          <a:blip r:embed="rId1"/>
          <a:stretch/>
        </p:blipFill>
        <p:spPr>
          <a:xfrm>
            <a:off x="3619440" y="0"/>
            <a:ext cx="3238560" cy="3505320"/>
          </a:xfrm>
          <a:prstGeom prst="rect">
            <a:avLst/>
          </a:prstGeom>
          <a:ln w="0">
            <a:noFill/>
          </a:ln>
        </p:spPr>
      </p:pic>
      <p:sp>
        <p:nvSpPr>
          <p:cNvPr id="380" name="Загнутый угол 11"/>
          <p:cNvSpPr/>
          <p:nvPr/>
        </p:nvSpPr>
        <p:spPr>
          <a:xfrm rot="21231000">
            <a:off x="1247760" y="1711440"/>
            <a:ext cx="4214880" cy="4857480"/>
          </a:xfrm>
          <a:prstGeom prst="foldedCorner">
            <a:avLst>
              <a:gd name="adj" fmla="val 36944"/>
            </a:avLst>
          </a:prstGeom>
          <a:solidFill>
            <a:srgbClr val="ffffff"/>
          </a:solidFill>
          <a:ln w="76320">
            <a:solidFill>
              <a:srgbClr val="1e1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РГ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ДА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Рисунок 13" descr="Винни-пух.jpg"/>
          <p:cNvPicPr/>
          <p:nvPr/>
        </p:nvPicPr>
        <p:blipFill>
          <a:blip r:embed="rId2"/>
          <a:srcRect l="63753" t="18952" r="4375" b="13358"/>
          <a:stretch/>
        </p:blipFill>
        <p:spPr>
          <a:xfrm>
            <a:off x="4786200" y="6286680"/>
            <a:ext cx="1519200" cy="2233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Рисунок 3" descr="обложка желудь низ.png"/>
          <p:cNvPicPr/>
          <p:nvPr/>
        </p:nvPicPr>
        <p:blipFill>
          <a:blip r:embed="rId1"/>
          <a:stretch/>
        </p:blipFill>
        <p:spPr>
          <a:xfrm>
            <a:off x="3619440" y="0"/>
            <a:ext cx="3238560" cy="350532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4" descr="Айболит.jpg"/>
          <p:cNvPicPr/>
          <p:nvPr/>
        </p:nvPicPr>
        <p:blipFill>
          <a:blip r:embed="rId2"/>
          <a:stretch/>
        </p:blipFill>
        <p:spPr>
          <a:xfrm>
            <a:off x="530280" y="3249720"/>
            <a:ext cx="2365200" cy="312732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6" descr="буратино.jpg"/>
          <p:cNvPicPr/>
          <p:nvPr/>
        </p:nvPicPr>
        <p:blipFill>
          <a:blip r:embed="rId3"/>
          <a:stretch/>
        </p:blipFill>
        <p:spPr>
          <a:xfrm>
            <a:off x="4602240" y="5675400"/>
            <a:ext cx="2365200" cy="312732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8" descr="Винни-Пух и все, все, все....jpg"/>
          <p:cNvPicPr/>
          <p:nvPr/>
        </p:nvPicPr>
        <p:blipFill>
          <a:blip r:embed="rId4"/>
          <a:stretch/>
        </p:blipFill>
        <p:spPr>
          <a:xfrm>
            <a:off x="603360" y="6791400"/>
            <a:ext cx="3127320" cy="237636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9" descr="двое из ларца.....jpg"/>
          <p:cNvPicPr/>
          <p:nvPr/>
        </p:nvPicPr>
        <p:blipFill>
          <a:blip r:embed="rId5"/>
          <a:stretch/>
        </p:blipFill>
        <p:spPr>
          <a:xfrm>
            <a:off x="2597040" y="3889440"/>
            <a:ext cx="2371680" cy="31273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33000" y="1692360"/>
            <a:ext cx="37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Прямоугольник 2" descr=""/>
          <p:cNvPicPr/>
          <p:nvPr/>
        </p:nvPicPr>
        <p:blipFill>
          <a:blip r:embed="rId1"/>
          <a:stretch/>
        </p:blipFill>
        <p:spPr>
          <a:xfrm>
            <a:off x="836640" y="3608280"/>
            <a:ext cx="114120" cy="470880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3" descr="обложка желудь низ.png"/>
          <p:cNvPicPr/>
          <p:nvPr/>
        </p:nvPicPr>
        <p:blipFill>
          <a:blip r:embed="rId2"/>
          <a:stretch/>
        </p:blipFill>
        <p:spPr>
          <a:xfrm>
            <a:off x="785880" y="5638680"/>
            <a:ext cx="3238560" cy="350532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4" descr="чуковский К.И..jpg"/>
          <p:cNvPicPr/>
          <p:nvPr/>
        </p:nvPicPr>
        <p:blipFill>
          <a:blip r:embed="rId3"/>
          <a:stretch/>
        </p:blipFill>
        <p:spPr>
          <a:xfrm>
            <a:off x="692280" y="1042920"/>
            <a:ext cx="2133360" cy="238932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5" descr="Андерсен.jpg"/>
          <p:cNvPicPr/>
          <p:nvPr/>
        </p:nvPicPr>
        <p:blipFill>
          <a:blip r:embed="rId4"/>
          <a:stretch/>
        </p:blipFill>
        <p:spPr>
          <a:xfrm>
            <a:off x="2349360" y="3203640"/>
            <a:ext cx="2213280" cy="268128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6" descr="Л.Н.Толстой.jpg"/>
          <p:cNvPicPr/>
          <p:nvPr/>
        </p:nvPicPr>
        <p:blipFill>
          <a:blip r:embed="rId5"/>
          <a:stretch/>
        </p:blipFill>
        <p:spPr>
          <a:xfrm>
            <a:off x="4365720" y="5219640"/>
            <a:ext cx="2262240" cy="243864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8" descr="С.Я.Маршак 2.jpg"/>
          <p:cNvPicPr/>
          <p:nvPr/>
        </p:nvPicPr>
        <p:blipFill>
          <a:blip r:embed="rId6"/>
          <a:stretch/>
        </p:blipFill>
        <p:spPr>
          <a:xfrm>
            <a:off x="4365720" y="755640"/>
            <a:ext cx="2101680" cy="25779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Рисунок 7" descr="обложка желудь низ.png"/>
          <p:cNvPicPr/>
          <p:nvPr/>
        </p:nvPicPr>
        <p:blipFill>
          <a:blip r:embed="rId1"/>
          <a:stretch/>
        </p:blipFill>
        <p:spPr>
          <a:xfrm>
            <a:off x="4010040" y="395280"/>
            <a:ext cx="2847960" cy="308304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9" descr="золотая рыбка.jpg"/>
          <p:cNvPicPr/>
          <p:nvPr/>
        </p:nvPicPr>
        <p:blipFill>
          <a:blip r:embed="rId2"/>
          <a:stretch/>
        </p:blipFill>
        <p:spPr>
          <a:xfrm>
            <a:off x="836640" y="4041720"/>
            <a:ext cx="3767040" cy="510228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5" descr="Пушкин А.С. 2.jpg"/>
          <p:cNvPicPr/>
          <p:nvPr/>
        </p:nvPicPr>
        <p:blipFill>
          <a:blip r:embed="rId3"/>
          <a:stretch/>
        </p:blipFill>
        <p:spPr>
          <a:xfrm>
            <a:off x="811080" y="109440"/>
            <a:ext cx="2730600" cy="31514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701360" y="3197160"/>
            <a:ext cx="29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ушкин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Рисунок 2" descr="обложка желудь низ.png"/>
          <p:cNvPicPr/>
          <p:nvPr/>
        </p:nvPicPr>
        <p:blipFill>
          <a:blip r:embed="rId1"/>
          <a:stretch/>
        </p:blipFill>
        <p:spPr>
          <a:xfrm>
            <a:off x="3429000" y="0"/>
            <a:ext cx="3238560" cy="350532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4" descr="попугай кеша.jpg"/>
          <p:cNvPicPr/>
          <p:nvPr/>
        </p:nvPicPr>
        <p:blipFill>
          <a:blip r:embed="rId2"/>
          <a:stretch/>
        </p:blipFill>
        <p:spPr>
          <a:xfrm>
            <a:off x="652320" y="5413320"/>
            <a:ext cx="1908360" cy="146844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5" descr="Айболит 2.jpg"/>
          <p:cNvPicPr/>
          <p:nvPr/>
        </p:nvPicPr>
        <p:blipFill>
          <a:blip r:embed="rId3"/>
          <a:stretch/>
        </p:blipFill>
        <p:spPr>
          <a:xfrm>
            <a:off x="4322880" y="5273640"/>
            <a:ext cx="1949400" cy="163980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7" descr="Винни-Пух и все, все, все....jpg"/>
          <p:cNvPicPr/>
          <p:nvPr/>
        </p:nvPicPr>
        <p:blipFill>
          <a:blip r:embed="rId4"/>
          <a:stretch/>
        </p:blipFill>
        <p:spPr>
          <a:xfrm>
            <a:off x="2487600" y="4486320"/>
            <a:ext cx="1951200" cy="182232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9" descr="Три поросенка.jpg"/>
          <p:cNvPicPr/>
          <p:nvPr/>
        </p:nvPicPr>
        <p:blipFill>
          <a:blip r:embed="rId5"/>
          <a:stretch/>
        </p:blipFill>
        <p:spPr>
          <a:xfrm>
            <a:off x="1852560" y="7272360"/>
            <a:ext cx="3371760" cy="167652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12" descr="дюймовочка2.jpg"/>
          <p:cNvPicPr/>
          <p:nvPr/>
        </p:nvPicPr>
        <p:blipFill>
          <a:blip r:embed="rId6"/>
          <a:stretch/>
        </p:blipFill>
        <p:spPr>
          <a:xfrm>
            <a:off x="738360" y="774720"/>
            <a:ext cx="2266920" cy="198108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13" descr="двое из ларца.....jpg"/>
          <p:cNvPicPr/>
          <p:nvPr/>
        </p:nvPicPr>
        <p:blipFill>
          <a:blip r:embed="rId7"/>
          <a:stretch/>
        </p:blipFill>
        <p:spPr>
          <a:xfrm>
            <a:off x="3090960" y="1274760"/>
            <a:ext cx="2133360" cy="22496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054080" y="3270240"/>
            <a:ext cx="28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ртрет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2" descr="обложка желудь низ.png"/>
          <p:cNvPicPr/>
          <p:nvPr/>
        </p:nvPicPr>
        <p:blipFill>
          <a:blip r:embed="rId1"/>
          <a:stretch/>
        </p:blipFill>
        <p:spPr>
          <a:xfrm>
            <a:off x="3429000" y="0"/>
            <a:ext cx="3238560" cy="350532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5" descr="Белоснежка и семь гномов.jpg"/>
          <p:cNvPicPr/>
          <p:nvPr/>
        </p:nvPicPr>
        <p:blipFill>
          <a:blip r:embed="rId2"/>
          <a:stretch/>
        </p:blipFill>
        <p:spPr>
          <a:xfrm>
            <a:off x="4595760" y="3975120"/>
            <a:ext cx="2043000" cy="285264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7" descr="Дюймовочка.jpg"/>
          <p:cNvPicPr/>
          <p:nvPr/>
        </p:nvPicPr>
        <p:blipFill>
          <a:blip r:embed="rId3"/>
          <a:stretch/>
        </p:blipFill>
        <p:spPr>
          <a:xfrm>
            <a:off x="811080" y="4260960"/>
            <a:ext cx="2853000" cy="20430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8" descr="Маугли 2.jpg"/>
          <p:cNvPicPr/>
          <p:nvPr/>
        </p:nvPicPr>
        <p:blipFill>
          <a:blip r:embed="rId4"/>
          <a:stretch/>
        </p:blipFill>
        <p:spPr>
          <a:xfrm>
            <a:off x="1743120" y="6761160"/>
            <a:ext cx="2847960" cy="20480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720" y="2268360"/>
            <a:ext cx="58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 зарубежных писа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2" descr="обложка желудь низ.png"/>
          <p:cNvPicPr/>
          <p:nvPr/>
        </p:nvPicPr>
        <p:blipFill>
          <a:blip r:embed="rId1"/>
          <a:stretch/>
        </p:blipFill>
        <p:spPr>
          <a:xfrm>
            <a:off x="3429000" y="0"/>
            <a:ext cx="3238560" cy="35053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9"/>
          <p:cNvSpPr/>
          <p:nvPr/>
        </p:nvSpPr>
        <p:spPr>
          <a:xfrm>
            <a:off x="785880" y="4071960"/>
            <a:ext cx="607212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ерете верный вариант отв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вали черепаху, которая дала Буратино ключи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рти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ти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па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Ink 2"/>
          <p:cNvSpPr/>
          <p:nvPr/>
        </p:nvSpPr>
        <p:spPr>
          <a:xfrm>
            <a:off x="7704000" y="7545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1402" y="20961"/>
                </a:moveTo>
                <a:lnTo>
                  <a:pt x="21402" y="20961"/>
                </a:lnTo>
              </a:path>
              <a:path w="1" h="1">
                <a:moveTo>
                  <a:pt x="21402" y="20961"/>
                </a:moveTo>
                <a:lnTo>
                  <a:pt x="21402" y="2096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Рисунок 2" descr="обложка желудь низ.png"/>
          <p:cNvPicPr/>
          <p:nvPr/>
        </p:nvPicPr>
        <p:blipFill>
          <a:blip r:embed="rId1"/>
          <a:stretch/>
        </p:blipFill>
        <p:spPr>
          <a:xfrm>
            <a:off x="3429000" y="0"/>
            <a:ext cx="3238560" cy="3505320"/>
          </a:xfrm>
          <a:prstGeom prst="rect">
            <a:avLst/>
          </a:prstGeom>
          <a:ln w="0">
            <a:noFill/>
          </a:ln>
        </p:spPr>
      </p:pic>
      <p:sp>
        <p:nvSpPr>
          <p:cNvPr id="363" name="TextBox 9"/>
          <p:cNvSpPr/>
          <p:nvPr/>
        </p:nvSpPr>
        <p:spPr>
          <a:xfrm>
            <a:off x="785880" y="4071960"/>
            <a:ext cx="607212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ерете верный вариант отв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вали черепаху, которая дала Буратино ключи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рти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ти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па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Ink 2"/>
          <p:cNvSpPr/>
          <p:nvPr/>
        </p:nvSpPr>
        <p:spPr>
          <a:xfrm>
            <a:off x="7704000" y="7545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1402" y="20961"/>
                </a:moveTo>
                <a:lnTo>
                  <a:pt x="21402" y="20961"/>
                </a:lnTo>
              </a:path>
              <a:path w="1" h="1">
                <a:moveTo>
                  <a:pt x="21402" y="20961"/>
                </a:moveTo>
                <a:lnTo>
                  <a:pt x="21402" y="2096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Ink 3"/>
          <p:cNvSpPr/>
          <p:nvPr/>
        </p:nvSpPr>
        <p:spPr>
          <a:xfrm>
            <a:off x="1052640" y="7236000"/>
            <a:ext cx="2730240" cy="1440"/>
          </a:xfrm>
          <a:custGeom>
            <a:avLst/>
            <a:gdLst/>
            <a:ahLst/>
            <a:rect l="l" t="t" r="r" b="b"/>
            <a:pathLst>
              <a:path w="7586" h="1">
                <a:moveTo>
                  <a:pt x="6350" y="20020"/>
                </a:moveTo>
                <a:cubicBezTo>
                  <a:pt x="8878" y="20020"/>
                  <a:pt x="11407" y="20020"/>
                  <a:pt x="13935" y="20020"/>
                </a:cubicBezTo>
              </a:path>
            </a:pathLst>
          </a:custGeom>
          <a:noFill/>
          <a:ln cap="sq" w="127080">
            <a:solidFill>
              <a:srgbClr val="c0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Рисунок 2" descr="обложка желудь низ.png"/>
          <p:cNvPicPr/>
          <p:nvPr/>
        </p:nvPicPr>
        <p:blipFill>
          <a:blip r:embed="rId1"/>
          <a:stretch/>
        </p:blipFill>
        <p:spPr>
          <a:xfrm>
            <a:off x="3619440" y="0"/>
            <a:ext cx="3238560" cy="3505320"/>
          </a:xfrm>
          <a:prstGeom prst="rect">
            <a:avLst/>
          </a:prstGeom>
          <a:ln w="0">
            <a:noFill/>
          </a:ln>
        </p:spPr>
      </p:pic>
      <p:pic>
        <p:nvPicPr>
          <p:cNvPr id="367" name="Таблица 7" descr=""/>
          <p:cNvPicPr/>
          <p:nvPr/>
        </p:nvPicPr>
        <p:blipFill>
          <a:blip r:embed="rId2"/>
          <a:stretch/>
        </p:blipFill>
        <p:spPr>
          <a:xfrm>
            <a:off x="639720" y="3713040"/>
            <a:ext cx="6291360" cy="3930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68" name="Рисунок 33" descr="книжка.gif"/>
          <p:cNvPicPr/>
          <p:nvPr/>
        </p:nvPicPr>
        <p:blipFill>
          <a:blip r:embed="rId3"/>
          <a:stretch/>
        </p:blipFill>
        <p:spPr>
          <a:xfrm>
            <a:off x="4000680" y="59292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619200" y="16192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 русских пис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Таблица 2" descr=""/>
          <p:cNvPicPr/>
          <p:nvPr/>
        </p:nvPicPr>
        <p:blipFill>
          <a:blip r:embed="rId1"/>
          <a:stretch/>
        </p:blipFill>
        <p:spPr>
          <a:xfrm>
            <a:off x="712800" y="3713040"/>
            <a:ext cx="6218280" cy="379116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3" descr="обложка желудь низ.png"/>
          <p:cNvPicPr/>
          <p:nvPr/>
        </p:nvPicPr>
        <p:blipFill>
          <a:blip r:embed="rId2"/>
          <a:stretch/>
        </p:blipFill>
        <p:spPr>
          <a:xfrm>
            <a:off x="3619440" y="0"/>
            <a:ext cx="3238560" cy="350532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5" descr="книжка.gif"/>
          <p:cNvPicPr/>
          <p:nvPr/>
        </p:nvPicPr>
        <p:blipFill>
          <a:blip r:embed="rId3"/>
          <a:stretch/>
        </p:blipFill>
        <p:spPr>
          <a:xfrm>
            <a:off x="4000680" y="59292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ОРЕТЦ</dc:creator>
  <dc:description/>
  <dc:language>en-US</dc:language>
  <cp:lastModifiedBy>Admin</cp:lastModifiedBy>
  <dcterms:modified xsi:type="dcterms:W3CDTF">2011-09-23T17:25:21Z</dcterms:modified>
  <cp:revision>26</cp:revision>
  <dc:subject/>
  <dc:title>Мы идем в гости к детским писателям</dc:title>
</cp:coreProperties>
</file>