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type.wav" ContentType="audio/x-wav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DBB-2178-4885-8DB0-1C4E3802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ADE-9961-4F28-9556-6C646FFC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D80-F547-4148-8E20-D38C921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B57-2806-4554-9EAF-91E90E01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8FD7-E534-4BE6-8D7C-6E9DC2F3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DB80-F88E-47C7-AD93-CC79B9E8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93BB-0B97-454F-8B11-AA2675E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C9D6-D3F1-44C6-AEBC-BBA6897F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CFF-6939-4E5D-98EB-4F6D305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C42-FB8A-4430-A72B-256EC56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5826-E8C7-418A-8239-13E37FB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BA6-3383-40E9-9597-781292E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631-3D9C-4A2E-92A3-1FBE9BAA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CEDC-738B-4D52-A92F-3D584BE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6F6C-999A-4B7D-ABC8-EAE9894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45E3-F9A5-4099-98C9-B315D609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F7CB-12AB-4C7D-B3DC-3D42CB7D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55ED-5409-4E91-A3B3-15BAFEAA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8A26-ADD0-4126-83F6-E7BE8556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9B69-F70E-46A6-AF40-1F3E712E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A48C-2C90-46F8-9CEA-A953A825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BBC6-048C-464C-91BA-F6E0464D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36F-C6A9-46B1-827E-8D938FBC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925F-1924-4A1F-BA3C-50711D1A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EA1C-BA25-40E0-8DC9-F00A65F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A959-A311-4D12-A09D-1D997DC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731E-1BF4-436C-9D3B-00CBB84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A19B-5DFA-4FE2-A97C-6DFFB1F7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DAC3-D057-4DC2-AAC0-8E3A563C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47D8-A697-476C-920D-9CF8E687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EEA7-D535-4893-942B-7C89EFA3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B301-F1BE-4AB2-BA48-8E832EC5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F2A7-7465-474D-96EF-F20FC45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4EB-4C0F-4752-BAB1-1E8134B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1095-6E4E-440A-99B7-5059AE3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06F6-F45F-4A9E-800A-7D353858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4070-5E6E-4A86-BD53-00DCB254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B57C-EB6C-42E8-A644-BC95224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A16D-F674-4F06-BD27-3D724B5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3B0C-EEBE-4C61-887F-1AA12EDF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E8EA-8E6A-4D7A-B759-FB59BE77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53A0-59D7-4D0D-A50B-6838E640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F675-5421-4CE0-B701-B2A6E32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70F34-D724-426C-9714-0614C7C6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8EC-5157-44F6-B709-D366DB3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14857-DAC9-4574-B277-47B2E57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28C7E-A714-496E-B025-69372E79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1FB4E-95FC-4DB5-8A4D-883305AE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9BD4A-19F9-4225-93C4-0745296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926C3-5E66-4742-83E5-01F5DDCE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CF6FE-F681-4565-8038-6193F221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ACA05-D042-40C6-8E86-FC63F34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A9C29-36AC-4FE7-A972-AA5EEF4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99CFB-476D-4FAB-A896-42735EFD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6862D-91B6-451B-B60E-707D73DD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C06-255D-4CA0-B953-5AB51CB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3ED84-646B-4908-B410-0DC9C49A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1DD2-9308-4E0E-A189-8EBDF2A4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07065-02B0-42ED-AF7C-F1AF02B1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9CBB-80D2-47EF-A193-003C531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1BE7-0457-422E-A35D-CCC0163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611E-81A3-4E74-A2BC-53FF362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F56D0-C062-4AF0-951C-4B9255C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5296E-4388-4E0C-9B7F-5254D34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0F21-429B-42A2-A5D9-C8BB842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8EE4-6CAE-4C47-A77E-9B403B0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7CD-A211-4D4E-98B9-2B7C8C0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C2CC9-B110-489A-AAC0-C82A993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1B485-4274-44C3-85E1-12578C1C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E2F0-F823-448C-9A46-5D3881B9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394-91C0-4574-9051-121EF87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D68-2786-4027-A51B-CC9FAFE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8FD-BA60-4D38-8657-06ABE34166F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682560" y="1878120"/>
            <a:ext cx="176400" cy="298440"/>
            <a:chOff x="682560" y="1878120"/>
            <a:chExt cx="176400" cy="29844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682560" y="1878120"/>
              <a:ext cx="1764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4240" y="192564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868320" y="1793880"/>
            <a:ext cx="47520" cy="842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1330-0152-4D7D-8A1A-8A94D9C2070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712880" y="0"/>
            <a:ext cx="5143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1714680" y="0"/>
            <a:ext cx="56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1620720" y="3749760"/>
            <a:ext cx="177840" cy="298440"/>
            <a:chOff x="1620720" y="3749760"/>
            <a:chExt cx="177840" cy="29844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1620720" y="3749760"/>
              <a:ext cx="177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652760" y="3794040"/>
              <a:ext cx="11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1806480" y="3660840"/>
            <a:ext cx="47880" cy="856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943-44D8-4A25-ADBB-0D72409D4B2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Прямоугольник 12"/>
          <p:cNvGrpSpPr/>
          <p:nvPr/>
        </p:nvGrpSpPr>
        <p:grpSpPr>
          <a:xfrm>
            <a:off x="457200" y="1322280"/>
            <a:ext cx="3657600" cy="6327720"/>
            <a:chOff x="457200" y="1322280"/>
            <a:chExt cx="3657600" cy="6327720"/>
          </a:xfrm>
        </p:grpSpPr>
        <p:pic>
          <p:nvPicPr>
            <p:cNvPr id="16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57200" y="1322280"/>
              <a:ext cx="3657600" cy="63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680" y="1422360"/>
              <a:ext cx="3429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Блок-схема: процесс 13"/>
          <p:cNvSpPr/>
          <p:nvPr/>
        </p:nvSpPr>
        <p:spPr>
          <a:xfrm rot="19468200">
            <a:off x="297000" y="1272960"/>
            <a:ext cx="514080" cy="271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процесс 15"/>
          <p:cNvSpPr/>
          <p:nvPr/>
        </p:nvSpPr>
        <p:spPr>
          <a:xfrm flipH="1" rot="2103600">
            <a:off x="3752280" y="1249200"/>
            <a:ext cx="486720" cy="271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1E3-8414-4904-B811-72481362C10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208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3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4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DE6-E853-4A48-A19F-FCC6BFAAB7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5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271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15F-2090-4B86-9ED0-6929555AC1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3"/>
          <p:cNvSpPr/>
          <p:nvPr/>
        </p:nvSpPr>
        <p:spPr>
          <a:xfrm flipV="1">
            <a:off x="6308640" y="9144000"/>
            <a:ext cx="549360" cy="69840"/>
          </a:xfrm>
          <a:prstGeom prst="rect">
            <a:avLst/>
          </a:prstGeom>
          <a:solidFill>
            <a:srgbClr val="fdd7ba"/>
          </a:solidFill>
          <a:ln w="2556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5" descr="книжка.gif"/>
          <p:cNvPicPr/>
          <p:nvPr/>
        </p:nvPicPr>
        <p:blipFill>
          <a:blip r:embed="rId1"/>
          <a:stretch/>
        </p:blipFill>
        <p:spPr>
          <a:xfrm>
            <a:off x="1628640" y="4356000"/>
            <a:ext cx="4214880" cy="2278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84280" y="673272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ретц Анна Васи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У «СОШ №17», г. Краснотурьинс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рдлов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60280" y="250920"/>
            <a:ext cx="6337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отправлемс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ост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детским писател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сказочное окно.png"/>
          <p:cNvPicPr/>
          <p:nvPr/>
        </p:nvPicPr>
        <p:blipFill>
          <a:blip r:embed="rId2"/>
          <a:stretch/>
        </p:blipFill>
        <p:spPr>
          <a:xfrm>
            <a:off x="2000160" y="3929040"/>
            <a:ext cx="4071960" cy="4849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343880" y="1901880"/>
            <a:ext cx="247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ус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77" name="Загнутый угол 11"/>
          <p:cNvSpPr/>
          <p:nvPr/>
        </p:nvSpPr>
        <p:spPr>
          <a:xfrm rot="21231000">
            <a:off x="1247760" y="1711440"/>
            <a:ext cx="4214880" cy="4857480"/>
          </a:xfrm>
          <a:prstGeom prst="foldedCorner">
            <a:avLst>
              <a:gd name="adj" fmla="val 36944"/>
            </a:avLst>
          </a:prstGeom>
          <a:solidFill>
            <a:srgbClr val="ffffff"/>
          </a:solidFill>
          <a:ln w="7632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РГ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13" descr="Винни-пух.jpg"/>
          <p:cNvPicPr/>
          <p:nvPr/>
        </p:nvPicPr>
        <p:blipFill>
          <a:blip r:embed="rId2"/>
          <a:srcRect l="63753" t="18952" r="4375" b="13358"/>
          <a:stretch/>
        </p:blipFill>
        <p:spPr>
          <a:xfrm>
            <a:off x="4786200" y="6286680"/>
            <a:ext cx="151920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80" name="Загнутый угол 11"/>
          <p:cNvSpPr/>
          <p:nvPr/>
        </p:nvSpPr>
        <p:spPr>
          <a:xfrm rot="21231000">
            <a:off x="1247760" y="1711440"/>
            <a:ext cx="4214880" cy="4857480"/>
          </a:xfrm>
          <a:prstGeom prst="foldedCorner">
            <a:avLst>
              <a:gd name="adj" fmla="val 36944"/>
            </a:avLst>
          </a:prstGeom>
          <a:solidFill>
            <a:srgbClr val="ffffff"/>
          </a:solidFill>
          <a:ln w="7632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Р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3" descr="Винни-пух.jpg"/>
          <p:cNvPicPr/>
          <p:nvPr/>
        </p:nvPicPr>
        <p:blipFill>
          <a:blip r:embed="rId2"/>
          <a:srcRect l="63753" t="18952" r="4375" b="13358"/>
          <a:stretch/>
        </p:blipFill>
        <p:spPr>
          <a:xfrm>
            <a:off x="4786200" y="6286680"/>
            <a:ext cx="151920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Айболит.jpg"/>
          <p:cNvPicPr/>
          <p:nvPr/>
        </p:nvPicPr>
        <p:blipFill>
          <a:blip r:embed="rId2"/>
          <a:stretch/>
        </p:blipFill>
        <p:spPr>
          <a:xfrm>
            <a:off x="530280" y="3249720"/>
            <a:ext cx="2365200" cy="31273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буратино.jpg"/>
          <p:cNvPicPr/>
          <p:nvPr/>
        </p:nvPicPr>
        <p:blipFill>
          <a:blip r:embed="rId3"/>
          <a:stretch/>
        </p:blipFill>
        <p:spPr>
          <a:xfrm>
            <a:off x="4602240" y="5675400"/>
            <a:ext cx="2365200" cy="31273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Винни-Пух и все, все, все....jpg"/>
          <p:cNvPicPr/>
          <p:nvPr/>
        </p:nvPicPr>
        <p:blipFill>
          <a:blip r:embed="rId4"/>
          <a:stretch/>
        </p:blipFill>
        <p:spPr>
          <a:xfrm>
            <a:off x="603360" y="6791400"/>
            <a:ext cx="3127320" cy="237636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двое из ларца.....jpg"/>
          <p:cNvPicPr/>
          <p:nvPr/>
        </p:nvPicPr>
        <p:blipFill>
          <a:blip r:embed="rId5"/>
          <a:stretch/>
        </p:blipFill>
        <p:spPr>
          <a:xfrm>
            <a:off x="2597040" y="3889440"/>
            <a:ext cx="2371680" cy="3127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33000" y="1692360"/>
            <a:ext cx="37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2" descr=""/>
          <p:cNvPicPr/>
          <p:nvPr/>
        </p:nvPicPr>
        <p:blipFill>
          <a:blip r:embed="rId1"/>
          <a:stretch/>
        </p:blipFill>
        <p:spPr>
          <a:xfrm>
            <a:off x="836640" y="3608280"/>
            <a:ext cx="114120" cy="4708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" descr="обложка желудь низ.png"/>
          <p:cNvPicPr/>
          <p:nvPr/>
        </p:nvPicPr>
        <p:blipFill>
          <a:blip r:embed="rId2"/>
          <a:stretch/>
        </p:blipFill>
        <p:spPr>
          <a:xfrm>
            <a:off x="785880" y="563868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чуковский К.И..jpg"/>
          <p:cNvPicPr/>
          <p:nvPr/>
        </p:nvPicPr>
        <p:blipFill>
          <a:blip r:embed="rId3"/>
          <a:stretch/>
        </p:blipFill>
        <p:spPr>
          <a:xfrm>
            <a:off x="692280" y="1042920"/>
            <a:ext cx="2133360" cy="238932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Андерсен.jpg"/>
          <p:cNvPicPr/>
          <p:nvPr/>
        </p:nvPicPr>
        <p:blipFill>
          <a:blip r:embed="rId4"/>
          <a:stretch/>
        </p:blipFill>
        <p:spPr>
          <a:xfrm>
            <a:off x="2349360" y="3203640"/>
            <a:ext cx="2213280" cy="26812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6" descr="Л.Н.Толстой.jpg"/>
          <p:cNvPicPr/>
          <p:nvPr/>
        </p:nvPicPr>
        <p:blipFill>
          <a:blip r:embed="rId5"/>
          <a:stretch/>
        </p:blipFill>
        <p:spPr>
          <a:xfrm>
            <a:off x="4365720" y="5219640"/>
            <a:ext cx="2262240" cy="24386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8" descr="С.Я.Маршак 2.jpg"/>
          <p:cNvPicPr/>
          <p:nvPr/>
        </p:nvPicPr>
        <p:blipFill>
          <a:blip r:embed="rId6"/>
          <a:stretch/>
        </p:blipFill>
        <p:spPr>
          <a:xfrm>
            <a:off x="4365720" y="755640"/>
            <a:ext cx="2101680" cy="2577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7" descr="обложка желудь низ.png"/>
          <p:cNvPicPr/>
          <p:nvPr/>
        </p:nvPicPr>
        <p:blipFill>
          <a:blip r:embed="rId1"/>
          <a:stretch/>
        </p:blipFill>
        <p:spPr>
          <a:xfrm>
            <a:off x="4010040" y="395280"/>
            <a:ext cx="2847960" cy="30830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золотая рыбка.jpg"/>
          <p:cNvPicPr/>
          <p:nvPr/>
        </p:nvPicPr>
        <p:blipFill>
          <a:blip r:embed="rId2"/>
          <a:stretch/>
        </p:blipFill>
        <p:spPr>
          <a:xfrm>
            <a:off x="836640" y="4041720"/>
            <a:ext cx="3767040" cy="51022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5" descr="Пушкин А.С. 2.jpg"/>
          <p:cNvPicPr/>
          <p:nvPr/>
        </p:nvPicPr>
        <p:blipFill>
          <a:blip r:embed="rId3"/>
          <a:stretch/>
        </p:blipFill>
        <p:spPr>
          <a:xfrm>
            <a:off x="811080" y="109440"/>
            <a:ext cx="2730600" cy="3151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701360" y="31971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ушки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" descr="попугай кеша.jpg"/>
          <p:cNvPicPr/>
          <p:nvPr/>
        </p:nvPicPr>
        <p:blipFill>
          <a:blip r:embed="rId2"/>
          <a:stretch/>
        </p:blipFill>
        <p:spPr>
          <a:xfrm>
            <a:off x="652320" y="5413320"/>
            <a:ext cx="1908360" cy="14684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Айболит 2.jpg"/>
          <p:cNvPicPr/>
          <p:nvPr/>
        </p:nvPicPr>
        <p:blipFill>
          <a:blip r:embed="rId3"/>
          <a:stretch/>
        </p:blipFill>
        <p:spPr>
          <a:xfrm>
            <a:off x="4322880" y="5273640"/>
            <a:ext cx="1949400" cy="16398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Винни-Пух и все, все, все....jpg"/>
          <p:cNvPicPr/>
          <p:nvPr/>
        </p:nvPicPr>
        <p:blipFill>
          <a:blip r:embed="rId4"/>
          <a:stretch/>
        </p:blipFill>
        <p:spPr>
          <a:xfrm>
            <a:off x="2487600" y="4486320"/>
            <a:ext cx="1951200" cy="1822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9" descr="Три поросенка.jpg"/>
          <p:cNvPicPr/>
          <p:nvPr/>
        </p:nvPicPr>
        <p:blipFill>
          <a:blip r:embed="rId5"/>
          <a:stretch/>
        </p:blipFill>
        <p:spPr>
          <a:xfrm>
            <a:off x="1852560" y="7272360"/>
            <a:ext cx="33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2" descr="дюймовочка2.jpg"/>
          <p:cNvPicPr/>
          <p:nvPr/>
        </p:nvPicPr>
        <p:blipFill>
          <a:blip r:embed="rId6"/>
          <a:stretch/>
        </p:blipFill>
        <p:spPr>
          <a:xfrm>
            <a:off x="738360" y="774720"/>
            <a:ext cx="226692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3" descr="двое из ларца.....jpg"/>
          <p:cNvPicPr/>
          <p:nvPr/>
        </p:nvPicPr>
        <p:blipFill>
          <a:blip r:embed="rId7"/>
          <a:stretch/>
        </p:blipFill>
        <p:spPr>
          <a:xfrm>
            <a:off x="3090960" y="1274760"/>
            <a:ext cx="2133360" cy="2249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54080" y="327024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ртре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Белоснежка и семь гномов.jpg"/>
          <p:cNvPicPr/>
          <p:nvPr/>
        </p:nvPicPr>
        <p:blipFill>
          <a:blip r:embed="rId2"/>
          <a:stretch/>
        </p:blipFill>
        <p:spPr>
          <a:xfrm>
            <a:off x="4595760" y="3975120"/>
            <a:ext cx="2043000" cy="2852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Дюймовочка.jpg"/>
          <p:cNvPicPr/>
          <p:nvPr/>
        </p:nvPicPr>
        <p:blipFill>
          <a:blip r:embed="rId3"/>
          <a:stretch/>
        </p:blipFill>
        <p:spPr>
          <a:xfrm>
            <a:off x="811080" y="4260960"/>
            <a:ext cx="2853000" cy="2043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Маугли 2.jpg"/>
          <p:cNvPicPr/>
          <p:nvPr/>
        </p:nvPicPr>
        <p:blipFill>
          <a:blip r:embed="rId4"/>
          <a:stretch/>
        </p:blipFill>
        <p:spPr>
          <a:xfrm>
            <a:off x="1743120" y="6761160"/>
            <a:ext cx="2847960" cy="2048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20" y="226836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 зарубежных пис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9"/>
          <p:cNvSpPr/>
          <p:nvPr/>
        </p:nvSpPr>
        <p:spPr>
          <a:xfrm>
            <a:off x="785880" y="4071960"/>
            <a:ext cx="60721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ете верный вариант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черепаху, которая дала Буратино ключ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Ink 2"/>
          <p:cNvSpPr/>
          <p:nvPr/>
        </p:nvSpPr>
        <p:spPr>
          <a:xfrm>
            <a:off x="7704000" y="754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402" y="20961"/>
                </a:moveTo>
                <a:lnTo>
                  <a:pt x="21402" y="20961"/>
                </a:lnTo>
              </a:path>
              <a:path w="1" h="1">
                <a:moveTo>
                  <a:pt x="21402" y="20961"/>
                </a:moveTo>
                <a:lnTo>
                  <a:pt x="21402" y="20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9"/>
          <p:cNvSpPr/>
          <p:nvPr/>
        </p:nvSpPr>
        <p:spPr>
          <a:xfrm>
            <a:off x="785880" y="4071960"/>
            <a:ext cx="60721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ете верный вариант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черепаху, которая дала Буратино ключ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2"/>
          <p:cNvSpPr/>
          <p:nvPr/>
        </p:nvSpPr>
        <p:spPr>
          <a:xfrm>
            <a:off x="7704000" y="754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402" y="20961"/>
                </a:moveTo>
                <a:lnTo>
                  <a:pt x="21402" y="20961"/>
                </a:lnTo>
              </a:path>
              <a:path w="1" h="1">
                <a:moveTo>
                  <a:pt x="21402" y="20961"/>
                </a:moveTo>
                <a:lnTo>
                  <a:pt x="21402" y="20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3"/>
          <p:cNvSpPr/>
          <p:nvPr/>
        </p:nvSpPr>
        <p:spPr>
          <a:xfrm>
            <a:off x="1052640" y="7236000"/>
            <a:ext cx="2730240" cy="1440"/>
          </a:xfrm>
          <a:custGeom>
            <a:avLst/>
            <a:gdLst/>
            <a:ahLst/>
            <a:rect l="l" t="t" r="r" b="b"/>
            <a:pathLst>
              <a:path w="7586" h="1">
                <a:moveTo>
                  <a:pt x="6350" y="20020"/>
                </a:moveTo>
                <a:cubicBezTo>
                  <a:pt x="8878" y="20020"/>
                  <a:pt x="11407" y="20020"/>
                  <a:pt x="13935" y="20020"/>
                </a:cubicBezTo>
              </a:path>
            </a:pathLst>
          </a:custGeom>
          <a:noFill/>
          <a:ln cap="sq" w="127080">
            <a:solidFill>
              <a:srgbClr val="c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67" name="Таблица 7" descr=""/>
          <p:cNvPicPr/>
          <p:nvPr/>
        </p:nvPicPr>
        <p:blipFill>
          <a:blip r:embed="rId2"/>
          <a:stretch/>
        </p:blipFill>
        <p:spPr>
          <a:xfrm>
            <a:off x="639720" y="3713040"/>
            <a:ext cx="6291360" cy="393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68" name="Рисунок 33" descr="книжка.gif"/>
          <p:cNvPicPr/>
          <p:nvPr/>
        </p:nvPicPr>
        <p:blipFill>
          <a:blip r:embed="rId3"/>
          <a:stretch/>
        </p:blipFill>
        <p:spPr>
          <a:xfrm>
            <a:off x="4000680" y="59292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19200" y="16192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Таблица 2" descr=""/>
          <p:cNvPicPr/>
          <p:nvPr/>
        </p:nvPicPr>
        <p:blipFill>
          <a:blip r:embed="rId1"/>
          <a:stretch/>
        </p:blipFill>
        <p:spPr>
          <a:xfrm>
            <a:off x="712800" y="3713040"/>
            <a:ext cx="6218280" cy="37911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" descr="обложка желудь низ.png"/>
          <p:cNvPicPr/>
          <p:nvPr/>
        </p:nvPicPr>
        <p:blipFill>
          <a:blip r:embed="rId2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книжка.gif"/>
          <p:cNvPicPr/>
          <p:nvPr/>
        </p:nvPicPr>
        <p:blipFill>
          <a:blip r:embed="rId3"/>
          <a:stretch/>
        </p:blipFill>
        <p:spPr>
          <a:xfrm>
            <a:off x="4000680" y="5929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ОРЕТЦ</dc:creator>
  <dc:description/>
  <dc:language>en-US</dc:language>
  <cp:lastModifiedBy>Admin</cp:lastModifiedBy>
  <dcterms:modified xsi:type="dcterms:W3CDTF">2011-09-23T17:25:21Z</dcterms:modified>
  <cp:revision>26</cp:revision>
  <dc:subject/>
  <dc:title>Мы идем в гости к детским писателям</dc:title>
</cp:coreProperties>
</file>