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5.gif" ContentType="image/gif"/>
  <Override PartName="/ppt/media/type.wav" ContentType="audio/x-wav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BFC-F5D4-4704-B7B5-41785172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66B-FA0A-4CA8-A02D-D63BA710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522-61B9-47B4-91BF-28D48C62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529-0EAE-4206-BAA4-D3688F1B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8C12-13DD-46A8-A9B9-1A10C653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E5D7-478D-4FF9-9063-96C9B4BD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7060-FE8D-4F14-AAB3-9BFB3C0F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6CFA-ACE4-4CB0-8CB4-15D21504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EC01-C834-4302-82FB-8B8F1503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AE41-D3D8-4F2C-8929-E67295D7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36C8-D211-46DD-81B1-5EF38E4D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92F3-D473-4509-99B7-13B569A6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7E85-594D-4E6E-8016-3276CA92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975D-2F68-48E4-A16B-D2135F10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3E6E-2420-493C-B13C-ADDBAC9F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5425-2C89-4FF2-9733-48F89B4D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96C1-1FC9-484C-80DF-EBC3D18E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23A67-DBCF-49B1-88E2-67734948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AB507-0504-42C8-93C1-5E2B92D3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C323C-6ABC-43CC-8DF5-C87BA77C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B00A-BD1E-4672-AF2E-86ACDE81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A948F-336B-4BE1-8A06-E804F31D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ACC-0F96-402F-ADE0-69CE9937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F9D3D-4751-4941-95D9-8C93691F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6B1E5-C2A1-435D-A08A-5011FF36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1669F-A0C0-44E0-8F23-0F574DB0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0A487-A80E-4C19-BC0D-DD15441C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AE5AC-DFE3-488A-8D7D-A6F0F5C8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4491A-8291-4D24-9CF1-5665E4A7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9A04A-6B07-4C7F-B2B4-950A0BFB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6864C-D71A-44E9-9CAA-50E11C53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7E0B7-BB39-4AB6-83ED-BD1E1129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09EED-8C0F-4237-B9CD-754AA701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E75B-0AB7-4C06-B5DB-851C1751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9D046-236F-4748-A297-690D7450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16221-0F92-4B91-84F3-9FB2989A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26C82-8CEE-47A7-9197-1776007C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292B3-C437-4A46-97F0-01C219F4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C0B11-3E5E-4A81-B1B1-91BC30CF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3134C-E01F-4ED2-BE3C-23A45273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8024D-0FFD-4E1F-A8DE-55349C4F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BCC7D-CC36-47D7-B005-46453866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9E42E-E72B-4DD3-8419-2290F68C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EA148-33DB-4A7E-87B0-D05D2771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E273-1DB1-49D6-87DA-3FAE8963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0F61B-A8EA-4BD7-BE7E-478F9386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C3E8B9-2310-4F05-8044-1790093D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F171E-4920-485C-A090-5CD84339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03A095-B9B5-49FB-AE17-3851697C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FB4655-6024-4B3B-B2A6-F59A7B42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F169A-0F9C-4A90-B1BC-0B1E5BF7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CFD78-6D9A-4B03-B9C8-CC7B5E72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A03445-7C65-428B-AC41-B1B39E32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94ACF1-26C4-4542-B201-8F81479F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6E4BAF-FE9E-4F36-B47F-45491E64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5B02-37FD-48B2-9721-A45253E8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D97D56-CC8D-4036-85EF-F6372E03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04C9B-5A6E-4EF3-822A-987E667B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D99CD-53E9-44E0-9D28-2BE424DF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93CE2-7D5C-4983-8FF6-4DE967D3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D7672-3D12-4B5F-AB4F-0B42B0CB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C1921-F6B3-47BF-9DE7-86EEDE6E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33A2B-BC98-4ECB-B334-1FC0B229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1F4A1-608C-4C20-8AED-858F410D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6C904-8266-4CBA-98D0-C0533468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2FFBD-7A74-4F30-8320-AD5633F2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2F05-E4D1-42AD-9A11-F5C403CE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8937A-985F-4BB3-8E98-CE486B2B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0868F-5604-4A42-806C-69A6BF53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E474D-9FED-4460-B55C-B7897F9F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A90F-20FC-4709-B2FD-422C4921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0CB4-75E7-430B-96C5-1DD7DFC6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5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611280" y="-1087560"/>
            <a:ext cx="1228680" cy="21844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27080" y="28440"/>
            <a:ext cx="1276200" cy="2268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-30240" y="1494000"/>
            <a:ext cx="1189080" cy="1322280"/>
            <a:chOff x="-30240" y="1494000"/>
            <a:chExt cx="1189080" cy="132228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-30240" y="1494000"/>
              <a:ext cx="11890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260280" y="1622160"/>
              <a:ext cx="5968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760320" y="0"/>
            <a:ext cx="6097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CA87-E45B-430D-9C9E-663F5B6B846F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762120" y="0"/>
            <a:ext cx="54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5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611280" y="-1087560"/>
            <a:ext cx="1228680" cy="21844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27080" y="28440"/>
            <a:ext cx="1276200" cy="2268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-30240" y="1494000"/>
            <a:ext cx="1189080" cy="1322280"/>
            <a:chOff x="-30240" y="1494000"/>
            <a:chExt cx="1189080" cy="1322280"/>
          </a:xfrm>
        </p:grpSpPr>
        <p:pic>
          <p:nvPicPr>
            <p:cNvPr id="5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-30240" y="1494000"/>
              <a:ext cx="11890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260280" y="1622160"/>
              <a:ext cx="5968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760320" y="0"/>
            <a:ext cx="6097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762120" y="0"/>
            <a:ext cx="54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682560" y="1878120"/>
            <a:ext cx="176400" cy="298440"/>
            <a:chOff x="682560" y="1878120"/>
            <a:chExt cx="176400" cy="298440"/>
          </a:xfrm>
        </p:grpSpPr>
        <p:pic>
          <p:nvPicPr>
            <p:cNvPr id="56" name="Овал 12" descr=""/>
            <p:cNvPicPr/>
            <p:nvPr/>
          </p:nvPicPr>
          <p:blipFill>
            <a:blip r:embed="rId3"/>
            <a:stretch/>
          </p:blipFill>
          <p:spPr>
            <a:xfrm>
              <a:off x="682560" y="1878120"/>
              <a:ext cx="17640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14240" y="1925640"/>
              <a:ext cx="111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868320" y="1793880"/>
            <a:ext cx="47520" cy="8424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5C48-6D3F-405C-903E-6EA23A17A64B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5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611280" y="-1087560"/>
            <a:ext cx="1228680" cy="21844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27080" y="28440"/>
            <a:ext cx="1276200" cy="2268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-30240" y="1494000"/>
            <a:ext cx="1189080" cy="1322280"/>
            <a:chOff x="-30240" y="1494000"/>
            <a:chExt cx="1189080" cy="1322280"/>
          </a:xfrm>
        </p:grpSpPr>
        <p:pic>
          <p:nvPicPr>
            <p:cNvPr id="10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-30240" y="1494000"/>
              <a:ext cx="11890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260280" y="1622160"/>
              <a:ext cx="5968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760320" y="0"/>
            <a:ext cx="6097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762120" y="0"/>
            <a:ext cx="54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1712880" y="0"/>
            <a:ext cx="5143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1714680" y="0"/>
            <a:ext cx="568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1620720" y="3749760"/>
            <a:ext cx="177840" cy="298440"/>
            <a:chOff x="1620720" y="3749760"/>
            <a:chExt cx="177840" cy="298440"/>
          </a:xfrm>
        </p:grpSpPr>
        <p:pic>
          <p:nvPicPr>
            <p:cNvPr id="110" name="Овал 15" descr=""/>
            <p:cNvPicPr/>
            <p:nvPr/>
          </p:nvPicPr>
          <p:blipFill>
            <a:blip r:embed="rId3"/>
            <a:stretch/>
          </p:blipFill>
          <p:spPr>
            <a:xfrm>
              <a:off x="1620720" y="3749760"/>
              <a:ext cx="1778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652760" y="3794040"/>
              <a:ext cx="110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1806480" y="3660840"/>
            <a:ext cx="47880" cy="8568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F92E-1EDF-4E82-95FE-2C0BBEAB7D3E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65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611280" y="-1087560"/>
            <a:ext cx="1228680" cy="218448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27080" y="28440"/>
            <a:ext cx="1276200" cy="22687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-30240" y="1494000"/>
            <a:ext cx="1189080" cy="1322280"/>
            <a:chOff x="-30240" y="1494000"/>
            <a:chExt cx="1189080" cy="1322280"/>
          </a:xfrm>
        </p:grpSpPr>
        <p:pic>
          <p:nvPicPr>
            <p:cNvPr id="15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-30240" y="1494000"/>
              <a:ext cx="11890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260280" y="1622160"/>
              <a:ext cx="5968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760320" y="0"/>
            <a:ext cx="609768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762120" y="0"/>
            <a:ext cx="54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Прямоугольник 12"/>
          <p:cNvGrpSpPr/>
          <p:nvPr/>
        </p:nvGrpSpPr>
        <p:grpSpPr>
          <a:xfrm>
            <a:off x="457200" y="1322280"/>
            <a:ext cx="3657600" cy="6327720"/>
            <a:chOff x="457200" y="1322280"/>
            <a:chExt cx="3657600" cy="6327720"/>
          </a:xfrm>
        </p:grpSpPr>
        <p:pic>
          <p:nvPicPr>
            <p:cNvPr id="162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457200" y="1322280"/>
              <a:ext cx="3657600" cy="632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71680" y="1422360"/>
              <a:ext cx="3429000" cy="60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Блок-схема: процесс 13"/>
          <p:cNvSpPr/>
          <p:nvPr/>
        </p:nvSpPr>
        <p:spPr>
          <a:xfrm rot="19468200">
            <a:off x="297000" y="1272960"/>
            <a:ext cx="514080" cy="2714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Блок-схема: процесс 15"/>
          <p:cNvSpPr/>
          <p:nvPr/>
        </p:nvSpPr>
        <p:spPr>
          <a:xfrm flipH="1" rot="2103600">
            <a:off x="3752280" y="1249200"/>
            <a:ext cx="486720" cy="27180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6040" y="366480"/>
            <a:ext cx="562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076040" y="1930320"/>
            <a:ext cx="5624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2685600" y="8407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4285800" y="8407440"/>
            <a:ext cx="21718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459120" y="8407440"/>
            <a:ext cx="343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F224-9DBC-4478-AFF9-1480235DF60E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0" y="0"/>
            <a:ext cx="6870600" cy="9143640"/>
            <a:chOff x="0" y="0"/>
            <a:chExt cx="6870600" cy="9143640"/>
          </a:xfrm>
        </p:grpSpPr>
        <p:sp>
          <p:nvSpPr>
            <p:cNvPr id="208" name=""/>
            <p:cNvSpPr/>
            <p:nvPr/>
          </p:nvSpPr>
          <p:spPr>
            <a:xfrm>
              <a:off x="6230160" y="1800"/>
              <a:ext cx="628560" cy="914184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57480" y="0"/>
              <a:ext cx="22824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7400" y="0"/>
              <a:ext cx="5140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85960" y="0"/>
              <a:ext cx="285840" cy="9143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00200" y="0"/>
              <a:ext cx="45684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1320" y="0"/>
              <a:ext cx="68580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2720" y="0"/>
              <a:ext cx="22860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0"/>
              <a:ext cx="34272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71840" y="0"/>
              <a:ext cx="28548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1488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85720" y="0"/>
              <a:ext cx="17136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29400" y="0"/>
              <a:ext cx="29988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4000" y="0"/>
              <a:ext cx="1713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86760" y="0"/>
              <a:ext cx="799920" cy="9143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72400" y="0"/>
              <a:ext cx="7426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7236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01280" y="0"/>
              <a:ext cx="2854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91040" y="0"/>
              <a:ext cx="18072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17000" y="0"/>
              <a:ext cx="3999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80" y="8201880"/>
              <a:ext cx="6858720" cy="94140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8184600"/>
              <a:ext cx="6870600" cy="3682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3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4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4881-ED58-435D-8F2E-A96D7F9B0B3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dt" idx="15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0" y="0"/>
            <a:ext cx="6870600" cy="9143640"/>
            <a:chOff x="0" y="0"/>
            <a:chExt cx="6870600" cy="9143640"/>
          </a:xfrm>
        </p:grpSpPr>
        <p:sp>
          <p:nvSpPr>
            <p:cNvPr id="271" name=""/>
            <p:cNvSpPr/>
            <p:nvPr/>
          </p:nvSpPr>
          <p:spPr>
            <a:xfrm>
              <a:off x="6230160" y="1800"/>
              <a:ext cx="628560" cy="914184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57480" y="0"/>
              <a:ext cx="22824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57400" y="0"/>
              <a:ext cx="5140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85960" y="0"/>
              <a:ext cx="285840" cy="9143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00200" y="0"/>
              <a:ext cx="45684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1320" y="0"/>
              <a:ext cx="68580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720" y="0"/>
              <a:ext cx="22860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0"/>
              <a:ext cx="34272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71840" y="0"/>
              <a:ext cx="28548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1488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85720" y="0"/>
              <a:ext cx="17136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29400" y="0"/>
              <a:ext cx="299880" cy="9143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44000" y="0"/>
              <a:ext cx="1713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86760" y="0"/>
              <a:ext cx="799920" cy="9143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72400" y="0"/>
              <a:ext cx="7426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2360" y="0"/>
              <a:ext cx="6285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01280" y="0"/>
              <a:ext cx="28548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91040" y="0"/>
              <a:ext cx="180720" cy="9143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17000" y="0"/>
              <a:ext cx="399960" cy="9143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80" y="8201880"/>
              <a:ext cx="6858720" cy="94140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8184600"/>
              <a:ext cx="6870600" cy="3682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4440" y="2133360"/>
            <a:ext cx="5829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6"/>
          </p:nvPr>
        </p:nvSpPr>
        <p:spPr>
          <a:xfrm>
            <a:off x="342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ftr" idx="17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8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37B1-8DE6-4745-9CE3-9068EE0A194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3"/>
          <p:cNvSpPr/>
          <p:nvPr/>
        </p:nvSpPr>
        <p:spPr>
          <a:xfrm flipV="1">
            <a:off x="6308640" y="9144000"/>
            <a:ext cx="549360" cy="69840"/>
          </a:xfrm>
          <a:prstGeom prst="rect">
            <a:avLst/>
          </a:prstGeom>
          <a:solidFill>
            <a:srgbClr val="fdd7ba"/>
          </a:solidFill>
          <a:ln w="25560">
            <a:solidFill>
              <a:srgbClr val="7132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Рисунок 5" descr="книжка.gif"/>
          <p:cNvPicPr/>
          <p:nvPr/>
        </p:nvPicPr>
        <p:blipFill>
          <a:blip r:embed="rId1"/>
          <a:stretch/>
        </p:blipFill>
        <p:spPr>
          <a:xfrm>
            <a:off x="1628640" y="4356000"/>
            <a:ext cx="4214880" cy="22780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84280" y="6732720"/>
            <a:ext cx="46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оретц Анна Василь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У «СОШ №17», г. Краснотурьинс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ердлов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60280" y="250920"/>
            <a:ext cx="633744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отправлемс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гост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 детским писателя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Рисунок 3" descr="обложка желудь низ.png"/>
          <p:cNvPicPr/>
          <p:nvPr/>
        </p:nvPicPr>
        <p:blipFill>
          <a:blip r:embed="rId1"/>
          <a:stretch/>
        </p:blipFill>
        <p:spPr>
          <a:xfrm>
            <a:off x="3619440" y="0"/>
            <a:ext cx="3238560" cy="350532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7" descr="сказочное окно.png"/>
          <p:cNvPicPr/>
          <p:nvPr/>
        </p:nvPicPr>
        <p:blipFill>
          <a:blip r:embed="rId2"/>
          <a:stretch/>
        </p:blipFill>
        <p:spPr>
          <a:xfrm>
            <a:off x="2000160" y="3929040"/>
            <a:ext cx="4071960" cy="48499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343880" y="1901880"/>
            <a:ext cx="247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ус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ро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каз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3" descr="обложка желудь низ.png"/>
          <p:cNvPicPr/>
          <p:nvPr/>
        </p:nvPicPr>
        <p:blipFill>
          <a:blip r:embed="rId1"/>
          <a:stretch/>
        </p:blipFill>
        <p:spPr>
          <a:xfrm>
            <a:off x="3619440" y="0"/>
            <a:ext cx="3238560" cy="3505320"/>
          </a:xfrm>
          <a:prstGeom prst="rect">
            <a:avLst/>
          </a:prstGeom>
          <a:ln w="0">
            <a:noFill/>
          </a:ln>
        </p:spPr>
      </p:pic>
      <p:sp>
        <p:nvSpPr>
          <p:cNvPr id="377" name="Загнутый угол 11"/>
          <p:cNvSpPr/>
          <p:nvPr/>
        </p:nvSpPr>
        <p:spPr>
          <a:xfrm rot="21231000">
            <a:off x="1247760" y="1711440"/>
            <a:ext cx="4214880" cy="4857480"/>
          </a:xfrm>
          <a:prstGeom prst="foldedCorner">
            <a:avLst>
              <a:gd name="adj" fmla="val 36944"/>
            </a:avLst>
          </a:prstGeom>
          <a:solidFill>
            <a:srgbClr val="ffffff"/>
          </a:solidFill>
          <a:ln w="76320">
            <a:solidFill>
              <a:srgbClr val="1e1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РГ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ДА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Рисунок 13" descr="Винни-пух.jpg"/>
          <p:cNvPicPr/>
          <p:nvPr/>
        </p:nvPicPr>
        <p:blipFill>
          <a:blip r:embed="rId2"/>
          <a:srcRect l="63753" t="18952" r="4375" b="13358"/>
          <a:stretch/>
        </p:blipFill>
        <p:spPr>
          <a:xfrm>
            <a:off x="4786200" y="6286680"/>
            <a:ext cx="1519200" cy="2233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3" descr="обложка желудь низ.png"/>
          <p:cNvPicPr/>
          <p:nvPr/>
        </p:nvPicPr>
        <p:blipFill>
          <a:blip r:embed="rId1"/>
          <a:stretch/>
        </p:blipFill>
        <p:spPr>
          <a:xfrm>
            <a:off x="3619440" y="0"/>
            <a:ext cx="3238560" cy="3505320"/>
          </a:xfrm>
          <a:prstGeom prst="rect">
            <a:avLst/>
          </a:prstGeom>
          <a:ln w="0">
            <a:noFill/>
          </a:ln>
        </p:spPr>
      </p:pic>
      <p:sp>
        <p:nvSpPr>
          <p:cNvPr id="380" name="Загнутый угол 11"/>
          <p:cNvSpPr/>
          <p:nvPr/>
        </p:nvSpPr>
        <p:spPr>
          <a:xfrm rot="21231000">
            <a:off x="1247760" y="1711440"/>
            <a:ext cx="4214880" cy="4857480"/>
          </a:xfrm>
          <a:prstGeom prst="foldedCorner">
            <a:avLst>
              <a:gd name="adj" fmla="val 36944"/>
            </a:avLst>
          </a:prstGeom>
          <a:solidFill>
            <a:srgbClr val="ffffff"/>
          </a:solidFill>
          <a:ln w="76320">
            <a:solidFill>
              <a:srgbClr val="1e1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Ш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РГ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ДА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Рисунок 13" descr="Винни-пух.jpg"/>
          <p:cNvPicPr/>
          <p:nvPr/>
        </p:nvPicPr>
        <p:blipFill>
          <a:blip r:embed="rId2"/>
          <a:srcRect l="63753" t="18952" r="4375" b="13358"/>
          <a:stretch/>
        </p:blipFill>
        <p:spPr>
          <a:xfrm>
            <a:off x="4786200" y="6286680"/>
            <a:ext cx="1519200" cy="2233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Рисунок 3" descr="обложка желудь низ.png"/>
          <p:cNvPicPr/>
          <p:nvPr/>
        </p:nvPicPr>
        <p:blipFill>
          <a:blip r:embed="rId1"/>
          <a:stretch/>
        </p:blipFill>
        <p:spPr>
          <a:xfrm>
            <a:off x="3619440" y="0"/>
            <a:ext cx="3238560" cy="350532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4" descr="Айболит.jpg"/>
          <p:cNvPicPr/>
          <p:nvPr/>
        </p:nvPicPr>
        <p:blipFill>
          <a:blip r:embed="rId2"/>
          <a:stretch/>
        </p:blipFill>
        <p:spPr>
          <a:xfrm>
            <a:off x="530280" y="3249720"/>
            <a:ext cx="2365200" cy="312732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6" descr="буратино.jpg"/>
          <p:cNvPicPr/>
          <p:nvPr/>
        </p:nvPicPr>
        <p:blipFill>
          <a:blip r:embed="rId3"/>
          <a:stretch/>
        </p:blipFill>
        <p:spPr>
          <a:xfrm>
            <a:off x="4602240" y="5675400"/>
            <a:ext cx="2365200" cy="312732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8" descr="Винни-Пух и все, все, все....jpg"/>
          <p:cNvPicPr/>
          <p:nvPr/>
        </p:nvPicPr>
        <p:blipFill>
          <a:blip r:embed="rId4"/>
          <a:stretch/>
        </p:blipFill>
        <p:spPr>
          <a:xfrm>
            <a:off x="603360" y="6791400"/>
            <a:ext cx="3127320" cy="237636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9" descr="двое из ларца.....jpg"/>
          <p:cNvPicPr/>
          <p:nvPr/>
        </p:nvPicPr>
        <p:blipFill>
          <a:blip r:embed="rId5"/>
          <a:stretch/>
        </p:blipFill>
        <p:spPr>
          <a:xfrm>
            <a:off x="2597040" y="3889440"/>
            <a:ext cx="2371680" cy="31273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33000" y="1692360"/>
            <a:ext cx="37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Прямоугольник 2" descr=""/>
          <p:cNvPicPr/>
          <p:nvPr/>
        </p:nvPicPr>
        <p:blipFill>
          <a:blip r:embed="rId1"/>
          <a:stretch/>
        </p:blipFill>
        <p:spPr>
          <a:xfrm>
            <a:off x="836640" y="3608280"/>
            <a:ext cx="114120" cy="470880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3" descr="обложка желудь низ.png"/>
          <p:cNvPicPr/>
          <p:nvPr/>
        </p:nvPicPr>
        <p:blipFill>
          <a:blip r:embed="rId2"/>
          <a:stretch/>
        </p:blipFill>
        <p:spPr>
          <a:xfrm>
            <a:off x="785880" y="5638680"/>
            <a:ext cx="3238560" cy="350532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4" descr="чуковский К.И..jpg"/>
          <p:cNvPicPr/>
          <p:nvPr/>
        </p:nvPicPr>
        <p:blipFill>
          <a:blip r:embed="rId3"/>
          <a:stretch/>
        </p:blipFill>
        <p:spPr>
          <a:xfrm>
            <a:off x="692280" y="1042920"/>
            <a:ext cx="2133360" cy="238932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5" descr="Андерсен.jpg"/>
          <p:cNvPicPr/>
          <p:nvPr/>
        </p:nvPicPr>
        <p:blipFill>
          <a:blip r:embed="rId4"/>
          <a:stretch/>
        </p:blipFill>
        <p:spPr>
          <a:xfrm>
            <a:off x="2349360" y="3203640"/>
            <a:ext cx="2213280" cy="268128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6" descr="Л.Н.Толстой.jpg"/>
          <p:cNvPicPr/>
          <p:nvPr/>
        </p:nvPicPr>
        <p:blipFill>
          <a:blip r:embed="rId5"/>
          <a:stretch/>
        </p:blipFill>
        <p:spPr>
          <a:xfrm>
            <a:off x="4365720" y="5219640"/>
            <a:ext cx="2262240" cy="243864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8" descr="С.Я.Маршак 2.jpg"/>
          <p:cNvPicPr/>
          <p:nvPr/>
        </p:nvPicPr>
        <p:blipFill>
          <a:blip r:embed="rId6"/>
          <a:stretch/>
        </p:blipFill>
        <p:spPr>
          <a:xfrm>
            <a:off x="4365720" y="755640"/>
            <a:ext cx="2101680" cy="25779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Рисунок 7" descr="обложка желудь низ.png"/>
          <p:cNvPicPr/>
          <p:nvPr/>
        </p:nvPicPr>
        <p:blipFill>
          <a:blip r:embed="rId1"/>
          <a:stretch/>
        </p:blipFill>
        <p:spPr>
          <a:xfrm>
            <a:off x="4010040" y="395280"/>
            <a:ext cx="2847960" cy="308304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9" descr="золотая рыбка.jpg"/>
          <p:cNvPicPr/>
          <p:nvPr/>
        </p:nvPicPr>
        <p:blipFill>
          <a:blip r:embed="rId2"/>
          <a:stretch/>
        </p:blipFill>
        <p:spPr>
          <a:xfrm>
            <a:off x="836640" y="4041720"/>
            <a:ext cx="3767040" cy="510228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5" descr="Пушкин А.С. 2.jpg"/>
          <p:cNvPicPr/>
          <p:nvPr/>
        </p:nvPicPr>
        <p:blipFill>
          <a:blip r:embed="rId3"/>
          <a:stretch/>
        </p:blipFill>
        <p:spPr>
          <a:xfrm>
            <a:off x="811080" y="109440"/>
            <a:ext cx="2730600" cy="31514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701360" y="3197160"/>
            <a:ext cx="29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ушкин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Рисунок 2" descr="обложка желудь низ.png"/>
          <p:cNvPicPr/>
          <p:nvPr/>
        </p:nvPicPr>
        <p:blipFill>
          <a:blip r:embed="rId1"/>
          <a:stretch/>
        </p:blipFill>
        <p:spPr>
          <a:xfrm>
            <a:off x="3429000" y="0"/>
            <a:ext cx="3238560" cy="350532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4" descr="попугай кеша.jpg"/>
          <p:cNvPicPr/>
          <p:nvPr/>
        </p:nvPicPr>
        <p:blipFill>
          <a:blip r:embed="rId2"/>
          <a:stretch/>
        </p:blipFill>
        <p:spPr>
          <a:xfrm>
            <a:off x="652320" y="5413320"/>
            <a:ext cx="1908360" cy="146844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5" descr="Айболит 2.jpg"/>
          <p:cNvPicPr/>
          <p:nvPr/>
        </p:nvPicPr>
        <p:blipFill>
          <a:blip r:embed="rId3"/>
          <a:stretch/>
        </p:blipFill>
        <p:spPr>
          <a:xfrm>
            <a:off x="4322880" y="5273640"/>
            <a:ext cx="1949400" cy="163980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7" descr="Винни-Пух и все, все, все....jpg"/>
          <p:cNvPicPr/>
          <p:nvPr/>
        </p:nvPicPr>
        <p:blipFill>
          <a:blip r:embed="rId4"/>
          <a:stretch/>
        </p:blipFill>
        <p:spPr>
          <a:xfrm>
            <a:off x="2487600" y="4486320"/>
            <a:ext cx="1951200" cy="182232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9" descr="Три поросенка.jpg"/>
          <p:cNvPicPr/>
          <p:nvPr/>
        </p:nvPicPr>
        <p:blipFill>
          <a:blip r:embed="rId5"/>
          <a:stretch/>
        </p:blipFill>
        <p:spPr>
          <a:xfrm>
            <a:off x="1852560" y="7272360"/>
            <a:ext cx="3371760" cy="167652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12" descr="дюймовочка2.jpg"/>
          <p:cNvPicPr/>
          <p:nvPr/>
        </p:nvPicPr>
        <p:blipFill>
          <a:blip r:embed="rId6"/>
          <a:stretch/>
        </p:blipFill>
        <p:spPr>
          <a:xfrm>
            <a:off x="738360" y="774720"/>
            <a:ext cx="2266920" cy="198108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13" descr="двое из ларца.....jpg"/>
          <p:cNvPicPr/>
          <p:nvPr/>
        </p:nvPicPr>
        <p:blipFill>
          <a:blip r:embed="rId7"/>
          <a:stretch/>
        </p:blipFill>
        <p:spPr>
          <a:xfrm>
            <a:off x="3090960" y="1274760"/>
            <a:ext cx="2133360" cy="22496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054080" y="327024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ртрет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2" descr="обложка желудь низ.png"/>
          <p:cNvPicPr/>
          <p:nvPr/>
        </p:nvPicPr>
        <p:blipFill>
          <a:blip r:embed="rId1"/>
          <a:stretch/>
        </p:blipFill>
        <p:spPr>
          <a:xfrm>
            <a:off x="3429000" y="0"/>
            <a:ext cx="3238560" cy="350532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5" descr="Белоснежка и семь гномов.jpg"/>
          <p:cNvPicPr/>
          <p:nvPr/>
        </p:nvPicPr>
        <p:blipFill>
          <a:blip r:embed="rId2"/>
          <a:stretch/>
        </p:blipFill>
        <p:spPr>
          <a:xfrm>
            <a:off x="4595760" y="3975120"/>
            <a:ext cx="2043000" cy="285264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7" descr="Дюймовочка.jpg"/>
          <p:cNvPicPr/>
          <p:nvPr/>
        </p:nvPicPr>
        <p:blipFill>
          <a:blip r:embed="rId3"/>
          <a:stretch/>
        </p:blipFill>
        <p:spPr>
          <a:xfrm>
            <a:off x="811080" y="4260960"/>
            <a:ext cx="2853000" cy="20430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8" descr="Маугли 2.jpg"/>
          <p:cNvPicPr/>
          <p:nvPr/>
        </p:nvPicPr>
        <p:blipFill>
          <a:blip r:embed="rId4"/>
          <a:stretch/>
        </p:blipFill>
        <p:spPr>
          <a:xfrm>
            <a:off x="1743120" y="6761160"/>
            <a:ext cx="2847960" cy="20480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720" y="2268360"/>
            <a:ext cx="58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 зарубежных писа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2" descr="обложка желудь низ.png"/>
          <p:cNvPicPr/>
          <p:nvPr/>
        </p:nvPicPr>
        <p:blipFill>
          <a:blip r:embed="rId1"/>
          <a:stretch/>
        </p:blipFill>
        <p:spPr>
          <a:xfrm>
            <a:off x="3429000" y="0"/>
            <a:ext cx="3238560" cy="35053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9"/>
          <p:cNvSpPr/>
          <p:nvPr/>
        </p:nvSpPr>
        <p:spPr>
          <a:xfrm>
            <a:off x="785880" y="4071960"/>
            <a:ext cx="607212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ерете верный вариант отв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черепаху, которая дала Буратино ключи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рти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ти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па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Ink 2"/>
          <p:cNvSpPr/>
          <p:nvPr/>
        </p:nvSpPr>
        <p:spPr>
          <a:xfrm>
            <a:off x="7704000" y="7545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1402" y="20961"/>
                </a:moveTo>
                <a:lnTo>
                  <a:pt x="21402" y="20961"/>
                </a:lnTo>
              </a:path>
              <a:path w="1" h="1">
                <a:moveTo>
                  <a:pt x="21402" y="20961"/>
                </a:moveTo>
                <a:lnTo>
                  <a:pt x="21402" y="2096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2" descr="обложка желудь низ.png"/>
          <p:cNvPicPr/>
          <p:nvPr/>
        </p:nvPicPr>
        <p:blipFill>
          <a:blip r:embed="rId1"/>
          <a:stretch/>
        </p:blipFill>
        <p:spPr>
          <a:xfrm>
            <a:off x="3429000" y="0"/>
            <a:ext cx="3238560" cy="3505320"/>
          </a:xfrm>
          <a:prstGeom prst="rect">
            <a:avLst/>
          </a:prstGeom>
          <a:ln w="0">
            <a:noFill/>
          </a:ln>
        </p:spPr>
      </p:pic>
      <p:sp>
        <p:nvSpPr>
          <p:cNvPr id="363" name="TextBox 9"/>
          <p:cNvSpPr/>
          <p:nvPr/>
        </p:nvSpPr>
        <p:spPr>
          <a:xfrm>
            <a:off x="785880" y="4071960"/>
            <a:ext cx="607212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ерете верный вариант отв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черепаху, которая дала Буратино ключи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рти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ти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па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Ink 2"/>
          <p:cNvSpPr/>
          <p:nvPr/>
        </p:nvSpPr>
        <p:spPr>
          <a:xfrm>
            <a:off x="7704000" y="75452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1402" y="20961"/>
                </a:moveTo>
                <a:lnTo>
                  <a:pt x="21402" y="20961"/>
                </a:lnTo>
              </a:path>
              <a:path w="1" h="1">
                <a:moveTo>
                  <a:pt x="21402" y="20961"/>
                </a:moveTo>
                <a:lnTo>
                  <a:pt x="21402" y="20961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Ink 3"/>
          <p:cNvSpPr/>
          <p:nvPr/>
        </p:nvSpPr>
        <p:spPr>
          <a:xfrm>
            <a:off x="1052640" y="7236000"/>
            <a:ext cx="2730240" cy="1440"/>
          </a:xfrm>
          <a:custGeom>
            <a:avLst/>
            <a:gdLst/>
            <a:ahLst/>
            <a:rect l="l" t="t" r="r" b="b"/>
            <a:pathLst>
              <a:path w="7586" h="1">
                <a:moveTo>
                  <a:pt x="6350" y="20020"/>
                </a:moveTo>
                <a:cubicBezTo>
                  <a:pt x="8878" y="20020"/>
                  <a:pt x="11407" y="20020"/>
                  <a:pt x="13935" y="20020"/>
                </a:cubicBezTo>
              </a:path>
            </a:pathLst>
          </a:custGeom>
          <a:noFill/>
          <a:ln cap="sq" w="127080">
            <a:solidFill>
              <a:srgbClr val="c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2" descr="обложка желудь низ.png"/>
          <p:cNvPicPr/>
          <p:nvPr/>
        </p:nvPicPr>
        <p:blipFill>
          <a:blip r:embed="rId1"/>
          <a:stretch/>
        </p:blipFill>
        <p:spPr>
          <a:xfrm>
            <a:off x="3619440" y="0"/>
            <a:ext cx="3238560" cy="3505320"/>
          </a:xfrm>
          <a:prstGeom prst="rect">
            <a:avLst/>
          </a:prstGeom>
          <a:ln w="0">
            <a:noFill/>
          </a:ln>
        </p:spPr>
      </p:pic>
      <p:pic>
        <p:nvPicPr>
          <p:cNvPr id="367" name="Таблица 7" descr=""/>
          <p:cNvPicPr/>
          <p:nvPr/>
        </p:nvPicPr>
        <p:blipFill>
          <a:blip r:embed="rId2"/>
          <a:stretch/>
        </p:blipFill>
        <p:spPr>
          <a:xfrm>
            <a:off x="639720" y="3713040"/>
            <a:ext cx="6291360" cy="3930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68" name="Рисунок 33" descr="книжка.gif"/>
          <p:cNvPicPr/>
          <p:nvPr/>
        </p:nvPicPr>
        <p:blipFill>
          <a:blip r:embed="rId3"/>
          <a:stretch/>
        </p:blipFill>
        <p:spPr>
          <a:xfrm>
            <a:off x="4000680" y="59292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619200" y="16192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 русских пис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Таблица 2" descr=""/>
          <p:cNvPicPr/>
          <p:nvPr/>
        </p:nvPicPr>
        <p:blipFill>
          <a:blip r:embed="rId1"/>
          <a:stretch/>
        </p:blipFill>
        <p:spPr>
          <a:xfrm>
            <a:off x="712800" y="3713040"/>
            <a:ext cx="6218280" cy="379116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3" descr="обложка желудь низ.png"/>
          <p:cNvPicPr/>
          <p:nvPr/>
        </p:nvPicPr>
        <p:blipFill>
          <a:blip r:embed="rId2"/>
          <a:stretch/>
        </p:blipFill>
        <p:spPr>
          <a:xfrm>
            <a:off x="3619440" y="0"/>
            <a:ext cx="3238560" cy="35053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5" descr="книжка.gif"/>
          <p:cNvPicPr/>
          <p:nvPr/>
        </p:nvPicPr>
        <p:blipFill>
          <a:blip r:embed="rId3"/>
          <a:stretch/>
        </p:blipFill>
        <p:spPr>
          <a:xfrm>
            <a:off x="4000680" y="59292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ОРЕТЦ</dc:creator>
  <dc:description/>
  <dc:language>en-US</dc:language>
  <cp:lastModifiedBy>Admin</cp:lastModifiedBy>
  <dcterms:modified xsi:type="dcterms:W3CDTF">2011-09-23T17:25:21Z</dcterms:modified>
  <cp:revision>26</cp:revision>
  <dc:subject/>
  <dc:title>Мы идем в гости к детским писателям</dc:title>
</cp:coreProperties>
</file>