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626-4305-47FD-A0B9-EBF27782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55F-DF78-4699-9962-2E8F3A4B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EDB-57DD-4AD4-A9F2-F91FE671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072-B036-4D5B-A7D7-D7EEB634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BFA-AF56-4EB6-A132-8D317E77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D95-5332-4382-BC8B-BC7D4496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6658-ABF1-4919-87FE-BC4A7589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8EE-D671-495E-A957-4C649F19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7D3-8105-4542-9536-4FDAC763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9BA-CA52-4703-8FA9-A9DE2B2B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EA0-DFB4-4EB4-9711-789D3760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8DB-E2E8-4F0F-A25A-918B269D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382A-D701-4E9E-A05D-BE0512F373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28140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486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755640" y="1268280"/>
            <a:ext cx="756144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дравству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cc"/>
                </a:solidFill>
                <a:latin typeface="Times New Roman"/>
              </a:rPr>
              <a:t>Злой поступо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5562360"/>
            <a:ext cx="7467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ЕХ – ЗЛОЕ, ЖЕСТОКОЕ ДЕ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Дети%20читают%20002"/>
          <p:cNvPicPr/>
          <p:nvPr/>
        </p:nvPicPr>
        <p:blipFill>
          <a:blip r:embed="rId1"/>
          <a:srcRect l="44646" t="51088" r="18080" b="10551"/>
          <a:stretch/>
        </p:blipFill>
        <p:spPr>
          <a:xfrm>
            <a:off x="2286000" y="1905120"/>
            <a:ext cx="48769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Бед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41460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Рассказ бабушк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cc"/>
                </a:solidFill>
                <a:latin typeface="Times New Roman"/>
              </a:rPr>
              <a:t>урок жизн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41460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УРОК     ЖИЗ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чего же  он помер?- хрипло спросил Филь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охлаждения сердца,- ответила баб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ть и нынче завелся в Бережках дурной человек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Дети%20читают%20003"/>
          <p:cNvPicPr/>
          <p:nvPr/>
        </p:nvPicPr>
        <p:blipFill>
          <a:blip r:embed="rId1"/>
          <a:srcRect l="40931" t="4826" r="20042" b="64331"/>
          <a:stretch/>
        </p:blipFill>
        <p:spPr>
          <a:xfrm>
            <a:off x="5189400" y="1981080"/>
            <a:ext cx="3486240" cy="2384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3670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rack - No29.mp3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23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РАСКАЯ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Дети%20читают%20004"/>
          <p:cNvPicPr/>
          <p:nvPr/>
        </p:nvPicPr>
        <p:blipFill>
          <a:blip r:embed="rId1"/>
          <a:srcRect l="42786" t="51088" r="20042" b="10551"/>
          <a:stretch/>
        </p:blipFill>
        <p:spPr>
          <a:xfrm>
            <a:off x="1828800" y="1828800"/>
            <a:ext cx="5410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воздух синий, страш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воздух замёр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черные и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воздух колол груд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тяжело шё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заржал и забил копытом раненый кон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РАСКАЯ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Дети%20читают%20004"/>
          <p:cNvPicPr/>
          <p:nvPr/>
        </p:nvPicPr>
        <p:blipFill>
          <a:blip r:embed="rId1"/>
          <a:srcRect l="42786" t="51088" r="20042" b="10551"/>
          <a:stretch/>
        </p:blipFill>
        <p:spPr>
          <a:xfrm>
            <a:off x="1828800" y="1828800"/>
            <a:ext cx="5410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Искупление ви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05560" y="5943240"/>
            <a:ext cx="152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Дети%20читают%20002"/>
          <p:cNvPicPr/>
          <p:nvPr/>
        </p:nvPicPr>
        <p:blipFill>
          <a:blip r:embed="rId1"/>
          <a:srcRect l="44646" t="51088" r="18080" b="10551"/>
          <a:stretch/>
        </p:blipFill>
        <p:spPr>
          <a:xfrm>
            <a:off x="1676520" y="1905120"/>
            <a:ext cx="6095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Путь человеческой души к покаяни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Times New Roman"/>
              </a:rPr>
              <a:t>Лестница покая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81080" y="4952880"/>
            <a:ext cx="4876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Times New Roman"/>
              </a:rPr>
              <a:t>ОСОЗН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905120" y="3886200"/>
            <a:ext cx="49528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Times New Roman"/>
              </a:rPr>
              <a:t>ПРЕОДО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828800" y="2895480"/>
            <a:ext cx="51055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Times New Roman"/>
              </a:rPr>
              <a:t>ПОКАЯ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43080" y="1600200"/>
            <a:ext cx="84582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КУПЛЕНИЕ И ИСПРАВЛЕНИЕ ГРЕХ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09480" y="304920"/>
            <a:ext cx="7925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БЛАГОДАРНОСТЬ ЗА УР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Дети%20читают"/>
          <p:cNvPicPr/>
          <p:nvPr/>
        </p:nvPicPr>
        <p:blipFill>
          <a:blip r:embed="rId1"/>
          <a:srcRect l="7824" t="3201" r="43263" b="11751"/>
          <a:stretch/>
        </p:blipFill>
        <p:spPr>
          <a:xfrm>
            <a:off x="611280" y="260280"/>
            <a:ext cx="799308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БЛАГОДАРНОСТЬ </a:t>
            </a:r>
            <a:br>
              <a:rPr sz="5400"/>
            </a:b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ЗА УР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4052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Дети%20читают%20005"/>
          <p:cNvPicPr/>
          <p:nvPr/>
        </p:nvPicPr>
        <p:blipFill>
          <a:blip r:embed="rId1"/>
          <a:srcRect l="42786" t="7591" r="19423" b="54081"/>
          <a:stretch/>
        </p:blipFill>
        <p:spPr>
          <a:xfrm>
            <a:off x="1295280" y="2057400"/>
            <a:ext cx="655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ПОСТ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ВЕЛИКИЙ ПОС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85800" y="2205000"/>
            <a:ext cx="7772400" cy="4319640"/>
          </a:xfrm>
          <a:prstGeom prst="rect">
            <a:avLst/>
          </a:prstGeom>
          <a:ln w="0">
            <a:noFill/>
          </a:ln>
        </p:spPr>
      </p:pic>
      <p:pic>
        <p:nvPicPr>
          <p:cNvPr id="100" name="Track - No16.mp3" descr=""/>
          <p:cNvPicPr/>
          <p:nvPr/>
        </p:nvPicPr>
        <p:blipFill>
          <a:blip r:embed="rId2"/>
          <a:stretch/>
        </p:blipFill>
        <p:spPr>
          <a:xfrm>
            <a:off x="8172360" y="177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570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ПОСТ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ВЕЛИКИЙ ПОС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36840" y="1981080"/>
            <a:ext cx="6068880" cy="3103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900000" y="5300640"/>
            <a:ext cx="755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ремя покаяния, очищения душ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Track - No16.mp3" descr=""/>
          <p:cNvPicPr/>
          <p:nvPr/>
        </p:nvPicPr>
        <p:blipFill>
          <a:blip r:embed="rId2"/>
          <a:stretch/>
        </p:blipFill>
        <p:spPr>
          <a:xfrm>
            <a:off x="7740720" y="90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5701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09480" y="16002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нстантин  Георгиевич 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аустовский 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"Теплый хлеб".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ремя Великого Поста.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457840" y="-635220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Учебная хрестоматия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стр.155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6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нарисовать иллюстрацию к наиболее значимому для вас отрывку тек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Дети%20читают"/>
          <p:cNvPicPr/>
          <p:nvPr/>
        </p:nvPicPr>
        <p:blipFill>
          <a:blip r:embed="rId1"/>
          <a:srcRect l="7824" t="3201" r="43263" b="11751"/>
          <a:stretch/>
        </p:blipFill>
        <p:spPr>
          <a:xfrm>
            <a:off x="4572000" y="1628640"/>
            <a:ext cx="3809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Константин Георгиевич Паустовский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«Теплый хлеб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3"/>
          <p:cNvSpPr txBox="1"/>
          <p:nvPr/>
        </p:nvSpPr>
        <p:spPr>
          <a:xfrm>
            <a:off x="609480" y="16002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нстантин  Георгиевич 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аустовский 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"Теплый хлеб".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ремя Великого Поста.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1"/>
          <p:cNvGraphicFramePr/>
          <p:nvPr/>
        </p:nvGraphicFramePr>
        <p:xfrm>
          <a:off x="1901880" y="457200"/>
          <a:ext cx="50673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1880" y="457200"/>
                    <a:ext cx="50673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Введен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41460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j0149407"/>
          <p:cNvPicPr/>
          <p:nvPr/>
        </p:nvPicPr>
        <p:blipFill>
          <a:blip r:embed="rId1"/>
          <a:stretch/>
        </p:blipFill>
        <p:spPr>
          <a:xfrm>
            <a:off x="2987640" y="2924280"/>
            <a:ext cx="30970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ВВЕДЕН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льник Панк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ьчик Филь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бу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367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Дети%20читают%20001"/>
          <p:cNvPicPr/>
          <p:nvPr/>
        </p:nvPicPr>
        <p:blipFill>
          <a:blip r:embed="rId1"/>
          <a:srcRect l="18639" t="0" r="42325" b="59152"/>
          <a:stretch/>
        </p:blipFill>
        <p:spPr>
          <a:xfrm>
            <a:off x="4114800" y="2187720"/>
            <a:ext cx="43434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3367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Дети%20читают%20001"/>
          <p:cNvPicPr/>
          <p:nvPr/>
        </p:nvPicPr>
        <p:blipFill>
          <a:blip r:embed="rId1"/>
          <a:srcRect l="18639" t="0" r="42325" b="59152"/>
          <a:stretch/>
        </p:blipFill>
        <p:spPr>
          <a:xfrm>
            <a:off x="762120" y="538200"/>
            <a:ext cx="76197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cc"/>
                </a:solidFill>
                <a:latin typeface="Times New Roman"/>
              </a:rPr>
              <a:t>Злой поступо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5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Дети%20читают%20002"/>
          <p:cNvPicPr/>
          <p:nvPr/>
        </p:nvPicPr>
        <p:blipFill>
          <a:blip r:embed="rId1"/>
          <a:srcRect l="44646" t="51088" r="18080" b="10551"/>
          <a:stretch/>
        </p:blipFill>
        <p:spPr>
          <a:xfrm>
            <a:off x="1371600" y="1981080"/>
            <a:ext cx="6400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6:33:18Z</dcterms:created>
  <dc:creator>Ирина Михайловна</dc:creator>
  <dc:description/>
  <dc:language>en-US</dc:language>
  <cp:lastModifiedBy>Коля</cp:lastModifiedBy>
  <dcterms:modified xsi:type="dcterms:W3CDTF">2013-05-01T08:09:32Z</dcterms:modified>
  <cp:revision>21</cp:revision>
  <dc:subject/>
  <dc:title>Презентация PowerPoint</dc:title>
</cp:coreProperties>
</file>