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52C-E2CF-4EE4-AFA6-80E289CD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083-69F8-4370-B0C0-5E69B13F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F64-98AF-4CE8-A6E3-2C0687F9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373-FA9A-47AE-AE26-1BFD174F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FE7-3FF8-499F-809F-6ADC5CAD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7E6-B3FF-4D08-B599-B2D7444E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CCF-1EBD-419C-8041-ABC5416C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C2B-2C75-4127-A809-18B715E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D3F-50DB-4FDF-8EC8-09E11982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B08-9524-4871-9B04-5E7A7AA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141-AC52-402A-97A8-2527673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245-9600-4D67-8E21-48E9A210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525A-0A6F-412E-BAE7-F84CED25F7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814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486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755640" y="1268280"/>
            <a:ext cx="75614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дравству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Злой поступо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55623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ЕХ – ЗЛОЕ, ЖЕСТОКОЕ ДЕ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2286000" y="1905120"/>
            <a:ext cx="48769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Бе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Рассказ бабушк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cc"/>
                </a:solidFill>
                <a:latin typeface="Times New Roman"/>
              </a:rPr>
              <a:t>урок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УРОК     ЖИЗ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го же  он помер?- хрипло спросил Филь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охлаждения сердца,- ответила баб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ть и нынче завелся в Бережках дурной человек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Дети%20читают%20003"/>
          <p:cNvPicPr/>
          <p:nvPr/>
        </p:nvPicPr>
        <p:blipFill>
          <a:blip r:embed="rId1"/>
          <a:srcRect l="40931" t="4826" r="20042" b="64331"/>
          <a:stretch/>
        </p:blipFill>
        <p:spPr>
          <a:xfrm>
            <a:off x="5189400" y="1981080"/>
            <a:ext cx="3486240" cy="2384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3670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rack - No29.mp3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23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РАСКАЯ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Дети%20читают%20004"/>
          <p:cNvPicPr/>
          <p:nvPr/>
        </p:nvPicPr>
        <p:blipFill>
          <a:blip r:embed="rId1"/>
          <a:srcRect l="42786" t="51088" r="20042" b="10551"/>
          <a:stretch/>
        </p:blipFill>
        <p:spPr>
          <a:xfrm>
            <a:off x="1828800" y="1828800"/>
            <a:ext cx="5410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синий, страш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замёр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черные и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колол груд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тяжело шё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ржал и забил копытом раненый кон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РАСКАЯ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Дети%20читают%20004"/>
          <p:cNvPicPr/>
          <p:nvPr/>
        </p:nvPicPr>
        <p:blipFill>
          <a:blip r:embed="rId1"/>
          <a:srcRect l="42786" t="51088" r="20042" b="10551"/>
          <a:stretch/>
        </p:blipFill>
        <p:spPr>
          <a:xfrm>
            <a:off x="1828800" y="1828800"/>
            <a:ext cx="5410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Искупление в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05560" y="5943240"/>
            <a:ext cx="152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1676520" y="190512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уть человеческой души к покаяни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Times New Roman"/>
              </a:rPr>
              <a:t>Лестница покая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81080" y="4952880"/>
            <a:ext cx="4876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</a:rPr>
              <a:t>ОСОЗН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905120" y="3886200"/>
            <a:ext cx="49528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imes New Roman"/>
              </a:rPr>
              <a:t>ПРЕОДО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828800" y="2895480"/>
            <a:ext cx="5105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</a:rPr>
              <a:t>ПОКАЯ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43080" y="1600200"/>
            <a:ext cx="84582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КУПЛЕНИЕ И ИСПРАВЛЕНИЕ ГРЕ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09480" y="304920"/>
            <a:ext cx="7925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БЛАГОДАРНОСТЬ ЗА УР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Дети%20читают"/>
          <p:cNvPicPr/>
          <p:nvPr/>
        </p:nvPicPr>
        <p:blipFill>
          <a:blip r:embed="rId1"/>
          <a:srcRect l="7824" t="3201" r="43263" b="11751"/>
          <a:stretch/>
        </p:blipFill>
        <p:spPr>
          <a:xfrm>
            <a:off x="611280" y="260280"/>
            <a:ext cx="79930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БЛАГОДАРНОСТЬ </a:t>
            </a:r>
            <a:br>
              <a:rPr sz="5400"/>
            </a:b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ЗА УР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052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Дети%20читают%20005"/>
          <p:cNvPicPr/>
          <p:nvPr/>
        </p:nvPicPr>
        <p:blipFill>
          <a:blip r:embed="rId1"/>
          <a:srcRect l="42786" t="7591" r="19423" b="54081"/>
          <a:stretch/>
        </p:blipFill>
        <p:spPr>
          <a:xfrm>
            <a:off x="1295280" y="20574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ПОСТ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ВЕЛИКИЙ ПОС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85800" y="2205000"/>
            <a:ext cx="7772400" cy="4319640"/>
          </a:xfrm>
          <a:prstGeom prst="rect">
            <a:avLst/>
          </a:prstGeom>
          <a:ln w="0">
            <a:noFill/>
          </a:ln>
        </p:spPr>
      </p:pic>
      <p:pic>
        <p:nvPicPr>
          <p:cNvPr id="100" name="Track - No16.mp3" descr=""/>
          <p:cNvPicPr/>
          <p:nvPr/>
        </p:nvPicPr>
        <p:blipFill>
          <a:blip r:embed="rId2"/>
          <a:stretch/>
        </p:blipFill>
        <p:spPr>
          <a:xfrm>
            <a:off x="8172360" y="177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570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ПОСТ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ВЕЛИКИЙ ПОС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36840" y="1981080"/>
            <a:ext cx="6068880" cy="3103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900000" y="5300640"/>
            <a:ext cx="75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емя покаяния, очищения душ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Track - No16.mp3" descr=""/>
          <p:cNvPicPr/>
          <p:nvPr/>
        </p:nvPicPr>
        <p:blipFill>
          <a:blip r:embed="rId2"/>
          <a:stretch/>
        </p:blipFill>
        <p:spPr>
          <a:xfrm>
            <a:off x="774072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5701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09480" y="16002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нстантин  Георгиевич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аустовский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"Теплый хлеб"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ремя Великого Поста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457840" y="-635220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Учебная хрестоматия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стр.155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арисовать иллюстрацию к наиболее значимому для вас отрывку тек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Дети%20читают"/>
          <p:cNvPicPr/>
          <p:nvPr/>
        </p:nvPicPr>
        <p:blipFill>
          <a:blip r:embed="rId1"/>
          <a:srcRect l="7824" t="3201" r="43263" b="11751"/>
          <a:stretch/>
        </p:blipFill>
        <p:spPr>
          <a:xfrm>
            <a:off x="4572000" y="1628640"/>
            <a:ext cx="3809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Константин Георгиевич Паустовский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«Теплый хлеб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3"/>
          <p:cNvSpPr txBox="1"/>
          <p:nvPr/>
        </p:nvSpPr>
        <p:spPr>
          <a:xfrm>
            <a:off x="609480" y="16002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нстантин  Георгиевич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аустовский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"Теплый хлеб"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ремя Великого Поста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1"/>
          <p:cNvGraphicFramePr/>
          <p:nvPr/>
        </p:nvGraphicFramePr>
        <p:xfrm>
          <a:off x="1901880" y="457200"/>
          <a:ext cx="50673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457200"/>
                    <a:ext cx="50673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Введе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j0149407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ВВЕДЕ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льник Панк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ьчик Фил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67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Дети%20читают%20001"/>
          <p:cNvPicPr/>
          <p:nvPr/>
        </p:nvPicPr>
        <p:blipFill>
          <a:blip r:embed="rId1"/>
          <a:srcRect l="18639" t="0" r="42325" b="59152"/>
          <a:stretch/>
        </p:blipFill>
        <p:spPr>
          <a:xfrm>
            <a:off x="4114800" y="2187720"/>
            <a:ext cx="43434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367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Дети%20читают%20001"/>
          <p:cNvPicPr/>
          <p:nvPr/>
        </p:nvPicPr>
        <p:blipFill>
          <a:blip r:embed="rId1"/>
          <a:srcRect l="18639" t="0" r="42325" b="59152"/>
          <a:stretch/>
        </p:blipFill>
        <p:spPr>
          <a:xfrm>
            <a:off x="762120" y="538200"/>
            <a:ext cx="76197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Злой поступо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5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1371600" y="1981080"/>
            <a:ext cx="6400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6:33:18Z</dcterms:created>
  <dc:creator>Ирина Михайловна</dc:creator>
  <dc:description/>
  <dc:language>en-US</dc:language>
  <cp:lastModifiedBy>Коля</cp:lastModifiedBy>
  <dcterms:modified xsi:type="dcterms:W3CDTF">2013-05-01T08:09:32Z</dcterms:modified>
  <cp:revision>21</cp:revision>
  <dc:subject/>
  <dc:title>Презентация PowerPoint</dc:title>
</cp:coreProperties>
</file>