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C3E-E71D-4FAA-822D-B53EBB6A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0A46-0983-4B6A-9F98-751FE6CA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39F0-9363-4284-82C9-52A5ADE7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6C8-987F-4DDD-969A-DA49416B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91E-A9AA-4374-A881-79B5CE00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2BA-A5D6-4FA6-AC91-F64AEF59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96B3-1AE3-40AB-A96B-74142EEB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ADC-5702-4A72-8D1F-1EBDB0BD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745-BB49-4D53-BAD2-A8DAC667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37E-D951-455E-9581-96B003C1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B6C0-E514-43AA-AB58-28DC8BA2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701D-BA87-4C60-8E70-2AD6871F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5e"/>
            </a:gs>
            <a:gs pos="50000">
              <a:srgbClr val="99ffcc"/>
            </a:gs>
            <a:gs pos="100000">
              <a:srgbClr val="47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D28E-E21D-47C1-9859-40FBCABC4C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28140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4862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755640" y="1268280"/>
            <a:ext cx="756144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дравствуйт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cc"/>
                </a:solidFill>
                <a:latin typeface="Times New Roman"/>
              </a:rPr>
              <a:t>Злой поступо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5562360"/>
            <a:ext cx="74678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РЕХ – ЗЛОЕ, ЖЕСТОКОЕ ДЕ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Дети%20читают%20002"/>
          <p:cNvPicPr/>
          <p:nvPr/>
        </p:nvPicPr>
        <p:blipFill>
          <a:blip r:embed="rId1"/>
          <a:srcRect l="44646" t="51088" r="18080" b="10551"/>
          <a:stretch/>
        </p:blipFill>
        <p:spPr>
          <a:xfrm>
            <a:off x="2286000" y="1905120"/>
            <a:ext cx="487692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Arial"/>
              </a:rPr>
              <a:t>Бед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341460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Arial"/>
              </a:rPr>
              <a:t>Рассказ бабушки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49532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cc"/>
                </a:solidFill>
                <a:latin typeface="Times New Roman"/>
              </a:rPr>
              <a:t>урок жизн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41460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УРОК     ЖИЗ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чего же  он помер?- хрипло спросил Филь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охлаждения сердца,- ответила баб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ть и нынче завелся в Бережках дурной человек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7" descr="Дети%20читают%20003"/>
          <p:cNvPicPr/>
          <p:nvPr/>
        </p:nvPicPr>
        <p:blipFill>
          <a:blip r:embed="rId1"/>
          <a:srcRect l="40931" t="4826" r="20042" b="64331"/>
          <a:stretch/>
        </p:blipFill>
        <p:spPr>
          <a:xfrm>
            <a:off x="5189400" y="1981080"/>
            <a:ext cx="3486240" cy="2384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336708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Track - No29.mp3" descr=""/>
          <p:cNvPicPr/>
          <p:nvPr/>
        </p:nvPicPr>
        <p:blipFill>
          <a:blip r:embed="rId2"/>
          <a:stretch/>
        </p:blipFill>
        <p:spPr>
          <a:xfrm>
            <a:off x="640080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823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Times New Roman"/>
              </a:rPr>
              <a:t>РАСКАЯН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Дети%20читают%20004"/>
          <p:cNvPicPr/>
          <p:nvPr/>
        </p:nvPicPr>
        <p:blipFill>
          <a:blip r:embed="rId1"/>
          <a:srcRect l="42786" t="51088" r="20042" b="10551"/>
          <a:stretch/>
        </p:blipFill>
        <p:spPr>
          <a:xfrm>
            <a:off x="1828800" y="1828800"/>
            <a:ext cx="5410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-36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- воздух синий, страшны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- воздух замёр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- черные и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- воздух колол груд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- тяжело шё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заржал и забил копытом раненый кон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Times New Roman"/>
              </a:rPr>
              <a:t>РАСКАЯН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Дети%20читают%20004"/>
          <p:cNvPicPr/>
          <p:nvPr/>
        </p:nvPicPr>
        <p:blipFill>
          <a:blip r:embed="rId1"/>
          <a:srcRect l="42786" t="51088" r="20042" b="10551"/>
          <a:stretch/>
        </p:blipFill>
        <p:spPr>
          <a:xfrm>
            <a:off x="1828800" y="1828800"/>
            <a:ext cx="5410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Times New Roman"/>
              </a:rPr>
              <a:t>Искупление вин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05560" y="5943240"/>
            <a:ext cx="1522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Дети%20читают%20002"/>
          <p:cNvPicPr/>
          <p:nvPr/>
        </p:nvPicPr>
        <p:blipFill>
          <a:blip r:embed="rId1"/>
          <a:srcRect l="44646" t="51088" r="18080" b="10551"/>
          <a:stretch/>
        </p:blipFill>
        <p:spPr>
          <a:xfrm>
            <a:off x="1676520" y="1905120"/>
            <a:ext cx="6095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Путь человеческой души к покаяни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Times New Roman"/>
              </a:rPr>
              <a:t>Лестница покаян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981080" y="4952880"/>
            <a:ext cx="4876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cc"/>
                </a:solidFill>
                <a:latin typeface="Times New Roman"/>
              </a:rPr>
              <a:t>ОСОЗН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905120" y="3886200"/>
            <a:ext cx="49528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cc"/>
                </a:solidFill>
                <a:latin typeface="Times New Roman"/>
              </a:rPr>
              <a:t>ПРЕОДО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828800" y="2895480"/>
            <a:ext cx="51055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cc"/>
                </a:solidFill>
                <a:latin typeface="Times New Roman"/>
              </a:rPr>
              <a:t>ПОКАЯ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43080" y="1600200"/>
            <a:ext cx="84582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СКУПЛЕНИЕ И ИСПРАВЛЕНИЕ ГРЕХ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09480" y="304920"/>
            <a:ext cx="79250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БЛАГОДАРНОСТЬ ЗА УР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Дети%20читают"/>
          <p:cNvPicPr/>
          <p:nvPr/>
        </p:nvPicPr>
        <p:blipFill>
          <a:blip r:embed="rId1"/>
          <a:srcRect l="7824" t="3201" r="43263" b="11751"/>
          <a:stretch/>
        </p:blipFill>
        <p:spPr>
          <a:xfrm>
            <a:off x="611280" y="260280"/>
            <a:ext cx="7993080" cy="61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Times New Roman"/>
              </a:rPr>
              <a:t>БЛАГОДАРНОСТЬ </a:t>
            </a:r>
            <a:br>
              <a:rPr sz="5400"/>
            </a:br>
            <a:r>
              <a:rPr b="1" i="1" lang="ru-RU" sz="5400" spc="-1" strike="noStrike">
                <a:solidFill>
                  <a:srgbClr val="ff3300"/>
                </a:solidFill>
                <a:latin typeface="Times New Roman"/>
              </a:rPr>
              <a:t>ЗА УРО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40524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Дети%20читают%20005"/>
          <p:cNvPicPr/>
          <p:nvPr/>
        </p:nvPicPr>
        <p:blipFill>
          <a:blip r:embed="rId1"/>
          <a:srcRect l="42786" t="7591" r="19423" b="54081"/>
          <a:stretch/>
        </p:blipFill>
        <p:spPr>
          <a:xfrm>
            <a:off x="1295280" y="2057400"/>
            <a:ext cx="6553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ПОСТ</a:t>
            </a:r>
            <a:br>
              <a:rPr sz="6000"/>
            </a:b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ВЕЛИКИЙ ПОС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85800" y="2205000"/>
            <a:ext cx="7772400" cy="4319640"/>
          </a:xfrm>
          <a:prstGeom prst="rect">
            <a:avLst/>
          </a:prstGeom>
          <a:ln w="0">
            <a:noFill/>
          </a:ln>
        </p:spPr>
      </p:pic>
      <p:pic>
        <p:nvPicPr>
          <p:cNvPr id="100" name="Track - No16.mp3" descr=""/>
          <p:cNvPicPr/>
          <p:nvPr/>
        </p:nvPicPr>
        <p:blipFill>
          <a:blip r:embed="rId2"/>
          <a:stretch/>
        </p:blipFill>
        <p:spPr>
          <a:xfrm>
            <a:off x="8172360" y="1773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570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ПОСТ</a:t>
            </a:r>
            <a:br>
              <a:rPr sz="6000"/>
            </a:b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ВЕЛИКИЙ ПОС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536840" y="1981080"/>
            <a:ext cx="6068880" cy="3103560"/>
          </a:xfrm>
          <a:prstGeom prst="rect">
            <a:avLst/>
          </a:prstGeom>
          <a:ln w="0">
            <a:noFill/>
          </a:ln>
        </p:spPr>
      </p:pic>
      <p:sp>
        <p:nvSpPr>
          <p:cNvPr id="103" name="WordArt 5"/>
          <p:cNvSpPr txBox="1"/>
          <p:nvPr/>
        </p:nvSpPr>
        <p:spPr>
          <a:xfrm>
            <a:off x="900000" y="5300640"/>
            <a:ext cx="755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ремя покаяния, очищения душ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" name="Track - No16.mp3" descr=""/>
          <p:cNvPicPr/>
          <p:nvPr/>
        </p:nvPicPr>
        <p:blipFill>
          <a:blip r:embed="rId2"/>
          <a:stretch/>
        </p:blipFill>
        <p:spPr>
          <a:xfrm>
            <a:off x="7740720" y="907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57017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609480" y="1600200"/>
            <a:ext cx="76964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онстантин  Георгиевич 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аустовский 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"Теплый хлеб".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ремя Великого Поста.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457840" y="-635220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6600"/>
                </a:solidFill>
                <a:latin typeface="Times New Roman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Учебная хрестоматия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стр.155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16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нарисовать иллюстрацию к наиболее значимому для вас отрывку тек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Дети%20читают"/>
          <p:cNvPicPr/>
          <p:nvPr/>
        </p:nvPicPr>
        <p:blipFill>
          <a:blip r:embed="rId1"/>
          <a:srcRect l="7824" t="3201" r="43263" b="11751"/>
          <a:stretch/>
        </p:blipFill>
        <p:spPr>
          <a:xfrm>
            <a:off x="4572000" y="1628640"/>
            <a:ext cx="38098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Константин Георгиевич Паустовский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«Теплый хлеб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3"/>
          <p:cNvSpPr txBox="1"/>
          <p:nvPr/>
        </p:nvSpPr>
        <p:spPr>
          <a:xfrm>
            <a:off x="609480" y="1600200"/>
            <a:ext cx="76964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онстантин  Георгиевич 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аустовский 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"Теплый хлеб".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ремя Великого Поста.</a:t>
            </a:r>
            <a:endParaRPr b="0" lang="en-US" sz="4800" spc="1" strike="noStrike">
              <a:ln w="0">
                <a:noFill/>
              </a:ln>
              <a:solidFill>
                <a:srgbClr val="3366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11"/>
          <p:cNvGraphicFramePr/>
          <p:nvPr/>
        </p:nvGraphicFramePr>
        <p:xfrm>
          <a:off x="1901880" y="457200"/>
          <a:ext cx="50673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1880" y="457200"/>
                    <a:ext cx="50673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Arial"/>
              </a:rPr>
              <a:t>Введени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414600" y="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" descr="j0149407"/>
          <p:cNvPicPr/>
          <p:nvPr/>
        </p:nvPicPr>
        <p:blipFill>
          <a:blip r:embed="rId1"/>
          <a:stretch/>
        </p:blipFill>
        <p:spPr>
          <a:xfrm>
            <a:off x="2987640" y="2924280"/>
            <a:ext cx="30970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Arial"/>
              </a:rPr>
              <a:t>ВВЕДЕНИ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льник Панкр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ьчик Филь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бу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367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Дети%20читают%20001"/>
          <p:cNvPicPr/>
          <p:nvPr/>
        </p:nvPicPr>
        <p:blipFill>
          <a:blip r:embed="rId1"/>
          <a:srcRect l="18639" t="0" r="42325" b="59152"/>
          <a:stretch/>
        </p:blipFill>
        <p:spPr>
          <a:xfrm>
            <a:off x="4114800" y="2187720"/>
            <a:ext cx="434340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3367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Дети%20читают%20001"/>
          <p:cNvPicPr/>
          <p:nvPr/>
        </p:nvPicPr>
        <p:blipFill>
          <a:blip r:embed="rId1"/>
          <a:srcRect l="18639" t="0" r="42325" b="59152"/>
          <a:stretch/>
        </p:blipFill>
        <p:spPr>
          <a:xfrm>
            <a:off x="762120" y="538200"/>
            <a:ext cx="761976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cc"/>
                </a:solidFill>
                <a:latin typeface="Times New Roman"/>
              </a:rPr>
              <a:t>Злой поступо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60958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4290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Дети%20читают%20002"/>
          <p:cNvPicPr/>
          <p:nvPr/>
        </p:nvPicPr>
        <p:blipFill>
          <a:blip r:embed="rId1"/>
          <a:srcRect l="44646" t="51088" r="18080" b="10551"/>
          <a:stretch/>
        </p:blipFill>
        <p:spPr>
          <a:xfrm>
            <a:off x="1371600" y="1981080"/>
            <a:ext cx="64008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06:33:18Z</dcterms:created>
  <dc:creator>Ирина Михайловна</dc:creator>
  <dc:description/>
  <dc:language>en-US</dc:language>
  <cp:lastModifiedBy>Коля</cp:lastModifiedBy>
  <dcterms:modified xsi:type="dcterms:W3CDTF">2013-05-01T08:09:32Z</dcterms:modified>
  <cp:revision>21</cp:revision>
  <dc:subject/>
  <dc:title>Презентация PowerPoint</dc:title>
</cp:coreProperties>
</file>