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54C8-ED41-4D71-9546-73A2898D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4565-2E65-4A55-965A-EAE18FC3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2116-769C-4F4B-8B06-74948D52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5DA4-DA61-44AC-B6DA-249987A4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A6CA-7EC4-49F1-84E3-10931ED5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62CF-25B8-416B-80AB-24320A80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C9E2-8DCE-454D-A26D-E778539B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428F-872C-4260-A99A-FCE88F99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FAEA-F842-46AE-B253-E131C6F9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B8B9-C6D9-493F-B850-ECA6E6EA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0B29-E44C-4527-A27F-16B4CF0F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5C405-B1F3-4C9D-B2BA-1D242844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4741-8456-4306-9EFE-BAA6A805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73D7-529C-4E4A-A44B-6DD604AB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3CD7-88EC-4C6E-8A76-F9CF2784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29BC-84D4-4543-8F6B-2D508AA8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A193-0926-459F-8067-72184E92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5C28-F4B1-45F6-AEC0-346CE049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AE34-608F-41EF-B2D7-1BD5BD3D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4CAA-4834-492D-9F59-4D11BFD9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F18D-56F9-465B-AC15-EBADA608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4DCD-DAE2-4340-9AC9-A5BCA594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9979A-1574-4D48-9602-36A653FE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2A74-5593-4882-8512-A794B76D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2CD3-AD99-4705-ACEE-DB2562CB08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EDCF-A1BC-4313-B3ED-5C4F9FBD15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ак я выгляж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32000" y="4508640"/>
            <a:ext cx="210492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nnabelle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Загад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916360" y="4365720"/>
            <a:ext cx="193680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6553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ладко, душис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оет чи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ужно, чтобы у каждого бы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то, ребята?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132000" y="3573360"/>
            <a:ext cx="4086360" cy="3063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914480" cy="2664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62020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остяная спи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 брюшке щетин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 частоколу попрыг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сю грязь повыгнал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516720" y="620640"/>
            <a:ext cx="1584360" cy="208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835280" y="3429000"/>
            <a:ext cx="6540480" cy="3147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932360" y="299736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492000" y="3716280"/>
            <a:ext cx="5123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ый, белый порош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жду зубок- скок-поск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лестели зуб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краснелись гу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9640" y="404640"/>
            <a:ext cx="1584360" cy="2087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92360" y="692280"/>
            <a:ext cx="2890800" cy="281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042920" y="414972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92360" y="1700280"/>
            <a:ext cx="5122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ых 25 зуб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кудрей и хохол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под каждым под зуб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ягут волосы ряд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80360" y="404640"/>
            <a:ext cx="1584360" cy="208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8000" y="458136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00720" y="4076640"/>
            <a:ext cx="3743280" cy="2332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26920" y="3141360"/>
            <a:ext cx="489744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яг в карман и кара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ву плаксу и грязну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 утру потоки сл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забуду и про но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596360" y="404640"/>
            <a:ext cx="10411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2089440" cy="2089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940360" y="3500280"/>
            <a:ext cx="2881440" cy="2519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41767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на ежика похож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еще на свин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еня на спи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кая щети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ижу я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язных, будто свин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щетинного сво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 почищу спин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96360" y="404640"/>
            <a:ext cx="104112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71640" y="436572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788000" y="2924280"/>
            <a:ext cx="3863880" cy="2938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8:58:17Z</dcterms:created>
  <dc:creator>Анюта</dc:creator>
  <dc:description/>
  <dc:language>en-US</dc:language>
  <cp:lastModifiedBy>Анюта</cp:lastModifiedBy>
  <dcterms:modified xsi:type="dcterms:W3CDTF">2012-09-22T18:51:12Z</dcterms:modified>
  <cp:revision>3</cp:revision>
  <dc:subject/>
  <dc:title>Слайд 1</dc:title>
</cp:coreProperties>
</file>