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3A787-EBF4-4FB0-830A-9ADB1546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D455-3977-4B40-A04A-4EE9E084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3010-A419-4AFE-82BA-35C93BBE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3BA61-CF43-4942-9FA4-04E85520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E298-962B-48F9-A981-AAF26074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D99E-E3BC-4B09-8032-3AD09AEA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5D2D-8794-4A4A-B17D-5172DE41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76D6-FD36-4A5D-8536-EDEB4A26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E352-BB7C-4D2C-8E4C-447256C6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F3C6-54B1-4940-8610-FFDCECB9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7A95-E502-4682-B90F-E1D6BEA1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00B1-8455-482F-BA21-6F490D71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A117-0F35-4788-B19E-85912ADA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D122-CCB3-4A0B-B77F-63C6309A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5E7E-CB28-4160-839F-C6F92468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B0A9-9E47-4C7A-B453-40A4F72F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D152-CCEA-4A78-B449-EBD9A19B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74AA7-0ED2-40AE-A449-3B0CC76B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87812-EAF0-4D10-8983-AF2954EB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04BBA-95A2-4802-8F33-78064AD7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953B-1444-41DB-8E1A-611F1179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92F0-4333-4129-949B-100499A5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8DAA7-8FFF-4F0C-9CA0-062EB692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A5E94-DB42-403F-9CA9-844597E1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AACE-4A8D-477C-9E8A-57B2CA6E1D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0AB8-B407-4B0B-A3A8-777C2CF681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ак я выгляж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32000" y="4508640"/>
            <a:ext cx="210492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nnabelle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Загад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916360" y="4365720"/>
            <a:ext cx="193680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6553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ладко, душис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оет чи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ужно, чтобы у каждого бы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то, ребята?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132000" y="3573360"/>
            <a:ext cx="4086360" cy="3063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914480" cy="2664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62020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остяная спи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 брюшке щетин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 частоколу попрыг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сю грязь повыгнал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516720" y="620640"/>
            <a:ext cx="1584360" cy="2087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835280" y="3429000"/>
            <a:ext cx="6540480" cy="3147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932360" y="299736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492000" y="3716280"/>
            <a:ext cx="5123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ый, белый порош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жду зубок- скок-поск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лестели зуб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краснелись гу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9640" y="404640"/>
            <a:ext cx="1584360" cy="2087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692360" y="692280"/>
            <a:ext cx="2890800" cy="281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042920" y="414972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692360" y="1700280"/>
            <a:ext cx="5122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ых 25 зуб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кудрей и хохол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под каждым под зуб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ягут волосы ряд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80360" y="404640"/>
            <a:ext cx="1584360" cy="208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8000" y="4581360"/>
            <a:ext cx="2089080" cy="2089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00720" y="4076640"/>
            <a:ext cx="3743280" cy="2332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26920" y="3141360"/>
            <a:ext cx="489744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яг в карман и карау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ву плаксу и грязну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 утру потоки сл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забуду и про но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596360" y="404640"/>
            <a:ext cx="104112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132000" y="765000"/>
            <a:ext cx="2089440" cy="2089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940360" y="3500280"/>
            <a:ext cx="2881440" cy="2519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417672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на ежика похож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еще на свин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еня на спи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кая щети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ижу я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язных, будто свин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щетинного сво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 почищу спин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96360" y="404640"/>
            <a:ext cx="1041120" cy="1371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71640" y="436572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788000" y="2924280"/>
            <a:ext cx="3863880" cy="2938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8:58:17Z</dcterms:created>
  <dc:creator>Анюта</dc:creator>
  <dc:description/>
  <dc:language>en-US</dc:language>
  <cp:lastModifiedBy>Анюта</cp:lastModifiedBy>
  <dcterms:modified xsi:type="dcterms:W3CDTF">2012-09-22T18:51:12Z</dcterms:modified>
  <cp:revision>3</cp:revision>
  <dc:subject/>
  <dc:title>Слайд 1</dc:title>
</cp:coreProperties>
</file>