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082-F285-48E6-AEF7-D1070B8A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456-A630-4B31-80AC-145C0A35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2DB-FFD2-4856-9483-A97E4D73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F8A-B7CC-42B5-9610-4F6C0DE2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3B5B-642A-4FEF-9671-734EA31E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9994-9B7D-4AD9-9742-A83B31E9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9EC4-2C65-4224-BC6F-219A492C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EE9C-8B3E-42EF-A2D6-A2C409B2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6015-99A3-497F-A45B-946DC4D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29FD-07AE-4835-8136-BEDE89B7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25CE-5CC7-4BA9-AC93-90A58978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20E-995D-43AD-98C8-46B4FD85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2192-4A6A-4EC7-9D12-AC11B68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8A89-D830-41D1-B066-F8D2011B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F52B-63DE-4438-96BF-AD86C591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229B-783E-45D8-8058-DE9EBC15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D7A-5E71-4655-BF54-BBE32D44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07B-F32D-4CC8-B5B0-259C6133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BB1-DEBE-4A6B-BD8D-1485CC8A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1C6-2D49-4DDD-B3CB-984EDF24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B36-BFD7-4500-8E2A-46295F8F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54F-771A-4696-870E-EAE7236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E3D-952F-47B6-A917-49F517C6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05F-355C-4DB8-A8EA-F1D6D8C6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1966-4D19-4ABB-AEFC-F133FBFC8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995-CDFE-4FC6-9184-C81461EF0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720" y="1844640"/>
            <a:ext cx="8099280" cy="1944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Организация обучения по подготовке аудиторов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в учебных центрах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122400"/>
            <a:ext cx="9144000" cy="1196640"/>
            <a:chOff x="0" y="122400"/>
            <a:chExt cx="9144000" cy="1196640"/>
          </a:xfrm>
        </p:grpSpPr>
        <p:sp>
          <p:nvSpPr>
            <p:cNvPr id="100" name=""/>
            <p:cNvSpPr/>
            <p:nvPr/>
          </p:nvSpPr>
          <p:spPr>
            <a:xfrm>
              <a:off x="0" y="122400"/>
              <a:ext cx="9144000" cy="1196640"/>
            </a:xfrm>
            <a:prstGeom prst="rect">
              <a:avLst/>
            </a:prstGeom>
            <a:solidFill>
              <a:srgbClr val="e8f0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89000" y="189000"/>
              <a:ext cx="8775720" cy="1052280"/>
              <a:chOff x="189000" y="189000"/>
              <a:chExt cx="8775720" cy="1052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9000" y="366840"/>
                <a:ext cx="207936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4360" y="404640"/>
                <a:ext cx="287964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80000" y="333360"/>
                <a:ext cx="259236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4840" y="189000"/>
                <a:ext cx="569880" cy="10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"/>
          <p:cNvSpPr/>
          <p:nvPr/>
        </p:nvSpPr>
        <p:spPr>
          <a:xfrm>
            <a:off x="971640" y="5300640"/>
            <a:ext cx="777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уза Гулям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ерт Национальной ассоциации бухгалтеров и аудиторов республики Узбекистан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549000"/>
            <a:ext cx="7921440" cy="6048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 наличие стажа работы, в том числе по совместительству, в качестве аудитора, главного бухгалтера, ревизора или налогового инспектора не менее 5 лет из последних десяти с высшим неэкономическим образованием или средним специальным экономическим образованием, полученным в учреждениях профессионального образования Республики Узбекистан, либо высшим неэкономическим образованием или средним специальным экономическим образованием, полученным в образовательном учреждении иностранного государства и в соответствии с законодательством признанным эквивалентным образованию в Республике Узбекист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хождение специального обучения в центрах по подготовке аудиторов на основании программы обучения, утверждаемой Министерством финансов Республики Узбекистан по согласованию с республиканским общественным объединением аудиторов 240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60440"/>
            <a:ext cx="8591400" cy="10238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рограмма обучения включает следующие разделы: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91480" cy="46954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Финансовый у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Управленческий учет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й менеджмент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й анал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у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логообложение и правов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предпринимательс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460440"/>
            <a:ext cx="8591400" cy="9525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РЯДОК СДАЧИ КВАЛИФИКАЦИОННЫХ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ЭКЗАМЕНОВ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848360" cy="4400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лификационный экзамен для группы претендентов (не менее 10 человек и не более 20 человек) проводится в два эта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тирование (в письменной форме в течение 4 академических часов, по результатам которого претендент допускается к письменно-устному экзаме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сьменно-устный экзамен по экзаменационным билетам (на решение задач и подготовку к устному ответу предоставляется 3 академических час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5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711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-этап 2005 г.г. -2007 г.г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125360"/>
            <a:ext cx="8713800" cy="1079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казом министра финансов, зарегистрированным МЮ 20.04.2004 г. N 977-1 было внесено  изменение в «Положение о порядке выдачи квалификационного сертификата аудитор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2420640"/>
            <a:ext cx="7777080" cy="4032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Каждый аудитор, имеющий квалификационный сертификат, обязан в течение каждого года, начиная с года, следующего за годом получения квалификационного сертификата, проходить курсы повышения квалификации в объеме не менее 60 часов по программам повышения квалификации, утверждаемым Министерством финансов Республики Узбекистан по согласованию с республиканским общественным объединением аудиторов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920" y="604440"/>
            <a:ext cx="8642520" cy="6634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7775640" cy="4967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высшего экономического образования, полученного в учреждениях высшего образования Республики Узбекистан, либо высшего экономического образования, полученного в образовательном учреждении иностранного государства и в соответствии с законодательством признанного эквивалентным образованию в Республике Узбеки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ж практической работы (в том числе по совместительству) в сфере бухгалтерского учета, аудита, финансового или налогового контроля, или преподавания в этих сферах не менее трех лет из последних десяти; (Абзац в редакции Приказа министра финансов, зарегистрированного МЮ 18.10.2005 г. N 977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404640"/>
            <a:ext cx="8642520" cy="6638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920000" cy="5256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ждение специального обучения в центрах по подготовке аудиторов на основании программы обучения, утверждаемой Министерством финансов Республики Узбекистан по согласованию с республиканским общественным объединением аудиторов и наличие документа об успешной сдаче предмета "Финансовый учет" по программе международной сертификации профессиональных бухгалтеров в рамках сертификации "Сертифицированный бухгалтер-практик (CAP)" или "Сертифицированный международный профессиональный бухгалтер (CIPA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тенденты, имеющие сертификат "Сертифицированный бухгалтер-практик (САР)" или сертификат "Сертифицированный международный профессиональный бухгалтер (CIPA)" и не менее 5 лет стажа работы в экономической сфере на территории Республики Узбекистан, допускаются к сдаче квалификационного экзамена без прохождения специального обучения в центрах по подготовке ауди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604440"/>
            <a:ext cx="8663040" cy="5922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Изменения в программе обучения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920" y="2046240"/>
            <a:ext cx="7802640" cy="4478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язи с этими изменениями программа обучения для подготовки аудиторов была пересмотрена и количество часов сокращено с 240 до 2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программа была утверждена Министерством финансов РУз 12 февраля 200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5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63040" cy="6858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Программа обучения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700280"/>
            <a:ext cx="81374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834200"/>
            <a:ext cx="7777080" cy="4694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7632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Й УЧ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ПРАВЛЕНЧЕСКИЙ УЧЕТ, ФИНАНСОВ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ЕДЖМЕНТ И ФИНАНСОВЫЙ АНАЛИЗ – 70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АУДИТ – 60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ЛОГООБЛОЖЕНИЕ И ПРАВОВОЕ РЕГУЛИРОВАНИЕ ПРЕДПРИНИМАТЕЛЬСКОЙ ДЕЯТЕЛЬНОСТИ – 50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1440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КМ РУз от 4.04.07 №ПП-615 «О дальнейшем совершенствовании деятельности аудиторских организаций и повышения их ответственности за качество оказываемых услуг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777080" cy="4104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.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экономики, Минфину, МинВузу внести предложения по созданию в экономических вузах специализированных групп, расширению контингента и повышению качества подготовки высококвалифицированных специалистов аудиторов, регулярному повышению  их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4200" y="1914480"/>
            <a:ext cx="7561080" cy="45388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задачи аудиторск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права и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енз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ждение руководителем аудиторской организации один раз в три года аттестации в Минфине РУ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78920" y="547560"/>
            <a:ext cx="8713800" cy="720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«Положение об аудиторских организациях»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5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4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1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4360" y="1052640"/>
            <a:ext cx="7272360" cy="475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1-этап 1992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-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000 г.г.</a:t>
            </a:r>
            <a:br>
              <a:rPr sz="5400"/>
            </a:b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-этап 2000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- 2005 г.г.</a:t>
            </a:r>
            <a:br>
              <a:rPr sz="5400"/>
            </a:b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3-этап 2005 -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007 г.г.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1920" y="1844640"/>
            <a:ext cx="7786800" cy="14320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680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РЕСПУБЛИКИ УЗБЕКИСТАН 09.12.1992 г. N 734-XII  «ОБ АУДИТОР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пределено законодательно понятия аудита, аудитора, аудиторской фирмы, государственной регистрация аудиторов и аудиторских фирм,  лицензирование аудиторской деятельности, аудиторское заключение, права и обязанности аудиторов, ответственность ауди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689040"/>
            <a:ext cx="8713800" cy="581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-этап 1992-2000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63040" cy="61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Основные термины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920000" cy="43210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уди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 специалист,  получивший  в у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ленном порядке право занятия аудиторской деятельностью и включенный в  профессион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й реестр ауди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удиторская фи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едприятие, созданное  юридическим  или физическим лицом, предметом деятельности  которого в соответствии с  его уставом, зарегистрированном в  установленном порядке, является  оказание аудиторских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5829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КМ РУз от 03.05.1993 г. N 198 "Об укреплении финансового контроля и внедрении в хозяйственную деятельность аудиторских форм финансового контроля" и Временное положение об аудиторе (аудиторской фирме). (Приложение  N 1 к Постановлению КМ РУз от 03.05.1993 г. N 198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2565360"/>
            <a:ext cx="7632720" cy="3959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енном положении отмечено - аудиторы  (аудиторские  фирмы)  являются  юридическими лицами, имеют  собственный   счет  в   учреждениях  банков   и  печ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   работы  аудитором   (в  аудиторских   фирмах)  имеют специалисты  с  высшим  образованием,  не  менее чем с пятилетним опытом практической  работы  в  области  бухгалтерского  учета  и   финансового контроля,  имеющие  лицензию,  дающую   право  на  занятие   аудиторской деяте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15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16000" y="2204640"/>
            <a:ext cx="7704000" cy="4103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ья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Зарегистрированному аудитору  или аудиторской фирме  выдается свидетельство о го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рственной регист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49360"/>
            <a:ext cx="8642160" cy="11912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становление КМРУз от 17.06.1993 г. n 293 «Положение  о  государственной регистрации аудиторов и  аудиторских фир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8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63040" cy="6858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-этап 2000- 2005 г.г.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850160" cy="475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Республики Узбекистан от 09.12.1992 г. N 734-XII "Об аудиторской деятельности" (Новая редакция. Утверждена Законом РУз от 26.05.2000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абинета Министров Республики Узбекистан от 22.09.2000 г. N 365 «О совершенствовании аудиторской деятельности и повышении роли аудиторских провер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е о порядке выдачи квалификационного сертификата аудитора (Зарегистрировано МЮ 13.10.2000 г. N 977, утверждено МФ 25.09.2000 г. N 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2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863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ложение о порядке выдачи квалификационного сертификата аудитора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848360" cy="5112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порядок выдачи, продления, прекращения действия и аннулирования квалификационного сертификата ауди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лификационные требования, предъявляемые к аудит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емые материалы для получения  квалификационного сертификата ауд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принятия решений о допуске или отказе в допуске к сдаче квалификационного экз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сдачи квалификационных экза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мотрение апелля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выдачи, продления срока действия,  переоформления квалификационного сертификата  аудитора и выдачи дублик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прекращения действия и аннулирования  квалификационного сертификата ауд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5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25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3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5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75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850160" cy="5400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высшего экономического образования, полученного в учреждениях высшего образования Республики Узбекистан, либо высшего экономического образования, полученного в образовательном учреждении иностранного государства и в соответствии с законодательством признанного эквивалентным образованию в Республике Узбекистан (приложение N 1), и стаж практической работы (в том числе по совместительству) в сфере бухгалтерского учета, аудита, финансового или налогового контроля, или преподавания в этих сферах не менее трех лет из последних дес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19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6:46:04Z</dcterms:created>
  <dc:creator>user</dc:creator>
  <dc:description/>
  <dc:language>en-US</dc:language>
  <cp:lastModifiedBy>Baurjan.Kazakhov</cp:lastModifiedBy>
  <dcterms:modified xsi:type="dcterms:W3CDTF">2007-06-07T09:41:03Z</dcterms:modified>
  <cp:revision>62</cp:revision>
  <dc:subject/>
  <dc:title>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