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80C-349F-41B9-9D18-3A7920FE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5A9-4125-43BB-9AB3-2B4F2B71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288-9A27-4395-8E3B-F15AAA3A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282-3515-4616-9C6A-E2982E6C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F2E6-8C0A-4834-9D82-14E28BA7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A73E-A6A6-4C37-88C6-E7D56384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9169-99EA-4616-8B6F-8D48F17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CE2-89A3-40B7-844D-A577C3C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67D2-B2A1-4930-9408-39711DC5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F43-E1DA-41DA-BCD9-61806F9A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D1D-B307-49ED-84FC-673716E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0EC-4CBE-4B83-A350-35C9498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41E-23AD-4D2D-BFC7-6D72B0D2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B65F-8D43-4E92-84B5-0C1BD8C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B3F4-73F7-4630-83E5-AE1673CA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DAB-A573-492C-BCA1-3D77B9B2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B50-9C64-41B5-93E0-42BB2E3E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1FF-D381-4F93-9232-396C999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62D-A47E-4681-B809-C27B4AE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277-0146-4CF0-95EC-390D1CD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341-F3C1-41D3-A0F3-25800BE3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649-A782-4321-83DC-C9EC8A45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59F-0694-4C27-97D7-5F6E5AF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C42-BA87-4244-84AC-7B60322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C87-2CE0-4C04-ACB4-89E6B71B3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5F8-92F3-4EBD-A083-E623232AC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720" y="1844640"/>
            <a:ext cx="8099280" cy="1944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Организация обучения по подготовке аудиторов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 учебных центрах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22400"/>
            <a:ext cx="9144000" cy="1196640"/>
            <a:chOff x="0" y="122400"/>
            <a:chExt cx="9144000" cy="1196640"/>
          </a:xfrm>
        </p:grpSpPr>
        <p:sp>
          <p:nvSpPr>
            <p:cNvPr id="100" name=""/>
            <p:cNvSpPr/>
            <p:nvPr/>
          </p:nvSpPr>
          <p:spPr>
            <a:xfrm>
              <a:off x="0" y="122400"/>
              <a:ext cx="9144000" cy="1196640"/>
            </a:xfrm>
            <a:prstGeom prst="rect">
              <a:avLst/>
            </a:prstGeom>
            <a:solidFill>
              <a:srgbClr val="e8f0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9000" y="189000"/>
              <a:ext cx="8775720" cy="1052280"/>
              <a:chOff x="189000" y="189000"/>
              <a:chExt cx="8775720" cy="1052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9000" y="366840"/>
                <a:ext cx="207936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360" y="404640"/>
                <a:ext cx="287964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0000" y="333360"/>
                <a:ext cx="259236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4840" y="189000"/>
                <a:ext cx="569880" cy="10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/>
          <p:nvPr/>
        </p:nvSpPr>
        <p:spPr>
          <a:xfrm>
            <a:off x="971640" y="5300640"/>
            <a:ext cx="777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уза Гулям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т Национальной ассоциации бухгалтеров и аудиторов республики Узбекистан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921440" cy="6048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 наличие стажа работы, в том числе по совместительству, в качестве аудитора, главного бухгалтера, ревизора или налогового инспектора не менее 5 лет из последних десяти с высшим неэкономическим образованием или средним специальным экономическим образованием, полученным в учреждениях профессионального образования Республики Узбекистан, либо высшим неэкономическим образованием или средним специальным экономическим образованием, полученным в образовательном учреждении иностранного государства и в соответствии с законодательством признанным эквивалентным образованию в Республике Узбекист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240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102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ограмма обучения включает следующие разделы: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91480" cy="4695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инансовы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правленческий учет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менеджмент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анал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у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гообложение и правов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предпринимательс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9525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РЯДОК СДАЧИ КВАЛИФИКАЦИОННЫХ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ЭКЗАМЕНОВ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848360" cy="4400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й экзамен для группы претендентов (не менее 10 человек и не более 20 человек) проводится в два эта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 (в письменной форме в течение 4 академических часов, по результатам которого претендент допускается к письменно-устному экзаме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сьменно-устный экзамен по экзаменационным билетам (на решение задач и подготовку к устному ответу предоставляется 3 академических час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11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-этап 2005 г.г. -2007 г.г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125360"/>
            <a:ext cx="8713800" cy="1079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казом министра финансов, зарегистрированным МЮ 20.04.2004 г. N 977-1 было внесено  изменение в «Положение о порядке выдачи квалификационного сертификата аудито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7777080" cy="4032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Каждый аудитор, имеющий квалификационный сертификат, обязан в течение каждого года, начиная с года, следующего за годом получения квалификационного сертификата, проходить курсы повышения квалификации в объеме не менее 60 часов по программам повышения квалификации, утверждаемым Министерством финансов Республики Узбекистан по согласованию с республиканским общественным объединением аудиторов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920" y="604440"/>
            <a:ext cx="8642520" cy="663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775640" cy="4967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; (Абзац в редакции Приказа министра финансов, зарегистрированного МЮ 18.10.2005 г. N 977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404640"/>
            <a:ext cx="8642520" cy="66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920000" cy="5256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и наличие документа об успешной сдаче предмета "Финансовый учет" по программе международной сертификации профессиональных бухгалтеров в рамках сертификации "Сертифицированный бухгалтер-практик (CAP)" или "Сертифицированный международный профессиональный бухгалтер (CIPA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тенденты, имеющие сертификат "Сертифицированный бухгалтер-практик (САР)" или сертификат "Сертифицированный международный профессиональный бухгалтер (CIPA)" и не менее 5 лет стажа работы в экономической сфере на территории Республики Узбекистан, допускаются к сдаче квалификационного экзамена без прохождения специального обучения в центрах по подготовке ауди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04440"/>
            <a:ext cx="8663040" cy="5922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Изменения в программе обучения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920" y="2046240"/>
            <a:ext cx="7802640" cy="4478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этими изменениями программа обучения для подготовки аудиторов была пересмотрена и количество часов сокращено с 240 до 2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программа была утверждена Министерством финансов РУз 12 февраля 200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5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рограмма обуч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8137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834200"/>
            <a:ext cx="7777080" cy="4694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7632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 УЧ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ПРАВЛЕНЧЕСКИЙ УЧЕТ, ФИНАНСОВ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ДЖМЕНТ И ФИНАНСОВЫЙ АНАЛИЗ – 70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АУДИТ – 6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ЛОГООБЛОЖЕНИЕ И ПРАВОВОЕ РЕГУЛИРОВАНИЕ ПРЕДПРИНИМАТЕЛЬСКОЙ ДЕЯТЕЛЬНОСТИ – 5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КМ РУз от 4.04.07 №ПП-615 «О дальнейшем совершенствовании деятельности аудиторских организаций и повышения их ответственности за качество оказываемых услуг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777080" cy="4104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.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экономики, Минфину, МинВузу внести предложения по созданию в экономических вузах специализированных групп, расширению контингента и повышению качества подготовки высококвалифицированных специалистов аудиторов, регулярному повышению  их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4200" y="1914480"/>
            <a:ext cx="7561080" cy="45388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задачи аудитор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права 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нз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ждение руководителем аудиторской организации один раз в три года аттестации в Минфине Р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78920" y="547560"/>
            <a:ext cx="8713800" cy="72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«Положение об аудиторских организациях»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5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4360" y="1052640"/>
            <a:ext cx="72723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1-этап 1992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0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-этап 2000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 2005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3-этап 2005 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7 г.г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1920" y="1844640"/>
            <a:ext cx="7786800" cy="1432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68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РЕСПУБЛИКИ УЗБЕКИСТАН 09.12.1992 г. N 734-XII  «ОБ АУДИТОР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пределено законодательно понятия аудита, аудитора, аудиторской фирмы, государственной регистрация аудиторов и аудиторских фирм,  лицензирование аудиторской деятельности, аудиторское заключение, права и обязанности аудиторов, ответственность ауди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89040"/>
            <a:ext cx="8713800" cy="581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-этап 1992-2000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63040" cy="61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сновные термины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920000" cy="4321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специалист,  получивший  в у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ленном порядке право занятия аудиторской деятельностью и включенный в  профессион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й реестр ауди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ская фи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едприятие, созданное  юридическим  или физическим лицом, предметом деятельности  которого в соответствии с  его уставом, зарегистрированном в  установленном порядке, является  оказание аудиторски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5829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КМ РУз от 03.05.1993 г. N 198 "Об укреплении финансового контроля и внедрении в хозяйственную деятельность аудиторских форм финансового контроля" и Временное положение об аудиторе (аудиторской фирме). (Приложение  N 1 к Постановлению КМ РУз от 03.05.1993 г. N 198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632720" cy="395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енном положении отмечено - аудиторы  (аудиторские  фирмы)  являются  юридическими лицами, имеют  собственный   счет  в   учреждениях  банков   и  печ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   работы  аудитором   (в  аудиторских   фирмах)  имеют специалисты  с  высшим  образованием,  не  менее чем с пятилетним опытом практической  работы  в  области  бухгалтерского  учета  и   финансового контроля,  имеющие  лицензию,  дающую   право  на  занятие   аудиторск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1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2204640"/>
            <a:ext cx="7704000" cy="410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Зарегистрированному аудитору  или аудиторской фирме  выдается свидетельство о го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49360"/>
            <a:ext cx="8642160" cy="11912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становление КМРУз от 17.06.1993 г. n 293 «Положение  о  государственной регистрации аудиторов и  аудиторских фир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-этап 2000- 2005 г.г.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8501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Республики Узбекистан от 09.12.1992 г. N 734-XII "Об аудиторской деятельности" (Новая редакция. Утверждена Законом РУз от 26.05.200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абинета Министров Республики Узбекистан от 22.09.2000 г. N 365 «О совершенствовании аудиторской деятельности и повышении роли аудиторских прове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порядке выдачи квалификационного сертификата аудитора (Зарегистрировано МЮ 13.10.2000 г. N 977, утверждено МФ 25.09.2000 г. N 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86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ложение о порядке выдачи квалификационного сертификата аудитор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848360" cy="5112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порядок выдачи, продления, прекращения действия и аннулирования квалификационного сертификата ауди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е требования, предъявляемые к аудит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мые материалы для получе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инятия решений о допуске или отказе в допуске к сдаче квалификационного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сдачи квалификационных экза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ение апелля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выдачи, продления срока действия,  переоформления квалификационного сертификата  аудитора и выдачи дубли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екращения действия и аннулирова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3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5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50160" cy="540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 (приложение N 1), и 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1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6:46:04Z</dcterms:created>
  <dc:creator>user</dc:creator>
  <dc:description/>
  <dc:language>en-US</dc:language>
  <cp:lastModifiedBy>Baurjan.Kazakhov</cp:lastModifiedBy>
  <dcterms:modified xsi:type="dcterms:W3CDTF">2007-06-07T09:41:03Z</dcterms:modified>
  <cp:revision>62</cp:revision>
  <dc:subject/>
  <dc:title>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