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15B-6C8A-4DBA-A46A-5F5D8C57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75A-4379-4D64-AA57-288E1BC4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ED7-0EB6-4C80-A341-B3528547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10A3-091E-4D04-BF07-224BA0CE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BE21-3BA2-42A7-ACB9-3C80247C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4CAF-6D06-4688-A68D-F9DA03A5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8E62-D34B-4F6A-92D1-B71C1F06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3194-F55B-4637-AA5B-73B89D89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E23-4A11-4515-9F19-BE63BDD4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29A5-1373-4B36-A474-97837E59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71E3-3B8F-4114-8A0A-167E7441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CF5-1465-4BE0-BAF1-C749CA1F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B902-75E9-4576-A426-50880242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B46D-E043-42A3-8846-8C44D185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52EA-4E5C-49C7-83D4-47DF1796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7683-BD63-40A8-85D4-5C3543E2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DCAD-44A3-482B-A645-FF9D4CF6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C3A-1A38-42EF-A9DC-D0C5A47F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BEE-0FC2-4967-8D63-035DA2F5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100-7A3A-471A-8262-206DE96F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56C-CC43-48C2-A376-47DE8BEA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8F5-AFF5-4DCE-87CC-B42592A3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D2E-14AE-433B-98D3-1900E028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BFA-3B7B-48B2-B0FB-C5E685D7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9D1C-BA6F-4AE2-98A5-C6F6967D3B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E12F-3741-4D13-BC21-35B8B67B69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720" y="1844640"/>
            <a:ext cx="8099280" cy="1944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Организация обучения по подготовке аудиторов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в учебных центрах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122400"/>
            <a:ext cx="9144000" cy="1196640"/>
            <a:chOff x="0" y="122400"/>
            <a:chExt cx="9144000" cy="1196640"/>
          </a:xfrm>
        </p:grpSpPr>
        <p:sp>
          <p:nvSpPr>
            <p:cNvPr id="100" name=""/>
            <p:cNvSpPr/>
            <p:nvPr/>
          </p:nvSpPr>
          <p:spPr>
            <a:xfrm>
              <a:off x="0" y="122400"/>
              <a:ext cx="9144000" cy="1196640"/>
            </a:xfrm>
            <a:prstGeom prst="rect">
              <a:avLst/>
            </a:prstGeom>
            <a:solidFill>
              <a:srgbClr val="e8f0f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89000" y="189000"/>
              <a:ext cx="8775720" cy="1052280"/>
              <a:chOff x="189000" y="189000"/>
              <a:chExt cx="8775720" cy="1052280"/>
            </a:xfrm>
          </p:grpSpPr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9000" y="366840"/>
                <a:ext cx="2079360" cy="61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4360" y="404640"/>
                <a:ext cx="2879640" cy="5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80000" y="333360"/>
                <a:ext cx="2592360" cy="71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94840" y="189000"/>
                <a:ext cx="569880" cy="105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" name=""/>
          <p:cNvSpPr/>
          <p:nvPr/>
        </p:nvSpPr>
        <p:spPr>
          <a:xfrm>
            <a:off x="971640" y="5300640"/>
            <a:ext cx="7777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руза Гулям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сперт Национальной ассоциации бухгалтеров и аудиторов республики Узбекистан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549000"/>
            <a:ext cx="7921440" cy="6048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бо наличие стажа работы, в том числе по совместительству, в качестве аудитора, главного бухгалтера, ревизора или налогового инспектора не менее 5 лет из последних десяти с высшим неэкономическим образованием или средним специальным экономическим образованием, полученным в учреждениях профессионального образования Республики Узбекистан, либо высшим неэкономическим образованием или средним специальным экономическим образованием, полученным в образовательном учреждении иностранного государства и в соответствии с законодательством признанным эквивалентным образованию в Республике Узбекист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хождение специального обучения в центрах по подготовке аудиторов на основании программы обучения, утверждаемой Министерством финансов Республики Узбекистан по согласованию с республиканским общественным объединением аудиторов 240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460440"/>
            <a:ext cx="8591400" cy="10238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рограмма обучения включает следующие разделы: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791480" cy="46954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Финансовый у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Управленческий учет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овый менеджмент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ансовый анал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уд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 ча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логообложение и правово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ование предпринимательс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460440"/>
            <a:ext cx="8591400" cy="9525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РЯДОК СДАЧИ КВАЛИФИКАЦИОННЫХ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ЭКЗАМЕНОВ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981080"/>
            <a:ext cx="7848360" cy="4400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алификационный экзамен для группы претендентов (не менее 10 человек и не более 20 человек) проводится в два эта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стирование (в письменной форме в течение 4 академических часов, по результатам которого претендент допускается к письменно-устному экзаме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сьменно-устный экзамен по экзаменационным билетам (на решение задач и подготовку к устному ответу предоставляется 3 академических час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5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711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-этап 2005 г.г. -2007 г.г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125360"/>
            <a:ext cx="8713800" cy="1079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казом министра финансов, зарегистрированным МЮ 20.04.2004 г. N 977-1 было внесено  изменение в «Положение о порядке выдачи квалификационного сертификата аудитор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2420640"/>
            <a:ext cx="7777080" cy="4032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182520" rIns="182520" tIns="46080" bIns="46080" anchor="ctr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Каждый аудитор, имеющий квалификационный сертификат, обязан в течение каждого года, начиная с года, следующего за годом получения квалификационного сертификата, проходить курсы повышения квалификации в объеме не менее 60 часов по программам повышения квалификации, утверждаемым Министерством финансов Республики Узбекистан по согласованию с республиканским общественным объединением аудиторов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920" y="604440"/>
            <a:ext cx="8642520" cy="6634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КВАЛИФИКАЦИОННЫЕ ТРЕБОВАН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5640" y="1557360"/>
            <a:ext cx="7775640" cy="49672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182520" rIns="182520" tIns="46080" bIns="46080" anchor="ctr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высшего экономического образования, полученного в учреждениях высшего образования Республики Узбекистан, либо высшего экономического образования, полученного в образовательном учреждении иностранного государства и в соответствии с законодательством признанного эквивалентным образованию в Республике Узбеки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ж практической работы (в том числе по совместительству) в сфере бухгалтерского учета, аудита, финансового или налогового контроля, или преподавания в этих сферах не менее трех лет из последних десяти; (Абзац в редакции Приказа министра финансов, зарегистрированного МЮ 18.10.2005 г. N 977-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2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404640"/>
            <a:ext cx="8642520" cy="6638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КВАЛИФИКАЦИОННЫЕ ТРЕБОВАНИЯ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920000" cy="525636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182520" rIns="182520" tIns="46080" bIns="46080" anchor="ctr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ждение специального обучения в центрах по подготовке аудиторов на основании программы обучения, утверждаемой Министерством финансов Республики Узбекистан по согласованию с республиканским общественным объединением аудиторов и наличие документа об успешной сдаче предмета "Финансовый учет" по программе международной сертификации профессиональных бухгалтеров в рамках сертификации "Сертифицированный бухгалтер-практик (CAP)" или "Сертифицированный международный профессиональный бухгалтер (CIPA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тенденты, имеющие сертификат "Сертифицированный бухгалтер-практик (САР)" или сертификат "Сертифицированный международный профессиональный бухгалтер (CIPA)" и не менее 5 лет стажа работы в экономической сфере на территории Республики Узбекистан, допускаются к сдаче квалификационного экзамена без прохождения специального обучения в центрах по подготовке ауди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604440"/>
            <a:ext cx="8663040" cy="5922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Изменения в программе обучения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920" y="2046240"/>
            <a:ext cx="7802640" cy="44784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вязи с этими изменениями программа обучения для подготовки аудиторов была пересмотрена и количество часов сокращено с 240 до 200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ая программа была утверждена Министерством финансов РУз 12 февраля 200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5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63040" cy="6858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Программа обучения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700280"/>
            <a:ext cx="81374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1834200"/>
            <a:ext cx="7777080" cy="46944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7632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Й УЧ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ПРАВЛЕНЧЕСКИЙ УЧЕТ, ФИНАНСОВ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ЕДЖМЕНТ И ФИНАНСОВЫЙ АНАЛИЗ – 70 ча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АУДИТ – 60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ЗДЕЛ 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ЛОГООБЛОЖЕНИЕ И ПРАВОВОЕ РЕГУЛИРОВАНИЕ ПРЕДПРИНИМАТЕЛЬСКОЙ ДЕЯТЕЛЬНОСТИ – 50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1440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КМ РУз от 4.04.07 №ПП-615 «О дальнейшем совершенствовании деятельности аудиторских организаций и повышения их ответственности за качество оказываемых услуг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2349360"/>
            <a:ext cx="7777080" cy="4104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.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экономики, Минфину, МинВузу внести предложения по созданию в экономических вузах специализированных групп, расширению контингента и повышению качества подготовки высококвалифицированных специалистов аудиторов, регулярному повышению  их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4200" y="1914480"/>
            <a:ext cx="7561080" cy="45388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задачи аудиторск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права и обяз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и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ензио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хождение руководителем аудиторской организации один раз в три года аттестации в Минфине РУ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78920" y="547560"/>
            <a:ext cx="8713800" cy="720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«Положение об аудиторских организациях»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15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45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1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4360" y="1052640"/>
            <a:ext cx="7272360" cy="4752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1-этап 1992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-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2000 г.г.</a:t>
            </a:r>
            <a:br>
              <a:rPr sz="5400"/>
            </a:b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2-этап 2000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- 2005 г.г.</a:t>
            </a:r>
            <a:br>
              <a:rPr sz="5400"/>
            </a:b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3-этап 2005 -</a:t>
            </a:r>
            <a:r>
              <a:rPr b="0" lang="en-US" sz="54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ru-RU" sz="5400" spc="-1" strike="noStrike">
                <a:solidFill>
                  <a:srgbClr val="0000cc"/>
                </a:solidFill>
                <a:latin typeface="Century Gothic"/>
              </a:rPr>
              <a:t>2007 г.г.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1920" y="1844640"/>
            <a:ext cx="7786800" cy="14320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99640" y="1844640"/>
            <a:ext cx="7993080" cy="4680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РЕСПУБЛИКИ УЗБЕКИСТАН 09.12.1992 г. N 734-XII  «ОБ АУДИТОР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определено законодательно понятия аудита, аудитора, аудиторской фирмы, государственной регистрация аудиторов и аудиторских фирм,  лицензирование аудиторской деятельности, аудиторское заключение, права и обязанности аудиторов, ответственность ауди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689040"/>
            <a:ext cx="8713800" cy="5814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-этап 1992-2000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5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63040" cy="612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Основные термины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920000" cy="43210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уди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 специалист,  получивший  в у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ленном порядке право занятия аудиторской деятельностью и включенный в  профессиона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й реестр ауди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удиторская фир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едприятие, созданное  юридическим  или физическим лицом, предметом деятельности  которого в соответствии с  его уставом, зарегистрированном в  установленном порядке, является  оказание аудиторских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5829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КМ РУз от 03.05.1993 г. N 198 "Об укреплении финансового контроля и внедрении в хозяйственную деятельность аудиторских форм финансового контроля" и Временное положение об аудиторе (аудиторской фирме). (Приложение  N 1 к Постановлению КМ РУз от 03.05.1993 г. N 198)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2565360"/>
            <a:ext cx="7632720" cy="39592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енном положении отмечено - аудиторы  (аудиторские  фирмы)  являются  юридическими лицами, имеют  собственный   счет  в   учреждениях  банков   и  печ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   работы  аудитором   (в  аудиторских   фирмах)  имеют специалисты  с  высшим  образованием,  не  менее чем с пятилетним опытом практической  работы  в  области  бухгалтерского  учета  и   финансового контроля,  имеющие  лицензию,  дающую   право  на  занятие   аудиторской деятель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15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16000" y="2204640"/>
            <a:ext cx="7704000" cy="4103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тья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Зарегистрированному аудитору  или аудиторской фирме  выдается свидетельство о го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рственной регист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49360"/>
            <a:ext cx="8642160" cy="11912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становление КМРУз от 17.06.1993 г. n 293 «Положение  о  государственной регистрации аудиторов и  аудиторских фир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8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63040" cy="6858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-этап 2000- 2005 г.г.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850160" cy="4752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 Республики Узбекистан от 09.12.1992 г. N 734-XII "Об аудиторской деятельности" (Новая редакция. Утверждена Законом РУз от 26.05.2000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абинета Министров Республики Узбекистан от 22.09.2000 г. N 365 «О совершенствовании аудиторской деятельности и повышении роли аудиторских провер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ение о порядке выдачи квалификационного сертификата аудитора (Зарегистрировано МЮ 13.10.2000 г. N 977, утверждено МФ 25.09.2000 г. N 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2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86364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ложение о порядке выдачи квалификационного сертификата аудитора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341360"/>
            <a:ext cx="7848360" cy="511200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порядок выдачи, продления, прекращения действия и аннулирования квалификационного сертификата аудит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алификационные требования, предъявляемые к аудит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яемые материалы для получения  квалификационного сертификата ауди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принятия решений о допуске или отказе в допуске к сдаче квалификационного экза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сдачи квалификационных экзам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мотрение апелля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выдачи, продления срока действия,  переоформления квалификационного сертификата  аудитора и выдачи дублик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ядок прекращения действия и аннулирования  квалификационного сертификата ауди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7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45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25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35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5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6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75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7850160" cy="540072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высшего экономического образования, полученного в учреждениях высшего образования Республики Узбекистан, либо высшего экономического образования, полученного в образовательном учреждении иностранного государства и в соответствии с законодательством признанного эквивалентным образованию в Республике Узбекистан (приложение N 1), и стаж практической работы (в том числе по совместительству) в сфере бухгалтерского учета, аудита, финансового или налогового контроля, или преподавания в этих сферах не менее трех лет из последних дес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19280"/>
          </a:xfrm>
          <a:prstGeom prst="rect">
            <a:avLst/>
          </a:prstGeom>
          <a:solidFill>
            <a:srgbClr val="e8f0f4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ВАЛИФИКАЦИОННЫЕ ТРЕБОВАНИЯ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6:46:04Z</dcterms:created>
  <dc:creator>user</dc:creator>
  <dc:description/>
  <dc:language>en-US</dc:language>
  <cp:lastModifiedBy>Baurjan.Kazakhov</cp:lastModifiedBy>
  <dcterms:modified xsi:type="dcterms:W3CDTF">2007-06-07T09:41:03Z</dcterms:modified>
  <cp:revision>62</cp:revision>
  <dc:subject/>
  <dc:title>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