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DA2-E075-48A1-8329-3F3A1D4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DD3-4AF8-4B6B-9822-B5D9BCB4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2DF-9145-40C7-8B02-50A1B3FD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EC-B579-4824-A8A0-214103AA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8C32-6011-4A0C-B52F-8598C192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9C7B-AD18-40DF-8A88-B2C1EA9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F25-2085-4DCC-9813-27736D42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F89C-989E-4F07-9AEB-90E0A0B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A356-9C84-4299-BC4C-03F8845F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4B68-AB1A-4691-93AB-F51185D2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638-50B4-430E-8D42-AAEE5455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EF0-C22E-4A3B-945C-9C71D18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E31-524A-4065-863F-81C33C2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CF27-3DF5-4C5A-ABC5-2D98A33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564-E08E-482C-97B4-0FD0E3A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B33C-D07C-431A-B763-8DABAFBE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F8C0-7EA0-47E0-95DE-4E33774C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8799-E073-452F-9395-9D8A83E4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7EC7-2B96-48A4-9A14-F866FA0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E0AF-033D-45E8-8C7C-6DD1F58F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3DB2-42D7-41E3-8CBC-D76C5EA7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B562-0C44-4746-9C17-E97A3C4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C2F-9D4D-4902-866C-C13874B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9023-CC59-4089-BDDA-27E685CC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96EE-618E-4357-AE0A-3DE250D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5509-D17A-48AB-AA72-93420D6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DDDB-9DEF-4556-9950-E0DC613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678C-46F3-42E4-8EF5-97480DC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DBD9-682E-4140-A196-9E0778F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C5D3-1A59-4918-B789-AD33B11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D48-5C12-4FFF-B52E-9F119D4D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5AB-4FD0-44AC-9DB7-A7368B0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610-09D6-4F38-B991-0A7C38C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04C-9600-408A-A5FE-71889CF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CA0-3A34-4D73-8E4E-01744A7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214-4B61-4329-9556-84186D6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DC4-610E-45B7-8FC4-F45C27723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EFE-2B94-48EF-951B-8E1676C8C9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91DE-DBA5-468B-B62E-88B0FEEE11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b812f"/>
                </a:solidFill>
                <a:latin typeface="Garamond"/>
              </a:rPr>
              <a:t>Конспект урока алгебры в 8 классе по теме: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200" spc="-1" strike="noStrike">
                <a:solidFill>
                  <a:srgbClr val="ff0066"/>
                </a:solidFill>
                <a:latin typeface="Garamond"/>
              </a:rPr>
              <a:t>«Алгебраические дроби»</a:t>
            </a:r>
            <a:r>
              <a:rPr b="1" i="1" lang="en-US" sz="33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Автор: Обухова Елена Александровна, учитель математики МОУ СОШ № 12 г. Сочи,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cc"/>
          </a:solidFill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Сократите дроб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drawingml/2006/table">
            <a:tbl>
              <a:tblPr/>
              <a:tblGrid>
                <a:gridCol w="1771560"/>
                <a:gridCol w="1757520"/>
                <a:gridCol w="1441440"/>
                <a:gridCol w="1361880"/>
                <a:gridCol w="1359000"/>
                <a:gridCol w="1452600"/>
              </a:tblGrid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1557360"/>
                <a:ext cx="165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2852640"/>
                <a:ext cx="1871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92360" y="4149720"/>
                <a:ext cx="1871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63640" y="5432400"/>
                <a:ext cx="1728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51280" y="1700280"/>
                <a:ext cx="1008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1700280"/>
                <a:ext cx="1008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732720" y="1700280"/>
                <a:ext cx="86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101080" y="1700280"/>
                <a:ext cx="1042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51280" y="4365720"/>
                <a:ext cx="1079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292720" y="4437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32720" y="4365720"/>
                <a:ext cx="9349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101080" y="4365720"/>
                <a:ext cx="876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24360" y="566100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69040" y="5661000"/>
                <a:ext cx="846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0360" y="5661000"/>
                <a:ext cx="52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48600" y="566100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дел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ыполните умнож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)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74680" y="1341360"/>
                <a:ext cx="22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1280" y="1989000"/>
                <a:ext cx="371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43280" y="1989000"/>
                <a:ext cx="649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270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24360" y="1341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219640" y="1989000"/>
                <a:ext cx="58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16800" y="198900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219640" y="2708280"/>
                <a:ext cx="609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451640" y="2637000"/>
                <a:ext cx="54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8080" y="4724280"/>
                <a:ext cx="1852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5928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4360" y="6093000"/>
                <a:ext cx="64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987640" y="6165720"/>
                <a:ext cx="66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96360" y="5445000"/>
                <a:ext cx="544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24360" y="4797360"/>
                <a:ext cx="2232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92720" y="6093000"/>
                <a:ext cx="625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24720" y="6165720"/>
                <a:ext cx="647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33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простите выра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00200"/>
          <a:ext cx="9144000" cy="5173560"/>
        </p:xfrm>
        <a:graphic>
          <a:graphicData uri="http://schemas.openxmlformats.org/drawingml/2006/table">
            <a:tbl>
              <a:tblPr/>
              <a:tblGrid>
                <a:gridCol w="1523880"/>
                <a:gridCol w="2401920"/>
                <a:gridCol w="1368360"/>
                <a:gridCol w="1295640"/>
                <a:gridCol w="1295280"/>
                <a:gridCol w="125892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gradFill rotWithShape="0">
                      <a:gsLst>
                        <a:gs pos="0">
                          <a:srgbClr val="0099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47640" y="1700280"/>
                <a:ext cx="23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1844640"/>
                <a:ext cx="822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51640" y="184464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20000" y="184464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317080" y="213372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47640" y="2997360"/>
                <a:ext cx="23767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84720" y="314172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65164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314172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101080" y="314172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47640" y="4221000"/>
                <a:ext cx="2376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84720" y="4365720"/>
                <a:ext cx="82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437000"/>
                <a:ext cx="78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48360" y="4437000"/>
                <a:ext cx="758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17080" y="4581360"/>
                <a:ext cx="826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47640" y="5589720"/>
                <a:ext cx="2376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84720" y="5734080"/>
                <a:ext cx="780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651640" y="5734080"/>
                <a:ext cx="80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948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172360" y="5734080"/>
                <a:ext cx="80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Информация для уч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ы к тесту:                         Оценка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205000"/>
          <a:ext cx="4968720" cy="3309840"/>
        </p:xfrm>
        <a:graphic>
          <a:graphicData uri="http://schemas.openxmlformats.org/drawingml/2006/table">
            <a:tbl>
              <a:tblPr/>
              <a:tblGrid>
                <a:gridCol w="1800000"/>
                <a:gridCol w="792360"/>
                <a:gridCol w="792000"/>
                <a:gridCol w="865440"/>
                <a:gridCol w="718920"/>
              </a:tblGrid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ариант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651640" y="2421000"/>
            <a:ext cx="326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е верно решенное задание оценивается в 1 балл, неверное –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балла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балла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-1 баллов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1, учеб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ебра 8 класс», часть 2, задачник, под редакцией А.Г. Мордковича, Мнемозина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ематический сборник тестовых заданий по алгебре для подготовки к государственной (итоговой) аттестации в новой форме», базовый уровень, под редакцией Е.А. Семенко, Просвещение-Юг, Краснодар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заменационные тестовые задания», Федеральная служба по надзору в сфере образования и науки РФ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раевые диагностические работы по алгебре в 9 классе», Департамент образования и науки Краснодарского края, ККИДППО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Тип урока:</a:t>
            </a: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400" spc="-1" strike="noStrike">
                <a:solidFill>
                  <a:srgbClr val="3b812f"/>
                </a:solidFill>
                <a:latin typeface="Garamond"/>
              </a:rPr>
              <a:t>обобщение.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Цели урока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Образовательны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Обобщение и систематизация знаний учащихся по теме «Алгебраические дро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Закрепление навыков решения тестовых заданий по 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Развивающ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 Формирование и развитие умения мыслить и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Развити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b812f"/>
                </a:solidFill>
                <a:uFillTx/>
                <a:latin typeface="Arial"/>
              </a:rPr>
              <a:t>Воспитывающ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). Воспитание умения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 Воспитание умения выдерживать регламент времени, отведенного на решение кажд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 Привитие интереса к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вторение основных понятий.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Новые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термины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математиче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лгебраическая 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ражение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лен Р(х)-числитель алгебраической дроби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-ее знамен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2.    Основное свойство алгебраической др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 числитель и знаменатель алгебраической дроби можно умножить (разделить) на один и тот же не равный 0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3.    Рациональное урав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равнение вида          =0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4.    Степень с отрицательным показате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туральное число и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67640" y="4076640"/>
                <a:ext cx="720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59640" y="1197000"/>
                <a:ext cx="792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5373720"/>
                <a:ext cx="2303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mph" presetID="2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4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9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4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9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лгоритм приведения алгебраических дробей 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ему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Разложить все знаменатели на мно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. Найти наименьшее общее кратное для числовых коэффиц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Составить произведение, включив в него НОК коэффициентов и все буквенные множители. Одинаковые множители берем один раз. Из всех степеней с одинаковым основанием берем множитель с наибольшим показателем степен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. Найти дополнительные множители для каждой из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Найти для каждой дроби новый числитель как произведения числителя на дополнительный множ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6. Записать каждую дробь с новым числителем и новым (общим) знамен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mph" presetID="2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1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1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1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Упростить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а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а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щий знамен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(2а-1)(2а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ополнительные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ервой дроби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 второй дроби: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(2а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торо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76720" y="189000"/>
                <a:ext cx="34275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03640" y="1989000"/>
                <a:ext cx="2089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03640" y="2708280"/>
                <a:ext cx="37450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03640" y="3645000"/>
                <a:ext cx="2376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32360" y="4437000"/>
                <a:ext cx="4032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796000" y="5445000"/>
                <a:ext cx="1800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28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48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648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48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48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748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авила умножения и деления алгебраических дробей, возведения алгебраической дроби в натуральную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76720" cy="522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озведение в степ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76360" y="2133720"/>
                <a:ext cx="180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3645000"/>
                <a:ext cx="187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403280" y="5504040"/>
                <a:ext cx="201636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965240"/>
                <a:ext cx="2737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03640" y="2852640"/>
                <a:ext cx="37450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35640" y="3933720"/>
                <a:ext cx="3457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03640" y="4724280"/>
                <a:ext cx="347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5589720"/>
                <a:ext cx="29527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8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32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2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68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6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48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48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48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48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48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6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войства степени с отрицательным целым показа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ождества справедливы для а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≠0,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s,t –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  <a:ea typeface="Arial"/>
              </a:rPr>
              <a:t>произвольные целые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: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 –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·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a : b)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= a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: b</a:t>
            </a:r>
            <a:r>
              <a:rPr b="1" lang="en-US" sz="32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+(-5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: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-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l-G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3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4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0,5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(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= 8а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2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320"/>
                            </p:stCondLst>
                            <p:childTnLst>
                              <p:par>
                                <p:cTn id="3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320"/>
                            </p:stCondLst>
                            <p:childTnLst>
                              <p:par>
                                <p:cTn id="3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32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972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2720"/>
                            </p:stCondLst>
                            <p:childTnLst>
                              <p:par>
                                <p:cTn id="36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72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472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Выполните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аботы – 25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34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6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Выполните действ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/81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68360" y="692280"/>
                <a:ext cx="23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4572000" y="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а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429000"/>
          <a:ext cx="4572000" cy="34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ишите в виде одночлена выраж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82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в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472428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4572000" y="3421080"/>
          <a:ext cx="4572000" cy="3436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646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кажите выражение тождественно равное дан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а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3080" y="4221000"/>
                <a:ext cx="50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51640" y="537372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76720" y="6021360"/>
                <a:ext cx="71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5:37:15Z</dcterms:created>
  <dc:creator>Admin</dc:creator>
  <dc:description/>
  <dc:language>en-US</dc:language>
  <cp:lastModifiedBy>Admin</cp:lastModifiedBy>
  <dcterms:modified xsi:type="dcterms:W3CDTF">2009-07-17T09:31:14Z</dcterms:modified>
  <cp:revision>36</cp:revision>
  <dc:subject/>
  <dc:title>Конспект урока алгебры в 8 классе по теме: «Алгебраические дроби».</dc:title>
</cp:coreProperties>
</file>