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CAD-1940-439A-83B0-B5AF678F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8BA-1592-4C5D-87F0-584535D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FAD-36A7-46C5-8CBF-1CD173D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6AE-4396-4D27-B77C-43330167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8CE3-B267-4072-869E-E1F01BBE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270-4797-4B81-8AA2-5502706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DFCC-B2F0-439F-9AA4-D67E07B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D528-4274-49D7-9DE6-F4674D7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4319-383C-4036-A9C4-C24C289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55BF-7A5D-471A-92E8-1ED48EBC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0C68-8947-4F55-BEF6-50B20DE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342-282C-4A3F-A575-E11B386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A77-CF75-4361-966A-5B52E35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6FA8-A281-443E-A715-886EEDE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8D3-9A64-40C6-8F3E-890EFCC3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4674-AA40-4B2B-B2F9-05DF526D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40E-288A-450F-A2E4-8EB36DA7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F5F8-3D36-4A1A-84D4-AB11299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8BC3-5739-456C-9044-CFA31744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E90D-53AE-4DF2-A2D0-89F5D3D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EBE3-1DF4-46E1-AE2B-8AAE65A7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DF32-5C94-4701-8A30-E654DA0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B24-197D-4C33-9CE9-3E12AB1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AC94-729B-4C62-A9AF-3C8239C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8E89-C226-4ACC-81E6-710BFE97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4127-F990-47C0-82E4-6D2E42D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E6E5-7335-40AE-A86C-12DD835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C9F9-F2E2-489F-B3D5-CDE2182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CC03-9F2F-4062-9230-65825974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D491-5C62-4182-8069-56B44155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D0-080F-41D3-A98C-3DBF30AC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BFA-5B4A-40A1-8173-A363F51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FB8-3B29-43D0-BCBA-6CC3E485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532-B0DB-47F4-8F73-B338A3C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97C-53BF-43EF-A31E-8D3B4D2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250-4BC3-484D-BB96-E9307CA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9A1-777A-417C-8385-833B106F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E39F-0CD3-4B92-990B-111E1B7D4F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A45B-1094-4E7C-8AE3-8E7B8D86E0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812f"/>
                </a:solidFill>
                <a:latin typeface="Garamond"/>
              </a:rPr>
              <a:t>Конспект урока алгебры в 8 классе по теме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200" spc="-1" strike="noStrike">
                <a:solidFill>
                  <a:srgbClr val="ff0066"/>
                </a:solidFill>
                <a:latin typeface="Garamond"/>
              </a:rPr>
              <a:t>«Алгебраические дроби»</a:t>
            </a:r>
            <a:r>
              <a:rPr b="1" i="1" lang="en-US" sz="33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Автор: Обухова Елена Александровна, учитель математики МОУ СОШ № 12 г. Сочи,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cc"/>
          </a:solidFill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ократите дроб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drawingml/2006/table">
            <a:tbl>
              <a:tblPr/>
              <a:tblGrid>
                <a:gridCol w="1771560"/>
                <a:gridCol w="1757520"/>
                <a:gridCol w="1441440"/>
                <a:gridCol w="1361880"/>
                <a:gridCol w="1359000"/>
                <a:gridCol w="1452600"/>
              </a:tblGrid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1557360"/>
                <a:ext cx="165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2852640"/>
                <a:ext cx="1871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92360" y="4149720"/>
                <a:ext cx="1871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63640" y="5432400"/>
                <a:ext cx="1728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51280" y="1700280"/>
                <a:ext cx="1008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1700280"/>
                <a:ext cx="1008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732720" y="1700280"/>
                <a:ext cx="86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101080" y="1700280"/>
                <a:ext cx="1042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51280" y="4365720"/>
                <a:ext cx="1079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4437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32720" y="4365720"/>
                <a:ext cx="9349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101080" y="4365720"/>
                <a:ext cx="876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24360" y="566100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69040" y="5661000"/>
                <a:ext cx="84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0360" y="5661000"/>
                <a:ext cx="52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48600" y="566100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74680" y="1341360"/>
                <a:ext cx="22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1989000"/>
                <a:ext cx="371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43280" y="1989000"/>
                <a:ext cx="649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270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1341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1989000"/>
                <a:ext cx="58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16800" y="198900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19640" y="2708280"/>
                <a:ext cx="60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451640" y="2637000"/>
                <a:ext cx="54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8080" y="4724280"/>
                <a:ext cx="1852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5928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4360" y="6093000"/>
                <a:ext cx="64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6165720"/>
                <a:ext cx="66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9636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24360" y="4797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6093000"/>
                <a:ext cx="625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24720" y="6165720"/>
                <a:ext cx="64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33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простите выра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00200"/>
          <a:ext cx="9144000" cy="5173560"/>
        </p:xfrm>
        <a:graphic>
          <a:graphicData uri="http://schemas.openxmlformats.org/drawingml/2006/table">
            <a:tbl>
              <a:tblPr/>
              <a:tblGrid>
                <a:gridCol w="1523880"/>
                <a:gridCol w="2401920"/>
                <a:gridCol w="1368360"/>
                <a:gridCol w="1295640"/>
                <a:gridCol w="1295280"/>
                <a:gridCol w="125892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47640" y="1700280"/>
                <a:ext cx="23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1844640"/>
                <a:ext cx="822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51640" y="184464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20000" y="184464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17080" y="213372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2997360"/>
                <a:ext cx="23767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314172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65164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314172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10108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7640" y="4221000"/>
                <a:ext cx="2376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84720" y="4365720"/>
                <a:ext cx="82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43700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48360" y="443700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17080" y="458136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47640" y="5589720"/>
                <a:ext cx="2376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84720" y="573408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651640" y="573408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948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72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Информация для уч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ы к тесту:                         Оценка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205000"/>
          <a:ext cx="4968720" cy="3309840"/>
        </p:xfrm>
        <a:graphic>
          <a:graphicData uri="http://schemas.openxmlformats.org/drawingml/2006/table">
            <a:tbl>
              <a:tblPr/>
              <a:tblGrid>
                <a:gridCol w="1800000"/>
                <a:gridCol w="792360"/>
                <a:gridCol w="792000"/>
                <a:gridCol w="865440"/>
                <a:gridCol w="71892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651640" y="2421000"/>
            <a:ext cx="326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е верно решенное задание оценивается в 1 балл, неверное –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-1 баллов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1, учеб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2, задач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матический сборник тестовых заданий по алгебре для подготовки к государственной (итоговой) аттестации в новой форме», базовый уровень, под редакцией Е.А. Семенко, Просвещение-Юг, Краснодар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заменационные тестовые задания», Федеральная служба по надзору в сфере образования и науки РФ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раевые диагностические работы по алгебре в 9 классе», Департамент образования и науки Краснодарского края, ККИДППО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Тип урока:</a:t>
            </a: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400" spc="-1" strike="noStrike">
                <a:solidFill>
                  <a:srgbClr val="3b812f"/>
                </a:solidFill>
                <a:latin typeface="Garamond"/>
              </a:rPr>
              <a:t>обобщение.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Образовательны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Обобщение и систематизация знаний учащихся по теме «Алгебраические дро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Закрепление навыков решения тестовых заданий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Развивающ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Формирование и развитие умения мыслить и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Развити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Воспиты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). Воспитание умения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Воспитание умения выдерживать регламент времени, отведенного на решение кажд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 Привитие интереса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вторение основных понятий.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Новые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термины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математиче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лгебраическая 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ражение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лен Р(х)-числитель алгебраической дроби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-ее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2.    Основное свойство алгебраической др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 числитель и знаменатель алгебраической дроби можно умножить (разделить) на один и тот же не равный 0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3.    Рациональное урав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равнение вида          =0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4.    Степень с отрицательным показате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туральное число и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67640" y="4076640"/>
                <a:ext cx="72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59640" y="1197000"/>
                <a:ext cx="792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5373720"/>
                <a:ext cx="2303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mph" presetID="2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9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9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лгоритм приведения алгебраических дробей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ему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Разложить все знаменатели на мно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. Найти наименьшее общее кратное для числовых коэффиц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Составить произведение, включив в него НОК коэффициентов и все буквенные множители. Одинаковые множители берем один раз. Из всех степеней с одинаковым основанием берем множитель с наибольшим показателем степен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. Найти дополнительные множители для каждой из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Найти для каждой дроби новый числитель как произведения числителя на дополнительный множ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6. Записать каждую дробь с новым числителем и новым (общим) знамен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1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1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а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щий знамен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(2а-1)(2а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ополнительные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ервой дроби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 второй дроби: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2а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торо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76720" y="189000"/>
                <a:ext cx="34275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03640" y="1989000"/>
                <a:ext cx="2089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03640" y="2708280"/>
                <a:ext cx="37450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03640" y="3645000"/>
                <a:ext cx="2376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4437000"/>
                <a:ext cx="403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96000" y="5445000"/>
                <a:ext cx="1800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28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48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648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48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48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748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авила умножения и деления алгебраических дробей, возведения алгебраической дроби в натуральную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76720" cy="522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озведение в степ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76360" y="2133720"/>
                <a:ext cx="180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3645000"/>
                <a:ext cx="187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03280" y="5504040"/>
                <a:ext cx="20163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965240"/>
                <a:ext cx="2737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03640" y="2852640"/>
                <a:ext cx="37450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35640" y="3933720"/>
                <a:ext cx="345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03640" y="4724280"/>
                <a:ext cx="347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5589720"/>
                <a:ext cx="29527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32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68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6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8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48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4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48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6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войства степени с отрицательным цел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ождества справедливы для а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s,t –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произвольные целые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–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 : 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: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+(-5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: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-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l-G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4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(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= 8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32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320"/>
                            </p:stCondLst>
                            <p:childTnLst>
                              <p:par>
                                <p:cTn id="3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32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72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272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72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72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ыполните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аботы – 25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6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Выполните действ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/81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692280"/>
                <a:ext cx="23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4572000" y="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а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ишите в виде одночлена выраж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82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в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4724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4572000" y="342108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а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3080" y="4221000"/>
                <a:ext cx="50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51640" y="537372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76720" y="6021360"/>
                <a:ext cx="71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5:37:15Z</dcterms:created>
  <dc:creator>Admin</dc:creator>
  <dc:description/>
  <dc:language>en-US</dc:language>
  <cp:lastModifiedBy>Admin</cp:lastModifiedBy>
  <dcterms:modified xsi:type="dcterms:W3CDTF">2009-07-17T09:31:14Z</dcterms:modified>
  <cp:revision>36</cp:revision>
  <dc:subject/>
  <dc:title>Конспект урока алгебры в 8 классе по теме: «Алгебраические дроби».</dc:title>
</cp:coreProperties>
</file>