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2.gif" ContentType="image/gif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1F61-4C09-4C1D-890C-EEDAFBB2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2497-35D4-4526-A8C6-B92945BC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BB8A-D304-4301-BCDD-7F66CB11F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D5FD-C867-4171-9ED7-967DEE775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FE44-32C4-409E-9FB1-2B01CDEE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F0A2-FA56-43B1-B800-07E56142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8095-F791-4D5A-814C-2E8FD4EC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C604-1BD8-4702-8121-DF521F43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E4B8-B3A6-46E4-9280-CBBB6DEC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B2A6-9C05-43E5-8A5C-A2A34E1A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9B07-2C52-4161-B0A5-C12C49AB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8FBC-1ED5-4E8E-84E7-5138F369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6656-5A1A-4A23-8FDA-1A26FCE9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9FA4-0122-481A-881B-88A02236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127F-50BE-4E55-B367-C273F717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D4B8-F6A1-4228-BC70-DB25570F9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8924-5771-473D-BC51-D2E1583D8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FEF9-15F0-436B-97A7-F3571FD8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AA66-BA81-46E3-BFC2-AF52027C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8A79-1E38-450C-B0B0-E14BE3D0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D153-6DE6-49C0-99DA-F9181126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3B7E-C0CB-4DD8-9A37-60134715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D01D-6A24-4A04-86DE-46F8002A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49D2-9B50-4316-9CA6-37449373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AAE6-CE32-4A95-B333-2B4268598F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prstGeom prst="pie">
            <a:avLst/>
          </a:pr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8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40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11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13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1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1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1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1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1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2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2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2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2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43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44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45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46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47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48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49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50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51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54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55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6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7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prstGeom prst="pie">
            <a:avLst/>
          </a:prstGeom>
          <a:solidFill>
            <a:srgbClr val="ffff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4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A3FD-F38B-44AC-98FC-D82D0AE990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0/38/812/38812231_solnuyshko.jpg" TargetMode="External"/><Relationship Id="rId2" Type="http://schemas.openxmlformats.org/officeDocument/2006/relationships/hyperlink" Target="http://oboi-mira.ru/_ph/10/695412571.jpg" TargetMode="External"/><Relationship Id="rId3" Type="http://schemas.openxmlformats.org/officeDocument/2006/relationships/hyperlink" Target="http://www.lassy.ru/news/rozhdenie_zvezd/2011-03-16-115" TargetMode="External"/><Relationship Id="rId4" Type="http://schemas.openxmlformats.org/officeDocument/2006/relationships/hyperlink" Target="http://radikal.ru/F/s59.radikal.ru/i164/0902/ce/589f6c2e594c.jpg.html" TargetMode="External"/><Relationship Id="rId5" Type="http://schemas.openxmlformats.org/officeDocument/2006/relationships/hyperlink" Target="http://worldradio.ru/forum/showthread.php?t=5280" TargetMode="External"/><Relationship Id="rId6" Type="http://schemas.openxmlformats.org/officeDocument/2006/relationships/hyperlink" Target="http://www.goodfon.ru/wallpaper/previews-middle/10963.jpg" TargetMode="External"/><Relationship Id="rId7" Type="http://schemas.openxmlformats.org/officeDocument/2006/relationships/hyperlink" Target="http://upload.wikimedia.org/wikipedia/commons/d/da/Hoag%27s_object.jpg" TargetMode="External"/><Relationship Id="rId8" Type="http://schemas.openxmlformats.org/officeDocument/2006/relationships/hyperlink" Target="http://upload.wikimedia.org/wikipedia/commons/7/74/RedDwarfNASA.jpg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boi-mira.ru/_ph/10/695412571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radikal.ru/F/s59.radikal.ru/i164/0902/ce/589f6c2e594c.jpg.html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dfon.ru/wallpaper/previews-middle/10963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upload.wikimedia.org/wikipedia/commons/d/da/Hoag%27s_object.jpg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hyperlink" Target="http://tltsoft.org/uploads/posts/2011-05/1305119029_amas-des-pliades-1680x1050.jpg" TargetMode="External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is-tema.ucoz.ua/foto/4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07696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omic Sans MS"/>
              </a:rPr>
              <a:t>Звезды. </a:t>
            </a:r>
            <a:br>
              <a:rPr sz="6000"/>
            </a:br>
            <a:r>
              <a:rPr b="0" lang="ru-RU" sz="6000" spc="-1" strike="noStrike">
                <a:solidFill>
                  <a:srgbClr val="ffff00"/>
                </a:solidFill>
                <a:latin typeface="Comic Sans MS"/>
              </a:rPr>
              <a:t>Солнце – ближайшая к нам звезд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28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ю подготов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горных Любовь Николаев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Чукреевская СО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6248520" y="3049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73D0-7FF6-4359-AB9F-A51B124B010C}" type="datetime">
              <a:rPr b="0" lang="ru-RU" sz="3600" spc="-1" strike="noStrike">
                <a:solidFill>
                  <a:srgbClr val="ffc000"/>
                </a:solidFill>
                <a:latin typeface="Arial"/>
              </a:rPr>
              <a:t>31.07.26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04920" y="1371240"/>
            <a:ext cx="8610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нце – ближайшая к Земле звезда. Оно – центр нашей Солнечно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нце состоит из газа – плазмы (гелия и водород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метр Солнца =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9 диаметров Земли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а = 332 982 масс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ература внутри Солнца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600000 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а поверхности 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800 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нце вращается вокруг своей оси с запада на вос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одна двухмиллиардная часть энергии, испускаемой Солнцем, попадает на Земл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mic Sans MS"/>
              </a:rPr>
              <a:t>2. Особенности звезды Солн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2"/>
          <p:cNvSpPr/>
          <p:nvPr/>
        </p:nvSpPr>
        <p:spPr>
          <a:xfrm>
            <a:off x="5334120" y="24382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Строение Солн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http://www.uchcol.ru/uchcol_inuchcols/e_cart/images/items/91.jpg"/>
          <p:cNvPicPr/>
          <p:nvPr/>
        </p:nvPicPr>
        <p:blipFill>
          <a:blip r:embed="rId1"/>
          <a:stretch/>
        </p:blipFill>
        <p:spPr>
          <a:xfrm>
            <a:off x="0" y="0"/>
            <a:ext cx="48006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mic Sans MS"/>
              </a:rPr>
              <a:t>Используемые 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28600" y="9907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mg0.liveinternet.ru/images/attach/c/0/38/812/38812231_solnuyshko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(слайд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boi-mira.ru/_ph/10/695412571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звездное небо (слайд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lassy.ru/news/rozhdenie_zvezd/2011-03-16-11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участок звездообразования в созвездии Южная корона (слайд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radikal.ru/F/s59.radikal.ru/i164/0902/ce/589f6c2e594c.jpg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участок звездообразования в туманности Ориона (слайд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orldradio.ru/forum/showthread.php?t=528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равнительные размеры звезд (слайд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goodfon.ru/wallpaper/previews-middle/10963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белая звезда (слайд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upload.wikimedia.org/wikipedia/commons/d/da/Hoag%27s_object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желтая звезда (слайд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upload.wikimedia.org/wikipedia/commons/7/74/RedDwarfNASA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красная звезда (слайд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tltsoft.org/uploads/posts/2011-05/1305119029_amas-des-pliades-1680x1050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голубая звезда (слайд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sis-tema.ucoz.ua/foto/4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олнце (слайд 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forum.gorod.dp.ua/showthread.php?s=17c8c6997adf20697027c0dafc987c11&amp;t=85103&amp;page=2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войная звезда (слайд (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uchcol.ru/uchcol_inuchcols/e_cart/images/items/91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троение Солнца (слайд 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Сегодня на уро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вез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енности звезды Солн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4-конечная звезда 7"/>
          <p:cNvSpPr/>
          <p:nvPr/>
        </p:nvSpPr>
        <p:spPr>
          <a:xfrm>
            <a:off x="8381880" y="3049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4-конечная звезда 8"/>
          <p:cNvSpPr/>
          <p:nvPr/>
        </p:nvSpPr>
        <p:spPr>
          <a:xfrm>
            <a:off x="8763120" y="3808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-конечная звезда 9"/>
          <p:cNvSpPr/>
          <p:nvPr/>
        </p:nvSpPr>
        <p:spPr>
          <a:xfrm>
            <a:off x="8534520" y="6858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4-конечная звезда 10"/>
          <p:cNvSpPr/>
          <p:nvPr/>
        </p:nvSpPr>
        <p:spPr>
          <a:xfrm>
            <a:off x="7924680" y="1522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F:\Картинки\1272141299_11.png"/>
          <p:cNvPicPr/>
          <p:nvPr/>
        </p:nvPicPr>
        <p:blipFill>
          <a:blip r:embed="rId1"/>
          <a:stretch/>
        </p:blipFill>
        <p:spPr>
          <a:xfrm>
            <a:off x="2514600" y="3276720"/>
            <a:ext cx="289548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mic Sans MS"/>
              </a:rPr>
              <a:t>1. Звезд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191120" y="1600200"/>
            <a:ext cx="44193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вез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огромные пылающие шары, расположенные очень далеко от нашей план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ttp://oboi-mira.ru/_ph/10/69541257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523880"/>
            <a:ext cx="3759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5"/>
          <p:cNvSpPr/>
          <p:nvPr/>
        </p:nvSpPr>
        <p:spPr>
          <a:xfrm>
            <a:off x="762120" y="609588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Рождение звез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Фотографии космоса: "/>
          <p:cNvPicPr/>
          <p:nvPr/>
        </p:nvPicPr>
        <p:blipFill>
          <a:blip r:embed="rId1"/>
          <a:stretch/>
        </p:blipFill>
        <p:spPr>
          <a:xfrm>
            <a:off x="228600" y="914400"/>
            <a:ext cx="4000680" cy="400068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5"/>
          <p:cNvSpPr/>
          <p:nvPr/>
        </p:nvSpPr>
        <p:spPr>
          <a:xfrm>
            <a:off x="304920" y="51055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ок звездообразования, расположенный в созвездии Южная Кор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http://s59.radikal.ru/i164/0902/ce/589f6c2e594ct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95680" y="914400"/>
            <a:ext cx="4257720" cy="29718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11"/>
          <p:cNvSpPr/>
          <p:nvPr/>
        </p:nvSpPr>
        <p:spPr>
          <a:xfrm>
            <a:off x="4724280" y="41911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ок звездообразования, расположенный в туманности Ори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Группа 32"/>
          <p:cNvGrpSpPr/>
          <p:nvPr/>
        </p:nvGrpSpPr>
        <p:grpSpPr>
          <a:xfrm>
            <a:off x="380880" y="1447920"/>
            <a:ext cx="8534520" cy="3476880"/>
            <a:chOff x="380880" y="1447920"/>
            <a:chExt cx="8534520" cy="3476880"/>
          </a:xfrm>
        </p:grpSpPr>
        <p:sp>
          <p:nvSpPr>
            <p:cNvPr id="135" name="TextBox 9"/>
            <p:cNvSpPr/>
            <p:nvPr/>
          </p:nvSpPr>
          <p:spPr>
            <a:xfrm>
              <a:off x="380880" y="3733560"/>
              <a:ext cx="2438280" cy="119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</a:rPr>
                <a:t>Больше Солнца в сотни ра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10"/>
            <p:cNvSpPr/>
            <p:nvPr/>
          </p:nvSpPr>
          <p:spPr>
            <a:xfrm>
              <a:off x="3429000" y="3733560"/>
              <a:ext cx="2438280" cy="119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</a:rPr>
                <a:t>Больше Солнца в десятки ра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11"/>
            <p:cNvSpPr/>
            <p:nvPr/>
          </p:nvSpPr>
          <p:spPr>
            <a:xfrm>
              <a:off x="6477120" y="3733560"/>
              <a:ext cx="2438280" cy="119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</a:rPr>
                <a:t>Подобные Солнцу и меньше ег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" name="Прямая со стрелкой 13"/>
            <p:cNvCxnSpPr/>
            <p:nvPr/>
          </p:nvCxnSpPr>
          <p:spPr>
            <a:xfrm flipH="1">
              <a:off x="1446840" y="1905120"/>
              <a:ext cx="1448280" cy="762480"/>
            </a:xfrm>
            <a:prstGeom prst="straightConnector1">
              <a:avLst/>
            </a:prstGeom>
            <a:ln w="25560">
              <a:solidFill>
                <a:srgbClr val="002346"/>
              </a:solidFill>
              <a:miter/>
              <a:tailEnd len="lg" type="stealth" w="lg"/>
            </a:ln>
          </p:spPr>
        </p:cxnSp>
        <p:cxnSp>
          <p:nvCxnSpPr>
            <p:cNvPr id="139" name="Прямая со стрелкой 15"/>
            <p:cNvCxnSpPr/>
            <p:nvPr/>
          </p:nvCxnSpPr>
          <p:spPr>
            <a:xfrm>
              <a:off x="6171840" y="1905120"/>
              <a:ext cx="1448280" cy="762480"/>
            </a:xfrm>
            <a:prstGeom prst="straightConnector1">
              <a:avLst/>
            </a:prstGeom>
            <a:ln w="25560">
              <a:solidFill>
                <a:srgbClr val="002346"/>
              </a:solidFill>
              <a:miter/>
              <a:tailEnd len="lg" type="stealth" w="lg"/>
            </a:ln>
          </p:spPr>
        </p:cxnSp>
        <p:cxnSp>
          <p:nvCxnSpPr>
            <p:cNvPr id="140" name="Прямая со стрелкой 17"/>
            <p:cNvCxnSpPr/>
            <p:nvPr/>
          </p:nvCxnSpPr>
          <p:spPr>
            <a:xfrm flipH="1">
              <a:off x="4493880" y="1905120"/>
              <a:ext cx="3600" cy="762480"/>
            </a:xfrm>
            <a:prstGeom prst="straightConnector1">
              <a:avLst/>
            </a:prstGeom>
            <a:ln w="25560">
              <a:solidFill>
                <a:srgbClr val="002346"/>
              </a:solidFill>
              <a:miter/>
              <a:tailEnd len="lg" type="stealth" w="lg"/>
            </a:ln>
          </p:spPr>
        </p:cxnSp>
        <p:sp>
          <p:nvSpPr>
            <p:cNvPr id="141" name="TextBox 5"/>
            <p:cNvSpPr/>
            <p:nvPr/>
          </p:nvSpPr>
          <p:spPr>
            <a:xfrm>
              <a:off x="2895480" y="1447920"/>
              <a:ext cx="327672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</a:rPr>
                <a:t>ЗВЕЗД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2" name="Прямая со стрелкой 20"/>
            <p:cNvCxnSpPr/>
            <p:nvPr/>
          </p:nvCxnSpPr>
          <p:spPr>
            <a:xfrm flipH="1">
              <a:off x="1523520" y="2971800"/>
              <a:ext cx="2160" cy="762480"/>
            </a:xfrm>
            <a:prstGeom prst="straightConnector1">
              <a:avLst/>
            </a:prstGeom>
            <a:ln w="25560">
              <a:solidFill>
                <a:srgbClr val="002346"/>
              </a:solidFill>
              <a:miter/>
              <a:tailEnd len="lg" type="stealth" w="lg"/>
            </a:ln>
          </p:spPr>
        </p:cxnSp>
        <p:cxnSp>
          <p:nvCxnSpPr>
            <p:cNvPr id="143" name="Прямая со стрелкой 21"/>
            <p:cNvCxnSpPr/>
            <p:nvPr/>
          </p:nvCxnSpPr>
          <p:spPr>
            <a:xfrm flipH="1">
              <a:off x="4495320" y="2971800"/>
              <a:ext cx="2160" cy="762480"/>
            </a:xfrm>
            <a:prstGeom prst="straightConnector1">
              <a:avLst/>
            </a:prstGeom>
            <a:ln w="25560">
              <a:solidFill>
                <a:srgbClr val="002346"/>
              </a:solidFill>
              <a:miter/>
              <a:tailEnd len="lg" type="stealth" w="lg"/>
            </a:ln>
          </p:spPr>
        </p:cxnSp>
        <p:cxnSp>
          <p:nvCxnSpPr>
            <p:cNvPr id="144" name="Прямая со стрелкой 31"/>
            <p:cNvCxnSpPr/>
            <p:nvPr/>
          </p:nvCxnSpPr>
          <p:spPr>
            <a:xfrm flipH="1">
              <a:off x="7696080" y="2971800"/>
              <a:ext cx="2160" cy="762480"/>
            </a:xfrm>
            <a:prstGeom prst="straightConnector1">
              <a:avLst/>
            </a:prstGeom>
            <a:ln w="25560">
              <a:solidFill>
                <a:srgbClr val="002346"/>
              </a:solidFill>
              <a:miter/>
              <a:tailEnd len="lg" type="stealth" w="lg"/>
            </a:ln>
          </p:spPr>
        </p:cxnSp>
        <p:sp>
          <p:nvSpPr>
            <p:cNvPr id="145" name="TextBox 8"/>
            <p:cNvSpPr/>
            <p:nvPr/>
          </p:nvSpPr>
          <p:spPr>
            <a:xfrm>
              <a:off x="6629400" y="2743200"/>
              <a:ext cx="205740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</a:rPr>
                <a:t>Карли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7"/>
            <p:cNvSpPr/>
            <p:nvPr/>
          </p:nvSpPr>
          <p:spPr>
            <a:xfrm>
              <a:off x="3657600" y="2743200"/>
              <a:ext cx="19810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</a:rPr>
                <a:t>Гиган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6"/>
            <p:cNvSpPr/>
            <p:nvPr/>
          </p:nvSpPr>
          <p:spPr>
            <a:xfrm>
              <a:off x="380880" y="2743200"/>
              <a:ext cx="24382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</a:rPr>
                <a:t>Сверхгиган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Box 33"/>
          <p:cNvSpPr/>
          <p:nvPr/>
        </p:nvSpPr>
        <p:spPr>
          <a:xfrm>
            <a:off x="457200" y="30492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По размеру звезды делятся н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4"/>
          <p:cNvSpPr/>
          <p:nvPr/>
        </p:nvSpPr>
        <p:spPr>
          <a:xfrm>
            <a:off x="228600" y="57913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Сравнительные размеры звез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http://www.evolutionij-mir-asmara.com/images/Nebesnie_Tela_Vselennoy/Vselennaya/%CD%EE%E2%E0%FF%20%EF%E0%EF%EA%E0/11709994_45_4_5-1.jpg"/>
          <p:cNvPicPr/>
          <p:nvPr/>
        </p:nvPicPr>
        <p:blipFill>
          <a:blip r:embed="rId1"/>
          <a:stretch/>
        </p:blipFill>
        <p:spPr>
          <a:xfrm>
            <a:off x="304920" y="152280"/>
            <a:ext cx="773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33"/>
          <p:cNvSpPr/>
          <p:nvPr/>
        </p:nvSpPr>
        <p:spPr>
          <a:xfrm>
            <a:off x="533520" y="30492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По цвету звезды делятся н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25"/>
          <p:cNvGrpSpPr/>
          <p:nvPr/>
        </p:nvGrpSpPr>
        <p:grpSpPr>
          <a:xfrm>
            <a:off x="457200" y="1143000"/>
            <a:ext cx="8381880" cy="1908000"/>
            <a:chOff x="457200" y="1143000"/>
            <a:chExt cx="8381880" cy="1908000"/>
          </a:xfrm>
        </p:grpSpPr>
        <p:grpSp>
          <p:nvGrpSpPr>
            <p:cNvPr id="153" name="Группа 32"/>
            <p:cNvGrpSpPr/>
            <p:nvPr/>
          </p:nvGrpSpPr>
          <p:grpSpPr>
            <a:xfrm>
              <a:off x="457200" y="1143000"/>
              <a:ext cx="7696440" cy="1839240"/>
              <a:chOff x="457200" y="1143000"/>
              <a:chExt cx="7696440" cy="1839240"/>
            </a:xfrm>
          </p:grpSpPr>
          <p:cxnSp>
            <p:nvCxnSpPr>
              <p:cNvPr id="154" name="Прямая со стрелкой 21"/>
              <p:cNvCxnSpPr/>
              <p:nvPr/>
            </p:nvCxnSpPr>
            <p:spPr>
              <a:xfrm flipH="1">
                <a:off x="3657240" y="1599120"/>
                <a:ext cx="916560" cy="839160"/>
              </a:xfrm>
              <a:prstGeom prst="straightConnector1">
                <a:avLst/>
              </a:prstGeom>
              <a:ln w="25560">
                <a:solidFill>
                  <a:srgbClr val="002346"/>
                </a:solidFill>
                <a:miter/>
                <a:tailEnd len="lg" type="stealth" w="lg"/>
              </a:ln>
            </p:spPr>
          </p:cxnSp>
          <p:cxnSp>
            <p:nvCxnSpPr>
              <p:cNvPr id="155" name="Прямая со стрелкой 13"/>
              <p:cNvCxnSpPr/>
              <p:nvPr/>
            </p:nvCxnSpPr>
            <p:spPr>
              <a:xfrm flipH="1">
                <a:off x="1294560" y="1599120"/>
                <a:ext cx="2143800" cy="839160"/>
              </a:xfrm>
              <a:prstGeom prst="straightConnector1">
                <a:avLst/>
              </a:prstGeom>
              <a:ln w="25560">
                <a:solidFill>
                  <a:srgbClr val="002346"/>
                </a:solidFill>
                <a:miter/>
                <a:tailEnd len="lg" type="stealth" w="lg"/>
              </a:ln>
            </p:spPr>
          </p:cxnSp>
          <p:cxnSp>
            <p:nvCxnSpPr>
              <p:cNvPr id="156" name="Прямая со стрелкой 15"/>
              <p:cNvCxnSpPr/>
              <p:nvPr/>
            </p:nvCxnSpPr>
            <p:spPr>
              <a:xfrm>
                <a:off x="6019920" y="1599840"/>
                <a:ext cx="2134080" cy="839160"/>
              </a:xfrm>
              <a:prstGeom prst="straightConnector1">
                <a:avLst/>
              </a:prstGeom>
              <a:ln w="25560">
                <a:solidFill>
                  <a:srgbClr val="002346"/>
                </a:solidFill>
                <a:miter/>
                <a:tailEnd len="lg" type="stealth" w="lg"/>
              </a:ln>
            </p:spPr>
          </p:cxnSp>
          <p:cxnSp>
            <p:nvCxnSpPr>
              <p:cNvPr id="157" name="Прямая со стрелкой 17"/>
              <p:cNvCxnSpPr/>
              <p:nvPr/>
            </p:nvCxnSpPr>
            <p:spPr>
              <a:xfrm>
                <a:off x="4725000" y="1599840"/>
                <a:ext cx="837000" cy="839160"/>
              </a:xfrm>
              <a:prstGeom prst="straightConnector1">
                <a:avLst/>
              </a:prstGeom>
              <a:ln w="25560">
                <a:solidFill>
                  <a:srgbClr val="002346"/>
                </a:solidFill>
                <a:miter/>
                <a:tailEnd len="lg" type="stealth" w="lg"/>
              </a:ln>
            </p:spPr>
          </p:cxnSp>
          <p:sp>
            <p:nvSpPr>
              <p:cNvPr id="158" name="TextBox 5"/>
              <p:cNvSpPr/>
              <p:nvPr/>
            </p:nvSpPr>
            <p:spPr>
              <a:xfrm>
                <a:off x="3422880" y="1143000"/>
                <a:ext cx="2596680" cy="459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2060"/>
                    </a:solidFill>
                    <a:latin typeface="Arial"/>
                  </a:rPr>
                  <a:t>ЗВЕЗД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Box 6"/>
              <p:cNvSpPr/>
              <p:nvPr/>
            </p:nvSpPr>
            <p:spPr>
              <a:xfrm>
                <a:off x="457200" y="2522520"/>
                <a:ext cx="1779480" cy="459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2060"/>
                    </a:solidFill>
                    <a:latin typeface="Arial"/>
                  </a:rPr>
                  <a:t>Белы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TextBox 18"/>
            <p:cNvSpPr/>
            <p:nvPr/>
          </p:nvSpPr>
          <p:spPr>
            <a:xfrm>
              <a:off x="2666880" y="2514960"/>
              <a:ext cx="167616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</a:rPr>
                <a:t>Голуб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19"/>
            <p:cNvSpPr/>
            <p:nvPr/>
          </p:nvSpPr>
          <p:spPr>
            <a:xfrm>
              <a:off x="4876920" y="2514960"/>
              <a:ext cx="167616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</a:rPr>
                <a:t>Желт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22"/>
            <p:cNvSpPr/>
            <p:nvPr/>
          </p:nvSpPr>
          <p:spPr>
            <a:xfrm>
              <a:off x="7162920" y="2591280"/>
              <a:ext cx="167616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</a:rPr>
                <a:t>Крас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Picture 19" descr="Картинка 11 из 1161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3505320"/>
            <a:ext cx="2057400" cy="1536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5" descr="http://upload.wikimedia.org/wikipedia/commons/d/da/Hoag%27s_object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3505320"/>
            <a:ext cx="1605240" cy="1523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7" descr="http://upload.wikimedia.org/wikipedia/commons/thumb/7/74/RedDwarfNASA.jpg/300px-RedDwarfNASA.jpg"/>
          <p:cNvPicPr/>
          <p:nvPr/>
        </p:nvPicPr>
        <p:blipFill>
          <a:blip r:embed="rId5"/>
          <a:stretch/>
        </p:blipFill>
        <p:spPr>
          <a:xfrm>
            <a:off x="7010280" y="3505320"/>
            <a:ext cx="1905120" cy="1473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9" descr="Картинка 2 из 12067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66880" y="3505320"/>
            <a:ext cx="1905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Содержимое 2"/>
          <p:cNvSpPr/>
          <p:nvPr/>
        </p:nvSpPr>
        <p:spPr>
          <a:xfrm>
            <a:off x="228600" y="5486400"/>
            <a:ext cx="693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Наше Солнце считается желтым карл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Картинка 1 из 1199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533520"/>
            <a:ext cx="48006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33"/>
          <p:cNvSpPr/>
          <p:nvPr/>
        </p:nvSpPr>
        <p:spPr>
          <a:xfrm>
            <a:off x="152280" y="3049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Звезды бываю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Группа 43"/>
          <p:cNvGrpSpPr/>
          <p:nvPr/>
        </p:nvGrpSpPr>
        <p:grpSpPr>
          <a:xfrm>
            <a:off x="533520" y="1676520"/>
            <a:ext cx="8153280" cy="3979800"/>
            <a:chOff x="533520" y="1676520"/>
            <a:chExt cx="8153280" cy="3979800"/>
          </a:xfrm>
        </p:grpSpPr>
        <p:cxnSp>
          <p:nvCxnSpPr>
            <p:cNvPr id="171" name="Прямая со стрелкой 39"/>
            <p:cNvCxnSpPr>
              <a:endCxn id="172" idx="0"/>
            </p:cNvCxnSpPr>
            <p:nvPr/>
          </p:nvCxnSpPr>
          <p:spPr>
            <a:xfrm flipH="1">
              <a:off x="6857640" y="3123720"/>
              <a:ext cx="2160" cy="610200"/>
            </a:xfrm>
            <a:prstGeom prst="straightConnector1">
              <a:avLst/>
            </a:prstGeom>
            <a:ln w="25560">
              <a:solidFill>
                <a:srgbClr val="002346"/>
              </a:solidFill>
              <a:miter/>
              <a:tailEnd len="lg" type="stealth" w="lg"/>
            </a:ln>
          </p:spPr>
        </p:cxnSp>
        <p:grpSp>
          <p:nvGrpSpPr>
            <p:cNvPr id="173" name="Группа 25"/>
            <p:cNvGrpSpPr/>
            <p:nvPr/>
          </p:nvGrpSpPr>
          <p:grpSpPr>
            <a:xfrm>
              <a:off x="533520" y="1676520"/>
              <a:ext cx="7543800" cy="1526400"/>
              <a:chOff x="533520" y="1676520"/>
              <a:chExt cx="7543800" cy="1526400"/>
            </a:xfrm>
          </p:grpSpPr>
          <p:grpSp>
            <p:nvGrpSpPr>
              <p:cNvPr id="174" name="Группа 32"/>
              <p:cNvGrpSpPr/>
              <p:nvPr/>
            </p:nvGrpSpPr>
            <p:grpSpPr>
              <a:xfrm>
                <a:off x="533520" y="1676520"/>
                <a:ext cx="5790960" cy="1526400"/>
                <a:chOff x="533520" y="1676520"/>
                <a:chExt cx="5790960" cy="1526400"/>
              </a:xfrm>
            </p:grpSpPr>
            <p:cxnSp>
              <p:nvCxnSpPr>
                <p:cNvPr id="175" name="Прямая со стрелкой 13"/>
                <p:cNvCxnSpPr/>
                <p:nvPr/>
              </p:nvCxnSpPr>
              <p:spPr>
                <a:xfrm flipH="1">
                  <a:off x="2361600" y="2133720"/>
                  <a:ext cx="1762920" cy="534240"/>
                </a:xfrm>
                <a:prstGeom prst="straightConnector1">
                  <a:avLst/>
                </a:prstGeom>
                <a:ln w="25560">
                  <a:solidFill>
                    <a:srgbClr val="002346"/>
                  </a:solidFill>
                  <a:miter/>
                  <a:tailEnd len="lg" type="stealth" w="lg"/>
                </a:ln>
              </p:spPr>
            </p:cxnSp>
            <p:cxnSp>
              <p:nvCxnSpPr>
                <p:cNvPr id="176" name="Прямая со стрелкой 15"/>
                <p:cNvCxnSpPr/>
                <p:nvPr/>
              </p:nvCxnSpPr>
              <p:spPr>
                <a:xfrm>
                  <a:off x="4267080" y="2133720"/>
                  <a:ext cx="2057760" cy="457920"/>
                </a:xfrm>
                <a:prstGeom prst="straightConnector1">
                  <a:avLst/>
                </a:prstGeom>
                <a:ln w="25560">
                  <a:solidFill>
                    <a:srgbClr val="002346"/>
                  </a:solidFill>
                  <a:miter/>
                  <a:tailEnd len="lg" type="stealth" w="lg"/>
                </a:ln>
              </p:spPr>
            </p:cxnSp>
            <p:sp>
              <p:nvSpPr>
                <p:cNvPr id="177" name="TextBox 5"/>
                <p:cNvSpPr/>
                <p:nvPr/>
              </p:nvSpPr>
              <p:spPr>
                <a:xfrm>
                  <a:off x="3270600" y="1676520"/>
                  <a:ext cx="1987200" cy="459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2060"/>
                      </a:solidFill>
                      <a:latin typeface="Arial"/>
                    </a:rPr>
                    <a:t>ЗВЕЗДЫ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TextBox 6"/>
                <p:cNvSpPr/>
                <p:nvPr/>
              </p:nvSpPr>
              <p:spPr>
                <a:xfrm>
                  <a:off x="533520" y="2743200"/>
                  <a:ext cx="2438280" cy="459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2060"/>
                      </a:solidFill>
                      <a:latin typeface="Arial"/>
                    </a:rPr>
                    <a:t>Переменные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TextBox 22"/>
              <p:cNvSpPr/>
              <p:nvPr/>
            </p:nvSpPr>
            <p:spPr>
              <a:xfrm>
                <a:off x="5791320" y="2743200"/>
                <a:ext cx="2286000" cy="459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2060"/>
                    </a:solidFill>
                    <a:latin typeface="Arial"/>
                  </a:rPr>
                  <a:t>Двойны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TextBox 27"/>
            <p:cNvSpPr/>
            <p:nvPr/>
          </p:nvSpPr>
          <p:spPr>
            <a:xfrm>
              <a:off x="533520" y="3657240"/>
              <a:ext cx="2438280" cy="82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</a:rPr>
                <a:t>Изменяют свой блес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28"/>
            <p:cNvSpPr/>
            <p:nvPr/>
          </p:nvSpPr>
          <p:spPr>
            <a:xfrm>
              <a:off x="5029200" y="3733560"/>
              <a:ext cx="3657600" cy="1922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</a:rPr>
                <a:t>Две звезды, расположенные близко друг к другу и связанные взаимным притяжение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Прямая со стрелкой 38"/>
            <p:cNvCxnSpPr>
              <a:stCxn id="178" idx="2"/>
              <a:endCxn id="180" idx="0"/>
            </p:cNvCxnSpPr>
            <p:nvPr/>
          </p:nvCxnSpPr>
          <p:spPr>
            <a:xfrm flipH="1">
              <a:off x="1752120" y="3205080"/>
              <a:ext cx="2160" cy="452880"/>
            </a:xfrm>
            <a:prstGeom prst="straightConnector1">
              <a:avLst/>
            </a:prstGeom>
            <a:ln w="25560">
              <a:solidFill>
                <a:srgbClr val="002346"/>
              </a:solidFill>
              <a:miter/>
              <a:tailEnd len="lg" type="stealth" w="lg"/>
            </a:ln>
          </p:spPr>
        </p:cxnSp>
      </p:grpSp>
      <p:pic>
        <p:nvPicPr>
          <p:cNvPr id="182" name="Picture 22" descr="http://i027.radikal.ru/0904/a4/d6d8c2e89f8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914400"/>
            <a:ext cx="221004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горных Л.Н.</dc:creator>
  <dc:description/>
  <dc:language>en-US</dc:language>
  <cp:lastModifiedBy>учитель</cp:lastModifiedBy>
  <dcterms:modified xsi:type="dcterms:W3CDTF">2011-11-11T11:42:45Z</dcterms:modified>
  <cp:revision>42</cp:revision>
  <dc:subject>природоведение</dc:subject>
  <dc:title>звезды. Сонце - ближайшая к нам звез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