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85A-1BA8-4A42-A1D3-0AC38923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8C4-A824-445A-94B7-F6BDE75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AF7-2FAF-441B-90D0-E1BEEBE7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CD7-EDBE-423D-A4C3-E1CD354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2B11-DE0C-4A4C-9B57-0BE7298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3223-EEAC-4C21-B986-3456E50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D71-11A5-48CE-83FB-44263745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8D22-3CCD-4879-B9E9-56984707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06A2-7AD6-4772-8038-087A74E2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2877-24ED-4ADC-ABBE-E37526B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D37F-96AB-4EA8-951C-E6843A1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371-9116-4FD7-A2C5-B13B8108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E413-E519-438E-9AA0-FDDCF942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36C1-0429-4B1D-8FFE-C5F21CD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2785-8C4E-461C-966B-43756DD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D84-15B9-4866-8E46-6943D6D3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CF3-604A-4737-9A3D-AFCC76AC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81F-EF69-48AC-B515-78E7FBD1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C91-44ED-496D-BD1E-07B4153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58F-4847-47D4-8625-CD2F611A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9E7-CC2C-49ED-9F62-2ABAE77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0DD-7015-4F45-85A4-A9D2E2E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CE7-174F-4A74-9620-413196E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B2C-FE82-466B-ACC5-CF502EB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C736-6351-44CD-8838-C41A5AFC0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23C9-394B-411C-B757-E0D7AF699D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8/812/38812231_solnuyshko.jpg" TargetMode="External"/><Relationship Id="rId2" Type="http://schemas.openxmlformats.org/officeDocument/2006/relationships/hyperlink" Target="http://oboi-mira.ru/_ph/10/695412571.jpg" TargetMode="External"/><Relationship Id="rId3" Type="http://schemas.openxmlformats.org/officeDocument/2006/relationships/hyperlink" Target="http://www.lassy.ru/news/rozhdenie_zvezd/2011-03-16-115" TargetMode="External"/><Relationship Id="rId4" Type="http://schemas.openxmlformats.org/officeDocument/2006/relationships/hyperlink" Target="http://radikal.ru/F/s59.radikal.ru/i164/0902/ce/589f6c2e594c.jpg.html" TargetMode="External"/><Relationship Id="rId5" Type="http://schemas.openxmlformats.org/officeDocument/2006/relationships/hyperlink" Target="http://worldradio.ru/forum/showthread.php?t=5280" TargetMode="External"/><Relationship Id="rId6" Type="http://schemas.openxmlformats.org/officeDocument/2006/relationships/hyperlink" Target="http://www.goodfon.ru/wallpaper/previews-middle/10963.jpg" TargetMode="External"/><Relationship Id="rId7" Type="http://schemas.openxmlformats.org/officeDocument/2006/relationships/hyperlink" Target="http://upload.wikimedia.org/wikipedia/commons/d/da/Hoag%27s_object.jpg" TargetMode="External"/><Relationship Id="rId8" Type="http://schemas.openxmlformats.org/officeDocument/2006/relationships/hyperlink" Target="http://upload.wikimedia.org/wikipedia/commons/7/74/RedDwarfNASA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boi-mira.ru/_ph/10/69541257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adikal.ru/F/s59.radikal.ru/i164/0902/ce/589f6c2e594c.jpg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dfon.ru/wallpaper/previews-middle/10963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commons/d/da/Hoag%27s_object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tltsoft.org/uploads/posts/2011-05/1305119029_amas-des-pliades-1680x1050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s-tema.ucoz.ua/foto/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Звезды. 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Солнце – ближайшая к нам звезд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орных Любовь Никола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Чукреевская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6248520" y="304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B32-3AB4-4AC0-84F2-28AB7C826906}" type="datetime">
              <a:rPr b="0" lang="ru-RU" sz="3600" spc="-1" strike="noStrike">
                <a:solidFill>
                  <a:srgbClr val="ffc000"/>
                </a:solidFill>
                <a:latin typeface="Arial"/>
              </a:rPr>
              <a:t>30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– ближайшая к Земле звезда. Оно – центр нашей Солне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состоит из газа – плазмы (гелия и водор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метр Солнца =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9 диаметров Земли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= 332 982 масс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 внутри Солнц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600000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поверхности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00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вращается вокруг своей оси с запада на во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одна двухмиллиардная часть энергии, испускаемой Солнцем, попадает на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2. Особенности звезды 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5334120" y="2438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троение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http://www.uchcol.ru/uchcol_inuchcols/e_cart/images/items/91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0.liveinternet.ru/images/attach/c/0/38/812/38812231_solnuyshko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(слайд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i-mira.ru/_ph/10/69541257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вездное небо (слайд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assy.ru/news/rozhdenie_zvezd/2011-03-16-1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участок звездообразования в созвездии Южная корона 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adikal.ru/F/s59.radikal.ru/i164/0902/ce/589f6c2e594c.jpg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участок звездообразования в туманности Ориона 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orldradio.ru/forum/showthread.php?t=52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равнительные размеры звезд (слайд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goodfon.ru/wallpaper/previews-middle/10963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бел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upload.wikimedia.org/wikipedia/commons/d/da/Hoag%27s_object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желт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upload.wikimedia.org/wikipedia/commons/7/74/RedDwarfNASA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расн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ltsoft.org/uploads/posts/2011-05/1305119029_amas-des-pliades-1680x1050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голубая звезда 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is-tema.ucoz.ua/foto/4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лнце (слайд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orum.gorod.dp.ua/showthread.php?s=17c8c6997adf20697027c0dafc987c11&amp;t=85103&amp;page=2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ойная звезда (слайд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uchcol.ru/uchcol_inuchcols/e_cart/images/items/9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ение Солнца (слайд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звезды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-конечная звезда 7"/>
          <p:cNvSpPr/>
          <p:nvPr/>
        </p:nvSpPr>
        <p:spPr>
          <a:xfrm>
            <a:off x="8381880" y="3049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-конечная звезда 8"/>
          <p:cNvSpPr/>
          <p:nvPr/>
        </p:nvSpPr>
        <p:spPr>
          <a:xfrm>
            <a:off x="876312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-конечная звезда 9"/>
          <p:cNvSpPr/>
          <p:nvPr/>
        </p:nvSpPr>
        <p:spPr>
          <a:xfrm>
            <a:off x="8534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-конечная звезда 10"/>
          <p:cNvSpPr/>
          <p:nvPr/>
        </p:nvSpPr>
        <p:spPr>
          <a:xfrm>
            <a:off x="7924680" y="152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Картинки\1272141299_11.png"/>
          <p:cNvPicPr/>
          <p:nvPr/>
        </p:nvPicPr>
        <p:blipFill>
          <a:blip r:embed="rId1"/>
          <a:stretch/>
        </p:blipFill>
        <p:spPr>
          <a:xfrm>
            <a:off x="2514600" y="3276720"/>
            <a:ext cx="2895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1. Звез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191120" y="160020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вез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громные пылающие шары, расположенные очень далеко от нашей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oboi-mira.ru/_ph/10/6954125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38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762120" y="6095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ождение зв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Фотографии космоса: "/>
          <p:cNvPicPr/>
          <p:nvPr/>
        </p:nvPicPr>
        <p:blipFill>
          <a:blip r:embed="rId1"/>
          <a:stretch/>
        </p:blipFill>
        <p:spPr>
          <a:xfrm>
            <a:off x="228600" y="91440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0492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ок звездообразования, расположенный в созвездии Южная К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http://s59.radikal.ru/i164/0902/ce/589f6c2e594c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914400"/>
            <a:ext cx="42577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1"/>
          <p:cNvSpPr/>
          <p:nvPr/>
        </p:nvSpPr>
        <p:spPr>
          <a:xfrm>
            <a:off x="4724280" y="41911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ок звездообразования, расположенный в туманности Ор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32"/>
          <p:cNvGrpSpPr/>
          <p:nvPr/>
        </p:nvGrpSpPr>
        <p:grpSpPr>
          <a:xfrm>
            <a:off x="380880" y="1447920"/>
            <a:ext cx="8534520" cy="3476880"/>
            <a:chOff x="380880" y="1447920"/>
            <a:chExt cx="8534520" cy="3476880"/>
          </a:xfrm>
        </p:grpSpPr>
        <p:sp>
          <p:nvSpPr>
            <p:cNvPr id="135" name="TextBox 9"/>
            <p:cNvSpPr/>
            <p:nvPr/>
          </p:nvSpPr>
          <p:spPr>
            <a:xfrm>
              <a:off x="380880" y="3733560"/>
              <a:ext cx="2438280" cy="119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Больше Солнца в сотни ра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0"/>
            <p:cNvSpPr/>
            <p:nvPr/>
          </p:nvSpPr>
          <p:spPr>
            <a:xfrm>
              <a:off x="3429000" y="3733560"/>
              <a:ext cx="2438280" cy="119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Больше Солнца в десятки ра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6477120" y="3733560"/>
              <a:ext cx="2438280" cy="119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Подобные Солнцу и меньше е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Прямая со стрелкой 13"/>
            <p:cNvCxnSpPr/>
            <p:nvPr/>
          </p:nvCxnSpPr>
          <p:spPr>
            <a:xfrm flipH="1">
              <a:off x="1446840" y="1905120"/>
              <a:ext cx="144828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39" name="Прямая со стрелкой 15"/>
            <p:cNvCxnSpPr/>
            <p:nvPr/>
          </p:nvCxnSpPr>
          <p:spPr>
            <a:xfrm>
              <a:off x="6171840" y="1905120"/>
              <a:ext cx="144828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40" name="Прямая со стрелкой 17"/>
            <p:cNvCxnSpPr/>
            <p:nvPr/>
          </p:nvCxnSpPr>
          <p:spPr>
            <a:xfrm flipH="1">
              <a:off x="4493880" y="1905120"/>
              <a:ext cx="360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sp>
          <p:nvSpPr>
            <p:cNvPr id="141" name="TextBox 5"/>
            <p:cNvSpPr/>
            <p:nvPr/>
          </p:nvSpPr>
          <p:spPr>
            <a:xfrm>
              <a:off x="2895480" y="1447920"/>
              <a:ext cx="32767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Прямая со стрелкой 20"/>
            <p:cNvCxnSpPr/>
            <p:nvPr/>
          </p:nvCxnSpPr>
          <p:spPr>
            <a:xfrm flipH="1">
              <a:off x="1523520" y="2971800"/>
              <a:ext cx="216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43" name="Прямая со стрелкой 21"/>
            <p:cNvCxnSpPr/>
            <p:nvPr/>
          </p:nvCxnSpPr>
          <p:spPr>
            <a:xfrm flipH="1">
              <a:off x="4495320" y="2971800"/>
              <a:ext cx="216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cxnSp>
          <p:nvCxnSpPr>
            <p:cNvPr id="144" name="Прямая со стрелкой 31"/>
            <p:cNvCxnSpPr/>
            <p:nvPr/>
          </p:nvCxnSpPr>
          <p:spPr>
            <a:xfrm flipH="1">
              <a:off x="7696080" y="2971800"/>
              <a:ext cx="2160" cy="7624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sp>
          <p:nvSpPr>
            <p:cNvPr id="145" name="TextBox 8"/>
            <p:cNvSpPr/>
            <p:nvPr/>
          </p:nvSpPr>
          <p:spPr>
            <a:xfrm>
              <a:off x="6629400" y="2743200"/>
              <a:ext cx="20574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Карл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7"/>
            <p:cNvSpPr/>
            <p:nvPr/>
          </p:nvSpPr>
          <p:spPr>
            <a:xfrm>
              <a:off x="3657600" y="2743200"/>
              <a:ext cx="1981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Гига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6"/>
            <p:cNvSpPr/>
            <p:nvPr/>
          </p:nvSpPr>
          <p:spPr>
            <a:xfrm>
              <a:off x="380880" y="2743200"/>
              <a:ext cx="2438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Сверхгига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3"/>
          <p:cNvSpPr/>
          <p:nvPr/>
        </p:nvSpPr>
        <p:spPr>
          <a:xfrm>
            <a:off x="457200" y="304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о размеру звезды делятся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28600" y="57913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ительные размеры зве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www.evolutionij-mir-asmara.com/images/Nebesnie_Tela_Vselennoy/Vselennaya/%CD%EE%E2%E0%FF%20%EF%E0%EF%EA%E0/11709994_45_4_5-1.jpg"/>
          <p:cNvPicPr/>
          <p:nvPr/>
        </p:nvPicPr>
        <p:blipFill>
          <a:blip r:embed="rId1"/>
          <a:stretch/>
        </p:blipFill>
        <p:spPr>
          <a:xfrm>
            <a:off x="304920" y="152280"/>
            <a:ext cx="773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3"/>
          <p:cNvSpPr/>
          <p:nvPr/>
        </p:nvSpPr>
        <p:spPr>
          <a:xfrm>
            <a:off x="53352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о цвету звезды делятся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5"/>
          <p:cNvGrpSpPr/>
          <p:nvPr/>
        </p:nvGrpSpPr>
        <p:grpSpPr>
          <a:xfrm>
            <a:off x="457200" y="1143000"/>
            <a:ext cx="8381880" cy="1908000"/>
            <a:chOff x="457200" y="1143000"/>
            <a:chExt cx="8381880" cy="1908000"/>
          </a:xfrm>
        </p:grpSpPr>
        <p:grpSp>
          <p:nvGrpSpPr>
            <p:cNvPr id="153" name="Группа 32"/>
            <p:cNvGrpSpPr/>
            <p:nvPr/>
          </p:nvGrpSpPr>
          <p:grpSpPr>
            <a:xfrm>
              <a:off x="457200" y="1143000"/>
              <a:ext cx="7696440" cy="1839240"/>
              <a:chOff x="457200" y="1143000"/>
              <a:chExt cx="7696440" cy="1839240"/>
            </a:xfrm>
          </p:grpSpPr>
          <p:cxnSp>
            <p:nvCxnSpPr>
              <p:cNvPr id="154" name="Прямая со стрелкой 21"/>
              <p:cNvCxnSpPr/>
              <p:nvPr/>
            </p:nvCxnSpPr>
            <p:spPr>
              <a:xfrm flipH="1">
                <a:off x="3657240" y="1599120"/>
                <a:ext cx="91656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cxnSp>
            <p:nvCxnSpPr>
              <p:cNvPr id="155" name="Прямая со стрелкой 13"/>
              <p:cNvCxnSpPr/>
              <p:nvPr/>
            </p:nvCxnSpPr>
            <p:spPr>
              <a:xfrm flipH="1">
                <a:off x="1294560" y="1599120"/>
                <a:ext cx="214380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cxnSp>
            <p:nvCxnSpPr>
              <p:cNvPr id="156" name="Прямая со стрелкой 15"/>
              <p:cNvCxnSpPr/>
              <p:nvPr/>
            </p:nvCxnSpPr>
            <p:spPr>
              <a:xfrm>
                <a:off x="6019920" y="1599840"/>
                <a:ext cx="213408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cxnSp>
            <p:nvCxnSpPr>
              <p:cNvPr id="157" name="Прямая со стрелкой 17"/>
              <p:cNvCxnSpPr/>
              <p:nvPr/>
            </p:nvCxnSpPr>
            <p:spPr>
              <a:xfrm>
                <a:off x="4725000" y="1599840"/>
                <a:ext cx="837000" cy="839160"/>
              </a:xfrm>
              <a:prstGeom prst="straightConnector1">
                <a:avLst/>
              </a:prstGeom>
              <a:ln w="25560">
                <a:solidFill>
                  <a:srgbClr val="002346"/>
                </a:solidFill>
                <a:miter/>
                <a:tailEnd len="lg" type="stealth" w="lg"/>
              </a:ln>
            </p:spPr>
          </p:cxnSp>
          <p:sp>
            <p:nvSpPr>
              <p:cNvPr id="158" name="TextBox 5"/>
              <p:cNvSpPr/>
              <p:nvPr/>
            </p:nvSpPr>
            <p:spPr>
              <a:xfrm>
                <a:off x="3422880" y="1143000"/>
                <a:ext cx="259668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ЗВЕЗД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6"/>
              <p:cNvSpPr/>
              <p:nvPr/>
            </p:nvSpPr>
            <p:spPr>
              <a:xfrm>
                <a:off x="457200" y="2522520"/>
                <a:ext cx="177948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Бел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18"/>
            <p:cNvSpPr/>
            <p:nvPr/>
          </p:nvSpPr>
          <p:spPr>
            <a:xfrm>
              <a:off x="2666880" y="2514960"/>
              <a:ext cx="1676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Голуб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9"/>
            <p:cNvSpPr/>
            <p:nvPr/>
          </p:nvSpPr>
          <p:spPr>
            <a:xfrm>
              <a:off x="4876920" y="2514960"/>
              <a:ext cx="1676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Желт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2"/>
            <p:cNvSpPr/>
            <p:nvPr/>
          </p:nvSpPr>
          <p:spPr>
            <a:xfrm>
              <a:off x="7162920" y="2591280"/>
              <a:ext cx="1676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Кра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9" descr="Картинка 11 из 1161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50532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http://upload.wikimedia.org/wikipedia/commons/d/da/Hoag%27s_objec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505320"/>
            <a:ext cx="160524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http://upload.wikimedia.org/wikipedia/commons/thumb/7/74/RedDwarfNASA.jpg/300px-RedDwarfNASA.jpg"/>
          <p:cNvPicPr/>
          <p:nvPr/>
        </p:nvPicPr>
        <p:blipFill>
          <a:blip r:embed="rId5"/>
          <a:stretch/>
        </p:blipFill>
        <p:spPr>
          <a:xfrm>
            <a:off x="7010280" y="3505320"/>
            <a:ext cx="1905120" cy="147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9" descr="Картинка 2 из 1206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35053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одержимое 2"/>
          <p:cNvSpPr/>
          <p:nvPr/>
        </p:nvSpPr>
        <p:spPr>
          <a:xfrm>
            <a:off x="228600" y="54864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Наше Солнце считается желтым кар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Картинка 1 из 1199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533520"/>
            <a:ext cx="48006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3"/>
          <p:cNvSpPr/>
          <p:nvPr/>
        </p:nvSpPr>
        <p:spPr>
          <a:xfrm>
            <a:off x="15228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Звезды быв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43"/>
          <p:cNvGrpSpPr/>
          <p:nvPr/>
        </p:nvGrpSpPr>
        <p:grpSpPr>
          <a:xfrm>
            <a:off x="533520" y="1676520"/>
            <a:ext cx="8153280" cy="3979800"/>
            <a:chOff x="533520" y="1676520"/>
            <a:chExt cx="8153280" cy="3979800"/>
          </a:xfrm>
        </p:grpSpPr>
        <p:cxnSp>
          <p:nvCxnSpPr>
            <p:cNvPr id="171" name="Прямая со стрелкой 39"/>
            <p:cNvCxnSpPr>
              <a:endCxn id="172" idx="0"/>
            </p:cNvCxnSpPr>
            <p:nvPr/>
          </p:nvCxnSpPr>
          <p:spPr>
            <a:xfrm flipH="1">
              <a:off x="6857640" y="3123720"/>
              <a:ext cx="2160" cy="61020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  <p:grpSp>
          <p:nvGrpSpPr>
            <p:cNvPr id="173" name="Группа 25"/>
            <p:cNvGrpSpPr/>
            <p:nvPr/>
          </p:nvGrpSpPr>
          <p:grpSpPr>
            <a:xfrm>
              <a:off x="533520" y="1676520"/>
              <a:ext cx="7543800" cy="1526400"/>
              <a:chOff x="533520" y="1676520"/>
              <a:chExt cx="7543800" cy="1526400"/>
            </a:xfrm>
          </p:grpSpPr>
          <p:grpSp>
            <p:nvGrpSpPr>
              <p:cNvPr id="174" name="Группа 32"/>
              <p:cNvGrpSpPr/>
              <p:nvPr/>
            </p:nvGrpSpPr>
            <p:grpSpPr>
              <a:xfrm>
                <a:off x="533520" y="1676520"/>
                <a:ext cx="5790960" cy="1526400"/>
                <a:chOff x="533520" y="1676520"/>
                <a:chExt cx="5790960" cy="1526400"/>
              </a:xfrm>
            </p:grpSpPr>
            <p:cxnSp>
              <p:nvCxnSpPr>
                <p:cNvPr id="175" name="Прямая со стрелкой 13"/>
                <p:cNvCxnSpPr/>
                <p:nvPr/>
              </p:nvCxnSpPr>
              <p:spPr>
                <a:xfrm flipH="1">
                  <a:off x="2361600" y="2133720"/>
                  <a:ext cx="1762920" cy="534240"/>
                </a:xfrm>
                <a:prstGeom prst="straightConnector1">
                  <a:avLst/>
                </a:prstGeom>
                <a:ln w="25560">
                  <a:solidFill>
                    <a:srgbClr val="002346"/>
                  </a:solidFill>
                  <a:miter/>
                  <a:tailEnd len="lg" type="stealth" w="lg"/>
                </a:ln>
              </p:spPr>
            </p:cxnSp>
            <p:cxnSp>
              <p:nvCxnSpPr>
                <p:cNvPr id="176" name="Прямая со стрелкой 15"/>
                <p:cNvCxnSpPr/>
                <p:nvPr/>
              </p:nvCxnSpPr>
              <p:spPr>
                <a:xfrm>
                  <a:off x="4267080" y="2133720"/>
                  <a:ext cx="2057760" cy="457920"/>
                </a:xfrm>
                <a:prstGeom prst="straightConnector1">
                  <a:avLst/>
                </a:prstGeom>
                <a:ln w="25560">
                  <a:solidFill>
                    <a:srgbClr val="002346"/>
                  </a:solidFill>
                  <a:miter/>
                  <a:tailEnd len="lg" type="stealth" w="lg"/>
                </a:ln>
              </p:spPr>
            </p:cxnSp>
            <p:sp>
              <p:nvSpPr>
                <p:cNvPr id="177" name="TextBox 5"/>
                <p:cNvSpPr/>
                <p:nvPr/>
              </p:nvSpPr>
              <p:spPr>
                <a:xfrm>
                  <a:off x="3270600" y="1676520"/>
                  <a:ext cx="1987200" cy="459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ЗВЕЗД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TextBox 6"/>
                <p:cNvSpPr/>
                <p:nvPr/>
              </p:nvSpPr>
              <p:spPr>
                <a:xfrm>
                  <a:off x="533520" y="2743200"/>
                  <a:ext cx="2438280" cy="459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Arial"/>
                    </a:rPr>
                    <a:t>Переменные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Box 22"/>
              <p:cNvSpPr/>
              <p:nvPr/>
            </p:nvSpPr>
            <p:spPr>
              <a:xfrm>
                <a:off x="5791320" y="2743200"/>
                <a:ext cx="228600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Arial"/>
                  </a:rPr>
                  <a:t>Двойн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Box 27"/>
            <p:cNvSpPr/>
            <p:nvPr/>
          </p:nvSpPr>
          <p:spPr>
            <a:xfrm>
              <a:off x="533520" y="3657240"/>
              <a:ext cx="243828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Изменяют свой бле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8"/>
            <p:cNvSpPr/>
            <p:nvPr/>
          </p:nvSpPr>
          <p:spPr>
            <a:xfrm>
              <a:off x="5029200" y="3733560"/>
              <a:ext cx="3657600" cy="192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Две звезды, расположенные близко друг к другу и связанные взаимным притяжени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Прямая со стрелкой 38"/>
            <p:cNvCxnSpPr>
              <a:stCxn id="178" idx="2"/>
              <a:endCxn id="180" idx="0"/>
            </p:cNvCxnSpPr>
            <p:nvPr/>
          </p:nvCxnSpPr>
          <p:spPr>
            <a:xfrm flipH="1">
              <a:off x="1752120" y="3205080"/>
              <a:ext cx="2160" cy="452880"/>
            </a:xfrm>
            <a:prstGeom prst="straightConnector1">
              <a:avLst/>
            </a:prstGeom>
            <a:ln w="25560">
              <a:solidFill>
                <a:srgbClr val="002346"/>
              </a:solidFill>
              <a:miter/>
              <a:tailEnd len="lg" type="stealth" w="lg"/>
            </a:ln>
          </p:spPr>
        </p:cxnSp>
      </p:grpSp>
      <p:pic>
        <p:nvPicPr>
          <p:cNvPr id="182" name="Picture 22" descr="http://i027.radikal.ru/0904/a4/d6d8c2e89f8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9144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горных Л.Н.</dc:creator>
  <dc:description/>
  <dc:language>en-US</dc:language>
  <cp:lastModifiedBy>учитель</cp:lastModifiedBy>
  <dcterms:modified xsi:type="dcterms:W3CDTF">2011-11-11T11:42:45Z</dcterms:modified>
  <cp:revision>42</cp:revision>
  <dc:subject>природоведение</dc:subject>
  <dc:title>звезды. Сонце - ближайшая к нам звез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