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C98-45DB-490E-BCC8-76846C6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CA2-90BB-4762-9EBD-6AF0B987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0427-D92D-4CE8-B491-D87EDEE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70263-9E0A-4ED5-AA94-38AA6E0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CDD1C-B636-4941-9B76-BD2F8B6C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B8A02-B3F2-4DF4-BC32-3D69F35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45894-F0DB-4AAE-8CC4-0A8F1AE6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96C8-EC34-468E-9367-2EBA8D9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DE0C-3E04-45CC-B5F7-B21342B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C6CBC-E9A0-4BA5-8FDA-A8282407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3162-A1CC-4F02-8030-85D1F807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19-C670-466D-9B46-92A47C92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35A-D188-453B-9D53-9E113C81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045D-1C68-42BE-B6E8-0B797698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0990-210E-4156-8364-A369009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8CE-CE19-47AA-A782-12A779D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7F64-B6DD-4ABA-99B5-2CE20DD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5FF4-45DB-4919-B9B8-2156F42A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B00B-FE8F-43A2-B658-2CDD2D4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477F-92C3-40BC-807B-8FB5637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F1F-2129-47E8-98E8-25DE066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6DA-DA41-40AB-AF85-D1A9AD6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873-3534-406E-9C80-27807A8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826-6125-4B84-8A3A-4188EA4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2FF-A995-43C6-9475-C3C9B407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008-1BE3-4A02-8FF5-87AEAAC6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572E-248A-4FB0-A2E0-06258F13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E4D1-8275-4C87-8479-E707491F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B475-491D-4491-94BA-91B362D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8E18-3FE4-40B4-9A1D-295EF6B2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E16B-2BF7-47C8-B569-BA7D485C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52D-6885-43EB-9B2E-E5C3AEC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BCFF-CCB0-46CB-9F70-2C0229D2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860D-BDF8-4E0A-92C5-9360071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384B-FB94-49D2-9AC5-98E0CA1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FD16-64B3-4458-A886-D6DFCC7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2792-9DF4-4334-BF81-496E577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987E-A894-44C8-94C8-F0B9EDD1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3EEA-CB9A-42E9-AAE3-5C1E7639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2DE0-2078-42F2-B1B9-DC0990E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BAE8-61DE-401B-A719-DD4126C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19C3-B888-48FF-ABFC-318D3F8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E79-71A2-4B70-89AF-C08F541C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ADF6-CED0-4760-8154-80A80D2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A818-2F23-44F4-BE66-EC75A2F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5629-7FE9-44B5-B3DE-F1CD004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8E44-B196-494A-BFC8-1C137DA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7D77A-0CA1-40CE-9073-9AD539C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0AAE-1433-4FA3-9189-1171CA18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5DDC-BB01-4790-8C2F-FE22100F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4385-45B1-4CF3-9F88-D21D2D5F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25B8-BB64-4578-BCA7-9290AA0D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B875-BD6A-424F-8950-3C9425CA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64A-3EF7-41BC-9470-12DC41B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9784-0DC9-42C5-86DD-20CA42F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FFC9-3897-4675-961C-6DAEDA56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9A97-B468-44B9-9695-581847D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60D6-5504-4F2F-B7C0-80D4B5B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C745-22F0-45AB-A5CE-6BDDCD3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9790-695E-4736-90F5-DC6C9C1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19DA-A6DD-48F2-8915-2BED0B6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FBFF-8B21-4522-81A1-A5C02EB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B22D-5E9B-4547-B93B-547A602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0E4A-D150-4C6A-9234-42B611A4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842-9CF0-43D4-B92B-7C96F5F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B9E7-B55F-491A-B00C-50632D4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261F4-C267-4D5B-A9C8-DF42D64B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2E6C-F88E-4C9C-9786-B9EF3D6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9F453-B4FE-466E-B5C3-625EB26B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433A4-844E-4DDD-80EE-53DB3E8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769B-3F8D-4C1F-A71A-2250DD47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E6B8-44E2-4A1C-A2DE-901E1B7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CA12-7D95-4968-AC44-54309ED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94C9-7C34-472B-AA02-B9A113E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E163-8536-4244-89A1-B209678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2E1-285F-4F00-B62B-828FB9F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72DE-0C8A-4269-BCF9-50E5A45B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8E61-E61E-4980-9EA7-7BC23D8F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FE97-D563-4EB8-A592-356B66E3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A87D-89D4-4F2B-BA80-D15294FF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4B17-8E7A-49F7-A852-3D858CD1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AE67-A3A6-4B21-BADB-BD82C3B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8904-99C6-4433-8061-B31204D7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B7DC8-9444-4891-BD16-E06E48B5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47E6-7722-4630-9066-F626C4A6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0A42-34E6-4D71-84A1-1905911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870-E1F8-40E5-BE9C-9291438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6334-51E8-47BE-BAA8-427A927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78C0-F18B-4C91-AFF7-A973A30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856A-E4B2-4E48-86EE-08FA7A42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0ADE9-07F4-4675-B1A0-5408F602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9F05E-2CF7-4505-9452-BA4191AC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C4B9-916E-4744-A94A-C7CB52D7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9E8F-3D40-43D2-B041-03C073F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D3EBF-1D58-4334-91D0-8D781959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22B3-2887-4281-97BE-5719FBA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3866-28EF-43C7-9E4B-398DA96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44D-F878-4455-A148-C5DE34A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B9E9-B650-4412-A80C-CB73270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8F569-860D-4F58-B6A4-81D221A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1528-9626-4955-A832-1AE6856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B50A-D4F9-4D59-9FE7-20891C58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BD08-51DC-47DD-B2BB-8E6DCC42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0029-B8F8-43DC-B7BC-3052820B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76EB-D50C-4692-A3E6-DD732CC7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480FA-7BE3-4647-8505-33F3A55B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E6C10-3271-4937-97EB-3E6B558C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9E032-8AB4-4461-B357-DE4ECEE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B5C-07A2-4D62-BD93-781E3CF4C2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C50-7BA6-480D-B80A-5A9AB3F9BD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F34-F549-4A50-A88B-8F5DA52645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E5C-BD78-4CD0-AF3E-F132BB30A9B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C82-58F6-438F-8B44-F0F1A76714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DA0-71D6-40F2-AFB9-45489C25AE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CF1-BDA7-44BE-9004-EC3FA26DFE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10F-1465-423B-A2C7-BEAFF4D5D9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8A0-920E-44FD-B292-16883A70AE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8" descr=""/>
          <p:cNvPicPr/>
          <p:nvPr/>
        </p:nvPicPr>
        <p:blipFill>
          <a:blip r:embed="rId2"/>
          <a:stretch/>
        </p:blipFill>
        <p:spPr>
          <a:xfrm>
            <a:off x="-317520" y="3573360"/>
            <a:ext cx="9461520" cy="993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627280" y="907920"/>
            <a:ext cx="460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mbology  of  the 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95640" y="2421000"/>
            <a:ext cx="54385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ssian Federation</a:t>
            </a:r>
            <a:endParaRPr b="0" lang="en-US" sz="5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5" descr=""/>
          <p:cNvPicPr/>
          <p:nvPr/>
        </p:nvPicPr>
        <p:blipFill>
          <a:blip r:embed="rId2"/>
          <a:stretch/>
        </p:blipFill>
        <p:spPr>
          <a:xfrm>
            <a:off x="420840" y="2133720"/>
            <a:ext cx="8723160" cy="2724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627280" y="260280"/>
            <a:ext cx="369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them - What is it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480440" cy="45612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1908000" y="285264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вол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64000" y="1268280"/>
            <a:ext cx="36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Emblem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292720" y="4869000"/>
            <a:ext cx="376236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 Anthem</a:t>
            </a:r>
            <a:endParaRPr b="0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580000" y="3068640"/>
            <a:ext cx="3381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State  Flag</a:t>
            </a:r>
            <a:endParaRPr b="0" lang="en-US" sz="4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76360" y="404640"/>
            <a:ext cx="6000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Our State has got 3 symbols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герб россии полный.jpg"/>
          <p:cNvPicPr/>
          <p:nvPr/>
        </p:nvPicPr>
        <p:blipFill>
          <a:blip r:embed="rId2"/>
          <a:stretch/>
        </p:blipFill>
        <p:spPr>
          <a:xfrm>
            <a:off x="900000" y="1413000"/>
            <a:ext cx="3297240" cy="4906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76720" y="1628640"/>
            <a:ext cx="316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State Emblem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219640" y="2924280"/>
            <a:ext cx="289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Coat of arm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580000" y="4365720"/>
            <a:ext cx="1505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Blaz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9280" y="260280"/>
            <a:ext cx="427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The State Emblem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0" y="333360"/>
            <a:ext cx="42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the Russian Federatio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Герб города Калу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3198960" cy="4159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211640" y="5877000"/>
            <a:ext cx="409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The Emblem of Kalug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406080" cy="2998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979640" y="404640"/>
            <a:ext cx="54291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ate Emblem - What is it?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Содержимое 3" descr="флаг россии полный.jpg"/>
          <p:cNvPicPr/>
          <p:nvPr/>
        </p:nvPicPr>
        <p:blipFill>
          <a:blip r:embed="rId2"/>
          <a:stretch/>
        </p:blipFill>
        <p:spPr>
          <a:xfrm>
            <a:off x="971640" y="1268280"/>
            <a:ext cx="6802200" cy="47656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95280" y="333360"/>
            <a:ext cx="298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he State F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635280" y="260280"/>
            <a:ext cx="523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of the Russian Fed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59280" y="6165720"/>
            <a:ext cx="311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Flag      Bann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Флаг города Калуг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3598920" cy="2338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3280" y="5013360"/>
            <a:ext cx="38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he Flag of Kal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68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68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68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5" descr=""/>
          <p:cNvPicPr/>
          <p:nvPr/>
        </p:nvPicPr>
        <p:blipFill>
          <a:blip r:embed="rId2"/>
          <a:stretch/>
        </p:blipFill>
        <p:spPr>
          <a:xfrm>
            <a:off x="-200160" y="1916280"/>
            <a:ext cx="9344160" cy="4541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556000" y="333360"/>
            <a:ext cx="33811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ag - What is it?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476360" y="189000"/>
            <a:ext cx="16099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 РФ </a:t>
            </a:r>
            <a:endParaRPr b="1" i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95640" y="1052640"/>
            <a:ext cx="5148360" cy="61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оссия – священная наша держа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оссия – любимая наша ст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Могучая воля, великая слав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Твоё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От южных морей до полярн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Одна ты на свете! Одна ты така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Широкий простор для мечты и для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Грядущие нам открывают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Нам силу даёт наша верность Отчиз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924360" y="333360"/>
            <a:ext cx="36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The State 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9640" y="1484280"/>
            <a:ext cx="158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Ant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4360" y="2349360"/>
            <a:ext cx="119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Hym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13636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15:34Z</dcterms:created>
  <dc:creator>Аалексей</dc:creator>
  <dc:description/>
  <dc:language>en-US</dc:language>
  <cp:lastModifiedBy>Света</cp:lastModifiedBy>
  <dcterms:modified xsi:type="dcterms:W3CDTF">2011-09-28T22:16:57Z</dcterms:modified>
  <cp:revision>26</cp:revision>
  <dc:subject/>
  <dc:title>Тема урока</dc:title>
</cp:coreProperties>
</file>