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001D-D8B5-4D2E-8C40-F2A56411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3E39-C43C-4F59-8139-B4BFBF59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7CC1E-A380-413B-A6C4-CE9986AC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16F3E-F889-4355-8941-899E19D5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421B6-A869-4911-B175-D2C3D9DA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C9678-89F6-4A9D-9A35-F51D5FE4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4BA98-028A-46B3-964D-59475CB2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64ADC-391D-486B-9CF4-82617423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0D83B-3A13-42C3-BC30-6296A7F1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BF103-64AE-40FB-9BB3-1DE070B4E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2A8FB-EEA7-473F-AA77-8DF4A177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C5A5-11B4-40D1-BF1C-8C8A33C4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EF9A-EECA-4631-87DF-E49E51E5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F3D7-347A-44C7-82A6-DEFEFDD6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9490-95B9-47BD-B3C9-2A19EB65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549E-ED95-4BA9-8A08-A684EB62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145E-128E-48C7-94C6-50ADAC6B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BB20-FEBF-4677-9651-18F1C953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6C58-8AC5-4ED9-BC54-BE1D1AE6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18A6-1F7F-4C9D-B48E-2ED1D981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1A1A-7692-46B4-AF6B-90DBFE0A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BFF4-5C8C-4B57-847A-B73E3C01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5BA9-B174-4CCC-86F5-EB3B5E72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FB6F-17BE-4E1E-81AB-54CCC4AD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852B-36D1-455D-B552-EA63A8340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110D-0EF6-437F-A2BE-BFCBDA962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6ACC3-074A-4CAA-BD1D-2DF952484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44E92-2A28-4B4B-ADD5-A3124B22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B757B-D3B1-4FA7-AF6E-5A57B86D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40E52-7E94-432A-B8C2-4699301B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EE4BA-2F26-4D12-AAF7-9B28C3D7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232A-04AD-4344-8D54-A54D647B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834AF-608E-4EDE-A95C-7646C15C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1C42A-2F50-4006-8B64-D8D12508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E6D11-2D1C-44F6-AB45-65A233A5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ABF7A-7D7C-44EB-8D1D-AC7A7910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FF09A-A140-41AD-B033-A113E055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AFF3C-FC7A-4D4A-9BF0-47C04D30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BC30D-4CB8-45F1-9553-95CFCBDE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5F953-C9E9-447F-9C41-11246A16D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C9A8C-4F1F-498F-AEA9-8D35FA9E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92727-6BA3-431B-86FC-565F57A4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0DE3-B928-4744-AD82-671029CD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DFE33-1887-4480-A1B9-6226FAF8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6A19E-AC1D-47BD-B9E5-7EB406FA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2E610-A230-4ED5-BCAC-1CD552CB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24469-FDBE-4F74-A71F-97F3CFBE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5BB89-6DAB-406D-B367-E275473A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8A7C4-1EBD-4F2B-8656-970F58B0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457D3-0F3C-4A30-8767-CB70BFC8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7F5F2-EE7F-413E-BE1A-4519D0B99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B3FED-C665-4773-B7C8-B6271187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A33AE-8F0F-4D3A-B03C-A34348A6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00F3-8533-4AD6-8690-6703716F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E7463-2524-4D94-B5DB-B343CF31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4DF8E-EE10-410A-933C-3E65F276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C697D-C86D-49D4-95A5-C2D40021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1D6F4-A584-45BA-A4F4-EA80C359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AF11E-666F-46F6-9C2C-EF2EA4F9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69AA9-D749-48C0-A46A-1A577D99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E5BD4-C3FB-471A-806C-0AEBAD95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640EA-756C-41DE-BB11-12E97FE5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E33CF-2764-4F47-B3D8-0C209D79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251AE-F578-4424-BA35-F6F5EC310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3BBB-1FD3-4CE5-AFB1-3EB20A61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76381-C8BC-4E08-B5F4-A0880CC3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42EBF-7E1C-4AEE-916F-4F3E644E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64C87-C7D8-407B-A3E9-898AFE14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8E6B9-4A72-4F56-94B7-0C23C2D7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A8DBA-F44C-4A0A-AEE2-508222F4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AF324-4DA9-4534-B1C5-DAA919FC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C7FC6-FE0F-430C-B610-A14DCEB7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0C57F-579D-489F-BBF2-DEA9433A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92750-ABE7-4CFB-8E97-CAFE3B8B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94546-1954-4404-9653-78F9BF50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6597-C25B-40E5-BC23-7C10F640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E9B9A-577D-4D53-AC2D-C946F306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356F0-9EA0-42DF-A09F-C03869C68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58029-0E1B-43F0-87E1-CA060176D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38D2A-D455-453A-A02E-ADCBACDD4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4770A-8098-40E0-9B99-8A518EB0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C0FF0-8D0D-409A-9E21-757B5A6B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18864-0670-458E-85E7-60039443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D8D9F-62D1-4597-8111-43B5D6B2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880EE-5895-45EC-A82F-9D66F6B8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4D984-849D-4423-96E6-ECF6D57F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A688-37B6-48FE-B710-4792039F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898BE-1E39-4D8D-9C63-F870DB56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DA430-049A-40EC-AF9D-CB53078A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E2733-A3DE-4BEC-92AA-D280CB7D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09A49-4442-4AFA-884A-00D182D46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7E8D3-83B9-4A8C-B85D-25F10EE61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704CC-5FF3-4362-80C5-206252E7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90028-0C83-4034-A5EB-912174FE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1ECED-0883-4F63-AB49-622DFB23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65F12-176A-4998-8837-D2B2837A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09A33-64B2-4019-A0B1-B8A4B427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4880-E775-4238-9AC3-84E4A019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8820B-A983-4C7E-BD17-C847DB8F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97239-09A3-4E1D-A26C-244E674E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0CCDC-C9EF-4191-8030-7C366F7D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550D0-C504-40FE-A075-01E0D6DF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03D18-F47A-4243-94D8-2EF5381D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FE519-0C53-415B-91F5-A542E8BB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831A9-AE16-46B6-A348-B7B3D426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821F1-5AD7-4850-AEEF-507685D3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4ADCC-5606-48FA-8D0C-2C385618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56E0A-1DD3-4FAD-9F87-0EFDB624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CCE9-2234-4DC2-9EAB-BBCD9083DF5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F201-20E7-4523-932D-1D364519457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F790-0231-4724-9053-389DA290B15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6530-5789-4C44-AAE9-E627BF25F5A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B7E0-5B01-4329-9EED-040691D8C4A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40E9-3A02-420A-BF2D-F3A13130D15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032E-AD34-4250-B085-F2BDA33CD28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377D-8E16-4544-9E88-F62B914F4F1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C031-9B7B-442D-A8DD-3BF2A95945A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Прямоугольник 8" descr=""/>
          <p:cNvPicPr/>
          <p:nvPr/>
        </p:nvPicPr>
        <p:blipFill>
          <a:blip r:embed="rId2"/>
          <a:stretch/>
        </p:blipFill>
        <p:spPr>
          <a:xfrm>
            <a:off x="-317520" y="3573360"/>
            <a:ext cx="9461520" cy="9939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2627280" y="907920"/>
            <a:ext cx="4600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ymbology  of  the </a:t>
            </a:r>
            <a:endParaRPr b="0" lang="en-US" sz="4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2195640" y="2421000"/>
            <a:ext cx="54385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ussian Federation</a:t>
            </a:r>
            <a:endParaRPr b="0" lang="en-US" sz="5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Содержимое 5" descr=""/>
          <p:cNvPicPr/>
          <p:nvPr/>
        </p:nvPicPr>
        <p:blipFill>
          <a:blip r:embed="rId2"/>
          <a:stretch/>
        </p:blipFill>
        <p:spPr>
          <a:xfrm>
            <a:off x="420840" y="2133720"/>
            <a:ext cx="8723160" cy="27241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2627280" y="260280"/>
            <a:ext cx="3695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nthem - What is it?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Содержимое 3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7480440" cy="4561200"/>
          </a:xfrm>
          <a:prstGeom prst="rect">
            <a:avLst/>
          </a:prstGeom>
          <a:ln w="0">
            <a:noFill/>
          </a:ln>
        </p:spPr>
      </p:pic>
      <p:sp>
        <p:nvSpPr>
          <p:cNvPr id="403" name="TextBox 4"/>
          <p:cNvSpPr/>
          <p:nvPr/>
        </p:nvSpPr>
        <p:spPr>
          <a:xfrm>
            <a:off x="1908000" y="2852640"/>
            <a:ext cx="20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мволы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5364000" y="1268280"/>
            <a:ext cx="365760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State Emblem</a:t>
            </a:r>
            <a:endParaRPr b="0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292720" y="4869000"/>
            <a:ext cx="3762360" cy="61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40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State  Anthem</a:t>
            </a:r>
            <a:endParaRPr b="0" lang="en-US" sz="40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580000" y="3068640"/>
            <a:ext cx="33814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4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State  Flag</a:t>
            </a:r>
            <a:endParaRPr b="0" lang="en-US" sz="4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476360" y="404640"/>
            <a:ext cx="6000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Our State has got 3 symbols 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Содержимое 3" descr="герб россии полный.jpg"/>
          <p:cNvPicPr/>
          <p:nvPr/>
        </p:nvPicPr>
        <p:blipFill>
          <a:blip r:embed="rId2"/>
          <a:stretch/>
        </p:blipFill>
        <p:spPr>
          <a:xfrm>
            <a:off x="900000" y="1413000"/>
            <a:ext cx="3297240" cy="49068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5076720" y="1628640"/>
            <a:ext cx="3162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State Emblem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5219640" y="2924280"/>
            <a:ext cx="2895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Coat of arms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5580000" y="4365720"/>
            <a:ext cx="1505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Blazon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79280" y="260280"/>
            <a:ext cx="4276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The State Emblem 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0" y="333360"/>
            <a:ext cx="425772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the Russian Federation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med"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Герб города Калуги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3132000" y="1484280"/>
            <a:ext cx="3198960" cy="41594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211640" y="5877000"/>
            <a:ext cx="4095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The Emblem of Kaluga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68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68" fill="hold"/>
                                        <p:tgtEl>
                                          <p:spTgt spid="4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68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Содержимое 5" descr=""/>
          <p:cNvPicPr/>
          <p:nvPr/>
        </p:nvPicPr>
        <p:blipFill>
          <a:blip r:embed="rId2"/>
          <a:stretch/>
        </p:blipFill>
        <p:spPr>
          <a:xfrm>
            <a:off x="0" y="1484280"/>
            <a:ext cx="9406080" cy="29988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1979640" y="404640"/>
            <a:ext cx="542916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4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tate Emblem - What is it?</a:t>
            </a:r>
            <a:endParaRPr b="0" lang="en-US" sz="4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Содержимое 3" descr="флаг россии полный.jpg"/>
          <p:cNvPicPr/>
          <p:nvPr/>
        </p:nvPicPr>
        <p:blipFill>
          <a:blip r:embed="rId2"/>
          <a:stretch/>
        </p:blipFill>
        <p:spPr>
          <a:xfrm>
            <a:off x="971640" y="1268280"/>
            <a:ext cx="6802200" cy="47656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95280" y="333360"/>
            <a:ext cx="2981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The State Fla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635280" y="260280"/>
            <a:ext cx="523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of the Russian Feder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059280" y="6165720"/>
            <a:ext cx="3114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Flag      Bann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med">
    <p:wheel spokes="1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Флаг города Калуги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1908000" y="2205000"/>
            <a:ext cx="3598920" cy="23385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643280" y="5013360"/>
            <a:ext cx="3848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The Flag of Kalug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68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68" fill="hold"/>
                                        <p:tgtEl>
                                          <p:spTgt spid="4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68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68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Содержимое 5" descr=""/>
          <p:cNvPicPr/>
          <p:nvPr/>
        </p:nvPicPr>
        <p:blipFill>
          <a:blip r:embed="rId2"/>
          <a:stretch/>
        </p:blipFill>
        <p:spPr>
          <a:xfrm>
            <a:off x="-200160" y="1916280"/>
            <a:ext cx="9344160" cy="45417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2556000" y="333360"/>
            <a:ext cx="338112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lag - What is it?</a:t>
            </a:r>
            <a:endParaRPr b="0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179280" y="278136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1476360" y="189000"/>
            <a:ext cx="160992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имн РФ </a:t>
            </a:r>
            <a:endParaRPr b="1" i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995640" y="1052640"/>
            <a:ext cx="5148360" cy="61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Россия – священная наша держав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Россия – любимая наша стра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Могучая воля, великая слава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Твоё достоянье на все времен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Славься, Отечество наше свободно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Братских народов союз веков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Предками данная мудрость народна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Славься, страна! Мы гордимся тобо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От южных морей до полярн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Раскинулись наши леса и по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Одна ты на свете! Одна ты такая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Хранимая Богом родная земл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Славься, Отечество наше свободно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Братских народов союз веков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Предками данная мудрость народна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Славься, страна! Мы гордимся тобо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Широкий простор для мечты и для жи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Грядущие нам открывают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Нам силу даёт наша верность Отчиз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Так было, так есть и так будет всегд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Славься, Отечество наше свободно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Братских народов союз веков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Предками данная мудрость народна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Славься, страна! Мы гордимся тобо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3924360" y="333360"/>
            <a:ext cx="3676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The State Anthe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539640" y="1484280"/>
            <a:ext cx="1581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Anthe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684360" y="2349360"/>
            <a:ext cx="11905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Hym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med">
    <p:wheel spokes="8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4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4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4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4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4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4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4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4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4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4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4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4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4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4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4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4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4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4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4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4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4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4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4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4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4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4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4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4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4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4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4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4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4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4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4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4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4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4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4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4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43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43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43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43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43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43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43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43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43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43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43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43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43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43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43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43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" dur="113636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4:15:34Z</dcterms:created>
  <dc:creator>Аалексей</dc:creator>
  <dc:description/>
  <dc:language>en-US</dc:language>
  <cp:lastModifiedBy>Света</cp:lastModifiedBy>
  <dcterms:modified xsi:type="dcterms:W3CDTF">2011-09-28T22:16:57Z</dcterms:modified>
  <cp:revision>26</cp:revision>
  <dc:subject/>
  <dc:title>Тема урока</dc:title>
</cp:coreProperties>
</file>