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941-2387-4893-9C3D-133A6A81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127-5861-4113-8754-FEBBE79D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AF7-F31D-4BA1-B9CA-FE1B1711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602-6B03-46CC-9E9C-88A50754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7CC-1727-4A78-A4B5-B8BE09D9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4EC-63D5-4E65-9107-3B8DD4F9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1B0-E395-47D0-9C52-E981E21F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21E-9708-47F0-A5C7-C98A06CB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18B-FCAB-448E-AE83-D5D877EC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89A-50E9-4611-885E-83E6075D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825-CDD2-4FC9-B000-780F702A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00A-CF2E-4461-95CD-7BD8FDD1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A48-E001-4E4A-B52F-67D190A3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476280"/>
            <a:ext cx="5400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бор,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вающий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евидимое"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27640" y="2276640"/>
            <a:ext cx="2543400" cy="38098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2000" y="401760"/>
            <a:ext cx="669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Микроскоп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Роберта Г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638520" cy="468000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4362480" cy="48290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ветовой 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019400" cy="42577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rcRect l="6536" t="0" r="0" b="0"/>
          <a:stretch/>
        </p:blipFill>
        <p:spPr>
          <a:xfrm>
            <a:off x="4788000" y="2060640"/>
            <a:ext cx="4109760" cy="43196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186440" cy="48956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3280" y="549360"/>
            <a:ext cx="4179960" cy="48974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13871" t="0" r="11677" b="0"/>
          <a:stretch/>
        </p:blipFill>
        <p:spPr>
          <a:xfrm>
            <a:off x="611280" y="404640"/>
            <a:ext cx="3519360" cy="54007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6808" t="0" r="15969" b="0"/>
          <a:stretch/>
        </p:blipFill>
        <p:spPr>
          <a:xfrm>
            <a:off x="5003640" y="1125360"/>
            <a:ext cx="3630600" cy="540072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88000" y="210960"/>
            <a:ext cx="683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Электронный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микро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3040" y="1341360"/>
            <a:ext cx="4480200" cy="504036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32360" y="1484280"/>
            <a:ext cx="3952800" cy="47624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1680" y="404640"/>
            <a:ext cx="66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то-видио 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3348000" cy="53006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356000" y="1700280"/>
            <a:ext cx="4186440" cy="45370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0150" t="0" r="16000" b="0"/>
          <a:stretch/>
        </p:blipFill>
        <p:spPr>
          <a:xfrm>
            <a:off x="3203640" y="333360"/>
            <a:ext cx="3816360" cy="597528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7235640" y="620640"/>
            <a:ext cx="16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435280" y="549000"/>
            <a:ext cx="18018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4920" y="465300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084360" y="3428640"/>
            <a:ext cx="15829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2360" y="19162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292720" y="2205000"/>
            <a:ext cx="2232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560" y="537372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0920" y="4868640"/>
            <a:ext cx="230508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573360"/>
            <a:ext cx="277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124000" y="3860640"/>
            <a:ext cx="158436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9840" y="2421000"/>
            <a:ext cx="21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бъ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781360"/>
            <a:ext cx="180036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9840" y="7556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1125360"/>
            <a:ext cx="2880000" cy="79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7:52:32Z</dcterms:created>
  <dc:creator>Сергей</dc:creator>
  <dc:description/>
  <dc:language>en-US</dc:language>
  <cp:lastModifiedBy>Сергей</cp:lastModifiedBy>
  <dcterms:modified xsi:type="dcterms:W3CDTF">2009-11-29T18:14:25Z</dcterms:modified>
  <cp:revision>2</cp:revision>
  <dc:subject/>
  <dc:title>Слайд 1</dc:title>
</cp:coreProperties>
</file>