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F85-614C-4B19-94E3-550CF3B6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B22-96E0-41C0-9F38-019B45B2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9B7-D743-4751-B2DF-328B431E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5E7-8989-4868-BB82-7CE1DAFB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A70-C76E-4D46-92B6-403CEF80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FFE-F983-406F-A388-AA13A152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3BF-E1E3-4BF6-981F-DA36CF41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D8E-EA63-43F6-AEBF-02FCA458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7B2-0366-41D2-A5C3-3E75197B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E24-218A-451A-82D0-BC45819C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212-25B2-4F5C-BD24-32DB7C7E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620-1B90-436C-910D-57499CB2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B5B8-82E8-418B-AA97-FB53714E8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476280"/>
            <a:ext cx="5400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бор,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вающий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видимое"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27640" y="2276640"/>
            <a:ext cx="2543400" cy="38098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2000" y="401760"/>
            <a:ext cx="669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икроскоп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Роберта Г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638520" cy="468000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4362480" cy="48290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Световой микр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019400" cy="42577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rcRect l="6536" t="0" r="0" b="0"/>
          <a:stretch/>
        </p:blipFill>
        <p:spPr>
          <a:xfrm>
            <a:off x="4788000" y="2060640"/>
            <a:ext cx="4109760" cy="43196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186440" cy="48956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43280" y="549360"/>
            <a:ext cx="4179960" cy="48974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13871" t="0" r="11677" b="0"/>
          <a:stretch/>
        </p:blipFill>
        <p:spPr>
          <a:xfrm>
            <a:off x="611280" y="404640"/>
            <a:ext cx="3519360" cy="54007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rcRect l="16808" t="0" r="15969" b="0"/>
          <a:stretch/>
        </p:blipFill>
        <p:spPr>
          <a:xfrm>
            <a:off x="5003640" y="1125360"/>
            <a:ext cx="3630600" cy="54007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88000" y="210960"/>
            <a:ext cx="683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Электронный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микроск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3040" y="1341360"/>
            <a:ext cx="4480200" cy="50403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32360" y="1484280"/>
            <a:ext cx="3952800" cy="47624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1680" y="404640"/>
            <a:ext cx="667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то-видио микр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348000" cy="53006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356000" y="1700280"/>
            <a:ext cx="4186440" cy="45370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20150" t="0" r="16000" b="0"/>
          <a:stretch/>
        </p:blipFill>
        <p:spPr>
          <a:xfrm>
            <a:off x="3203640" y="333360"/>
            <a:ext cx="3816360" cy="59752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7235640" y="620640"/>
            <a:ext cx="16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435280" y="549000"/>
            <a:ext cx="18018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4920" y="465300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084360" y="3428640"/>
            <a:ext cx="15829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52360" y="191628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292720" y="2205000"/>
            <a:ext cx="2232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560" y="537372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0920" y="4868640"/>
            <a:ext cx="230508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573360"/>
            <a:ext cx="277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124000" y="3860640"/>
            <a:ext cx="1584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9840" y="242100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бъ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781360"/>
            <a:ext cx="180036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9840" y="7556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1125360"/>
            <a:ext cx="2880000" cy="79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7:52:32Z</dcterms:created>
  <dc:creator>Сергей</dc:creator>
  <dc:description/>
  <dc:language>en-US</dc:language>
  <cp:lastModifiedBy>Сергей</cp:lastModifiedBy>
  <dcterms:modified xsi:type="dcterms:W3CDTF">2009-11-29T18:14:25Z</dcterms:modified>
  <cp:revision>2</cp:revision>
  <dc:subject/>
  <dc:title>Слайд 1</dc:title>
</cp:coreProperties>
</file>