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3E3-EE21-4A81-BDEF-C4A48EDC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AB9-3F15-4C27-886C-B383AEF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3DB-F6FA-4E96-A32C-007BD3FC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62F-0D70-4860-B407-6711B8D9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1DA-D1CA-41CA-A3B1-477E9E05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9A5-D79F-4FA5-9988-ED83BAE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861-50D1-45EA-932A-76D93C8C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70C-BAAB-433D-A897-36456610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ED0-27FD-45DF-8018-3FE8CCA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728-F6E9-4210-9FDC-9D77A466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CA0-9BB8-4194-8C48-D01F3C68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013-AB09-46E6-B160-54E12F6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1E9-2B06-4A6A-8E32-B940F6A8B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476280"/>
            <a:ext cx="5400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бор,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вающий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видимое"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2543400" cy="38098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2000" y="401760"/>
            <a:ext cx="669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икроскоп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Роберта Г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638520" cy="468000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4362480" cy="48290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ветовой 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019400" cy="42577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rcRect l="6536" t="0" r="0" b="0"/>
          <a:stretch/>
        </p:blipFill>
        <p:spPr>
          <a:xfrm>
            <a:off x="4788000" y="2060640"/>
            <a:ext cx="4109760" cy="43196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186440" cy="48956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3280" y="549360"/>
            <a:ext cx="4179960" cy="48974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13871" t="0" r="11677" b="0"/>
          <a:stretch/>
        </p:blipFill>
        <p:spPr>
          <a:xfrm>
            <a:off x="611280" y="404640"/>
            <a:ext cx="3519360" cy="54007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6808" t="0" r="15969" b="0"/>
          <a:stretch/>
        </p:blipFill>
        <p:spPr>
          <a:xfrm>
            <a:off x="5003640" y="1125360"/>
            <a:ext cx="3630600" cy="54007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88000" y="210960"/>
            <a:ext cx="683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Электронны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микро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3040" y="1341360"/>
            <a:ext cx="4480200" cy="50403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3952800" cy="47624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1680" y="404640"/>
            <a:ext cx="66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то-видио 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348000" cy="53006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356000" y="1700280"/>
            <a:ext cx="4186440" cy="45370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0150" t="0" r="16000" b="0"/>
          <a:stretch/>
        </p:blipFill>
        <p:spPr>
          <a:xfrm>
            <a:off x="3203640" y="333360"/>
            <a:ext cx="3816360" cy="59752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7235640" y="620640"/>
            <a:ext cx="16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435280" y="549000"/>
            <a:ext cx="18018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4920" y="465300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084360" y="3428640"/>
            <a:ext cx="15829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2360" y="19162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92720" y="2205000"/>
            <a:ext cx="2232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560" y="537372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0920" y="4868640"/>
            <a:ext cx="230508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573360"/>
            <a:ext cx="277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124000" y="3860640"/>
            <a:ext cx="1584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9840" y="24210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бъ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781360"/>
            <a:ext cx="180036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9840" y="7556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1125360"/>
            <a:ext cx="2880000" cy="79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7:52:32Z</dcterms:created>
  <dc:creator>Сергей</dc:creator>
  <dc:description/>
  <dc:language>en-US</dc:language>
  <cp:lastModifiedBy>Сергей</cp:lastModifiedBy>
  <dcterms:modified xsi:type="dcterms:W3CDTF">2009-11-29T18:14:25Z</dcterms:modified>
  <cp:revision>2</cp:revision>
  <dc:subject/>
  <dc:title>Слайд 1</dc:title>
</cp:coreProperties>
</file>