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AC5-2DD9-4E6D-B0B9-6C5CDC21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EDE-FCFA-4AD2-AE29-A38CD2A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B93-900C-409D-BC31-CDDA4389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03A-5DBB-4AB1-86C4-7A1968FE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913-29A7-4149-85EF-DBF079DF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CD78-0F9A-47C7-A1BD-30EE868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3E2-6884-4C79-B552-99C2675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67D-D88C-42DA-A3E6-246BDE73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0BA0-381D-4856-B505-E096BFCF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BF91-D84C-4CD3-BED2-640A8987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484-158F-4ABF-848C-425B5A1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EFB-7C79-4A58-B5E8-3A36532E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5E22-626F-4AF7-B279-C44D1D1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D188-7933-4C8A-8D0D-8778882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974-EF2A-488A-81B6-0476736F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ECE2-497A-4950-A374-340194F8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2792-DFBD-4C6B-AC40-768E24C0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960-2C4F-4D1A-B48A-68AF82F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E21-5474-4613-AB82-C0FB76A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BFE-DF54-4162-A34D-BDEF227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C63-A159-44B1-869F-B631D186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232-E6C2-4121-BAE2-BADDC1B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A47-3F64-4147-960B-051C88C4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BED-0D5C-4F63-8BEB-9BB4DB5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020E-E817-4B66-8745-C0DC2B2E3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DE52-FB5C-4FA7-9D96-590A4AA27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5545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ы идем в театр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69000" y="404640"/>
            <a:ext cx="2475000" cy="27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6346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ак надо вести себя в театре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120760" cy="234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886040"/>
            <a:ext cx="6337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еция – Перв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8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сский теат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1994040" cy="266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79480" y="479736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дор Вол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атель Первого театра в России в 175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834080" cy="361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77160" y="260280"/>
            <a:ext cx="2020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уко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344000" cy="493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зыка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87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аматически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129440" cy="4783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ер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495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ал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704360" cy="38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36:27Z</dcterms:created>
  <dc:creator>Анюта</dc:creator>
  <dc:description/>
  <dc:language>en-US</dc:language>
  <cp:lastModifiedBy>Анюта</cp:lastModifiedBy>
  <dcterms:modified xsi:type="dcterms:W3CDTF">2012-09-22T19:17:36Z</dcterms:modified>
  <cp:revision>3</cp:revision>
  <dc:subject/>
  <dc:title>Слайд 1</dc:title>
</cp:coreProperties>
</file>