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35C-AAC3-4535-A046-22A54B8A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D78-2EB0-464C-9F9C-56585E2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EDD-D6E2-4F89-8AC3-D988EC2F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964-B0C6-431D-9F59-C6CA4905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2C77-E688-49B7-8FEE-5A29D3A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3A41-9188-4A2D-A388-E18AA2A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F2C-DAF0-4C92-B9D8-4A9E4C7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388-8933-4EFB-839B-0E279F8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F9DC-C094-4E09-A1E1-F23FC05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A900-C3BB-4A8D-BA49-EF560972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C72-0EF2-4AA3-BA5F-2A3AF15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AC5-F5E3-41C8-9381-AE79350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6CB-727C-45E4-AF39-1AE87D0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796-E25F-4BD5-80C6-FCC8261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4398-05E8-417A-8615-D79220E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A6A-301A-43BE-AAA4-FBB48FD5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976-493F-42BE-8786-1768641C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127-4452-4E91-A48C-AD15840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13F-19CE-456B-9CD0-CA091AF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E48-76C9-4E9E-ADCC-DD257E6E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51F-455E-412B-B9C2-D44367A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38E-6251-4EA2-9BD0-F51501AC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932-278C-4093-91D6-B162326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347-56F3-462C-94FA-A6BE419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330-D2AA-4691-8F8F-1B7BD530B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C42-5BC2-4021-85A6-7E3FCBC01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5545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ы идем в театр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69000" y="404640"/>
            <a:ext cx="2475000" cy="27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6346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ак надо вести себя в театре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120760" cy="234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886040"/>
            <a:ext cx="6337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еция – Перв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8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сский теат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1994040" cy="266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79480" y="479736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дор Вол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атель Первого театра в России в 175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834080" cy="361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77160" y="260280"/>
            <a:ext cx="2020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уко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344000" cy="493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зыка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87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аматически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129440" cy="4783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ер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495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ал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704360" cy="38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36:27Z</dcterms:created>
  <dc:creator>Анюта</dc:creator>
  <dc:description/>
  <dc:language>en-US</dc:language>
  <cp:lastModifiedBy>Анюта</cp:lastModifiedBy>
  <dcterms:modified xsi:type="dcterms:W3CDTF">2012-09-22T19:17:36Z</dcterms:modified>
  <cp:revision>3</cp:revision>
  <dc:subject/>
  <dc:title>Слайд 1</dc:title>
</cp:coreProperties>
</file>