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D3F8-B9BA-4193-8863-BD2D67067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BA8B-65AC-4130-AF9B-B2E596E4D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9EFB-3AC4-4059-8ABF-BC21B319F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57B4-B364-4E68-8BCE-9D6D89315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B7AEC-57CE-4FDE-AA4F-0C50CDDB7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AB4C1-91AC-44C2-A2B8-A0BEFC10F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A31AD-5091-4C6A-B512-D04EBAF74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DAF6E-B00B-425E-A3F1-703A619F7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BECE4-C397-45AB-94E2-2F1E78B1F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264A6-EEAD-468B-B73F-043FD7B25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481D1-1F30-41A9-8267-9E815756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0876-11FD-4976-B342-3C21786C9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DD8B2-A3ED-4D2A-BFFB-09681402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4BAC4-3CB1-478C-95CB-3CC49070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985E2-643E-4DDF-949C-BF56B6924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8B657-B1E6-45C4-A1D7-CB4C87B2B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EAC7D-9F9E-4ED6-A2F4-E8BF43425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448E-F2AC-42E4-A476-3B5A8BA10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1D06-4016-4B72-AF86-341E0D45B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4521-B78E-4AA8-B464-2C1FB3761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D232-7B4B-4F14-B8D0-130F18181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4CC2-A6CC-4D76-88CA-49D74219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E497-F5FC-432E-941C-6F99CC47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3EB6-F39E-421E-AD2F-E614872F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2F39F-1722-4741-B082-4FAC0BB6EF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707E-54C7-49E3-A63D-C446926B69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1773360"/>
            <a:ext cx="554544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Мы идем в театр 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669000" y="404640"/>
            <a:ext cx="2475000" cy="2737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900000" y="3860640"/>
            <a:ext cx="352908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634680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Как надо вести себя в театре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77080" y="260280"/>
            <a:ext cx="2120760" cy="2344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50920" y="1886040"/>
            <a:ext cx="6337080" cy="46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Греция – Первый театр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58920" y="1916280"/>
            <a:ext cx="6697800" cy="42876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8150400" y="260280"/>
            <a:ext cx="84744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усский театр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1994040" cy="26650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879480" y="4797360"/>
            <a:ext cx="203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Федор Волк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снователь Первого театра в России в 1756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995640" y="2852640"/>
            <a:ext cx="4834080" cy="36165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6977160" y="260280"/>
            <a:ext cx="20206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Кукольный театр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344000" cy="49309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150400" y="260280"/>
            <a:ext cx="84744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Музыкальный театр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48722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8150400" y="260280"/>
            <a:ext cx="84744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Драматический театр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7129440" cy="4783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8150400" y="260280"/>
            <a:ext cx="84744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пера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72360" cy="4954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7694640" y="260280"/>
            <a:ext cx="130320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Балет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704360" cy="3816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7694640" y="260280"/>
            <a:ext cx="130320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6T18:36:27Z</dcterms:created>
  <dc:creator>Анюта</dc:creator>
  <dc:description/>
  <dc:language>en-US</dc:language>
  <cp:lastModifiedBy>Анюта</cp:lastModifiedBy>
  <dcterms:modified xsi:type="dcterms:W3CDTF">2012-09-22T19:17:36Z</dcterms:modified>
  <cp:revision>3</cp:revision>
  <dc:subject/>
  <dc:title>Слайд 1</dc:title>
</cp:coreProperties>
</file>