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gif" ContentType="image/gif"/>
  <Override PartName="/ppt/media/image8.jpeg" ContentType="image/jpeg"/>
  <Override PartName="/ppt/media/image12.jpeg" ContentType="image/jpeg"/>
  <Override PartName="/ppt/media/image10.gif" ContentType="image/gif"/>
  <Override PartName="/ppt/media/image7.jpeg" ContentType="image/jpeg"/>
  <Override PartName="/ppt/media/image15.gif" ContentType="image/gif"/>
  <Override PartName="/ppt/media/image6.gif" ContentType="image/gif"/>
  <Override PartName="/ppt/media/image21.jpeg" ContentType="image/jpeg"/>
  <Override PartName="/ppt/media/image20.jpeg" ContentType="image/jpeg"/>
  <Override PartName="/ppt/media/image14.gif" ContentType="image/gif"/>
  <Override PartName="/ppt/media/image18.gif" ContentType="image/gif"/>
  <Override PartName="/ppt/media/image17.jpeg" ContentType="image/jpeg"/>
  <Override PartName="/ppt/media/image5.gif" ContentType="image/gif"/>
  <Override PartName="/ppt/media/image19.gif" ContentType="image/gif"/>
  <Override PartName="/ppt/media/image1.png" ContentType="image/png"/>
  <Override PartName="/ppt/media/image3.gif" ContentType="image/gif"/>
  <Override PartName="/ppt/media/image2.png" ContentType="image/png"/>
  <Override PartName="/ppt/media/image4.jpeg" ContentType="image/jpeg"/>
  <Override PartName="/ppt/media/image16.jpeg" ContentType="image/jpeg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606-0E7B-47F3-8759-6269B10D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50D-B2EC-47D9-997F-6D300B09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481-73E1-4555-8C42-2E6AC3C1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69C-546D-4FAE-8A70-9F5F14FE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886C-AB22-4940-BD7A-02D8F5B9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D418-833F-4670-8A5A-CAE0D950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FF72-05A2-4A4B-8C26-12426636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8B83-5B0C-487F-82E2-BF1FDC9A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5E7A-EB98-43DB-BF69-8FAD632C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1A0C-53F2-478A-9799-FC795459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31CB-D40B-444E-8652-6FFD90F5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BE3-0862-4F74-B805-DC2F7C9D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F1CA-3D8E-4307-9EB8-F26C2886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A264-2A87-46A3-B3A8-DDBC1E96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7012-50B8-4E7C-B560-F846143D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467E-D1CD-4956-89FD-4D5029CC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3B7A-8DB4-44D1-B581-5A788977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62D-098D-4537-8FBE-D1CB0B8E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E3D-51F3-48B3-AFA8-335E7EC4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379F-FA24-42CA-9B6E-58451729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016-C28D-4DD6-8C64-2F511B70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700-DA26-46ED-AB67-6BAB6194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CE7-5E77-4BB7-A3A1-581646FD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F33-3E27-4380-A35A-4A8B513D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7292-593B-4ED6-A381-C51ED9C0AC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4DBB-1861-4DB3-9A7E-3CFFDC7E91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radionetplus_ru_animac_2"/>
          <p:cNvPicPr/>
          <p:nvPr/>
        </p:nvPicPr>
        <p:blipFill>
          <a:blip r:embed="rId2"/>
          <a:stretch/>
        </p:blipFill>
        <p:spPr>
          <a:xfrm>
            <a:off x="2195640" y="1557360"/>
            <a:ext cx="4933800" cy="4887720"/>
          </a:xfrm>
          <a:prstGeom prst="rect">
            <a:avLst/>
          </a:prstGeom>
          <a:ln w="0">
            <a:noFill/>
          </a:ln>
        </p:spPr>
      </p:pic>
      <p:sp>
        <p:nvSpPr>
          <p:cNvPr id="97" name="WordArt 8"/>
          <p:cNvSpPr txBox="1"/>
          <p:nvPr/>
        </p:nvSpPr>
        <p:spPr>
          <a:xfrm>
            <a:off x="755640" y="620640"/>
            <a:ext cx="756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WELVE FLOWERS OF THE Y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Picture 9" descr="4a276b7a83687f3f2ee61311e06d651e"/>
          <p:cNvPicPr/>
          <p:nvPr/>
        </p:nvPicPr>
        <p:blipFill>
          <a:blip r:embed="rId3"/>
          <a:stretch/>
        </p:blipFill>
        <p:spPr>
          <a:xfrm>
            <a:off x="7451640" y="4797360"/>
            <a:ext cx="1548000" cy="1509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8748720" cy="64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У СОШ м-на Вынгапуровск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втор презентации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3333ff"/>
                </a:solidFill>
                <a:uFillTx/>
                <a:latin typeface="Arial"/>
              </a:rPr>
              <a:t>Жуков Констант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ник 5 а 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итель: Андронова О.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009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P4210773"/>
          <p:cNvPicPr/>
          <p:nvPr/>
        </p:nvPicPr>
        <p:blipFill>
          <a:blip r:embed="rId2"/>
          <a:stretch/>
        </p:blipFill>
        <p:spPr>
          <a:xfrm>
            <a:off x="971640" y="1989000"/>
            <a:ext cx="244944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300"/>
                            </p:stCondLst>
                            <p:childTnLst>
                              <p:par>
                                <p:cTn id="4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900"/>
                            </p:stCondLst>
                            <p:childTnLst>
                              <p:par>
                                <p:cTn id="4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300"/>
                            </p:stCondLst>
                            <p:childTnLst>
                              <p:par>
                                <p:cTn id="4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2600"/>
                            </p:stCondLst>
                            <p:childTnLst>
                              <p:par>
                                <p:cTn id="4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Janu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6084720" y="2565360"/>
            <a:ext cx="2521080" cy="3527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9"/>
          <p:cNvSpPr/>
          <p:nvPr/>
        </p:nvSpPr>
        <p:spPr>
          <a:xfrm>
            <a:off x="2484360" y="10926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Snowdrop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95280" y="2162520"/>
            <a:ext cx="482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nowdrop is the flower for Janu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s white as snow, and appears in fore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ardens when there is still snow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ttle plant is a native flower of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papillonkiss012yf3"/>
          <p:cNvPicPr/>
          <p:nvPr/>
        </p:nvPicPr>
        <p:blipFill>
          <a:blip r:embed="rId3"/>
          <a:stretch/>
        </p:blipFill>
        <p:spPr>
          <a:xfrm>
            <a:off x="755640" y="549360"/>
            <a:ext cx="144000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Answer th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484360" y="10926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Snowdrop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28760" y="3154680"/>
            <a:ext cx="5286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ative flower of Europ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lour is snowdro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animal125"/>
          <p:cNvPicPr/>
          <p:nvPr/>
        </p:nvPicPr>
        <p:blipFill>
          <a:blip r:embed="rId2"/>
          <a:stretch/>
        </p:blipFill>
        <p:spPr>
          <a:xfrm rot="19625400">
            <a:off x="816120" y="996480"/>
            <a:ext cx="1225440" cy="1524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H:\Цветы\ZAFQ42CAPXNEDSCA12YYDBCAB2C2O9CAQXJ5U8CAT2GFRZCA8DC6XHCA52SB00CARSAXBBCAPE8J64CASEJEULCAN5EO8SCA7NCQZZCAO1A33ACAQ25I5FCA77N8GACA0E0XA8CAJ20VW2CA9CDJA2.jpg"/>
          <p:cNvPicPr/>
          <p:nvPr/>
        </p:nvPicPr>
        <p:blipFill>
          <a:blip r:embed="rId3"/>
          <a:stretch/>
        </p:blipFill>
        <p:spPr>
          <a:xfrm>
            <a:off x="5715000" y="2857680"/>
            <a:ext cx="3286080" cy="2428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Febru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484360" y="10926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Primrose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3529080" cy="3744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2"/>
          <p:cNvSpPr/>
          <p:nvPr/>
        </p:nvSpPr>
        <p:spPr>
          <a:xfrm>
            <a:off x="324000" y="2910600"/>
            <a:ext cx="438768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flower is the primr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roses can be white, yellow, red, pin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e, purple and o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owers look like st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papillonkiss016ky3"/>
          <p:cNvPicPr/>
          <p:nvPr/>
        </p:nvPicPr>
        <p:blipFill>
          <a:blip r:embed="rId3"/>
          <a:stretch/>
        </p:blipFill>
        <p:spPr>
          <a:xfrm>
            <a:off x="684360" y="692280"/>
            <a:ext cx="1368360" cy="129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Answer th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484360" y="109260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Primrose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42920" y="2935800"/>
            <a:ext cx="507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lowers appear in Februar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lours are primro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animal123"/>
          <p:cNvPicPr/>
          <p:nvPr/>
        </p:nvPicPr>
        <p:blipFill>
          <a:blip r:embed="rId2"/>
          <a:stretch/>
        </p:blipFill>
        <p:spPr>
          <a:xfrm>
            <a:off x="539640" y="333360"/>
            <a:ext cx="1549440" cy="1770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:\Цветы\2D2LYUCANOBIC9CAWW0K57CAGH855NCAWAZPV1CA7L5G4ZCAH5RNPICAFFSK55CAMZOLUYCA30KCWTCAK9KJEYCA0BKHUMCATT57IJCAM2UG57CAZIR55PCA7YRTLHCAEBLO4BCAKVY999CARXJ1NP.jpg"/>
          <p:cNvPicPr/>
          <p:nvPr/>
        </p:nvPicPr>
        <p:blipFill>
          <a:blip r:embed="rId3"/>
          <a:stretch/>
        </p:blipFill>
        <p:spPr>
          <a:xfrm>
            <a:off x="5214960" y="2643120"/>
            <a:ext cx="350028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2484360" y="1124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Daffodil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Mar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6" descr=""/>
          <p:cNvPicPr/>
          <p:nvPr/>
        </p:nvPicPr>
        <p:blipFill>
          <a:blip r:embed="rId2"/>
          <a:stretch/>
        </p:blipFill>
        <p:spPr>
          <a:xfrm>
            <a:off x="6084720" y="2565360"/>
            <a:ext cx="2735280" cy="33847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7"/>
          <p:cNvSpPr/>
          <p:nvPr/>
        </p:nvSpPr>
        <p:spPr>
          <a:xfrm>
            <a:off x="611280" y="2279880"/>
            <a:ext cx="4897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lower of the month of March is the daffod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appears very early in spring too. The flowers 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yellow. The plant has long leav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a sweet pleasant smell. It has been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vourite  flower in many garde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8" descr="butterfly2-5"/>
          <p:cNvPicPr/>
          <p:nvPr/>
        </p:nvPicPr>
        <p:blipFill>
          <a:blip r:embed="rId3"/>
          <a:stretch/>
        </p:blipFill>
        <p:spPr>
          <a:xfrm rot="19957800">
            <a:off x="619200" y="91800"/>
            <a:ext cx="2860560" cy="245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animal48"/>
          <p:cNvPicPr/>
          <p:nvPr/>
        </p:nvPicPr>
        <p:blipFill>
          <a:blip r:embed="rId4"/>
          <a:stretch/>
        </p:blipFill>
        <p:spPr>
          <a:xfrm rot="2365800">
            <a:off x="6216120" y="4544640"/>
            <a:ext cx="863640" cy="762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6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0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2484360" y="1124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Daffodil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Answer th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428760" y="3366720"/>
            <a:ext cx="518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daffodil bloom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What colour is daffod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papillonkiss019el3"/>
          <p:cNvPicPr/>
          <p:nvPr/>
        </p:nvPicPr>
        <p:blipFill>
          <a:blip r:embed="rId2"/>
          <a:stretch/>
        </p:blipFill>
        <p:spPr>
          <a:xfrm rot="864000">
            <a:off x="669600" y="1064880"/>
            <a:ext cx="1871640" cy="1600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H:\Цветы\W2ZWG2CAXMAQLZCAH5R5YFCA8EZ1XJCA8J398ECAXZGX9MCAHZG92JCA7RNLEFCAH2AFHHCADRX3GVCATC8XUKCAVNT5QKCACX1LVMCA78O51OCABC2OLTCAHZGGYFCA86AAZDCADZQ6QHCAZN8V96.jpg"/>
          <p:cNvPicPr/>
          <p:nvPr/>
        </p:nvPicPr>
        <p:blipFill>
          <a:blip r:embed="rId3"/>
          <a:stretch/>
        </p:blipFill>
        <p:spPr>
          <a:xfrm>
            <a:off x="5715000" y="2500200"/>
            <a:ext cx="3024360" cy="3075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6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484360" y="1124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Daisies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Apri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857160" y="2713680"/>
            <a:ext cx="39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flowers are dais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ee them everywher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elds, gardens and even roads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5435640" y="285264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bbdad4ad7ee006ece629c784f9d553e1"/>
          <p:cNvPicPr/>
          <p:nvPr/>
        </p:nvPicPr>
        <p:blipFill>
          <a:blip r:embed="rId3"/>
          <a:stretch/>
        </p:blipFill>
        <p:spPr>
          <a:xfrm rot="1790400">
            <a:off x="684000" y="549000"/>
            <a:ext cx="1904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f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395280" y="386388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484360" y="1124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Daisies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3300"/>
                </a:solidFill>
                <a:latin typeface="Arial"/>
              </a:rPr>
              <a:t>Answer the Ques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857160" y="3011760"/>
            <a:ext cx="435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an you see dais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lowers is native in Apr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gallery_19_130_27105"/>
          <p:cNvPicPr/>
          <p:nvPr/>
        </p:nvPicPr>
        <p:blipFill>
          <a:blip r:embed="rId2"/>
          <a:stretch/>
        </p:blipFill>
        <p:spPr>
          <a:xfrm>
            <a:off x="714240" y="571680"/>
            <a:ext cx="1729080" cy="165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:\Цветы\BSXHPLCALZYQBVCATBR8RACA91J1RBCA5V5CUECAY1N5K9CA98LR4JCA2YQ5OKCABQ6V9TCA6JGTLQCA94V9JUCAUFB3CDCA7B5LVICAM0V26QCAHUL694CALZIBWHCA4WSDT6CAO6APHMCA56UTZY.jpg"/>
          <p:cNvPicPr/>
          <p:nvPr/>
        </p:nvPicPr>
        <p:blipFill>
          <a:blip r:embed="rId3"/>
          <a:stretch/>
        </p:blipFill>
        <p:spPr>
          <a:xfrm>
            <a:off x="5429160" y="2643120"/>
            <a:ext cx="29289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2:01:55Z</dcterms:created>
  <dc:creator>logoped</dc:creator>
  <dc:description/>
  <dc:language>en-US</dc:language>
  <cp:lastModifiedBy>o.andronova</cp:lastModifiedBy>
  <dcterms:modified xsi:type="dcterms:W3CDTF">2009-05-22T04:39:40Z</dcterms:modified>
  <cp:revision>25</cp:revision>
  <dc:subject/>
  <dc:title>Январь</dc:title>
</cp:coreProperties>
</file>