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8.jpeg" ContentType="image/jpeg"/>
  <Override PartName="/ppt/media/image12.jpeg" ContentType="image/jpeg"/>
  <Override PartName="/ppt/media/image10.gif" ContentType="image/gif"/>
  <Override PartName="/ppt/media/image7.jpeg" ContentType="image/jpeg"/>
  <Override PartName="/ppt/media/image15.gif" ContentType="image/gif"/>
  <Override PartName="/ppt/media/image6.gif" ContentType="image/gif"/>
  <Override PartName="/ppt/media/image21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9.gif" ContentType="image/gif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869-EC25-466F-9673-031D54D0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CDD-CBB9-405C-8BDD-E514FCF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C47-48E5-48EA-9286-E57B95BD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572-8374-4E77-8768-5E07F28D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2EFE-10D4-4062-BFED-EC293821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3CC9-D504-4A13-8688-1F6F78C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9B15-24F8-4BAA-925F-C3EE01E1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83BC-9C24-4F61-863D-FF45CFE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BB0-2C9F-4C16-A4A7-A3256B1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FE70-C255-4D59-9A8F-F2D0F56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013A-102C-4E97-8023-24F4C89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973-E000-4DB4-B121-D373ED69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131-8037-4B27-A50D-3ACB17D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D41-9EA9-456A-940D-F457E64D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7B7-FC7F-45B5-B6DB-7414989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3AA-A585-477F-9727-B97103F3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D2C5-2DE7-46AB-9792-5CA25734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D28-A085-4450-B030-16035D9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CD4-8135-4C1D-91C9-7E171E0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48C-8FCA-432C-B87A-1BE2AD1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E0F-24D1-4A8F-8F9D-3AC2E9C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2E7-D073-463A-B4A4-37A702F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4E2-5190-4D50-BDF7-371C83A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379-C949-4FDD-BB1C-531FD42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EFD-8BC6-4080-A1DC-D5920BDCB6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2D4-1806-4B75-9E00-F64551EFF9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radionetplus_ru_animac_2"/>
          <p:cNvPicPr/>
          <p:nvPr/>
        </p:nvPicPr>
        <p:blipFill>
          <a:blip r:embed="rId2"/>
          <a:stretch/>
        </p:blipFill>
        <p:spPr>
          <a:xfrm>
            <a:off x="2195640" y="1557360"/>
            <a:ext cx="4933800" cy="488772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755640" y="620640"/>
            <a:ext cx="756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WELVE FLOWERS OF THE Y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9" descr="4a276b7a83687f3f2ee61311e06d651e"/>
          <p:cNvPicPr/>
          <p:nvPr/>
        </p:nvPicPr>
        <p:blipFill>
          <a:blip r:embed="rId3"/>
          <a:stretch/>
        </p:blipFill>
        <p:spPr>
          <a:xfrm>
            <a:off x="7451640" y="4797360"/>
            <a:ext cx="1548000" cy="15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874872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СОШ м-на Вынгапуров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р презентации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3333ff"/>
                </a:solidFill>
                <a:uFillTx/>
                <a:latin typeface="Arial"/>
              </a:rPr>
              <a:t>Жуков Констан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5 а 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: Андронова О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9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P4210773"/>
          <p:cNvPicPr/>
          <p:nvPr/>
        </p:nvPicPr>
        <p:blipFill>
          <a:blip r:embed="rId2"/>
          <a:stretch/>
        </p:blipFill>
        <p:spPr>
          <a:xfrm>
            <a:off x="971640" y="1989000"/>
            <a:ext cx="244944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300"/>
                            </p:stCondLst>
                            <p:childTnLst>
                              <p:par>
                                <p:cTn id="4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900"/>
                            </p:stCondLst>
                            <p:childTnLst>
                              <p:par>
                                <p:cTn id="4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Jan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62520"/>
            <a:ext cx="482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drop is the flower for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 white as snow, and appears in fo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ardens when there is still snow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ttle plant is a native flower of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papillonkiss012yf3"/>
          <p:cNvPicPr/>
          <p:nvPr/>
        </p:nvPicPr>
        <p:blipFill>
          <a:blip r:embed="rId3"/>
          <a:stretch/>
        </p:blipFill>
        <p:spPr>
          <a:xfrm>
            <a:off x="755640" y="549360"/>
            <a:ext cx="14400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28760" y="3154680"/>
            <a:ext cx="528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ative flower of Europ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 is snowdr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animal125"/>
          <p:cNvPicPr/>
          <p:nvPr/>
        </p:nvPicPr>
        <p:blipFill>
          <a:blip r:embed="rId2"/>
          <a:stretch/>
        </p:blipFill>
        <p:spPr>
          <a:xfrm rot="19625400">
            <a:off x="816120" y="996480"/>
            <a:ext cx="1225440" cy="152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H:\Цветы\ZAFQ42CAPXNEDSCA12YYDBCAB2C2O9CAQXJ5U8CAT2GFRZCA8DC6XHCA52SB00CARSAXBBCAPE8J64CASEJEULCAN5EO8SCA7NCQZZCAO1A33ACAQ25I5FCA77N8GACA0E0XA8CAJ20VW2CA9CDJA2.jpg"/>
          <p:cNvPicPr/>
          <p:nvPr/>
        </p:nvPicPr>
        <p:blipFill>
          <a:blip r:embed="rId3"/>
          <a:stretch/>
        </p:blipFill>
        <p:spPr>
          <a:xfrm>
            <a:off x="5715000" y="2857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Febr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529080" cy="374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324000" y="2910600"/>
            <a:ext cx="43876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lower is the prim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roses can be white, yellow, red, pi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e, purple and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ers look lik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papillonkiss016ky3"/>
          <p:cNvPicPr/>
          <p:nvPr/>
        </p:nvPicPr>
        <p:blipFill>
          <a:blip r:embed="rId3"/>
          <a:stretch/>
        </p:blipFill>
        <p:spPr>
          <a:xfrm>
            <a:off x="684360" y="692280"/>
            <a:ext cx="1368360" cy="129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42920" y="293580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appear in Februar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s are primr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animal123"/>
          <p:cNvPicPr/>
          <p:nvPr/>
        </p:nvPicPr>
        <p:blipFill>
          <a:blip r:embed="rId2"/>
          <a:stretch/>
        </p:blipFill>
        <p:spPr>
          <a:xfrm>
            <a:off x="539640" y="333360"/>
            <a:ext cx="1549440" cy="17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:\Цветы\2D2LYUCANOBIC9CAWW0K57CAGH855NCAWAZPV1CA7L5G4ZCAH5RNPICAFFSK55CAMZOLUYCA30KCWTCAK9KJEYCA0BKHUMCATT57IJCAM2UG57CAZIR55PCA7YRTLHCAEBLO4BCAKVY999CARXJ1NP.jpg"/>
          <p:cNvPicPr/>
          <p:nvPr/>
        </p:nvPicPr>
        <p:blipFill>
          <a:blip r:embed="rId3"/>
          <a:stretch/>
        </p:blipFill>
        <p:spPr>
          <a:xfrm>
            <a:off x="5214960" y="2643120"/>
            <a:ext cx="35002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M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73528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7"/>
          <p:cNvSpPr/>
          <p:nvPr/>
        </p:nvSpPr>
        <p:spPr>
          <a:xfrm>
            <a:off x="611280" y="2279880"/>
            <a:ext cx="4897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lower of the month of March is the daffod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appears very early in spring too. The flowers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yellow. The plant has long lea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 sweet pleasant smell. It has been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vourite  flower in many gard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8" descr="butterfly2-5"/>
          <p:cNvPicPr/>
          <p:nvPr/>
        </p:nvPicPr>
        <p:blipFill>
          <a:blip r:embed="rId3"/>
          <a:stretch/>
        </p:blipFill>
        <p:spPr>
          <a:xfrm rot="19957800">
            <a:off x="619200" y="91800"/>
            <a:ext cx="2860560" cy="245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imal48"/>
          <p:cNvPicPr/>
          <p:nvPr/>
        </p:nvPicPr>
        <p:blipFill>
          <a:blip r:embed="rId4"/>
          <a:stretch/>
        </p:blipFill>
        <p:spPr>
          <a:xfrm rot="2365800">
            <a:off x="6216120" y="4544640"/>
            <a:ext cx="86364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28760" y="3366720"/>
            <a:ext cx="518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daffodil bloo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at colour is daffod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papillonkiss019el3"/>
          <p:cNvPicPr/>
          <p:nvPr/>
        </p:nvPicPr>
        <p:blipFill>
          <a:blip r:embed="rId2"/>
          <a:stretch/>
        </p:blipFill>
        <p:spPr>
          <a:xfrm rot="864000">
            <a:off x="669600" y="106488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:\Цветы\W2ZWG2CAXMAQLZCAH5R5YFCA8EZ1XJCA8J398ECAXZGX9MCAHZG92JCA7RNLEFCAH2AFHHCADRX3GVCATC8XUKCAVNT5QKCACX1LVMCA78O51OCABC2OLTCAHZGGYFCA86AAZDCADZQ6QHCAZN8V96.jpg"/>
          <p:cNvPicPr/>
          <p:nvPr/>
        </p:nvPicPr>
        <p:blipFill>
          <a:blip r:embed="rId3"/>
          <a:stretch/>
        </p:blipFill>
        <p:spPr>
          <a:xfrm>
            <a:off x="5715000" y="2500200"/>
            <a:ext cx="302436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pr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57160" y="27136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flowers are dais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e them everywhe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s, gardens and even roads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bbdad4ad7ee006ece629c784f9d553e1"/>
          <p:cNvPicPr/>
          <p:nvPr/>
        </p:nvPicPr>
        <p:blipFill>
          <a:blip r:embed="rId3"/>
          <a:stretch/>
        </p:blipFill>
        <p:spPr>
          <a:xfrm rot="1790400">
            <a:off x="684000" y="549000"/>
            <a:ext cx="1904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857160" y="3011760"/>
            <a:ext cx="43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see dais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is native in Apr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gallery_19_130_27105"/>
          <p:cNvPicPr/>
          <p:nvPr/>
        </p:nvPicPr>
        <p:blipFill>
          <a:blip r:embed="rId2"/>
          <a:stretch/>
        </p:blipFill>
        <p:spPr>
          <a:xfrm>
            <a:off x="714240" y="57168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Цветы\BSXHPLCALZYQBVCATBR8RACA91J1RBCA5V5CUECAY1N5K9CA98LR4JCA2YQ5OKCABQ6V9TCA6JGTLQCA94V9JUCAUFB3CDCA7B5LVICAM0V26QCAHUL694CALZIBWHCA4WSDT6CAO6APHMCA56UTZY.jpg"/>
          <p:cNvPicPr/>
          <p:nvPr/>
        </p:nvPicPr>
        <p:blipFill>
          <a:blip r:embed="rId3"/>
          <a:stretch/>
        </p:blipFill>
        <p:spPr>
          <a:xfrm>
            <a:off x="5429160" y="264312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01:55Z</dcterms:created>
  <dc:creator>logoped</dc:creator>
  <dc:description/>
  <dc:language>en-US</dc:language>
  <cp:lastModifiedBy>o.andronova</cp:lastModifiedBy>
  <dcterms:modified xsi:type="dcterms:W3CDTF">2009-05-22T04:39:40Z</dcterms:modified>
  <cp:revision>25</cp:revision>
  <dc:subject/>
  <dc:title>Январь</dc:title>
</cp:coreProperties>
</file>