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8.jpeg" ContentType="image/jpeg"/>
  <Override PartName="/ppt/media/image12.jpeg" ContentType="image/jpeg"/>
  <Override PartName="/ppt/media/image10.gif" ContentType="image/gif"/>
  <Override PartName="/ppt/media/image7.jpeg" ContentType="image/jpeg"/>
  <Override PartName="/ppt/media/image15.gif" ContentType="image/gif"/>
  <Override PartName="/ppt/media/image6.gif" ContentType="image/gif"/>
  <Override PartName="/ppt/media/image21.jpeg" ContentType="image/jpeg"/>
  <Override PartName="/ppt/media/image20.jpeg" ContentType="image/jpeg"/>
  <Override PartName="/ppt/media/image14.gif" ContentType="image/gif"/>
  <Override PartName="/ppt/media/image18.gif" ContentType="image/gif"/>
  <Override PartName="/ppt/media/image17.jpeg" ContentType="image/jpeg"/>
  <Override PartName="/ppt/media/image5.gif" ContentType="image/gif"/>
  <Override PartName="/ppt/media/image19.gif" ContentType="image/gif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16.jpeg" ContentType="image/jpe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4AE-BF89-4146-ADF5-217B618C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C73-41D8-4A3D-90AF-830C01F9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C5A-88C3-4145-9BCF-7EDD4868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AE5-67E6-4932-B71C-1CBA3018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0FF-AC1E-4F2E-A9CA-12EFA1B1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E2DA-12ED-4CFC-B118-5176BBBE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96FE-30B8-41CF-8541-8B34B89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5721-E79F-4D04-ABA9-5761BDA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994D-EC2C-4B61-B042-818FDC76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082E-632B-484C-A56F-EDE40AE1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1191-97BE-4279-96F0-9D5E2756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232-3108-4A88-B2A0-B4A55AB2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D902-3190-4928-BFE2-91083C6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2793-DE03-4949-A914-0CB3803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9E18-7799-4563-91D2-6FDF66CA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4CAD-5F00-41E6-AB0F-82B4E413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AE7-8A68-40A6-BD0B-4AC7D7E6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16D-C01E-4E7F-BCE7-77837AC2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E13-35B6-4163-B97C-95826E84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621-248F-4E21-9D9D-F9BC6824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908-7A8F-49C8-A111-E1FA4FD4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028-6D1F-42BB-B25B-1CA8C215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BBD-4E7A-4BC2-9930-28F2F5EA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4BA-7FE4-452A-9E3F-59B839B5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2F96-D52D-4A2F-A7A5-E092993665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CB53-F7E0-46D0-855E-095C5023C0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radionetplus_ru_animac_2"/>
          <p:cNvPicPr/>
          <p:nvPr/>
        </p:nvPicPr>
        <p:blipFill>
          <a:blip r:embed="rId2"/>
          <a:stretch/>
        </p:blipFill>
        <p:spPr>
          <a:xfrm>
            <a:off x="2195640" y="1557360"/>
            <a:ext cx="4933800" cy="4887720"/>
          </a:xfrm>
          <a:prstGeom prst="rect">
            <a:avLst/>
          </a:prstGeom>
          <a:ln w="0">
            <a:noFill/>
          </a:ln>
        </p:spPr>
      </p:pic>
      <p:sp>
        <p:nvSpPr>
          <p:cNvPr id="97" name="WordArt 8"/>
          <p:cNvSpPr txBox="1"/>
          <p:nvPr/>
        </p:nvSpPr>
        <p:spPr>
          <a:xfrm>
            <a:off x="755640" y="620640"/>
            <a:ext cx="756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WELVE FLOWERS OF THE Y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9" descr="4a276b7a83687f3f2ee61311e06d651e"/>
          <p:cNvPicPr/>
          <p:nvPr/>
        </p:nvPicPr>
        <p:blipFill>
          <a:blip r:embed="rId3"/>
          <a:stretch/>
        </p:blipFill>
        <p:spPr>
          <a:xfrm>
            <a:off x="7451640" y="4797360"/>
            <a:ext cx="1548000" cy="150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874872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У СОШ м-на Вынгапуров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тор презентации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3333ff"/>
                </a:solidFill>
                <a:uFillTx/>
                <a:latin typeface="Arial"/>
              </a:rPr>
              <a:t>Жуков Констан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 5 а 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итель: Андронова О.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09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P4210773"/>
          <p:cNvPicPr/>
          <p:nvPr/>
        </p:nvPicPr>
        <p:blipFill>
          <a:blip r:embed="rId2"/>
          <a:stretch/>
        </p:blipFill>
        <p:spPr>
          <a:xfrm>
            <a:off x="971640" y="1989000"/>
            <a:ext cx="244944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300"/>
                            </p:stCondLst>
                            <p:childTnLst>
                              <p:par>
                                <p:cTn id="4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900"/>
                            </p:stCondLst>
                            <p:childTnLst>
                              <p:par>
                                <p:cTn id="4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3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Janu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2521080" cy="3527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9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Snowdrop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62520"/>
            <a:ext cx="482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owdrop is the flower for Jan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s white as snow, and appears in fo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ardens when there is still snow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ttle plant is a native flower of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papillonkiss012yf3"/>
          <p:cNvPicPr/>
          <p:nvPr/>
        </p:nvPicPr>
        <p:blipFill>
          <a:blip r:embed="rId3"/>
          <a:stretch/>
        </p:blipFill>
        <p:spPr>
          <a:xfrm>
            <a:off x="755640" y="549360"/>
            <a:ext cx="14400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Snowdrop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28760" y="3154680"/>
            <a:ext cx="528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ative flower of Europ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ur is snowdro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animal125"/>
          <p:cNvPicPr/>
          <p:nvPr/>
        </p:nvPicPr>
        <p:blipFill>
          <a:blip r:embed="rId2"/>
          <a:stretch/>
        </p:blipFill>
        <p:spPr>
          <a:xfrm rot="19625400">
            <a:off x="816120" y="996480"/>
            <a:ext cx="1225440" cy="152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H:\Цветы\ZAFQ42CAPXNEDSCA12YYDBCAB2C2O9CAQXJ5U8CAT2GFRZCA8DC6XHCA52SB00CARSAXBBCAPE8J64CASEJEULCAN5EO8SCA7NCQZZCAO1A33ACAQ25I5FCA77N8GACA0E0XA8CAJ20VW2CA9CDJA2.jpg"/>
          <p:cNvPicPr/>
          <p:nvPr/>
        </p:nvPicPr>
        <p:blipFill>
          <a:blip r:embed="rId3"/>
          <a:stretch/>
        </p:blipFill>
        <p:spPr>
          <a:xfrm>
            <a:off x="5715000" y="2857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Febru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rimrose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529080" cy="3744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324000" y="2910600"/>
            <a:ext cx="438768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lower is the primr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roses can be white, yellow, red, pin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e, purple and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owers look like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papillonkiss016ky3"/>
          <p:cNvPicPr/>
          <p:nvPr/>
        </p:nvPicPr>
        <p:blipFill>
          <a:blip r:embed="rId3"/>
          <a:stretch/>
        </p:blipFill>
        <p:spPr>
          <a:xfrm>
            <a:off x="684360" y="692280"/>
            <a:ext cx="1368360" cy="129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rimrose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42920" y="2935800"/>
            <a:ext cx="507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lowers appear in Februar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urs are primro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animal123"/>
          <p:cNvPicPr/>
          <p:nvPr/>
        </p:nvPicPr>
        <p:blipFill>
          <a:blip r:embed="rId2"/>
          <a:stretch/>
        </p:blipFill>
        <p:spPr>
          <a:xfrm>
            <a:off x="539640" y="333360"/>
            <a:ext cx="1549440" cy="1770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:\Цветы\2D2LYUCANOBIC9CAWW0K57CAGH855NCAWAZPV1CA7L5G4ZCAH5RNPICAFFSK55CAMZOLUYCA30KCWTCAK9KJEYCA0BKHUMCATT57IJCAM2UG57CAZIR55PCA7YRTLHCAEBLO4BCAKVY999CARXJ1NP.jpg"/>
          <p:cNvPicPr/>
          <p:nvPr/>
        </p:nvPicPr>
        <p:blipFill>
          <a:blip r:embed="rId3"/>
          <a:stretch/>
        </p:blipFill>
        <p:spPr>
          <a:xfrm>
            <a:off x="5214960" y="2643120"/>
            <a:ext cx="35002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ffodil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M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2735280" cy="3384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7"/>
          <p:cNvSpPr/>
          <p:nvPr/>
        </p:nvSpPr>
        <p:spPr>
          <a:xfrm>
            <a:off x="611280" y="2279880"/>
            <a:ext cx="4897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lower of the month of March is the daffod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appears very early in spring too. The flowers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yellow. The plant has long lea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 sweet pleasant smell. It has been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vourite  flower in many garde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8" descr="butterfly2-5"/>
          <p:cNvPicPr/>
          <p:nvPr/>
        </p:nvPicPr>
        <p:blipFill>
          <a:blip r:embed="rId3"/>
          <a:stretch/>
        </p:blipFill>
        <p:spPr>
          <a:xfrm rot="19957800">
            <a:off x="619200" y="91800"/>
            <a:ext cx="2860560" cy="245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imal48"/>
          <p:cNvPicPr/>
          <p:nvPr/>
        </p:nvPicPr>
        <p:blipFill>
          <a:blip r:embed="rId4"/>
          <a:stretch/>
        </p:blipFill>
        <p:spPr>
          <a:xfrm rot="2365800">
            <a:off x="6216120" y="4544640"/>
            <a:ext cx="863640" cy="762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ffodil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28760" y="3366720"/>
            <a:ext cx="518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daffodil bloo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at colour is daffod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papillonkiss019el3"/>
          <p:cNvPicPr/>
          <p:nvPr/>
        </p:nvPicPr>
        <p:blipFill>
          <a:blip r:embed="rId2"/>
          <a:stretch/>
        </p:blipFill>
        <p:spPr>
          <a:xfrm rot="864000">
            <a:off x="669600" y="106488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:\Цветы\W2ZWG2CAXMAQLZCAH5R5YFCA8EZ1XJCA8J398ECAXZGX9MCAHZG92JCA7RNLEFCAH2AFHHCADRX3GVCATC8XUKCAVNT5QKCACX1LVMCA78O51OCABC2OLTCAHZGGYFCA86AAZDCADZQ6QHCAZN8V96.jpg"/>
          <p:cNvPicPr/>
          <p:nvPr/>
        </p:nvPicPr>
        <p:blipFill>
          <a:blip r:embed="rId3"/>
          <a:stretch/>
        </p:blipFill>
        <p:spPr>
          <a:xfrm>
            <a:off x="5715000" y="2500200"/>
            <a:ext cx="302436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isies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pri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857160" y="271368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flowers are dais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ee them everywher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s, gardens and even roads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5435640" y="285264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bbdad4ad7ee006ece629c784f9d553e1"/>
          <p:cNvPicPr/>
          <p:nvPr/>
        </p:nvPicPr>
        <p:blipFill>
          <a:blip r:embed="rId3"/>
          <a:stretch/>
        </p:blipFill>
        <p:spPr>
          <a:xfrm rot="1790400">
            <a:off x="684000" y="549000"/>
            <a:ext cx="1904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isies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857160" y="3011760"/>
            <a:ext cx="435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you see dais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lowers is native in Apr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gallery_19_130_27105"/>
          <p:cNvPicPr/>
          <p:nvPr/>
        </p:nvPicPr>
        <p:blipFill>
          <a:blip r:embed="rId2"/>
          <a:stretch/>
        </p:blipFill>
        <p:spPr>
          <a:xfrm>
            <a:off x="714240" y="571680"/>
            <a:ext cx="1729080" cy="165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Цветы\BSXHPLCALZYQBVCATBR8RACA91J1RBCA5V5CUECAY1N5K9CA98LR4JCA2YQ5OKCABQ6V9TCA6JGTLQCA94V9JUCAUFB3CDCA7B5LVICAM0V26QCAHUL694CALZIBWHCA4WSDT6CAO6APHMCA56UTZY.jpg"/>
          <p:cNvPicPr/>
          <p:nvPr/>
        </p:nvPicPr>
        <p:blipFill>
          <a:blip r:embed="rId3"/>
          <a:stretch/>
        </p:blipFill>
        <p:spPr>
          <a:xfrm>
            <a:off x="5429160" y="264312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2:01:55Z</dcterms:created>
  <dc:creator>logoped</dc:creator>
  <dc:description/>
  <dc:language>en-US</dc:language>
  <cp:lastModifiedBy>o.andronova</cp:lastModifiedBy>
  <dcterms:modified xsi:type="dcterms:W3CDTF">2009-05-22T04:39:40Z</dcterms:modified>
  <cp:revision>25</cp:revision>
  <dc:subject/>
  <dc:title>Январь</dc:title>
</cp:coreProperties>
</file>