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8F0-2117-44AB-949B-B5B3BB31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F58-BD3F-4B1D-BC42-23BB8C1A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70F-EEA0-4690-BC19-CE37FE64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1F0-B009-4F6B-8A73-6BFD0F9E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85AA-C837-4494-AABD-A03385D9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74B8-3074-41BF-A3DB-03A98A52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CD19-BBE5-4629-9C5F-E831EC1F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2124-0B2A-45CB-8E8A-C2DFF1E8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73B3-8370-4E5B-AA11-84986778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5313-938C-4816-9D0C-6FA36580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2662-FFD6-4B80-A161-CBD1DF69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4CC-CDDC-4035-B267-DC1EA998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58FD-7DCD-4820-BD9D-70F03997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0E64-0033-4A87-BC84-14218F64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7732-0CC7-43AA-94B0-3689201B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57D0-4769-456E-BB83-76600253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A1BB-C553-49F0-9E87-3712FDB9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CC7-B35C-4F10-AF87-94E08AC0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2CF-3639-42E3-8FD6-A3D6A14B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9B3-DC31-49B0-88B2-2B902316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A91-4101-423C-BFB3-E2D9C883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61D-59EA-40C2-A698-CCE6C2EA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E86-CA3E-4DD4-A454-2464D8D4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C3C8-8341-4A71-9A1E-1776057B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946A-EF57-4D55-BBDA-837F787FF3A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5198-1055-4E60-B297-EA33FC8963A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yandpage?q=1458584240&amp;p=1&amp;ag=ih&amp;rpt2=simage&amp;qs=text%3D%25D2%25C1%25DA%25CE%25C1%25D1%2B%25CB%25D5%25CC%25D8%25D4%25D5%25D2%25C1%26isize%3D%26ogo%3D5%26rpt%3Dimage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71640" y="549360"/>
            <a:ext cx="6985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Monotype Corsiva"/>
              </a:rPr>
              <a:t>Проектная работа на тему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4581360"/>
            <a:ext cx="3708360" cy="19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00"/>
                </a:solidFill>
                <a:uFillTx/>
                <a:latin typeface="Verdana"/>
              </a:rPr>
              <a:t>Авторы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Verdana"/>
              </a:rPr>
              <a:t>Пешков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Verdana"/>
              </a:rPr>
              <a:t>Гайдабура О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Verdana"/>
              </a:rPr>
              <a:t>Ученики 11«а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16000" y="476280"/>
          <a:ext cx="6913440" cy="1224000"/>
        </p:xfrm>
        <a:graphic>
          <a:graphicData uri="http://schemas.openxmlformats.org/drawingml/2006/table">
            <a:tbl>
              <a:tblPr/>
              <a:tblGrid>
                <a:gridCol w="69134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403280" y="2205000"/>
            <a:ext cx="597708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Verdana"/>
              </a:rPr>
              <a:t>«Толерантность                                                     в                                                                           обществе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508640"/>
            <a:ext cx="2303640" cy="17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Меняется ли мнение о человеке в зависимости от  национа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326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ми был задан вопрос: «Согласны ли вы, что человека надо оценивать только по его моральным и деловым качествам, а не по его национальности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5508720" cy="4178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508720" y="3789360"/>
            <a:ext cx="363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ывод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з диаграммы видно, что лишь 58% людей согласны с этим суждением, поэтому нам необходимо принимать меры и изменять появившееся в обществе неверно е мн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Мнение граждан о религ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091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ы задали вопрос: «Как вы думаете, истинной может быть только одна религия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050920" y="1989000"/>
            <a:ext cx="4537080" cy="3387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537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ывод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ак видно из диаграммы, большинство жителей согласны с этим суждением, но осуждать и предпринимать какие-либо меры, я считаю неправильным, так как каждый человек имеет право верить в то, во что ему хочется вер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Отношение граждан к людям другой культу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486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Гражданам нашего города был задан вопрос: «Как вы считаете, человек другой культуры обычно пугает или настораживает окружающих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5076720" cy="4149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003640" y="3537720"/>
            <a:ext cx="41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ывод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з диаграммы №5 видно, что много жителей нашего города пугаются людей другой культуры, поэтому администрация нашего края должна устраивать межэтнические встре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Отношения граждан к людям непохожих на нас.</a:t>
            </a:r>
            <a:r>
              <a:rPr b="0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341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Граждане нашего города высказывали нам свое мнение на следующее суждение: «Люди с другим цветом кожи (другой расы) могут быть нормальными людьми, но в друзья я предпочитал бы их не брать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5076720" cy="3522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003640" y="3436200"/>
            <a:ext cx="41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ывод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езультаты диаграммы показывают, что большинство людей не согласны с этим суждением. Но также видно, что много людей считают, что это  суждение, верно, поэтому нам надо уделить внимание и на этот вопр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-3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Способы повышения количества толерантных людей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560" y="1485000"/>
            <a:ext cx="9118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их способов может быть много, но в пример я приведу наиболее результативные из н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- Поднимать проблемы интолерантности на Классных часах, проводимых в шко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3333ff"/>
                </a:solidFill>
                <a:latin typeface="Verdana"/>
              </a:rPr>
              <a:t>- Проводить различные мероприятия, связанные с повышением толерантности среди населения. Например: городские соревнования, межэтнические встречи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00ff"/>
                </a:solidFill>
                <a:latin typeface="Verdana"/>
              </a:rPr>
              <a:t>- Наказывать людей вплоть до заключения, за проявления интолерантности, такие как фашизм, расиз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мы будем применять эти меры, то со временем интолерантных людей не остан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3333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ак же мы провели опрос, чтобы быть уверенными, что предложенные нами варианты решения этой проблемы будут одобрены гражданами нашего города. Этот опрос был проведен среди жителей Центрального и Адлерского районов, было опрошено 400 человек, и результаты этого опроса вы можете наблюдать в диаграмме №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120000" cy="457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911880"/>
            <a:ext cx="8820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Нами была прочитана и проанализирована научная литература, на тему: «Толерантность в обществе», так же мы пользовались глобальной сетью Интерне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В своей работе мы показали, что в нашем городе присутствует большое количество интолерантных людей, и чтобы уменьшить количество таких людей мы предложили несколько способов решений этой проблемы. И эти решения были одобрены, подавляющим большинством граждан. Мы надеемся, что наши предложения одобрит и местное управление, и в скором времени будут предприниматься меры по повышению толерантности насел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763640" y="260280"/>
            <a:ext cx="5041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19908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облема состоит в том, что в наше время общество относится к людям непохожим на них с недоверием, злобой, общество делится на группы, создаваемые по каким-либо национальным, или религиозным призна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В социальном проекте мы обозначили следующую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цель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Monotype Corsiva"/>
              </a:rPr>
              <a:t>Определить методы искоренения интолерантности среди населения</a:t>
            </a:r>
            <a:r>
              <a:rPr b="0" i="1" lang="ru-RU" sz="2400" spc="-1" strike="noStrike">
                <a:solidFill>
                  <a:srgbClr val="ff33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И соответственно поставили перед собой несколько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задач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1)</a:t>
            </a:r>
            <a:r>
              <a:rPr b="0" i="1" lang="ru-RU" sz="2400" spc="-1" strike="noStrike">
                <a:solidFill>
                  <a:srgbClr val="3333ff"/>
                </a:solidFill>
                <a:latin typeface="Monotype Corsiva"/>
              </a:rPr>
              <a:t> Объяснить значение толерантности и его противоположности нетерпимости или интолеран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  </a:t>
            </a: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2</a:t>
            </a:r>
            <a:r>
              <a:rPr b="0" i="1" lang="ru-RU" sz="2400" spc="-1" strike="noStrike">
                <a:solidFill>
                  <a:srgbClr val="3333ff"/>
                </a:solidFill>
                <a:latin typeface="Monotype Corsiva"/>
              </a:rPr>
              <a:t>) Обозначить способы постижения смысла толеран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  </a:t>
            </a: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3</a:t>
            </a:r>
            <a:r>
              <a:rPr b="0" i="1" lang="ru-RU" sz="2400" spc="-1" strike="noStrike">
                <a:solidFill>
                  <a:srgbClr val="3333ff"/>
                </a:solidFill>
                <a:latin typeface="Monotype Corsiva"/>
              </a:rPr>
              <a:t>) Изучить виды интолерантности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  </a:t>
            </a: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4) </a:t>
            </a:r>
            <a:r>
              <a:rPr b="0" i="1" lang="ru-RU" sz="2400" spc="-1" strike="noStrike">
                <a:solidFill>
                  <a:srgbClr val="3333ff"/>
                </a:solidFill>
                <a:latin typeface="Monotype Corsiva"/>
              </a:rPr>
              <a:t>Определить уровень толерантности среди населения города Со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 как результат нашего проекта, мы предложили несколько способов решения эт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63640" y="0"/>
            <a:ext cx="5041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ВЕДЕНИ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71640" y="333360"/>
            <a:ext cx="68421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3300"/>
                </a:solidFill>
                <a:uFillTx/>
                <a:latin typeface="Verdana"/>
              </a:rPr>
              <a:t>Что такое толерантность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81000"/>
            <a:ext cx="91440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В различных языках значение слова толерантность понимают по разном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Monotype Corsiva"/>
              </a:rPr>
              <a:t>В английском языке толерантность - "готовность и способность без протеста воспринимать личность или вещь"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en-US" sz="2600" spc="-1" strike="noStrike">
                <a:solidFill>
                  <a:srgbClr val="ff3300"/>
                </a:solidFill>
                <a:latin typeface="Monotype Corsiva"/>
              </a:rPr>
              <a:t>В арабском толерантность - "прощение, снисхождение, мягкость, снисходительность, сострадание, благосклонность, терпение ... расположенность к другим"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В персидском - "терпение, терпимость, выносливость, готовность к примирению"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2600" spc="-1" strike="noStrike">
                <a:solidFill>
                  <a:srgbClr val="ffff33"/>
                </a:solidFill>
                <a:latin typeface="Monotype Corsiva"/>
              </a:rPr>
              <a:t>В русском языке существуют два слова со сходным значением - толерантность и терпимость, которые значат "способность, умение терпеть, мириться с чужим мнением, быть снисходительным к поступкам других людей"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62040" cy="952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8131320" y="0"/>
            <a:ext cx="10126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84600"/>
            <a:ext cx="914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 u="sng">
                <a:solidFill>
                  <a:srgbClr val="ff3300"/>
                </a:solidFill>
                <a:uFillTx/>
                <a:latin typeface="Arial"/>
              </a:rPr>
              <a:t>Пути </a:t>
            </a:r>
            <a:r>
              <a:rPr b="1" lang="en-US" sz="3500" spc="-1" strike="noStrike" u="sng">
                <a:solidFill>
                  <a:srgbClr val="ff3300"/>
                </a:solidFill>
                <a:uFillTx/>
                <a:latin typeface="Arial"/>
              </a:rPr>
              <a:t>постижения</a:t>
            </a:r>
            <a:r>
              <a:rPr b="1" i="1" lang="en-US" sz="3500" spc="-1" strike="noStrike" u="sng">
                <a:solidFill>
                  <a:srgbClr val="ff3300"/>
                </a:solidFill>
                <a:uFillTx/>
                <a:latin typeface="Arial"/>
              </a:rPr>
              <a:t> смысла толерантности.</a:t>
            </a:r>
            <a:r>
              <a:rPr b="1" lang="en-US" sz="35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108160"/>
            <a:ext cx="9144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Monotype Corsiva"/>
              </a:rPr>
              <a:t>Если мы хотим понять смысл толерантности то мы должны провести анализ форм и проявлений ее противоположности - интолерантности или нетерпим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68360" y="3924360"/>
            <a:ext cx="4553280" cy="2933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22920" y="907920"/>
            <a:ext cx="2521080" cy="18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3300"/>
                </a:solidFill>
                <a:uFillTx/>
                <a:latin typeface="Verdana"/>
              </a:rPr>
              <a:t>Что такое интолерантнос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554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Интолерантность или нетерпимость может проявляться в широком диапазоне - от обычной невежливости и раздражения до этнических чисток и геноцида, умышленного уничтожения людей. Остановимся на этническом аспекте интолерантности, который в современном мире приобретает все большее значение. Кризис в нашей стране показал, что одной из самых, уязвимых сфер человеческих отношений в трансформирующемся поликультурном обществе является сфера отношений между различными этническими группами. Для нас эта проблема особо актуальна, так как город Сочи многонационале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8360" y="4680000"/>
            <a:ext cx="2590920" cy="217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614920" y="4784760"/>
            <a:ext cx="2989440" cy="20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62840" y="-720"/>
            <a:ext cx="73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3300"/>
                </a:solidFill>
                <a:uFillTx/>
                <a:latin typeface="Verdana"/>
              </a:rPr>
              <a:t>Интолерантность в России.</a:t>
            </a: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724360" y="620640"/>
            <a:ext cx="3419640" cy="2664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21168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России в настоящее время наиболее распространены религиозная (например, исламофобия) и этническая фобии. Этнофобии представлены антисемитизмом, кавказофобией, русофобией, синофобией (фобией к китайцам), цыганофобией, азиатофобией. Но для нашего города наиболее злободневными фобиями являются кавказофобия и русофоб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891960"/>
            <a:ext cx="90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Кавказофобия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 термин, сравнительно недавно появившийся в связи с возникновением массовой кавказской диаспоры. Этот вид фобии наиболее распространен в настояще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284720" y="4840200"/>
            <a:ext cx="4392720" cy="20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123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ак как наша работа непосредственно касается людей то наиболее важной и основной частью нашей работы является социальный опрос.  Мы опросили граждан нашего города по интересующим нас вопрос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ы задавали вопросы по 6 разным тем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981000"/>
            <a:ext cx="8893080" cy="69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3300"/>
                </a:solidFill>
                <a:uFillTx/>
                <a:latin typeface="Times New Roman"/>
              </a:rPr>
              <a:t>1)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Отношение граждан к другим нациям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ff00"/>
                </a:solidFill>
                <a:uFillTx/>
                <a:latin typeface="Times New Roman"/>
              </a:rPr>
              <a:t>2)</a:t>
            </a:r>
            <a:r>
              <a:rPr b="0" lang="en-US" sz="25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ff00"/>
                </a:solidFill>
                <a:latin typeface="Times New Roman"/>
              </a:rPr>
              <a:t>Мнение граждан о выборе друзей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3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Меняется ли мнение о человеке в зависимости от                         национальности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</a:t>
            </a:r>
            <a:r>
              <a:rPr b="0" lang="en-US" sz="3000" spc="-1" strike="noStrike" u="sng">
                <a:solidFill>
                  <a:srgbClr val="3333ff"/>
                </a:solidFill>
                <a:uFillTx/>
                <a:latin typeface="Times New Roman"/>
              </a:rPr>
              <a:t>4)</a:t>
            </a:r>
            <a:r>
              <a:rPr b="0" lang="en-US" sz="25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ff"/>
                </a:solidFill>
                <a:latin typeface="Times New Roman"/>
              </a:rPr>
              <a:t>Мнение граждан о религии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</a:t>
            </a:r>
            <a:r>
              <a:rPr b="0" lang="en-US" sz="3000" spc="-1" strike="noStrike" u="sng">
                <a:solidFill>
                  <a:srgbClr val="ff00ff"/>
                </a:solidFill>
                <a:uFillTx/>
                <a:latin typeface="Times New Roman"/>
              </a:rPr>
              <a:t>5)</a:t>
            </a:r>
            <a:r>
              <a:rPr b="0" lang="en-US" sz="25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ff"/>
                </a:solidFill>
                <a:latin typeface="Times New Roman"/>
              </a:rPr>
              <a:t>Отношение граждан к людям другой культуры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0" lang="en-US" sz="3000" spc="-1" strike="noStrike" u="sng">
                <a:solidFill>
                  <a:srgbClr val="ffff33"/>
                </a:solidFill>
                <a:uFillTx/>
                <a:latin typeface="Times New Roman"/>
              </a:rPr>
              <a:t>6)</a:t>
            </a:r>
            <a:r>
              <a:rPr b="0" lang="en-US" sz="2500" spc="-1" strike="noStrike">
                <a:solidFill>
                  <a:srgbClr val="ffff33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33"/>
                </a:solidFill>
                <a:latin typeface="Times New Roman"/>
              </a:rPr>
              <a:t>Отношения граждан к людям непохожих на нас.</a:t>
            </a:r>
            <a:r>
              <a:rPr b="0" lang="en-US" sz="2500" spc="-1" strike="noStrike">
                <a:solidFill>
                  <a:srgbClr val="ffff33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т опрос был проведен среди жителей Центрального и Адлерского районов, было опрошено 200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0"/>
            <a:ext cx="9144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3300"/>
                </a:solidFill>
                <a:uFillTx/>
                <a:latin typeface="Verdana"/>
              </a:rPr>
              <a:t>Отношение граждан к другим нация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894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ервый вопрос, который мы задали, звучит так: «Как вы считаете, есть ли нации и народы, к которым трудно хорошо относиться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7451640" cy="4321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5941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ы диаграммы показывают, что большинство людей не согласно с этим суждением, но так же она показывает, что в нашем городе есть много интолерантных лю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108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Мнение граждан о выборе друз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05192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Гражданам нашего города был задан вопрос: «Можете ли вы представить, что вашим другом станет человек другой вер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5076720" cy="3808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932360" y="3559320"/>
            <a:ext cx="421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ывод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ак вы видите, много людей готовы дружить с инаковерующим людьми, но 28% из них не готовы к этому и поэтому нам надо проводить мероприятия направленные на сближение таких лю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20:17Z</dcterms:created>
  <dc:creator>Пешков Александр Николаевич</dc:creator>
  <dc:description/>
  <dc:language>en-US</dc:language>
  <cp:lastModifiedBy>Секретарь</cp:lastModifiedBy>
  <dcterms:modified xsi:type="dcterms:W3CDTF">2008-09-10T11:38:05Z</dcterms:modified>
  <cp:revision>11</cp:revision>
  <dc:subject/>
  <dc:title>Слайд 1</dc:title>
</cp:coreProperties>
</file>