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627-CC7A-4CC9-AB5D-1B433F8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630-D401-48B5-AE3D-74F53729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B18-BDB8-47A0-ABB1-82A56706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E6A-1FAE-402F-873E-31837B1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14B-57F1-4AE6-87D2-44D231E4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7E36-E820-4679-837B-2B308365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DC60-F914-4CAD-8F6A-7C1BC4EC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EA1-E02C-49A4-A55B-30B76D7C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6139-876A-48A6-B8E7-195AD397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7250-8B71-4B27-96B1-FDABA7E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9CF5-9C91-478D-AEE2-9F75D38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2A74-FC02-4ED7-9A09-370924F6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D8CB-7907-4174-B5A6-DE7A3B0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F842-BD19-4193-A5FA-418133AA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69C-2415-4251-B8F9-8A9F9DF8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5BD-1B1E-404D-9B7C-74F647F2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05F0-238B-4811-9E76-571D5F41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880-EED5-40D8-9ABA-9276B05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D7A-B981-4893-BA77-C3C94202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AC2-1486-423D-8C63-7EBCEB19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36F-661C-440D-94A7-F2EE1ABB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5C35-623F-4CD5-86A8-7D61E5B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B71-A1B3-49E6-888B-770E3386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683-51E0-4C25-BFC3-B4401B3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0C9-AD46-41AE-A161-126C53A14E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4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9a99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b4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efe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46BE-2AD8-49D5-821E-6B6CF9F66A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yandex.ru/yandpage?q=1458584240&amp;p=1&amp;ag=ih&amp;rpt2=simage&amp;qs=text%3D%25D2%25C1%25DA%25CE%25C1%25D1%2B%25CB%25D5%25CC%25D8%25D4%25D5%25D2%25C1%26isize%3D%26ogo%3D5%26rpt%3Dimag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549360"/>
            <a:ext cx="6985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Monotype Corsiva"/>
              </a:rPr>
              <a:t>Проектная работа на тему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4581360"/>
            <a:ext cx="37083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ff00"/>
                </a:solidFill>
                <a:uFillTx/>
                <a:latin typeface="Verdana"/>
              </a:rPr>
              <a:t>Автор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Пешков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Verdana"/>
              </a:rPr>
              <a:t>Гайдабур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Verdana"/>
              </a:rPr>
              <a:t>Ученики 11«а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16000" y="476280"/>
          <a:ext cx="6913440" cy="1224000"/>
        </p:xfrm>
        <a:graphic>
          <a:graphicData uri="http://schemas.openxmlformats.org/drawingml/2006/table">
            <a:tbl>
              <a:tblPr/>
              <a:tblGrid>
                <a:gridCol w="6913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03280" y="2205000"/>
            <a:ext cx="59770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3300"/>
                </a:solidFill>
                <a:latin typeface="Verdana"/>
              </a:rPr>
              <a:t>«Толерантность                                                     в                                                                           обществе»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08640"/>
            <a:ext cx="230364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еняется ли мнение о человеке в зависимости от  национа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26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ми был задан вопрос: «Согласны ли вы, что человека надо оценивать только по его моральным и деловым качествам, а не по его национальности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508720" cy="417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08720" y="3789360"/>
            <a:ext cx="36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видно, что лишь 58% людей согласны с этим суждением, поэтому нам необходимо принимать меры и изменять появившееся в обществе неверно е м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религ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091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ли вопрос: «Как вы думаете, истинной может быть только одна религи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050920" y="1989000"/>
            <a:ext cx="4537080" cy="3387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537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идно из диаграммы, большинство жителей согласны с этим суждением, но осуждать и предпринимать какие-либо меры, я считаю неправильным, так как каждый человек имеет право верить в то, во что ему хочется вер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людям другой культу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486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Как вы считаете, человек другой культуры обычно пугает или настораживает окружающих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5076720" cy="4149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03640" y="3537720"/>
            <a:ext cx="41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з диаграммы №5 видно, что много жителей нашего города пугаются людей другой культуры, поэтому администрация нашего края должна устраивать межэтнические встре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Отношения граждан к людям непохожих на нас.</a:t>
            </a: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34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е нашего города высказывали нам свое мнение на следующее суждение: «Люди с другим цветом кожи (другой расы) могут быть нормальными людьми, но в друзья я предпочитал бы их не брать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5076720" cy="3522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03640" y="34362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ы с этим суждением. Но также видно, что много людей считают, что это  суждение, верно, поэтому нам надо уделить внимание и на этот вопр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-36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Способы повышения количества толерантных людей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560" y="1485000"/>
            <a:ext cx="9118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их способов может быть много, но в пример я приведу наиболее результативные из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- Поднимать проблемы интолерантности на Классных часах, проводимых в шко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- Проводить различные мероприятия, связанные с повышением толерантности среди населения. Например: городские соревнования, межэтнические встреч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00ff"/>
                </a:solidFill>
                <a:latin typeface="Verdana"/>
              </a:rPr>
              <a:t>- Наказывать людей вплоть до заключения, за проявления интолерантности, такие как фашизм, рас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мы будем применять эти меры, то со временем интолерантных людей не остан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333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же мы провели опрос, чтобы быть уверенными, что предложенные нами варианты решения этой проблемы будут одобрены гражданами нашего города. Этот опрос был проведен среди жителей Центрального и Адлерского районов, было опрошено 400 человек, и результаты этого опроса вы можете наблюдать в диаграмме №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120000" cy="45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911880"/>
            <a:ext cx="88200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Нами была прочитана и проанализирована научная литература, на тему: «Толерантность в обществе», так же мы пользовались глобальной сетью Интерне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В своей работе мы показали, что в нашем городе присутствует большое количество интолерантных людей, и чтобы уменьшить количество таких людей мы предложили несколько способов решений этой проблемы. И эти решения были одобрены, подавляющим большинством граждан. Мы надеемся, что наши предложения одобрит и местное управление, и в скором времени будут предприниматься меры по повышению толерантности насе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63640" y="26028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19908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блема состоит в том, что в наше время общество относится к людям непохожим на них с недоверием, злобой, общество делится на группы, создаваемые по каким-либо национальным, или религиозным призна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В социальном проекте мы обозначили следующую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цель</a:t>
            </a: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Monotype Corsiva"/>
              </a:rPr>
              <a:t>Определить методы искоренения интолерантности среди населения</a:t>
            </a:r>
            <a:r>
              <a:rPr b="0" i="1" lang="ru-RU" sz="2400" spc="-1" strike="noStrike">
                <a:solidFill>
                  <a:srgbClr val="ff33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Monotype Corsiva"/>
              </a:rPr>
              <a:t>И соответственно поставили перед собой несколько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задач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1)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 Объяснить значение толерантности и его противоположности нетерпимости или ин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2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Обозначить способы постижения смысла толера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3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) Изучить виды интолерантност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Monotype Corsiva"/>
              </a:rPr>
              <a:t>4) </a:t>
            </a:r>
            <a:r>
              <a:rPr b="0" i="1" lang="ru-RU" sz="2400" spc="-1" strike="noStrike">
                <a:solidFill>
                  <a:srgbClr val="3333ff"/>
                </a:solidFill>
                <a:latin typeface="Monotype Corsiva"/>
              </a:rPr>
              <a:t>Определить уровень толерантности среди населения города Со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 как результат нашего проекта, мы предложили несколько способов решения эт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63640" y="0"/>
            <a:ext cx="504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ВЕД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333360"/>
            <a:ext cx="6842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толерантность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81000"/>
            <a:ext cx="91440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В различных языках значение слова толерантность понимают по разном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Monotype Corsiva"/>
              </a:rPr>
              <a:t>В английском языке толерантность - "готовность и способность без протеста воспринимать личность или вещь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2600" spc="-1" strike="noStrike">
                <a:solidFill>
                  <a:srgbClr val="ff3300"/>
                </a:solidFill>
                <a:latin typeface="Monotype Corsiva"/>
              </a:rPr>
              <a:t>В арабском толерантность - "прощение, снисхождение, мягкость, снисходительность, сострадание, благосклонность, терпение ... расположенность к другим"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В персидском - "терпение, терпимость, выносливость, готовность к примирению"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2600" spc="-1" strike="noStrike">
                <a:solidFill>
                  <a:srgbClr val="ffff33"/>
                </a:solidFill>
                <a:latin typeface="Monotype Corsiva"/>
              </a:rPr>
              <a:t>В русском языке существуют два слова со сходным значением - толерантность и терпимость, которые значат "способность, умение терпеть, мириться с чужим мнением, быть снисходительным к поступкам других людей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6204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131320" y="0"/>
            <a:ext cx="10126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460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ути </a:t>
            </a:r>
            <a:r>
              <a:rPr b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постижения</a:t>
            </a:r>
            <a:r>
              <a:rPr b="1" i="1" lang="en-US" sz="3500" spc="-1" strike="noStrike" u="sng">
                <a:solidFill>
                  <a:srgbClr val="ff3300"/>
                </a:solidFill>
                <a:uFillTx/>
                <a:latin typeface="Arial"/>
              </a:rPr>
              <a:t> смысла толерантности.</a:t>
            </a:r>
            <a:r>
              <a:rPr b="1" lang="en-US" sz="35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1081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Monotype Corsiva"/>
              </a:rPr>
              <a:t>Если мы хотим понять смысл толерантности то мы должны провести анализ форм и проявлений ее противоположности - интолерантности или нетерпим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3924360"/>
            <a:ext cx="4553280" cy="29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22920" y="907920"/>
            <a:ext cx="2521080" cy="18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3300"/>
                </a:solidFill>
                <a:uFillTx/>
                <a:latin typeface="Verdana"/>
              </a:rPr>
              <a:t>Что такое интолерантност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5540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Monotype Corsiva"/>
              </a:rPr>
              <a:t>Интолерантность или нетерпимость может проявляться в широком диапазоне - от обычной невежливости и раздражения до этнических чисток и геноцида, умышленного уничтожения людей. Остановимся на этническом аспекте интолерантности, который в современном мире приобретает все большее значение. Кризис в нашей стране показал, что одной из самых, уязвимых сфер человеческих отношений в трансформирующемся поликультурном обществе является сфера отношений между различными этническими группами. Для нас эта проблема особо актуальна, так как город Сочи многонационале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680000"/>
            <a:ext cx="2590920" cy="217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614920" y="4784760"/>
            <a:ext cx="298944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62840" y="-720"/>
            <a:ext cx="73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3300"/>
                </a:solidFill>
                <a:uFillTx/>
                <a:latin typeface="Verdana"/>
              </a:rPr>
              <a:t>Интолерантность в России.</a:t>
            </a:r>
            <a:r>
              <a:rPr b="0" lang="ru-RU" sz="40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3419640" cy="2664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21168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России в настоящее время наиболее распространены религиозная (например, исламофобия) и этническая фобии. Этнофобии представлены антисемитизмом, кавказофобией, русофобией, синофобией (фобией к китайцам), цыганофобией, азиатофобией. Но для нашего города наиболее злободневными фобиями являются кавказофобия и русоф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91960"/>
            <a:ext cx="90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Кавказофобия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- термин, сравнительно недавно появившийся в связи с возникновением массовой кавказской диаспоры. Этот вид фобии наиболее распространен в настояще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284720" y="4840200"/>
            <a:ext cx="439272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23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Так как наша работа непосредственно касается людей то наиболее важной и основной частью нашей работы является социальный опрос.  Мы опросили граждан нашего города по интересующим нас вопро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Мы задавали вопросы по 6 разным тем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981000"/>
            <a:ext cx="889308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3300"/>
                </a:solidFill>
                <a:uFillTx/>
                <a:latin typeface="Times New Roman"/>
              </a:rPr>
              <a:t>1)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Отношение граждан к другим нациям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ff00"/>
                </a:solidFill>
                <a:uFillTx/>
                <a:latin typeface="Times New Roman"/>
              </a:rPr>
              <a:t>2)</a:t>
            </a:r>
            <a:r>
              <a:rPr b="0" lang="en-US" sz="25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Times New Roman"/>
              </a:rPr>
              <a:t>Мнение граждан о выборе друзей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Меняется ли мнение о человеке в зависимости от                         национальност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3333ff"/>
                </a:solidFill>
                <a:uFillTx/>
                <a:latin typeface="Times New Roman"/>
              </a:rPr>
              <a:t>4)</a:t>
            </a:r>
            <a:r>
              <a:rPr b="0" lang="en-US" sz="25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ff"/>
                </a:solidFill>
                <a:latin typeface="Times New Roman"/>
              </a:rPr>
              <a:t>Мнение граждан о религии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00ff"/>
                </a:solidFill>
                <a:uFillTx/>
                <a:latin typeface="Times New Roman"/>
              </a:rPr>
              <a:t>5)</a:t>
            </a:r>
            <a:r>
              <a:rPr b="0" lang="en-US" sz="25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00ff"/>
                </a:solidFill>
                <a:latin typeface="Times New Roman"/>
              </a:rPr>
              <a:t>Отношение граждан к людям другой культуры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0" lang="en-US" sz="3000" spc="-1" strike="noStrike" u="sng">
                <a:solidFill>
                  <a:srgbClr val="ffff33"/>
                </a:solidFill>
                <a:uFillTx/>
                <a:latin typeface="Times New Roman"/>
              </a:rPr>
              <a:t>6)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33"/>
                </a:solidFill>
                <a:latin typeface="Times New Roman"/>
              </a:rPr>
              <a:t>Отношения граждан к людям непохожих на нас.</a:t>
            </a:r>
            <a:r>
              <a:rPr b="0" lang="en-US" sz="2500" spc="-1" strike="noStrike">
                <a:solidFill>
                  <a:srgbClr val="ffff33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т опрос был проведен среди жителей Центрального и Адлерского районов, было опрошено 20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3300"/>
                </a:solidFill>
                <a:uFillTx/>
                <a:latin typeface="Verdana"/>
              </a:rPr>
              <a:t>Отношение граждан к другим нация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94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вый вопрос, который мы задали, звучит так: «Как вы считаете, есть ли нации и народы, к которым трудно хорошо относитьс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7451640" cy="432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ы диаграммы показывают, что большинство людей не согласно с этим суждением, но так же она показывает, что в нашем городе есть много интолерантны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d"/>
            </a:gs>
            <a:gs pos="100000">
              <a:srgbClr val="6363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08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3300"/>
                </a:solidFill>
                <a:uFillTx/>
                <a:latin typeface="Verdana"/>
              </a:rPr>
              <a:t>Мнение граждан о выборе друз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05192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Гражданам нашего города был задан вопрос: «Можете ли вы представить, что вашим другом станет человек другой вер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076720" cy="380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32360" y="3559320"/>
            <a:ext cx="42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Вывод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ак вы видите, много людей готовы дружить с инаковерующим людьми, но 28% из них не готовы к этому и поэтому нам надо проводить мероприятия направленные на сближение таких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20:17Z</dcterms:created>
  <dc:creator>Пешков Александр Николаевич</dc:creator>
  <dc:description/>
  <dc:language>en-US</dc:language>
  <cp:lastModifiedBy>Секретарь</cp:lastModifiedBy>
  <dcterms:modified xsi:type="dcterms:W3CDTF">2008-09-10T11:38:05Z</dcterms:modified>
  <cp:revision>11</cp:revision>
  <dc:subject/>
  <dc:title>Слайд 1</dc:title>
</cp:coreProperties>
</file>