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3EB-C516-4E9F-9C3C-432F38B5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1AA-29B8-4D1C-83C0-33362810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044-6763-4965-A983-405C183E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1E2-30D1-4796-98AD-E657DC8A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EB6-F7B5-4285-A64E-9CAC3DE8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F27-5C07-4506-B9BB-501B83F0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E9B-6017-496A-9127-5859CA97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73C-7995-4411-8427-C1882BF7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CD2C-FB23-4AAC-B34B-6949028A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DC6-2BB9-4696-A43B-52A38F19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AF0-4BD7-4940-86AF-1140116B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BBC-EED4-43DB-AC46-AD0B4C9E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5282-E845-413C-B6D0-A1FF5EE487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029440" cy="32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Franklin Gothic Demi Cond"/>
              </a:rPr>
              <a:t>Русский фолькло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иса"/>
          <p:cNvPicPr/>
          <p:nvPr/>
        </p:nvPicPr>
        <p:blipFill>
          <a:blip r:embed="rId1"/>
          <a:stretch/>
        </p:blipFill>
        <p:spPr>
          <a:xfrm>
            <a:off x="285840" y="3357720"/>
            <a:ext cx="1893960" cy="30477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44" name="Picture 6" descr="фвцфв"/>
          <p:cNvPicPr/>
          <p:nvPr/>
        </p:nvPicPr>
        <p:blipFill>
          <a:blip r:embed="rId2"/>
          <a:stretch/>
        </p:blipFill>
        <p:spPr>
          <a:xfrm>
            <a:off x="3786120" y="2428920"/>
            <a:ext cx="1784520" cy="274320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45" name="Picture 7" descr="цвфцвфцвфцв"/>
          <p:cNvPicPr/>
          <p:nvPr/>
        </p:nvPicPr>
        <p:blipFill>
          <a:blip r:embed="rId3"/>
          <a:stretch/>
        </p:blipFill>
        <p:spPr>
          <a:xfrm>
            <a:off x="6643800" y="3143160"/>
            <a:ext cx="2128680" cy="32353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400" y="-360"/>
            <a:ext cx="825804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Коза – развиззеза  на базаре бы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упила косу за свою слез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бежала мостом, киваючи хвос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, коза – развиззеза, Лубяные глаза, на что тебе кос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Сено кос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на что се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ровок корм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на что коров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лочко до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на что молочк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ырцы леп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на что сырц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стухов корм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где пастух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войну пош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А где войн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осреди гум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Documents and Settings\АЛЕКСЕЙ\Рабочий стол\коза.jpg"/>
          <p:cNvPicPr/>
          <p:nvPr/>
        </p:nvPicPr>
        <p:blipFill>
          <a:blip r:embed="rId1"/>
          <a:stretch/>
        </p:blipFill>
        <p:spPr>
          <a:xfrm>
            <a:off x="5214960" y="3143160"/>
            <a:ext cx="22636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еселые диал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9680" y="999720"/>
            <a:ext cx="8186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– Тит, а Тит! Пойдем молотить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Спина болит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Тит, пойдем мед пить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Дай поскорей шапку схватить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– Федул, что губы надул?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Да кафтан прожег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Зачинить можно?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Да иглы нет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А велика дыра?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Да один ворот остал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– Эй, Фома, что из леса не идешь?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Я медведя поймал!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Так веди его сюда!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Не идет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Так сам иди!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Да он меня не пускает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3840" y="214200"/>
            <a:ext cx="8472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хала деревня мимо мужи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друг из-под собаки лают воро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кочила палка с бабою в ру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авай дубасить коня на мужи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шадь ела сало, а мужик ове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Вмест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ошадь села в сани, а мужик пов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8400" y="785880"/>
            <a:ext cx="82580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Что есть у все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идит баба на юру, ноги свесила в р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оит Филат, на нем сто запл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а дворе горой, а в избе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олубой платок, красный коло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 платку катается, людям усмех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перва блеск, за блеском треск, за треском плес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корогово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400" y="999720"/>
            <a:ext cx="82580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нас во дворе-подворье погода размокропогодила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ык тупогуб, у быка губа туп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ли сорок мышей, несли сорок грошей, две мыши поплоше несли по два грош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двору-подворью в добром здоров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инья тупорыла, белорыла, весь двор перерыла, вырыла полры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ъел молодец 33 пирога с пирогом да все с творог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ван-болван молока болтал, да не выболт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охлатке хохотушки хохоток хохотали: ха-ха, ха-ха-х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99680" y="214200"/>
            <a:ext cx="81867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КУХУМКА КУКУШОН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кушка кукушонк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пила капюшон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кушкин кукушоно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пюшоне смеш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ЛЕТЕЛА 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ела сов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соленого се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четыре кол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оприворотни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Documents and Settings\АЛЕКСЕЙ\Рабочий стол\кукушка.jpg"/>
          <p:cNvPicPr/>
          <p:nvPr/>
        </p:nvPicPr>
        <p:blipFill>
          <a:blip r:embed="rId1"/>
          <a:stretch/>
        </p:blipFill>
        <p:spPr>
          <a:xfrm>
            <a:off x="428760" y="28584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АЛЕКСЕЙ\Рабочий стол\сова.jpg"/>
          <p:cNvPicPr/>
          <p:nvPr/>
        </p:nvPicPr>
        <p:blipFill>
          <a:blip r:embed="rId2"/>
          <a:stretch/>
        </p:blipFill>
        <p:spPr>
          <a:xfrm>
            <a:off x="6649920" y="3786120"/>
            <a:ext cx="21513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И.Да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dal"/>
          <p:cNvPicPr/>
          <p:nvPr/>
        </p:nvPicPr>
        <p:blipFill>
          <a:blip r:embed="rId1"/>
          <a:stretch/>
        </p:blipFill>
        <p:spPr>
          <a:xfrm>
            <a:off x="642960" y="1428840"/>
            <a:ext cx="2381400" cy="30765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3571920" y="1357200"/>
            <a:ext cx="46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ЛЬ, Владимир Иванович (1801-1872), псевдоним -- Казак Луганский, беллетрист, этнограф, лексикограф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Писатели о пословицах и поговорк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за роскошь, что за смысл в каждой поговорке нашей. Что за золо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А.С.Пушки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одные пословицы и поговорки служат отражением народного ума, характера, верований, воззрений на прир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.А.Добролюб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как просто сочиняют наши мужики. Все просто, слов мало, а чувства мн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Л.Н.Толсто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остоте слова – самая великая мудрость. Пословицы и песни всегда кратки, а ума и чувства в них на целые книг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А.М.Горький)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Отгадай загадки – пословицы.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О каких людях идет речь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зык без костей: что хочет, то и лопоч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л да устал, спал да намаял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ал руку, да подставил ног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е горе – стрела во мне, чужое горе – стрела во пн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оставить пословицы и поговорки по газетным объявлени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400" y="1357200"/>
            <a:ext cx="82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ь лыжи ле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л городок, да дор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ыплят считают и зим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или по одеж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адка в чужие сани уже объявл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ь сани летом, а телегу зим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л золотник, да дор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ыплят по осени считаю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тречают по одежке, а провожают по у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чужие сани не сади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«Родная речь певцу земля родная, в ней предков неразменный клад лежит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                                     </a:t>
            </a: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В. Иван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иа"/>
          <p:cNvPicPr/>
          <p:nvPr/>
        </p:nvPicPr>
        <p:blipFill>
          <a:blip r:embed="rId1"/>
          <a:stretch/>
        </p:blipFill>
        <p:spPr>
          <a:xfrm>
            <a:off x="785880" y="4071960"/>
            <a:ext cx="3073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Русские докучные сказ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9680" y="857160"/>
            <a:ext cx="81867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Жили-были два братца – кулик да журавль. Накосили они стожок сенца, поставили среди польца. Не сказать ли сказку опять с конца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Жил-был царь, у царя был двор, на дворе был кол, на колу мочало; не сказать ли с начала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– Сказать ли тебе сказку про белого бычка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Скажи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Ты скажи, да я скажи, да сказать ли тебе сказку про белого бычка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Скажи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Ты скажи, да я скажи, да чего у нас будет, да докуль это будет! Сказать ли тебе сказку про белого бычк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Докучать (кому, чему)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— значит «надоедать, неотступно просить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9680" y="428760"/>
            <a:ext cx="81867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700" spc="-1" strike="noStrike">
                <a:solidFill>
                  <a:srgbClr val="c00000"/>
                </a:solidFill>
                <a:latin typeface="Calibri"/>
              </a:rPr>
              <a:t>Кумулятивная</a:t>
            </a:r>
            <a:r>
              <a:rPr b="0" lang="ru-RU" sz="3700" spc="-1" strike="noStrike">
                <a:solidFill>
                  <a:srgbClr val="c00000"/>
                </a:solidFill>
                <a:latin typeface="Calibri"/>
              </a:rPr>
              <a:t> (или цепевидная) </a:t>
            </a:r>
            <a:r>
              <a:rPr b="1" lang="ru-RU" sz="3700" spc="-1" strike="noStrike">
                <a:solidFill>
                  <a:srgbClr val="c00000"/>
                </a:solidFill>
                <a:latin typeface="Calibri"/>
              </a:rPr>
              <a:t>сказка</a:t>
            </a:r>
            <a:r>
              <a:rPr b="0" lang="ru-RU" sz="3700" spc="-1" strike="noStrike">
                <a:solidFill>
                  <a:srgbClr val="c00000"/>
                </a:solidFill>
                <a:latin typeface="Calibri"/>
              </a:rPr>
              <a:t>.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Cumulatio в переводе с латинского означает увеличение, скопление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К этому типу сказок относятся «Колобок», «Репка», «Теремок». В них сходные, иногда точно повторяющиеся действия следуют друг за другом и соединяются, как звенья в цепи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Игра-поддевка и шутка-балагурк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1071720"/>
            <a:ext cx="82580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пойду в лес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 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Найду осин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 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Выдолблю корыт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 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Налью помо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 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Свиньи будут ис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 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таринная игр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400" y="999720"/>
            <a:ext cx="82580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 горою у ре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ивут гномы-стари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них колокол виси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еребряный звони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ги-диги-диги-дон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ходи из круга вон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дет матушка вес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оряйте воро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й март пришел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х детей прове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за ним и апрель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орил окно и двер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уж как пришел май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олько хочешь гуля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дит матушка вес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полям, лесам одн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й раз прощает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ой запрещает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на третий раз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еду я ва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:\Documents and Settings\АЛЕКСЕЙ\Рабочий стол\весна.jpg"/>
          <p:cNvPicPr/>
          <p:nvPr/>
        </p:nvPicPr>
        <p:blipFill>
          <a:blip r:embed="rId1"/>
          <a:stretch/>
        </p:blipFill>
        <p:spPr>
          <a:xfrm>
            <a:off x="5143680" y="1928880"/>
            <a:ext cx="3286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Водить хоровод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– это не просто «ходить кругами», это еще и петь, и танцевать, и исполнять интересные роли.</a:t>
            </a:r>
            <a:br>
              <a:rPr sz="1800"/>
            </a:br>
            <a:r>
              <a:rPr b="0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Хоровод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– это и танец, и игра. Водя хоровод, все вместе, сообща, притоптывают, хлопают в ладошки, сообща веселятся и радуют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Веселей-к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й ногам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й ногам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яши с нам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Этак! Этак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 вот так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к! Этак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ще так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Ой л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й ли-лёл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плясать еще извол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То ли, сё 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 и что 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пляш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ван, побо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Скачи, скач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соломушк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жалей лап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хороводушк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C:\Documents and Settings\АЛЕКСЕЙ\Рабочий стол\фол.jpg"/>
          <p:cNvPicPr/>
          <p:nvPr/>
        </p:nvPicPr>
        <p:blipFill>
          <a:blip r:embed="rId1"/>
          <a:stretch/>
        </p:blipFill>
        <p:spPr>
          <a:xfrm>
            <a:off x="6429240" y="3357720"/>
            <a:ext cx="2289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1680" y="214200"/>
            <a:ext cx="81151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ша грустит о небесах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нездешних нив жилиц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лю, когда на дерев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гонь зеленый шевел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То сучья золотых стволов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вечи, теплятся пред тайн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асцветают звезды сл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их листве первоначаль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С. Есен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евние славя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древние_0.tmp"/>
          <p:cNvPicPr/>
          <p:nvPr/>
        </p:nvPicPr>
        <p:blipFill>
          <a:blip r:embed="rId1"/>
          <a:stretch/>
        </p:blipFill>
        <p:spPr>
          <a:xfrm>
            <a:off x="928800" y="2000160"/>
            <a:ext cx="317484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АЛЕКСЕЙ\Рабочий стол\славяне.jpg"/>
          <p:cNvPicPr/>
          <p:nvPr/>
        </p:nvPicPr>
        <p:blipFill>
          <a:blip r:embed="rId2"/>
          <a:stretch/>
        </p:blipFill>
        <p:spPr>
          <a:xfrm>
            <a:off x="4981680" y="1857240"/>
            <a:ext cx="2733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авянские б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Documents and Settings\АЛЕКСЕЙ\Рабочий стол\БОГ.jpg"/>
          <p:cNvPicPr/>
          <p:nvPr/>
        </p:nvPicPr>
        <p:blipFill>
          <a:blip r:embed="rId1"/>
          <a:stretch/>
        </p:blipFill>
        <p:spPr>
          <a:xfrm>
            <a:off x="857160" y="1285920"/>
            <a:ext cx="1765440" cy="252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Documents and Settings\АЛЕКСЕЙ\Рабочий стол\БОЖ.jpg"/>
          <p:cNvPicPr/>
          <p:nvPr/>
        </p:nvPicPr>
        <p:blipFill>
          <a:blip r:embed="rId2"/>
          <a:stretch/>
        </p:blipFill>
        <p:spPr>
          <a:xfrm>
            <a:off x="2928960" y="4000680"/>
            <a:ext cx="1785960" cy="2222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АЛЕКСЕЙ\Рабочий стол\БОГИ.jpg"/>
          <p:cNvPicPr/>
          <p:nvPr/>
        </p:nvPicPr>
        <p:blipFill>
          <a:blip r:embed="rId3"/>
          <a:stretch/>
        </p:blipFill>
        <p:spPr>
          <a:xfrm>
            <a:off x="5214960" y="1644480"/>
            <a:ext cx="25002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-28584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сня - сл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642960"/>
            <a:ext cx="8329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ветло светлая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украсно украш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Русск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ногими красо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лена ес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ера мног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лена ес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ами и кладез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чест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ами крут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мами высоки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бравами частыми,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ми див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ями различ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тицами бесчислен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ми велики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ами див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градами обитель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ми церко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нязьями гроз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ярами чест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ьможами многим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еси испол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Русск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равове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а христианск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1" descr="фцвфцв"/>
          <p:cNvPicPr/>
          <p:nvPr/>
        </p:nvPicPr>
        <p:blipFill>
          <a:blip r:embed="rId1"/>
          <a:stretch/>
        </p:blipFill>
        <p:spPr>
          <a:xfrm>
            <a:off x="214200" y="4000680"/>
            <a:ext cx="2643480" cy="250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ми"/>
          <p:cNvPicPr/>
          <p:nvPr/>
        </p:nvPicPr>
        <p:blipFill>
          <a:blip r:embed="rId2"/>
          <a:stretch/>
        </p:blipFill>
        <p:spPr>
          <a:xfrm>
            <a:off x="6572160" y="785880"/>
            <a:ext cx="1590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120" y="214200"/>
            <a:ext cx="83296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минуту жизни труд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снится ль в сердце грус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у молитву чуд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ержу я наизу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сила благодат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озвучье слов живых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ышит непонятна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ятая прелесть в 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души как бремя скати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мненье далеко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верится, и плаче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так легко, легк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. Ю. Лермонтов « Молитв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Фольклор – особое поэтическое искусство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С.Пушкин говорил, что авторам фольклорных произведений присущи «какое- то веселое лукавство ума, насмешливость и живописный способ выражатьс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цвфвц"/>
          <p:cNvPicPr/>
          <p:nvPr/>
        </p:nvPicPr>
        <p:blipFill>
          <a:blip r:embed="rId1"/>
          <a:stretch/>
        </p:blipFill>
        <p:spPr>
          <a:xfrm>
            <a:off x="5357880" y="3809880"/>
            <a:ext cx="2500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лыбельные пес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400" y="928440"/>
            <a:ext cx="82580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Котя, котенька, кот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Котя – серенький хвосток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1.Баю- баюшки-баю.                                                                                  Приди, котя, ночевать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Не ложися на краю,                                                                                 Мою детоньку качать.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ридет серенький волчок                                                                     Уж как я тебе, коту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И утащит во лесок.                                                                                   За работу заплач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И утащит во лесок                                                                                     Два куска пиро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д ракитовый кусток.                                                                             Да кувшин мол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К нам волчок не ход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Нашу Машу не буд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3.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Баи-баи-баиньк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Купим сыну валенк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Наденем на ноженьк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устим по дороженьке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Будет наш сынок ходить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Новы валенки носи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472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гровая пес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7120" y="785880"/>
            <a:ext cx="83296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рока, сорок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де был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лек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базар лета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купки покупа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чку топи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шку вари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порог скакала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тей созыв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ти прилетел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рылечко се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ому дала, этому да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этому не д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н по воду не ходи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рова не руби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чку не топи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шку не вари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:\Documents and Settings\АЛЕКСЕЙ\Рабочий стол\сорока.jpg"/>
          <p:cNvPicPr/>
          <p:nvPr/>
        </p:nvPicPr>
        <p:blipFill>
          <a:blip r:embed="rId1"/>
          <a:stretch/>
        </p:blipFill>
        <p:spPr>
          <a:xfrm>
            <a:off x="6357960" y="2786040"/>
            <a:ext cx="22860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22:29Z</dcterms:created>
  <dc:creator>АЛЕКСЕЙ</dc:creator>
  <dc:description/>
  <dc:language>en-US</dc:language>
  <cp:lastModifiedBy>АЛЕКСЕЙ</cp:lastModifiedBy>
  <dcterms:modified xsi:type="dcterms:W3CDTF">2003-01-01T03:00:59Z</dcterms:modified>
  <cp:revision>20</cp:revision>
  <dc:subject/>
  <dc:title>Русский фольклор</dc:title>
</cp:coreProperties>
</file>