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AE9-1BB7-49E7-98F8-C1806F55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834-AACB-4DA3-8EE0-1ADBF47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746-BB39-4A85-809C-5D18C3C2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879-101F-4553-9450-081C3A50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33B-61A1-442C-9344-B4B1E829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E24-19C9-4436-8FAB-A27847F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AF11-F480-4630-9CD5-5364AD71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E15-F653-45F5-9245-69B2297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6C4-9348-4175-914F-EABBDB2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BC6C-F8DB-4371-9AC8-ECFD5AB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49A-91CE-4EB9-91D0-0749491E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DBE-29CD-447A-8530-DD25E08A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488D-8C25-4D99-AA9F-0EFECE3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57CD-6E73-4337-BE55-21C3C5D1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741-3AC9-4510-8818-D4FEB527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59F6-05C7-45FE-A5A1-A41B1D0A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96A-F7ED-4DA8-8C12-BED97D1F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A09B-9FDD-4898-A3D2-90C3057B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5BC6-6DD0-4B76-85B3-D5595095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CF3B-BD1F-40D5-93D1-6FA10F01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BFB4-B63E-4096-B7FB-F6150C78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2F56-B42B-49B6-BABD-A6076AB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8C4-D771-43C9-92F9-AFF5515F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E402-5759-41CB-861C-5079C98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B1B1-D505-4039-AC84-E1BC4C2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868E-1C8B-4EA4-BA4D-381DFC5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71ED-1284-427D-A4AF-33DDB8B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A8AC-96BE-432F-9478-4451C3E1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31D9-905D-4F62-AE05-781E85D8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FD195-BD4A-43CD-B743-A4630A92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AE3F-E8E1-4D20-AC56-1F4BE39F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1C26-A510-4904-928C-B3A79FD0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EDC2-5839-47A6-AF3D-01C143C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276-80DE-4A20-AF9A-BF6D3B4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40B3-FB4B-43C4-AA3D-49C6229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596C-724D-45E1-B82E-3CC3467D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4978-29D5-4107-81F8-B65B1AC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1AEC-D214-45F2-8D14-40431BB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5C256-FBDD-493F-B76D-6076AD9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8153-2337-4701-B26D-D3CC689A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A477-4EF1-4B6F-8860-D57587CF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9DB9-39E6-4DDB-BED4-E84AFF2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DE04-64BB-47E8-A45B-0DB60271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7B634-B545-460F-BF9B-3942CB61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71C-0D17-4AC3-8518-5682BB8C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F7296-99FF-47BD-8801-D01C6EF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DAB3-2F79-4D35-9F42-4B84989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75C5-412F-44AB-966B-E43254E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92AC-3551-44B2-8FA0-E70EE13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0947-1F15-4AD0-9E72-1F134B6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2E79-F159-4290-962B-1619AFF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D52F1-6F39-41B3-9320-BF7F2DB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81B4-BF17-4701-AB26-5D3DFF5F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16BC-0A0E-4D6D-8D8A-BC6A1AB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D22A-6962-4989-9AA0-66E6CCC9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735-6722-43A1-B672-D3C3C176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014BB-227D-4ADC-B499-C38EB712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15A2-C2CD-451F-916E-1D46503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A29C-AC1B-490C-825F-D655F08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652E-6DF2-4AF2-A160-E3B1FE15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B5118-C520-4EEC-9755-196A587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966B-99D2-4228-A5FF-464D8B60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2B255-A592-4618-B16F-47CEC560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906B-9C7E-4334-B496-CBED89F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BDC1-10B5-4A1F-81C5-82079C3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A68B-9B84-45FD-BA8D-1C2DF0C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BA9-3558-4530-9AEA-E375D431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BAEBD-AD2A-4826-BF2E-079916E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C95D4-0BB2-436E-AC82-DE3F0C2D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8B11-FDDA-43B2-B0C1-A6714306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8E8-BB46-4410-A8BE-45C2070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6A7-7B6F-414E-A078-6B7C144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8360-04B6-4674-AB9A-5AB5DB8B1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056-C9E8-4554-BF98-9BED111DF6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8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9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00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01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0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3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6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19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22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25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28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31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34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7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46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55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5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61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66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75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78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0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3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6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E6D-D976-4739-9A37-E8B9FFD94E1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078-7F7B-4C90-B6CA-77993FF1FA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435-1E64-4360-A8CD-67504BD235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34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34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50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351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4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355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358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361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367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37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37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6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37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38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385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38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39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39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397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40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0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406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409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41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415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7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420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423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426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429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432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435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438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441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444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447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450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2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453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454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463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D35-5F2B-4EE4-BC07-59057D412291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ограмме интегрированного курса «Окружающий мир» З.А.Клепининой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б классе по теме «Мир людей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 пожаре</a:t>
            </a:r>
            <a:br>
              <a:rPr sz="2400"/>
            </a:br>
            <a:br>
              <a:rPr sz="24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 МОУ «Гимназия №52»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первой квалификационной категории 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шина А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зань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03"/>
          <p:cNvPicPr/>
          <p:nvPr/>
        </p:nvPicPr>
        <p:blipFill>
          <a:blip r:embed="rId1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03"/>
          <p:cNvPicPr/>
          <p:nvPr/>
        </p:nvPicPr>
        <p:blipFill>
          <a:blip r:embed="rId2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0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33336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пчела"/>
          <p:cNvPicPr/>
          <p:nvPr/>
        </p:nvPicPr>
        <p:blipFill>
          <a:blip r:embed="rId2"/>
          <a:stretch/>
        </p:blipFill>
        <p:spPr>
          <a:xfrm>
            <a:off x="395280" y="476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1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40464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a09"/>
          <p:cNvPicPr/>
          <p:nvPr/>
        </p:nvPicPr>
        <p:blipFill>
          <a:blip r:embed="rId2"/>
          <a:stretch/>
        </p:blipFill>
        <p:spPr>
          <a:xfrm>
            <a:off x="539640" y="5493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1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56000" y="260280"/>
            <a:ext cx="4464000" cy="6264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a78"/>
          <p:cNvPicPr/>
          <p:nvPr/>
        </p:nvPicPr>
        <p:blipFill>
          <a:blip r:embed="rId2"/>
          <a:stretch/>
        </p:blipFill>
        <p:spPr>
          <a:xfrm>
            <a:off x="826920" y="549360"/>
            <a:ext cx="895680" cy="9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1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627280" y="260280"/>
            <a:ext cx="4392720" cy="6337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кот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09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8"/>
          <p:cNvPicPr/>
          <p:nvPr/>
        </p:nvPicPr>
        <p:blipFill>
          <a:blip r:embed="rId1"/>
          <a:stretch/>
        </p:blipFill>
        <p:spPr>
          <a:xfrm>
            <a:off x="755640" y="907920"/>
            <a:ext cx="3409920" cy="504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6"/>
          <p:cNvPicPr/>
          <p:nvPr/>
        </p:nvPicPr>
        <p:blipFill>
          <a:blip r:embed="rId2"/>
          <a:stretch/>
        </p:blipFill>
        <p:spPr>
          <a:xfrm>
            <a:off x="4572000" y="2060640"/>
            <a:ext cx="4038480" cy="311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7"/>
          <p:cNvPicPr/>
          <p:nvPr/>
        </p:nvPicPr>
        <p:blipFill>
          <a:blip r:embed="rId1"/>
          <a:stretch/>
        </p:blipFill>
        <p:spPr>
          <a:xfrm>
            <a:off x="684360" y="333360"/>
            <a:ext cx="4719600" cy="5762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387"/>
          <p:cNvPicPr/>
          <p:nvPr/>
        </p:nvPicPr>
        <p:blipFill>
          <a:blip r:embed="rId2"/>
          <a:stretch/>
        </p:blipFill>
        <p:spPr>
          <a:xfrm>
            <a:off x="5796000" y="2565360"/>
            <a:ext cx="2303280" cy="35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1"/>
          <p:cNvPicPr/>
          <p:nvPr/>
        </p:nvPicPr>
        <p:blipFill>
          <a:blip r:embed="rId1"/>
          <a:stretch/>
        </p:blipFill>
        <p:spPr>
          <a:xfrm>
            <a:off x="1763640" y="260280"/>
            <a:ext cx="56340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2"/>
          <p:cNvPicPr/>
          <p:nvPr/>
        </p:nvPicPr>
        <p:blipFill>
          <a:blip r:embed="rId1"/>
          <a:stretch/>
        </p:blipFill>
        <p:spPr>
          <a:xfrm>
            <a:off x="468360" y="1052640"/>
            <a:ext cx="8229600" cy="42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4"/>
          <p:cNvPicPr/>
          <p:nvPr/>
        </p:nvPicPr>
        <p:blipFill>
          <a:blip r:embed="rId1"/>
          <a:stretch/>
        </p:blipFill>
        <p:spPr>
          <a:xfrm>
            <a:off x="3132000" y="1052640"/>
            <a:ext cx="3434040" cy="4525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3"/>
          <p:cNvPicPr/>
          <p:nvPr/>
        </p:nvPicPr>
        <p:blipFill>
          <a:blip r:embed="rId2"/>
          <a:stretch/>
        </p:blipFill>
        <p:spPr>
          <a:xfrm>
            <a:off x="6877080" y="333360"/>
            <a:ext cx="1959120" cy="2185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5"/>
          <p:cNvPicPr/>
          <p:nvPr/>
        </p:nvPicPr>
        <p:blipFill>
          <a:blip r:embed="rId3"/>
          <a:stretch/>
        </p:blipFill>
        <p:spPr>
          <a:xfrm>
            <a:off x="324000" y="4365720"/>
            <a:ext cx="240012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Bookman Old Style"/>
              </a:rPr>
              <a:t>На пож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13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такое пожар? Чем он опа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Почему возникают по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Как поступить, чтобы не возник пож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делать, если все-таки пожар воз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115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23"/>
          <p:cNvPicPr/>
          <p:nvPr/>
        </p:nvPicPr>
        <p:blipFill>
          <a:blip r:embed="rId1"/>
          <a:stretch/>
        </p:blipFill>
        <p:spPr>
          <a:xfrm>
            <a:off x="2987640" y="2060640"/>
            <a:ext cx="2865600" cy="2185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552817"/>
          <p:cNvPicPr/>
          <p:nvPr/>
        </p:nvPicPr>
        <p:blipFill>
          <a:blip r:embed="rId2"/>
          <a:stretch/>
        </p:blipFill>
        <p:spPr>
          <a:xfrm>
            <a:off x="179280" y="260280"/>
            <a:ext cx="2730600" cy="2185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ogon05-297b"/>
          <p:cNvPicPr/>
          <p:nvPr/>
        </p:nvPicPr>
        <p:blipFill>
          <a:blip r:embed="rId3"/>
          <a:stretch/>
        </p:blipFill>
        <p:spPr>
          <a:xfrm>
            <a:off x="395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DSC04265"/>
          <p:cNvPicPr/>
          <p:nvPr/>
        </p:nvPicPr>
        <p:blipFill>
          <a:blip r:embed="rId4"/>
          <a:stretch/>
        </p:blipFill>
        <p:spPr>
          <a:xfrm>
            <a:off x="5867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struct03"/>
          <p:cNvPicPr/>
          <p:nvPr/>
        </p:nvPicPr>
        <p:blipFill>
          <a:blip r:embed="rId5"/>
          <a:stretch/>
        </p:blipFill>
        <p:spPr>
          <a:xfrm>
            <a:off x="6012000" y="26028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" descr="02"/>
          <p:cNvPicPr/>
          <p:nvPr/>
        </p:nvPicPr>
        <p:blipFill>
          <a:blip r:embed="rId1"/>
          <a:stretch/>
        </p:blipFill>
        <p:spPr>
          <a:xfrm>
            <a:off x="539640" y="476280"/>
            <a:ext cx="3889440" cy="2519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04"/>
          <p:cNvPicPr/>
          <p:nvPr/>
        </p:nvPicPr>
        <p:blipFill>
          <a:blip r:embed="rId2"/>
          <a:stretch/>
        </p:blipFill>
        <p:spPr>
          <a:xfrm>
            <a:off x="4643280" y="357336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03_1"/>
          <p:cNvPicPr/>
          <p:nvPr/>
        </p:nvPicPr>
        <p:blipFill>
          <a:blip r:embed="rId3"/>
          <a:stretch/>
        </p:blipFill>
        <p:spPr>
          <a:xfrm>
            <a:off x="1476360" y="400536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03"/>
          <p:cNvPicPr/>
          <p:nvPr/>
        </p:nvPicPr>
        <p:blipFill>
          <a:blip r:embed="rId4"/>
          <a:stretch/>
        </p:blipFill>
        <p:spPr>
          <a:xfrm>
            <a:off x="5940360" y="836640"/>
            <a:ext cx="14860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32:59Z</dcterms:created>
  <dc:creator>Stalker</dc:creator>
  <dc:description/>
  <dc:language>en-US</dc:language>
  <cp:lastModifiedBy>Коля</cp:lastModifiedBy>
  <dcterms:modified xsi:type="dcterms:W3CDTF">2013-03-18T20:09:02Z</dcterms:modified>
  <cp:revision>9</cp:revision>
  <dc:subject/>
  <dc:title>Слайд 1</dc:title>
</cp:coreProperties>
</file>