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6D7B1-73EA-4861-9921-410788CC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ECFD-8211-4B70-A85C-EA1C325F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C83B-8768-4F15-88DE-93959956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7780A-E435-432D-993E-03E791C4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D9DD-AB7E-477A-9796-CA61B744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1647-BB00-4C2E-B12F-B2BF2C65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7E12-BE20-4BF2-A70B-D73C7D36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FAB7-0939-4BB2-94E7-E1EC7880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B524-333E-47DA-8EBF-E98625B0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7899-07EB-46E6-AF32-6870C2FF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6A6A-BDA6-48A3-8AF3-7CFA1754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547B-FB87-4462-90BF-27065FA5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49D2-9CA1-4527-BA81-76ED6499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923E-701C-4D2C-B9F9-AACC39A2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6252-0247-4EFA-A294-663A35C0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5DB1-0FF1-47A0-AA8D-98F980A5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1146-4B94-43B6-8A5F-93D2F8E6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F0FE0-EB2C-4765-B8C7-99BA4CC8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A391-A016-498C-921A-63E02FDA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B1BB-6B57-41D4-8E34-9A0112DB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5318-8F35-4D76-B65F-88A5FDFD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F8BB-5F56-4F0F-9EF9-6597089A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CE32-46FC-44FE-AFDE-A452682D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2A3E-E977-4504-AE13-C286ED05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A1BE-06D2-4C01-BFFF-331C4F3FFFD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4801-1537-4E5F-958B-CB3404D9A1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351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Фразеологические единицы. Характеристика человека в современном мире.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обходимо всеми возможными способами проводить просветительскую работу среди россиян, особенно среди детей и молодёжи. Задача эта может быть выполнена путем совместных усилий лингвистов,  культурологов и педагог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62280" y="259560"/>
            <a:ext cx="555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Таблица фразеологиз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26920" y="907920"/>
          <a:ext cx="6251760" cy="5580360"/>
        </p:xfrm>
        <a:graphic>
          <a:graphicData uri="http://schemas.openxmlformats.org/drawingml/2006/table">
            <a:tbl>
              <a:tblPr/>
              <a:tblGrid>
                <a:gridCol w="3125880"/>
                <a:gridCol w="312588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я о фразеологиз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устойчивые сочетании слов, близкие по лексическому значению одному слов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раю света – далеко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шком под стол ходит - малень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зеологизмы – синоним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сапога пара – одного поля ягод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ковать мечи на орала – вложить меч в нож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зеологизмы – антони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учив рукава – спустя рука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яжёл на подъёме – лёгок на подъё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в предложе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ют роль одного члена предлож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ята работали засучив рук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00000" y="1700280"/>
            <a:ext cx="7344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ец</a:t>
            </a:r>
            <a:endParaRPr b="0" i="1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0600" y="428400"/>
            <a:ext cx="795492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Фразеологические единицы</a:t>
            </a:r>
            <a:endParaRPr b="0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Фразеологизм, выполняющее функцию отдельного слова устойчивое словосочетание, значение которого невыводимо из значений составляющих его компонентов. Например, «дать сдачи» — ответить ударом на уда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Д. С. Лихачёв и Библия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9448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мнению Д.С.Лихачева, вечными в приложении к историческому времени следует считать непреходящие духовные ценности, относящиеся к сфере религии и культуры. Для русского сознания эти ценности связаны, прежде всего, с Библи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90680" y="1484280"/>
            <a:ext cx="2201760" cy="2449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2158920" cy="2520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Систематизация фразеологизмов по их происхождению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31640" y="1606680"/>
            <a:ext cx="8172000" cy="4700520"/>
            <a:chOff x="431640" y="1606680"/>
            <a:chExt cx="8172000" cy="4700520"/>
          </a:xfrm>
        </p:grpSpPr>
        <p:cxnSp>
          <p:nvCxnSpPr>
            <p:cNvPr id="134" name="_s8246"/>
            <p:cNvCxnSpPr>
              <a:stCxn id="135" idx="0"/>
              <a:endCxn id="136" idx="2"/>
            </p:cNvCxnSpPr>
            <p:nvPr/>
          </p:nvCxnSpPr>
          <p:spPr>
            <a:xfrm flipV="1" rot="16200000">
              <a:off x="5477040" y="2526120"/>
              <a:ext cx="940680" cy="286056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8245"/>
            <p:cNvCxnSpPr>
              <a:stCxn id="138" idx="0"/>
              <a:endCxn id="136" idx="2"/>
            </p:cNvCxnSpPr>
            <p:nvPr/>
          </p:nvCxnSpPr>
          <p:spPr>
            <a:xfrm flipV="1">
              <a:off x="4517640" y="3486240"/>
              <a:ext cx="3600" cy="940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8244"/>
            <p:cNvCxnSpPr>
              <a:stCxn id="140" idx="0"/>
              <a:endCxn id="136" idx="2"/>
            </p:cNvCxnSpPr>
            <p:nvPr/>
          </p:nvCxnSpPr>
          <p:spPr>
            <a:xfrm flipH="1" flipV="1" rot="5400000">
              <a:off x="2616840" y="2526480"/>
              <a:ext cx="940680" cy="2860560"/>
            </a:xfrm>
            <a:prstGeom prst="bentConnector3">
              <a:avLst>
                <a:gd name="adj1" fmla="val 1278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6" name="_s8240"/>
            <p:cNvSpPr/>
            <p:nvPr/>
          </p:nvSpPr>
          <p:spPr>
            <a:xfrm>
              <a:off x="3291840" y="1606680"/>
              <a:ext cx="2451600" cy="1880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Исконно рус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фразеолог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8241"/>
            <p:cNvSpPr/>
            <p:nvPr/>
          </p:nvSpPr>
          <p:spPr>
            <a:xfrm>
              <a:off x="431640" y="4426920"/>
              <a:ext cx="2451600" cy="1880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бщеславя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разеологиз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8242"/>
            <p:cNvSpPr/>
            <p:nvPr/>
          </p:nvSpPr>
          <p:spPr>
            <a:xfrm>
              <a:off x="3291840" y="4426920"/>
              <a:ext cx="2451600" cy="1880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осточнославя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разеологиз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43"/>
            <p:cNvSpPr/>
            <p:nvPr/>
          </p:nvSpPr>
          <p:spPr>
            <a:xfrm>
              <a:off x="6152040" y="4426920"/>
              <a:ext cx="2451600" cy="18802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обственно рус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разеологиз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Систематизация фразеологизмов по их происхождению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сконно русская фразеолог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имствованные фразеологизмы из старославянского язы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тойчивые выражения вышедшие из Библ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разеологизмы пришедшие в русский язык из античной мифолог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имствованные фразеологизмы из европейских язык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разеологизмы – каль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Ильф Илья и Петров Евгений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79800" y="1557360"/>
            <a:ext cx="427032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Шутки Эмиля Кроткого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36760" y="1922400"/>
            <a:ext cx="2073240" cy="1542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93720" y="4043520"/>
            <a:ext cx="1768680" cy="1979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667480" y="2867040"/>
            <a:ext cx="2000160" cy="1998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780000" y="2781360"/>
            <a:ext cx="1512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635280" y="4076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Шутки Эмиля Кроткого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06560" y="1784520"/>
            <a:ext cx="1141560" cy="1822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895400" y="4125960"/>
            <a:ext cx="1163880" cy="1819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229360" y="2422440"/>
            <a:ext cx="2813040" cy="2957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03640" y="2781360"/>
            <a:ext cx="1655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76720" y="4149360"/>
            <a:ext cx="16556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Употребление фразеологизмов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потребление в речи фразеологизмов создает определенные трудности, поскольку языковая норма требует точного их воспроизведения, что не всегда учитывается говорящим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4:22:28Z</dcterms:created>
  <dc:creator>111</dc:creator>
  <dc:description/>
  <dc:language>en-US</dc:language>
  <cp:lastModifiedBy>111</cp:lastModifiedBy>
  <dcterms:modified xsi:type="dcterms:W3CDTF">2009-03-09T21:43:50Z</dcterms:modified>
  <cp:revision>5</cp:revision>
  <dc:subject/>
  <dc:title>Фразеологические единицы. Характеристика человека в современном мире.</dc:title>
</cp:coreProperties>
</file>