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92CD-1448-4768-B40E-2018E94B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02FF-9694-4C8A-8462-48264A4C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2331-9243-468C-BDF4-292FAC3D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8936-B688-462E-94FA-9B4515E3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C631-9012-4668-A746-B90C8B98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947-2BFD-4274-8442-4CE34B5E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9F0D-422D-4E62-852A-A10C26B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25D-40C5-42F7-837E-85103E6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34D-8756-47A4-8D3C-842C1C7C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6AB6-D602-4061-962D-C538D3D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7341-75AA-4BC4-8949-E56C067D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A508-1A9B-4281-990B-177FEB00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2116-E2B5-4E66-BC28-B2CC375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5A52-D854-4ACB-A3B9-975BE53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D183-B09A-4FB7-9E8D-0BCDCC4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E730-346A-405C-853C-F3A31899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6734-8684-42C6-ABE5-18E4EEAB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64D0-C913-4240-9AE0-49436F54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D5CF-F449-4C30-A9C3-0148BD70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1EAD-3E8B-4F8E-BF41-D0D834F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F20D-4C4F-403A-9989-061BB17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A553-D173-41BF-B3E9-85D7A11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ED25-BE5C-4358-AD1B-1160568F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6A00-2B47-4F01-943B-8806CBB9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2306-178E-4A8E-83EC-4AF41EE9A1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73BB-43C9-4B1F-A475-D36994F664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Фразеологические единицы. Характеристика человека в современном мире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обходимо всеми возможными способами проводить просветительскую работу среди россиян, особенно среди детей и молодёжи. Задача эта может быть выполнена путем совместных усилий лингвистов,  культурологов и педаго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62280" y="259560"/>
            <a:ext cx="55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фразеолог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907920"/>
          <a:ext cx="6251760" cy="5580360"/>
        </p:xfrm>
        <a:graphic>
          <a:graphicData uri="http://schemas.openxmlformats.org/drawingml/2006/table">
            <a:tbl>
              <a:tblPr/>
              <a:tblGrid>
                <a:gridCol w="3125880"/>
                <a:gridCol w="312588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о фразеологиз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устойчивые сочетании слов, близкие по лексическому значению одному слов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раю света – далек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шком под стол ходит - малень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змы – синоним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сапога пара – одного поля ягод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овать мечи на орала – вложить меч в нож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змы – антони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учив рукава – спустя рука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яжёл на подъёме – лёгок на подъё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в предлож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роль одного члена пред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работали засучив рук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00000" y="1700280"/>
            <a:ext cx="734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0" i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79549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Фразеологические единицы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разеологизм, выполняющее функцию отдельного слова устойчивое словосочетание, значение которого невыводимо из значений составляющих его компонентов. Например, «дать сдачи» — ответить ударом на уда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Д. С. Лихачёв и Библия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9448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мнению Д.С.Лихачева, вечными в приложении к историческому времени следует считать непреходящие духовные ценности, относящиеся к сфере религии и культуры. Для русского сознания эти ценности связаны, прежде всего, с Библи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90680" y="1484280"/>
            <a:ext cx="2201760" cy="244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15892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Систематизация фразеологизмов по их происхождению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31640" y="1606680"/>
            <a:ext cx="8172000" cy="4700520"/>
            <a:chOff x="431640" y="1606680"/>
            <a:chExt cx="8172000" cy="4700520"/>
          </a:xfrm>
        </p:grpSpPr>
        <p:cxnSp>
          <p:nvCxnSpPr>
            <p:cNvPr id="134" name="_s8246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477040" y="2526120"/>
              <a:ext cx="940680" cy="286056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245"/>
            <p:cNvCxnSpPr>
              <a:stCxn id="138" idx="0"/>
              <a:endCxn id="136" idx="2"/>
            </p:cNvCxnSpPr>
            <p:nvPr/>
          </p:nvCxnSpPr>
          <p:spPr>
            <a:xfrm flipV="1">
              <a:off x="4517640" y="3486240"/>
              <a:ext cx="3600" cy="940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8244"/>
            <p:cNvCxnSpPr>
              <a:stCxn id="140" idx="0"/>
              <a:endCxn id="136" idx="2"/>
            </p:cNvCxnSpPr>
            <p:nvPr/>
          </p:nvCxnSpPr>
          <p:spPr>
            <a:xfrm flipH="1" flipV="1" rot="5400000">
              <a:off x="2616840" y="2526480"/>
              <a:ext cx="940680" cy="286056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8240"/>
            <p:cNvSpPr/>
            <p:nvPr/>
          </p:nvSpPr>
          <p:spPr>
            <a:xfrm>
              <a:off x="3291840" y="160668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Исконно рус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фразеолог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8241"/>
            <p:cNvSpPr/>
            <p:nvPr/>
          </p:nvSpPr>
          <p:spPr>
            <a:xfrm>
              <a:off x="4316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щеславя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242"/>
            <p:cNvSpPr/>
            <p:nvPr/>
          </p:nvSpPr>
          <p:spPr>
            <a:xfrm>
              <a:off x="32918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сточнославя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43"/>
            <p:cNvSpPr/>
            <p:nvPr/>
          </p:nvSpPr>
          <p:spPr>
            <a:xfrm>
              <a:off x="61520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бственно рус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Систематизация фразеологизмов по их происхождению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конно русская фразеолог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имствованные фразеологизмы из старославянского язы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тойчивые выражения вышедшие из Библ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азеологизмы пришедшие в русский язык из античной мифолог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имствованные фразеологизмы из европейских язы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азеологизмы – каль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Ильф Илья и Петров Евгений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79800" y="1557360"/>
            <a:ext cx="42703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Шутки Эмиля Кроткого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36760" y="1922400"/>
            <a:ext cx="2073240" cy="1542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93720" y="4043520"/>
            <a:ext cx="1768680" cy="19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667480" y="2867040"/>
            <a:ext cx="2000160" cy="1998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80000" y="2781360"/>
            <a:ext cx="1512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35280" y="4076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Шутки Эмиля Кроткого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6560" y="1784520"/>
            <a:ext cx="1141560" cy="1822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95400" y="4125960"/>
            <a:ext cx="1163880" cy="1819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29360" y="2422440"/>
            <a:ext cx="2813040" cy="2957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03640" y="2781360"/>
            <a:ext cx="1655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4149360"/>
            <a:ext cx="1655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Употребление фразеологизмов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отребление в речи фразеологизмов создает определенные трудности, поскольку языковая норма требует точного их воспроизведения, что не всегда учитывается говорящи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22:28Z</dcterms:created>
  <dc:creator>111</dc:creator>
  <dc:description/>
  <dc:language>en-US</dc:language>
  <cp:lastModifiedBy>111</cp:lastModifiedBy>
  <dcterms:modified xsi:type="dcterms:W3CDTF">2009-03-09T21:43:50Z</dcterms:modified>
  <cp:revision>5</cp:revision>
  <dc:subject/>
  <dc:title>Фразеологические единицы. Характеристика человека в современном мире.</dc:title>
</cp:coreProperties>
</file>