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0B8AB-C1E5-466E-B89F-DC768BD4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BC20A-559A-46E7-8E8A-9682FD66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2A7B-4A53-4AFC-BE9B-27AFF24C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3267-028B-4FAE-B48F-450360D9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3457-8F1A-4E28-89B2-D65087B6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9FF1-08D2-4665-8AEF-E3235A83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EB36-9139-4659-9E91-542D7E4A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FDF8-A8E2-4C28-AA16-EC4634D4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B182-9F1D-4D51-BED8-104AB39E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1E84-87D3-4CBE-82C3-1C4BF523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7A22-6C2A-4E3A-A7B6-DCC9177E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9BB7-4D3C-4EC2-8638-586F7E4F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FFD0-40B0-444B-A335-C26C1A0F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C180-2949-4D2E-8E8B-0BB041D4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9E99-8D83-484F-AEA1-80AE0903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43E0-1A53-43E1-97D7-FA8E1E9A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49E8-D63E-47A8-A608-B27A1967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D7244-48D1-4135-9FBB-8F2065FA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696A3-EE30-4D8E-BD5C-72055DBF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8C3FA-CC0F-45A2-8B29-63AD56F2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4198-24A8-4959-ACEA-214908E8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BB427-A3F8-4BFF-BCD3-76D7CE7A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F7CD5-C8C5-4111-8DB5-01BA1D1D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192B5-750C-4E84-BB29-30B7C62F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BD52-3426-4C43-846A-AFA96EB3AEA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85B6-808C-49D7-9595-C073A11CA9B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351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Фразеологические единицы. Характеристика человека в современном мире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обходимо всеми возможными способами проводить просветительскую работу среди россиян, особенно среди детей и молодёжи. Задача эта может быть выполнена путем совместных усилий лингвистов,  культурологов и педагог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62280" y="259560"/>
            <a:ext cx="555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фразеолог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26920" y="907920"/>
          <a:ext cx="6251760" cy="5580360"/>
        </p:xfrm>
        <a:graphic>
          <a:graphicData uri="http://schemas.openxmlformats.org/drawingml/2006/table">
            <a:tbl>
              <a:tblPr/>
              <a:tblGrid>
                <a:gridCol w="3125880"/>
                <a:gridCol w="312588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я о фразеологиз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устойчивые сочетании слов, близкие по лексическому значению одному слову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раю света – далеко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шком под стол ходит - малень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зеологизмы – синоним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 сапога пара – одного поля ягод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ковать мечи на орала – вложить меч в нож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зеологизмы – антони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учив рукава – спустя рука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яжёл на подъёме – лёгок на подъё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в предложе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роль одного члена предлож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ята работали засучив рук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00000" y="1700280"/>
            <a:ext cx="7344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нец</a:t>
            </a:r>
            <a:endParaRPr b="0" i="1" lang="en-US" sz="9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795492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Фразеологические единицы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Фразеологизм, выполняющее функцию отдельного слова устойчивое словосочетание, значение которого невыводимо из значений составляющих его компонентов. Например, «дать сдачи» — ответить ударом на уда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Д. С. Лихачёв и Библия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9448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 мнению Д.С.Лихачева, вечными в приложении к историческому времени следует считать непреходящие духовные ценности, относящиеся к сфере религии и культуры. Для русского сознания эти ценности связаны, прежде всего, с Библи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90680" y="1484280"/>
            <a:ext cx="2201760" cy="2449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2158920" cy="2520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Систематизация фразеологизмов по их происхождению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31640" y="1606680"/>
            <a:ext cx="8172000" cy="4700520"/>
            <a:chOff x="431640" y="1606680"/>
            <a:chExt cx="8172000" cy="4700520"/>
          </a:xfrm>
        </p:grpSpPr>
        <p:cxnSp>
          <p:nvCxnSpPr>
            <p:cNvPr id="134" name="_s8246"/>
            <p:cNvCxnSpPr>
              <a:stCxn id="135" idx="0"/>
              <a:endCxn id="136" idx="2"/>
            </p:cNvCxnSpPr>
            <p:nvPr/>
          </p:nvCxnSpPr>
          <p:spPr>
            <a:xfrm flipV="1" rot="16200000">
              <a:off x="5477040" y="2526120"/>
              <a:ext cx="940680" cy="286056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8245"/>
            <p:cNvCxnSpPr>
              <a:stCxn id="138" idx="0"/>
              <a:endCxn id="136" idx="2"/>
            </p:cNvCxnSpPr>
            <p:nvPr/>
          </p:nvCxnSpPr>
          <p:spPr>
            <a:xfrm flipV="1">
              <a:off x="4517640" y="3486240"/>
              <a:ext cx="3600" cy="940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8244"/>
            <p:cNvCxnSpPr>
              <a:stCxn id="140" idx="0"/>
              <a:endCxn id="136" idx="2"/>
            </p:cNvCxnSpPr>
            <p:nvPr/>
          </p:nvCxnSpPr>
          <p:spPr>
            <a:xfrm flipH="1" flipV="1" rot="5400000">
              <a:off x="2616840" y="2526480"/>
              <a:ext cx="940680" cy="286056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6" name="_s8240"/>
            <p:cNvSpPr/>
            <p:nvPr/>
          </p:nvSpPr>
          <p:spPr>
            <a:xfrm>
              <a:off x="3291840" y="1606680"/>
              <a:ext cx="2451600" cy="18802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Исконно рус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фразеолог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8241"/>
            <p:cNvSpPr/>
            <p:nvPr/>
          </p:nvSpPr>
          <p:spPr>
            <a:xfrm>
              <a:off x="431640" y="4426920"/>
              <a:ext cx="2451600" cy="18802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бщеславя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разеологиз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8242"/>
            <p:cNvSpPr/>
            <p:nvPr/>
          </p:nvSpPr>
          <p:spPr>
            <a:xfrm>
              <a:off x="3291840" y="4426920"/>
              <a:ext cx="2451600" cy="18802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осточнославя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разеологиз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243"/>
            <p:cNvSpPr/>
            <p:nvPr/>
          </p:nvSpPr>
          <p:spPr>
            <a:xfrm>
              <a:off x="6152040" y="4426920"/>
              <a:ext cx="2451600" cy="18802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обственно рус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разеологиз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Систематизация фразеологизмов по их происхождению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сконно русская фразеолог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имствованные фразеологизмы из старославянского язы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тойчивые выражения вышедшие из Библ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Фразеологизмы пришедшие в русский язык из античной мифолог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имствованные фразеологизмы из европейских язык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Фразеологизмы – каль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Ильф Илья и Петров Евгений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79800" y="1557360"/>
            <a:ext cx="427032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Шутки Эмиля Кроткого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36760" y="1922400"/>
            <a:ext cx="2073240" cy="1542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93720" y="4043520"/>
            <a:ext cx="1768680" cy="197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667480" y="2867040"/>
            <a:ext cx="2000160" cy="1998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780000" y="2781360"/>
            <a:ext cx="1512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635280" y="4076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Шутки Эмиля Кроткого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06560" y="1784520"/>
            <a:ext cx="1141560" cy="1822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895400" y="4125960"/>
            <a:ext cx="1163880" cy="1819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229360" y="2422440"/>
            <a:ext cx="2813040" cy="2957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203640" y="2781360"/>
            <a:ext cx="1655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76720" y="4149360"/>
            <a:ext cx="1655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Употребление фразеологизмов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потребление в речи фразеологизмов создает определенные трудности, поскольку языковая норма требует точного их воспроизведения, что не всегда учитывается говорящим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4:22:28Z</dcterms:created>
  <dc:creator>111</dc:creator>
  <dc:description/>
  <dc:language>en-US</dc:language>
  <cp:lastModifiedBy>111</cp:lastModifiedBy>
  <dcterms:modified xsi:type="dcterms:W3CDTF">2009-03-09T21:43:50Z</dcterms:modified>
  <cp:revision>5</cp:revision>
  <dc:subject/>
  <dc:title>Фразеологические единицы. Характеристика человека в современном мире.</dc:title>
</cp:coreProperties>
</file>