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C79-97DE-41B7-AACE-917139F2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F68-CCBD-4415-A95F-29C3B83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19A-5C60-4F66-AC2D-1E0A353E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4DB-B17F-47B5-8CCD-3434110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0CB-9C49-48D0-BD65-1AC793A5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B8-AAB2-4254-99C3-F080EB2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461-5D73-424B-AAF3-B587C85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F96-D390-4065-AAF6-BFDE4B0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9F2-C532-49A1-8E06-E91B96B8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36E-18DA-440A-8779-A27FF15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692-E15A-4369-A2B4-092CA87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CDD-494C-4FB2-9417-F334823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B5B-B1FF-4FD0-BFBC-0EFA7525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бы и эм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это изображение, имеющее ТОЛЬКО ОДНО, лишь ему свойственное ЗНАЧЕНИЕ. Знак лаконично и точно передает конкрет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886120" cy="25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318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01924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2971800"/>
            <a:ext cx="232416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9051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вол – это изображение фигур или предметов, выражающих особый смысл, условное обозначение какого-либо по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простой эквивалент чего-либо. Символ же может иметь множество противоречивых значений, понятных только в определенном кон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6674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0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́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рест с загнутыми концами, направленными либо по часовой стрелке, либо против. Свастика — один из самых древних и широко распространённых графических символов, использовалась многими народами мира — на оружии, предметах повседневного быта, одежде, знамёнах и гербах, использовалась при оформлении церквей и д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астики как символа много значений, и у большинства народов они бы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, у большинства древних народов, она была симво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я жизни, Солнца, света,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X веке свастика получила известность как символ нацизма и гитлеровской Германии и в мире стала устойчиво ассоциироваться именно с гитлеровским режимом и идеоло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16260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Erbe» — наследство) - эмблема, наследственный отличительный знак, сочетание фигур и предметов, которым придаётся символическое значение, выражающее исторические традиции влад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главый орёл – символ охраны страны и с запада и с востока. Языки – орел как бы может за себя постоять.  В центре Георгий победоносец – герб Москвы, столицы, и символ противостояния врагу и победы над ним. Скипетр – знак закона; Держава – порядок и власть. 3 короны – Святая Троица и православие. Распущенные крылья – готовность к движению 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100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блема – условное, символичное изображение понятия или иде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ит за 3 частей: надпись, рисунок, под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04444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400800" y="2895480"/>
            <a:ext cx="22669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альдика – это наука, которая объясняет расположение и цвет символов на герб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8672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форма герба – это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58:10Z</dcterms:created>
  <dc:creator>Razminka</dc:creator>
  <dc:description/>
  <dc:language>en-US</dc:language>
  <cp:lastModifiedBy>Razminka</cp:lastModifiedBy>
  <dcterms:modified xsi:type="dcterms:W3CDTF">2011-03-24T16:42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