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D7C-8158-495A-B13F-2A945E1D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A65-DE47-4C68-84BF-82CC473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E39-74FE-427F-AE28-FABB3BB9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AA0-E005-4ED2-8992-63940ACC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DF2-D272-4A20-B010-C843AAD6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390-A3D7-48FE-9AA9-B8A4CBD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18C-FD0D-4421-9A24-8F6B49D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9A3-1389-41F9-8F0E-826F1274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B1B-B7C0-4FAA-9399-74E58FC5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BAA-FFF9-472C-8477-765867C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842-D45D-43A1-9DE7-9A603C3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1B0-C947-44E6-8F36-C08C304D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67D-53D2-49E3-A962-96ED0B43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бы и эм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105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это изображение, имеющее ТОЛЬКО ОДНО, лишь ему свойственное ЗНАЧЕНИЕ. Знак лаконично и точно передает конкретную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886120" cy="25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3352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3187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01924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477120" y="2971800"/>
            <a:ext cx="2324160" cy="201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010280" y="304920"/>
            <a:ext cx="19051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мвол – это изображение фигур или предметов, выражающих особый смысл, условное обозначение какого-либо пон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 – простой эквивалент чего-либо. Символ же может иметь множество противоречивых значений, понятных только в определенном контек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46674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20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́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крест с загнутыми концами, направленными либо по часовой стрелке, либо против. Свастика — один из самых древних и широко распространённых графических символов, использовалась многими народами мира — на оружии, предметах повседневного быта, одежде, знамёнах и гербах, использовалась при оформлении церквей и д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астики как символа много значений, и у большинства народов они бы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, у большинства древних народов, она была символ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ижения жизни, Солнца, света, благополу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X веке свастика получила известность как символ нацизма и гитлеровской Германии и в мире стала устойчиво ассоциироваться именно с гитлеровским режимом и идеоло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162600" cy="3200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5181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Erbe» — наследство) - эмблема, наследственный отличительный знак, сочетание фигур и предметов, которым придаётся символическое значение, выражающее исторические традиции влад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главый орёл – символ охраны страны и с запада и с востока. Языки – орел как бы может за себя постоять.  В центре Георгий победоносец – герб Москвы, столицы, и символ противостояния врагу и победы над ним. Скипетр – знак закона; Держава – порядок и власть. 3 короны – Святая Троица и православие. Распущенные крылья – готовность к движению в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100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блема – условное, символичное изображение понятия или иде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ит за 3 частей: надпись, рисунок, под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04444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51460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400800" y="2895480"/>
            <a:ext cx="22669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еральдика – это наука, которая объясняет расположение и цвет символов на герб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8672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форма герба – это щ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58:10Z</dcterms:created>
  <dc:creator>Razminka</dc:creator>
  <dc:description/>
  <dc:language>en-US</dc:language>
  <cp:lastModifiedBy>Razminka</cp:lastModifiedBy>
  <dcterms:modified xsi:type="dcterms:W3CDTF">2011-03-24T16:42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