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DD99-B522-4CC9-8F7A-FD2BED06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36AF-2AB2-401A-8D18-8B5985D9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C4D9-76C4-47AB-9E1B-947735E5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0792-CD4C-448D-AD22-B1998DF60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D068-B8A1-4C74-8CC5-750C5016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DE43-F6DB-4F4E-AF3C-5D637FFD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8EB1-9D17-45FF-9127-785912C0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1891-E788-4833-BB49-A32FD941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94E0-D726-4FDA-96BB-CA44E03A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42E9-F8F8-4622-9B73-B842400C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BCC5-0B95-4A11-A49A-8F169EF2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08E8-9974-4A82-B3CC-8F56DEE9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001B-0236-4ADB-8D71-6DE37FF59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ербы и эмбл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43200" y="1066680"/>
            <a:ext cx="3714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51055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к – это изображение, имеющее ТОЛЬКО ОДНО, лишь ему свойственное ЗНАЧЕНИЕ. Знак лаконично и точно передает конкретную информ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724280" y="0"/>
            <a:ext cx="2886120" cy="2562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438280" y="3352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648320" cy="3187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0" y="3200400"/>
            <a:ext cx="2019240" cy="1719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4114800" y="28195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477120" y="2971800"/>
            <a:ext cx="2324160" cy="2014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7010280" y="304920"/>
            <a:ext cx="19051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41144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мвол – это изображение фигур или предметов, выражающих особый смысл, условное обозначение какого-либо понят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к – простой эквивалент чего-либо. Символ же может иметь множество противоречивых значений, понятных только в определенном контек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4667400" cy="2495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562720" y="228600"/>
            <a:ext cx="3205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373392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а́сти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крест с загнутыми концами, направленными либо по часовой стрелке, либо против. Свастика — один из самых древних и широко распространённых графических символов, использовалась многими народами мира — на оружии, предметах повседневного быта, одежде, знамёнах и гербах, использовалась при оформлении церквей и до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свастики как символа много значений, и у большинства народов они был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ожитель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Так, у большинства древних народов, она была символ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ижения жизни, Солнца, света, благополуч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XX веке свастика получила известность как символ нацизма и гитлеровской Германии и в мире стала устойчиво ассоциироваться именно с гитлеровским режимом и идеолог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3162600" cy="3200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876920" y="304920"/>
            <a:ext cx="38862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9880" y="152280"/>
            <a:ext cx="5181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р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«Erbe» — наследство) - эмблема, наследственный отличительный знак, сочетание фигур и предметов, которым придаётся символическое значение, выражающее исторические традиции владель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50292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углавый орёл – символ охраны страны и с запада и с востока. Языки – орел как бы может за себя постоять.  В центре Георгий победоносец – герб Москвы, столицы, и символ противостояния врагу и победы над ним. Скипетр – знак закона; Держава – порядок и власть. 3 короны – Святая Троица и православие. Распущенные крылья – готовность к движению впер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51000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мблема – условное, символичное изображение понятия или идеи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оит за 3 частей: надпись, рисунок, подпи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2044440" cy="2819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00400" y="4572000"/>
            <a:ext cx="2543040" cy="1800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276720" y="2057400"/>
            <a:ext cx="2514600" cy="2303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400800" y="2895480"/>
            <a:ext cx="226692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еральдика – это наука, которая объясняет расположение и цвет символов на герб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5867280" cy="42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ая форма герба – это щ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30592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15:58:10Z</dcterms:created>
  <dc:creator>Razminka</dc:creator>
  <dc:description/>
  <dc:language>en-US</dc:language>
  <cp:lastModifiedBy>Razminka</cp:lastModifiedBy>
  <dcterms:modified xsi:type="dcterms:W3CDTF">2011-03-24T16:42:5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