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8D3-0ED0-47A4-AAAB-67D82961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C86C-3DC0-4077-ACF9-E8D3954B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71DF-EA4D-4B7A-A536-6C5F18BA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2E76-13EB-48D7-9371-F4748C51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13A2-8D2A-46C1-B9C9-3DC6B64E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FEA5-0C2C-4305-B400-3A1BD9A2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1E30-747A-4B64-8071-8CEA904A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63C7-EB2B-4252-85DA-DA279017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1E42-A0A9-4F4E-A486-AB3314F5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F0BA-1D29-47F4-8310-243A144E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9B7B-C654-4243-8D4F-96924FDF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C6AD-FFAF-4A81-BBE1-56709D33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283B-2A18-4F7D-8E06-13B741D1C8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du.ru/db-mon/mo/Data/d_00/1908.html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61800"/>
            <a:ext cx="8229600" cy="18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ПОРЯДОК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АТТЕСТАЦИИ ПЕДАГОГИЧЕСКИХ РАБОТНИКОВ ГОСУДАРСТВЕННЫХ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И МУНИЦИПАЛЬНЫХ ОБРАЗОВАТЕЛЬНЫХ УЧРЕ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295280" y="2884680"/>
            <a:ext cx="6629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твержд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казом Министерства образ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науки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 24 марта 2010 г. N 2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Зарегистрирован Минюстом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6 апреля 2010 г. Регистрационный № 1699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Т.А.Спиричева, председатель Архангельской областной общественной организации профсоюза работ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народного образования и науки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Для проведения аттестаци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с целью установления соответствия уровня квалификации педагогического работника требованиям, предъявляемым к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квалификационным категориям (первой или высшей),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аттестационной комиссией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создаются экспертные группы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для осуществления всестороннего анализа результатов профессиональной деятельности педагогического работника и подготовки соответствующего экспертного заключения для аттестационной комисс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Работа аттестационной коми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Заседание АК правомоч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 наличии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ее соста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Педагог имеет право лично присутствовать при его аттестации на заседании АК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 чем письменно уведомляет аттестационную комиссию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(в заявлении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 неявке педагога на заседание АК без уважительной причины комиссия вправе провести аттестацию в его отсутств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Решение принимается в отсутствие педагога открытым голосованием большинством голосов присутствующих на заседании членов комисс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-График работы комиссии утверждаются ежегод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казом Министерства образования, науки и культуры Архангель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Оформление результатов аттес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0066"/>
                </a:solidFill>
                <a:latin typeface="Arial"/>
              </a:rPr>
              <a:t>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. Решение АК оформляется </a:t>
            </a: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протоколом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(вступает в силу со дня подписания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председателем, заместителем председателя, секретарем и членами аттестационной комиссии, принимавшими участие в голосовани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. Решение АК заносится в </a:t>
            </a: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аттестационный лист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педаго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.13 Порядка аттестации устанавливает: «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В аттестационный лист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педагогического работника в случае необходимости АК заносит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рекомендации по совершенствованию профессиональной деятельности педагогического работника, о необходимости повышения его квалификации с указанием специализации и другие рекомендации» (из Разъяснений: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екомендации могут вноситься как при аттестации для установления соответствия уровня его квалификации требованиям, предъявляемым к квалификационным категориям,  так и при аттестации с целью подтверждения соответствия  занимаемой долж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При наличии в аттестационном листе указанных рекомендаций работодатель не позднее чем через год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со дня проведения аттестации педагогического работника представляет в аттестационную комиссию информацию о выполнении рекомендаций аттестационной комиссии по совершенствованию профессиональной деятельности педагогического работ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Оформление результатов аттес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. Решение АК о результатах аттестации педагога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утверждается </a:t>
            </a: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распоряжением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Министерства образования, науки и культуры Арх.об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 аттестации педагога на первую (высшую) квалификационную категорию,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соответствующая квалификационная категория также устанавливается указанным распоряжением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Аттестационный лист и выписка из распоряжения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Министерства образования, науки и культуры Арх.обл.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направляются работодателю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педагогического работника в срок не позднее 30 календарных дней с даты принятия решения АК для ознакомления с ними работника под роспись и принятия решений в соответствии с Трудовым кодексом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Аттестационный лист и выписка из распоряжения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Министерства образования, науки и культуры Арх.обл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хранятся в личном деле педагогического работника  (относятся к персональным данным работника и подлежат защите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установленном ФЗ-152 от 27.07.2006г. «О персональных данных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В соответствии с п.16 Порядка аттестации педагогический работник вправе обжаловать результаты аттестации в соответствии с законодательством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"/>
              </a:rPr>
              <a:t>Два вида аттес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114800" cy="4906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На подтверждение соответствия занимаемой дол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(обязатель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Работодател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авляет в АК представление на работ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Работник проходит квалификационные испытания в письменной форм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разработка темы урока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6920" y="1219320"/>
            <a:ext cx="4038480" cy="4876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На установление соответствия уровня квалификации требованиям первой или высше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(доброволь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Работник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авляет в АК зая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Экспертная групп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оводит экспертизу его деятельности – в АК направляется экспертное 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10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99ff"/>
                </a:solidFill>
                <a:latin typeface="Arial"/>
              </a:rPr>
              <a:t>                         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Первый вид –</a:t>
            </a:r>
            <a:br>
              <a:rPr sz="2800"/>
            </a:b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Аттестация на соответствие педагога занимаемой должности</a:t>
            </a:r>
            <a:r>
              <a:rPr b="1" i="1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.п.17-24 Порядка аттест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проводится один раз в 5 л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проводится в отношении педагогических работников, не имеющих квалификационных категори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(первой или высш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ттестации не подлежа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педагогические работники, проработавшие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нимаемой должности менее двух л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беременные женщины; женщины, находящиеся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пуске по беременности и родам; педагогиче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ботники, находящиеся в отпуске по уходу 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бенком до достижения им возраста трех 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ттестация указанных работников возможна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нее чем через два года после их выхода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казанных отпус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Порядок проведения аттестации</a:t>
            </a:r>
            <a:br>
              <a:rPr sz="2400"/>
            </a:b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 на соответствие педагога занимаемой дол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1.  Основанием для проведения аттестации педагога является представление работода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издается приказ по учреждению, устанавливающий список работников, подлежащих аттестации на соответствие занимаемой должност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б) готовится представление на работ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 С представлением педагог должен быть ознакомлен работодателем под роспись не позднее чем за месяц до дня проведения аттестации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Факт ознакомления работника с представлением подтверждается подписью работника под указанным документом. Отказ работника ознакомиться с представлением и (или) поставить свою подпись об ознакомлении не является препятствием для проведения аттестации и оформляется соответствующим акт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сле ознакомления с представлением педагогический работник имеет право представить в АК собственные </a:t>
            </a: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сведения, характеризующие его трудовую деятель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за период с даты предыдущей аттестации (при первичной аттестации - с даты поступления на работу), </a:t>
            </a: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а также заявление с соответствующим обоснованием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в случае несогласия с представлением работод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Работодатель письменно доводит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до  сведения педагогических работников, подлежащих аттестации,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информацию о дате, месте и времени проведения аттестации, не позднее чем за месяц до ее начала</a:t>
            </a:r>
            <a:r>
              <a:rPr b="1" i="1" lang="ru-RU" sz="1600" spc="-1" strike="noStrike">
                <a:solidFill>
                  <a:srgbClr val="33cc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Педагогические работники</a:t>
            </a:r>
            <a:r>
              <a:rPr b="1" i="1" lang="ru-RU" sz="16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ходе аттестации</a:t>
            </a:r>
            <a:r>
              <a:rPr b="1" i="1" lang="ru-RU" sz="16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проходят квалификационные испытания в письменной форме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по вопросам, связанным с осуществлением ими педагогической деятельности по занимаемой долж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АК принимает решение, доводит его до сведения работодателя и работника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Результаты аттеста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 соответствие педагога занимаемой долж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3124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 результатам аттест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АК принимает 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соответствует занимаемой должност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указывается должность работник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не соответствует занимаемой должност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указывается должность работни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9520" y="1676160"/>
            <a:ext cx="4876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!!!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случае признания педагогического работника по результатам аттестации несоответствующим занимаемой должности вследствие недостаточной квалификации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трудовой договор с ним может быть расторгнут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в соответствии с пунктом 3 части 1 статьи 81 Трудового кодекса Российской Федер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Увольнение по данному основанию допускается, если невозможно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перевести педагогического работника с его письменного согласия на другую имеющуюся у работодателя работу (как вакантную должность или работу, соответствующую квалификации работника, так и вакантную нижестоящую должность или нижеоплачиваемую работу), которую работник может выполнять с учетом его состояния здоровья (часть 3 статьи 81 Трудового кодекса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Второй вид - Аттестация на соответствие уровня квалификации педагога требованиям первой или высшей квалификационной категории</a:t>
            </a:r>
            <a:r>
              <a:rPr b="1" i="1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п.п.25-34 Поряд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1. Проводится на основании заявления педагог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Заявление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педагога о проведении аттестации </a:t>
            </a: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должно быть рассмотрено АК не позднее одного месяца со дня подачи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2.Устанавливаются сроки аттестации, доводятся   до сведения педагога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АК устанавливает сроки проведения аттестации для каждого педагога индивидуально в соответствии с графиком. </a:t>
            </a: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При составлении графика должны учитываться сроки действия ранее установленных квалификационных категорий.</a:t>
            </a: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3. Проводится экспертиза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4. АК принимает решение об итогах аттестации, которое доводится до сведения работодателя и педаго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Продолжительность аттестации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для каждого педагога с начала ее проведения и до принятия решения аттестационной комиссии </a:t>
            </a: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не должна превышать двух месяцев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пример: заявление подано 20 сентября, АК 20 октября устанавливает сроки проведения аттестации, например, с 1 декабря по 31 января. В эти сроки экспертной группой проводится анализ деятельности педагога, готовится экспертное заключение, принимается решение А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становленная на основании аттестации </a:t>
            </a: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квалификационная категория педагогическим работникам действительна в течение пяти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Педагоги могут обратиться в АК с заявлением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о проведении аттестации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на высшую квалификационную категорию, </a:t>
            </a: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не ранее, чем через 2 года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после установления первой квалификационной категори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Требования к первой квалификационной катег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Первая квалификационная категори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может быть установлена педагогическим работникам, котор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ладеют современными образовательными технологиями и методиками и эффективно применяют их в практической профессиональ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носят личный вклад в повышение качества образования на основе совершенствования методов обучения и воспит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меют стабильные результаты освоения обучающимися, воспитанниками образовательных программ и показатели динамики их достижений выше средних в субъекте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Данный перечень требований является исчерпывающ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"/>
              </a:rPr>
              <a:t>Приказом установлен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Порядок аттестаци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педагогических работников государственных и муниципальных образовательных учреждений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вводится в действие с 1 января 2011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Квалификационные категории, присвоенны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педагогическим и руководящим работникам государственных и муниципальных образовательных учреждений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до введения в действие Порядка аттестаци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педагогических работников государственных и муниципальных образовательных учреждений,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сохраняются в течение срока, на который они были присво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Требования к высшей квалификационной катег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Высшая квалификационная категория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может быть установлена педагогическим работникам, котор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имеют установленную первую квалификационную категор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ладеют современными образовательными технологиями и методиками и эффективно применяют их в практической профессиональной 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меют стабильные результаты освоения обучающимися, воспитанниками образовательных программ и показатели динамики их достижений выше средних в субъекте Российской Федерации, в том числе с учетом результатов участия обучающихся и воспитанников во всероссийских, международных олимпиадах, конкурсах, соревнования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носят личный вклад в повышение качества образования на основе совершенствования методов обучения и воспитания, инновационной деятельности, в освоение новых образовательных технологий и активно распространяют собственный опыт в области повышения качества образования и воспит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Данный перечень требований является исчерпывающ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Результаты аттестации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на соответствие уровня квалификации педагога требованиям первой или высшей квалификационной категории</a:t>
            </a:r>
            <a:r>
              <a:rPr b="1" i="1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38480" cy="342900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уровень квалификаци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указывается должность)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соответствует требованиям, предъявляемым к первой (высшей) квалификационной категор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уровень квалификаци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указывается должность)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не соответствует требованиям, предъявляемым к первой (высшей) квалификационной категории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05160" y="1599840"/>
            <a:ext cx="3886200" cy="342900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 принятии решения АК о несоответствии уровня квалификации педагога требованиям, предъявляемым к высшей квалификационной категории, за ним сохраняется первая квалификационная категория до завершения срока ее действ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можно повторно пройти аттестацию на категорию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рез 2 год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219320" y="5176800"/>
            <a:ext cx="73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валификационные категории сохраня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 переходе педагогического работ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другое образовательное учреждение, в том числе расположенное в другом субъекте Российской Федера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течение срока ее действ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Разъяснения по применению </a:t>
            </a:r>
            <a:br>
              <a:rPr sz="3200"/>
            </a:b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вновь принятого Порядка </a:t>
            </a:r>
            <a:br>
              <a:rPr sz="3200"/>
            </a:b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аттестации педагогических работник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разработаны совместно Министерством образования и науки Российской Федерации и Профсоюзом работников народного образования и науки Российской Федерации (письмо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№ 03-52/46 от 18.08.2010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Органы исполнительной власти субъектов РФ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осуществляющие управление в сфере образования, </a:t>
            </a: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не вправе принимать решения о применении  Порядка аттестаци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едагогических работников, утвержденного приказом от 24 марта 2010 года № 209, </a:t>
            </a: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ранее установленного срока, а также утверждать иной порядок их аттест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Разъясняе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Аттестация педагогических и руководящих работников на основании заявл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данных в аттестационную комиссию в период с 15 апреля по 30 июня 2010 года, осуществляется в соответствии с Положением о порядке аттестации педагогических и руководящих работников государственных и муниципальных образовательных учреждений, утвержденным приказом </a:t>
            </a:r>
            <a:r>
              <a:rPr b="0" lang="ru-RU" sz="20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от 26 июня 2000 г. № 190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 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должна быть завершена до 31 декабря 2010 года. Продление сроков  ее проведения на следующий год не допуск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Присвоенные по результатам аттестации в 2010 году и ранее квалификационные категор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(вторая, первая и высшая – педагогическим работникам), (первая и высшая – руководящим работникам) 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сохраняются в течение срока, на который они присво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Разъясняе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Порядок аттестации распространяется н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дагогических работников государственных и муниципальных образовательных учреждений независимо от  их ведомственной принадлежности  (учреждения культуры, здравоохранения, спорта и т.д.)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Установл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рганом исполнительной власти, осуществляющим управление в сфере образования,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иных квалификационных категорий, ступеней, званий и требований к ним не допускае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целях обеспечения единообразия при проведении аттестации на всей территории РФ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разработаны примерные формы  заявления  и аттестационных л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К вопросу об аттестации </a:t>
            </a:r>
            <a:br>
              <a:rPr sz="2400"/>
            </a:b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едагогов на соответствие занимаемой дол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Работодатель после 1 января 2011 года не обязан сразу направлять представления в аттестационную комиссию на всех педагогических работников, не имеющих квалификационных категорий,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для прохождения ими аттестации с целью подтверждения соответствия их занимаемым должностям - 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необходимость и сроки представления педагогических работников для прохождения ими аттестации с целью подтверждения соответствия  занимаемой  должности определяется работодател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редставление на аттестацию на соответствие занимаемой должности 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из Разъяснений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6022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работник выполняет педагогическую работу в разных должностях у одного работодател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ни по одной из них не имеет  квалификационной категории,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то представление может содержа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тивированную всестороннюю и объективную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оценк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сиональных, деловых качеств педагогического работника, результатов его профессиональной деятельности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по всем должностям</a:t>
            </a:r>
            <a:r>
              <a:rPr b="0" lang="ru-RU" sz="1600" spc="-1" strike="noStrike">
                <a:solidFill>
                  <a:srgbClr val="3399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которых выполняется педагогическая рабо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05520" y="1523880"/>
            <a:ext cx="3581280" cy="4572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Если педагогическая работа осуществляется у разных работодателей, то каждый из них вправе направить в аттестационную комиссию соответствующее представ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одатель, у  которого педагогическая работа выполняется работником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по совместительств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вправе представить  такого работника  к  аттестации  с целью подтверждения соответствия занимаемой должности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независимо от того, что по основному месту работы работник такую аттестацию проше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Для проведения аттестации на соответствие уровня квалификации педагога требованиям первой или высшей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атывается методика диагностики уровня квалификации педагогических кадров (к ноябрю 2010г. рабочей группой при МОН Р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этап – самооценка педаго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72 вопрос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этап – экспертная оценка компетентности педаго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90 вопрос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в области постановки целей и задач педагогической деятельн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в области мотивации учебной деятельн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в области информационной основы педагогической деятельн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в области разработки программ и принятия педагогических реше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в области организации учебной деятельн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личностные качества педаг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е экспертной оценки –анализ урочной, внеурочной деятельности педагога, результаты достижений педагога и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запись в трудовую книжку педагогического</a:t>
            </a:r>
            <a:r>
              <a:rPr b="1" i="1" lang="ru-RU" sz="4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работника в связи с установлением ему квалификационной 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Пунктом 3.1 Инструкции по заполнению трудовых книжек (приложение № 1 к постановлению Минтруда России от 10 октября 2003 г. № 69 «Об утверждении Инструкции по заполнению трудовых книжек»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едусмотрено, что если работнику в период работы присваивается новый разряд (класс, категория и т.п.), то об этом в установленном порядке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производится соответствующая запи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пример, учителю математики (преподавателю) установлена высшая квалификационная категория. В этом случае в трудовой книж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графе 1 раздела «Сведения о работе» ставится порядковый номер записи, в графе 2 указывается дата принятия решения аттестационной комиссии, в графе 3 делается запись: «Установлена высшая квалификационная категория по должности «учитель» («преподаватель») без указания преподаваемого предмета, в графе 4 указывается дата и номер распорядительного акта органа исполнительной власти субъекта РФ, осуществляющего управление в сфере образования, приказа образовательного учреждения, на основании которого внесена запи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При трудоустройстве  в другое образовательное учреждение, при переезде в другой населенный пункт, другой субъект РФ  наличие у педагогического работника  квалификационной категории, а также срок ее действия  подтверждается записью в трудовой книжке работника (ему могут быть выданы копи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ттестационного листа и выписки из распорядительного акта органа исполнительной власти субъекта РФ, осуществляющего управление в сфере образования)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и 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Работник имел первую квалификационную категорию, но срок ее действия истек, вправе  ли он обратиться в аттестационную комиссию для установления высшей квалификационной категор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, не вправе, поскольку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претендовать на высшую квалификационную категорию  согласно заявлению  может педагогический работник, имеющий первую квалификационную категорию, если  срок ее действия не истек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ко педагогическому работнику следует иметь в виду, что для сохранения уровня оплаты труда с учетом ранее имевшейся квалификационной категории, ему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целесообразно обратиться в аттестационную комиссию заранее,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но не позднее чем за три месяца до окончания срока действия имеющейся квалификационной категории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, учитывая, что  для рассмотрения  заявления отведен один месяц, а для проведения аттестации – два меся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Порядок аттестации педагогических работников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яет правила проведения аттестации педагогических работников государственных и муниципальных образовательных учреждений,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реализующих основные образовательные программы</a:t>
            </a: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дошкольного,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начального общего, основного общего, среднего (полного) общего образования,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начального профессионального и среднего профессионального образования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дополнительные образовательные програм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5105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ядком аттестации педагогических работников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не предусматривается установление  централизованных сроков подачи заявлений работниками и периода  проведения аттестации в течение года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К педагогическим работникам относятся лица,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занимающие должности, отнесенные к профессиональной квалификационной группе должностей педагогических работников, утвержденной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Приказом Министерства здравоохранения и социального развития Российской Федерации от 5 мая 2008 г. N 216н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"Об утверждении профессиональных квалификационных групп должностей работников образования"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"/>
              </a:rPr>
              <a:t>Цели аттес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становление соответствия уровня квалификации педагогических работников требованиям, предъявляемым к квалификационным категориям (первой или высшей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тверждение соответствия педагогических работников занимаемым ими должностям на основе оценки их профессиональной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"/>
              </a:rPr>
              <a:t>Задачи аттес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имулирование целенаправленного, непрерывного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повышения уровня квалификации педагогических работников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их методологической культуры, личностного профессионального роста, использования ими современных педагогических технолог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вышение эффективности и качества педагогического тр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выявление перспектив использования потенциальных возможностей педагогических работников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ет требований федеральных государственных образовательных стандартов к кадровым условиям реализации образовательных программ при формировании кадрового состава образовательных учрежд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пределение необходимости повышения квалификации педагогических рабо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обеспечение дифференциации уровня оплаты труда педагогических работников (учет при НСОТ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Принципы аттес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ллегиаль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лас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крытость, обеспечивающие объективное отношение к педагогическим работника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допустимость дискриминации при проведении аттест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Аттестационная комисс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п.п.5-16 Поряд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ется на уровне субъекта РФ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 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седатель комисс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меститель председателя комисс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кретарь комисс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лены комиссии - представит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органов государственной власти субъекта РФ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органов местного самоуправл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профессионального союз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научных организац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общественных объедин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органов самоуправления образовательны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реждений (советов образовательных учрежде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печительских советов, педагогических советов и др.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работников образовательных учрежд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ля проведения аттестации с целью подтверждения соответствия педагогического работника занимаемой должности (п.6 Порядка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в состав аттестационной комиссии в обязательном порядке включается представитель выборного органа соответствующей первичной профсоюзной организации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образовательного учреждения, в котором работает данный педагогический работник (иной уполномоченный первичной профсоюзной организацией образовательного учреждения профсоюзный представитель) –</a:t>
            </a:r>
            <a:r>
              <a:rPr b="1" i="1" lang="ru-RU" sz="1800" spc="-1" strike="noStrike">
                <a:solidFill>
                  <a:srgbClr val="00cc00"/>
                </a:solidFill>
                <a:latin typeface="Arial"/>
              </a:rPr>
              <a:t>за чей счет?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Предлагаем уполномочить представлять интересы работника представителя областного совета профсоюза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(вместе с представлением на работника в АК направляется выписка из решения профком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…профком постановил: уполномочить представлять интересы Ивановой М.И., учителя математики МОУ «СОШ № 4 г. Вельска» при аттестации  на подтверждение соответствия занимаемой должности представителя областного совет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союза …»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 или – аналогичное решение 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легировании  представителя выборного органа соответствующей первичной профсоюзной организации образовательного учреждения, в котором работает данный педагогический работник 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17T15:01:42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