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24A-30A0-45E2-B796-1747BF21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4E2-9D3D-4748-8ADF-344CF4FE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401-670C-4E73-9C07-9BB9F64A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FD9-E84D-47C6-81AA-5390BD6E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40004-44E0-46EB-8A1C-C642F51F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21C8B-1787-47AB-B349-F4C839AE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68B7F-B199-4A5D-9A6C-2FFABE6B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074BF-C0FC-4D64-9953-C4D166E0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47050-C158-4333-8A0F-41F0B10D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BEF16-56F6-447F-877D-D1E53074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3A0C0-C526-450F-8FF7-F05DE64D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AF4-A57C-4EDD-964A-A8A5E31A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BC0C6-B5F6-4D78-B4D4-DC19DAA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8C781-73D9-4128-AD11-C6D3E147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84457-7143-45D9-B8C5-1047F9DB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527CE-F836-4B67-B08A-93DE2FB6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B8AE1-BCF0-4A69-8F94-88A989FF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13C-5940-4581-B7C1-19E774E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C27-5E44-4690-B74C-132D731D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F38-2D53-4057-91F5-F5317E99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438-7F8E-4557-B0EE-92BF0EE8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D0E-375A-4ED5-BF1D-ADE306B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A17-B09C-4254-BB9C-F2D7BB19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A94-334F-422C-A8F7-F3DDAA6D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5CE1-0769-4F0C-BD26-83C9F0C72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7F12-5A8E-4F2B-8E15-B63B644514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14300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Виды искусств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457200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полнила Бримжанова Екатерина 8 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3132000" y="189000"/>
            <a:ext cx="27813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зы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2" name="Picture 6" descr="2374"/>
          <p:cNvPicPr/>
          <p:nvPr/>
        </p:nvPicPr>
        <p:blipFill>
          <a:blip r:embed="rId1"/>
          <a:stretch/>
        </p:blipFill>
        <p:spPr>
          <a:xfrm>
            <a:off x="2268360" y="2205000"/>
            <a:ext cx="3862440" cy="3979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g0503"/>
          <p:cNvPicPr/>
          <p:nvPr/>
        </p:nvPicPr>
        <p:blipFill>
          <a:blip r:embed="rId2"/>
          <a:stretch/>
        </p:blipFill>
        <p:spPr>
          <a:xfrm>
            <a:off x="6372360" y="3860640"/>
            <a:ext cx="2474640" cy="255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g0503"/>
          <p:cNvPicPr/>
          <p:nvPr/>
        </p:nvPicPr>
        <p:blipFill>
          <a:blip r:embed="rId3"/>
          <a:stretch/>
        </p:blipFill>
        <p:spPr>
          <a:xfrm>
            <a:off x="179280" y="404640"/>
            <a:ext cx="19861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2268360" y="333360"/>
            <a:ext cx="352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5" descr="803"/>
          <p:cNvPicPr/>
          <p:nvPr/>
        </p:nvPicPr>
        <p:blipFill>
          <a:blip r:embed="rId1"/>
          <a:stretch/>
        </p:blipFill>
        <p:spPr>
          <a:xfrm>
            <a:off x="2500200" y="1714680"/>
            <a:ext cx="3552840" cy="476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g20072"/>
          <p:cNvPicPr/>
          <p:nvPr/>
        </p:nvPicPr>
        <p:blipFill>
          <a:blip r:embed="rId2"/>
          <a:stretch/>
        </p:blipFill>
        <p:spPr>
          <a:xfrm>
            <a:off x="6056280" y="4497480"/>
            <a:ext cx="30877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328760" y="692280"/>
            <a:ext cx="6843600" cy="31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ранственно-временны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3348000" y="260280"/>
            <a:ext cx="245916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атр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5" descr="876"/>
          <p:cNvPicPr/>
          <p:nvPr/>
        </p:nvPicPr>
        <p:blipFill>
          <a:blip r:embed="rId1"/>
          <a:stretch/>
        </p:blipFill>
        <p:spPr>
          <a:xfrm>
            <a:off x="1857240" y="2214720"/>
            <a:ext cx="57340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3203640" y="333360"/>
            <a:ext cx="24526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и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2" name="Picture 5" descr="Антикиллер"/>
          <p:cNvPicPr/>
          <p:nvPr/>
        </p:nvPicPr>
        <p:blipFill>
          <a:blip r:embed="rId1"/>
          <a:stretch/>
        </p:blipFill>
        <p:spPr>
          <a:xfrm>
            <a:off x="1571760" y="178596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3203640" y="0"/>
            <a:ext cx="288108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ец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5" descr="g0930"/>
          <p:cNvPicPr/>
          <p:nvPr/>
        </p:nvPicPr>
        <p:blipFill>
          <a:blip r:embed="rId3"/>
          <a:stretch/>
        </p:blipFill>
        <p:spPr>
          <a:xfrm>
            <a:off x="3348000" y="1484280"/>
            <a:ext cx="30243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858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скусство- часть духовной культуры человека, специфический род духовно-практического освоения м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3071880" y="428760"/>
            <a:ext cx="302400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ус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g0936"/>
          <p:cNvPicPr/>
          <p:nvPr/>
        </p:nvPicPr>
        <p:blipFill>
          <a:blip r:embed="rId1"/>
          <a:stretch/>
        </p:blipFill>
        <p:spPr>
          <a:xfrm>
            <a:off x="5076720" y="2060640"/>
            <a:ext cx="3905280" cy="461952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2627280" y="260280"/>
            <a:ext cx="33814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искусств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971640" y="1989000"/>
            <a:ext cx="597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.Пластические или пространственны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12"/>
          <p:cNvSpPr txBox="1"/>
          <p:nvPr/>
        </p:nvSpPr>
        <p:spPr>
          <a:xfrm>
            <a:off x="1042920" y="3573360"/>
            <a:ext cx="3168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.Временны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13"/>
          <p:cNvSpPr txBox="1"/>
          <p:nvPr/>
        </p:nvSpPr>
        <p:spPr>
          <a:xfrm>
            <a:off x="971640" y="4724280"/>
            <a:ext cx="6121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.Пространственно-временны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611280" y="692280"/>
            <a:ext cx="7753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стические или пространственные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5" descr="763"/>
          <p:cNvPicPr/>
          <p:nvPr/>
        </p:nvPicPr>
        <p:blipFill>
          <a:blip r:embed="rId1"/>
          <a:stretch/>
        </p:blipFill>
        <p:spPr>
          <a:xfrm>
            <a:off x="2627280" y="1876320"/>
            <a:ext cx="4095720" cy="498168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4140360" y="1916280"/>
            <a:ext cx="2543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ульптуры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844"/>
          <p:cNvPicPr/>
          <p:nvPr/>
        </p:nvPicPr>
        <p:blipFill>
          <a:blip r:embed="rId1"/>
          <a:stretch/>
        </p:blipFill>
        <p:spPr>
          <a:xfrm>
            <a:off x="2411280" y="1700280"/>
            <a:ext cx="4095720" cy="467676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2195640" y="620640"/>
            <a:ext cx="43923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пис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8" name="Picture 6" descr="g06068"/>
          <p:cNvPicPr/>
          <p:nvPr/>
        </p:nvPicPr>
        <p:blipFill>
          <a:blip r:embed="rId2"/>
          <a:stretch/>
        </p:blipFill>
        <p:spPr>
          <a:xfrm>
            <a:off x="250920" y="3789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06068"/>
          <p:cNvPicPr/>
          <p:nvPr/>
        </p:nvPicPr>
        <p:blipFill>
          <a:blip r:embed="rId3"/>
          <a:stretch/>
        </p:blipFill>
        <p:spPr>
          <a:xfrm>
            <a:off x="6804000" y="3573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g06068"/>
          <p:cNvPicPr/>
          <p:nvPr/>
        </p:nvPicPr>
        <p:blipFill>
          <a:blip r:embed="rId4"/>
          <a:stretch/>
        </p:blipFill>
        <p:spPr>
          <a:xfrm>
            <a:off x="6588000" y="404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g06068"/>
          <p:cNvPicPr/>
          <p:nvPr/>
        </p:nvPicPr>
        <p:blipFill>
          <a:blip r:embed="rId5"/>
          <a:stretch/>
        </p:blipFill>
        <p:spPr>
          <a:xfrm>
            <a:off x="324000" y="6922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Супер"/>
          <p:cNvPicPr/>
          <p:nvPr/>
        </p:nvPicPr>
        <p:blipFill>
          <a:blip r:embed="rId1"/>
          <a:stretch/>
        </p:blipFill>
        <p:spPr>
          <a:xfrm>
            <a:off x="428760" y="333360"/>
            <a:ext cx="8289720" cy="62182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580000" y="692280"/>
            <a:ext cx="2737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рхитектур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Франция"/>
          <p:cNvPicPr/>
          <p:nvPr/>
        </p:nvPicPr>
        <p:blipFill>
          <a:blip r:embed="rId1"/>
          <a:stretch/>
        </p:blipFill>
        <p:spPr>
          <a:xfrm>
            <a:off x="428760" y="571680"/>
            <a:ext cx="827856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flores098"/>
          <p:cNvPicPr/>
          <p:nvPr/>
        </p:nvPicPr>
        <p:blipFill>
          <a:blip r:embed="rId1"/>
          <a:stretch/>
        </p:blipFill>
        <p:spPr>
          <a:xfrm>
            <a:off x="428760" y="2143080"/>
            <a:ext cx="8165880" cy="4084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3500280" y="357120"/>
            <a:ext cx="223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зай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3262320" y="1844640"/>
            <a:ext cx="34704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ременны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3:25:28Z</dcterms:created>
  <dc:creator>User</dc:creator>
  <dc:description/>
  <dc:language>en-US</dc:language>
  <cp:lastModifiedBy>Admin</cp:lastModifiedBy>
  <dcterms:modified xsi:type="dcterms:W3CDTF">2011-09-29T16:32:12Z</dcterms:modified>
  <cp:revision>5</cp:revision>
  <dc:subject/>
  <dc:title>Искусство</dc:title>
</cp:coreProperties>
</file>