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4.wmf" ContentType="image/x-wmf"/>
  <Override PartName="/ppt/media/camera.wav" ContentType="audio/x-wav"/>
  <Override PartName="/ppt/media/chimes.wav" ContentType="audio/x-wav"/>
  <Override PartName="/ppt/media/j0214098.wav" ContentType="audio/x-wav"/>
  <Override PartName="/ppt/media/wind.wav" ContentType="audio/x-wav"/>
  <Override PartName="/ppt/media/image1.jpeg" ContentType="image/jpeg"/>
  <Override PartName="/ppt/media/push.wav" ContentType="audio/x-wav"/>
  <Override PartName="/ppt/media/drumroll.wav" ContentType="audio/x-wav"/>
  <Override PartName="/ppt/media/image3.jpeg" ContentType="image/jpeg"/>
  <Override PartName="/ppt/media/applause.wav" ContentType="audio/x-wav"/>
  <Override PartName="/ppt/media/cashreg.wav" ContentType="audio/x-wav"/>
  <Override PartName="/ppt/media/hammer.wav" ContentType="audio/x-wav"/>
  <Override PartName="/ppt/media/image8.wmf" ContentType="image/x-wmf"/>
  <Override PartName="/ppt/media/type.wav" ContentType="audio/x-wav"/>
  <Override PartName="/ppt/media/laser.wav" ContentType="audio/x-wav"/>
  <Override PartName="/ppt/media/image9.wmf" ContentType="image/x-wmf"/>
  <Override PartName="/ppt/media/image7.wmf" ContentType="image/x-wmf"/>
  <Override PartName="/ppt/media/image6.wmf" ContentType="image/x-wmf"/>
  <Override PartName="/ppt/media/explode.wav" ContentType="audio/x-wav"/>
  <Override PartName="/ppt/media/voltage.wav" ContentType="audio/x-wav"/>
  <Override PartName="/ppt/media/coin.wav" ContentType="audio/x-wav"/>
  <Override PartName="/ppt/media/arrow.wav" ContentType="audio/x-wav"/>
  <Override PartName="/ppt/media/image5.png" ContentType="image/png"/>
  <Override PartName="/ppt/media/whoosh.wav" ContentType="audio/x-wav"/>
  <Override PartName="/ppt/media/image2.png" ContentType="image/png"/>
  <Override PartName="/ppt/media/image10.wmf" ContentType="image/x-wmf"/>
  <Override PartName="/ppt/media/ELPHRG0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CD3C-C810-4CC9-ADB0-D8138791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6CF2-DD01-41A0-91EC-0CDEB00C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49E8-CC32-4C4C-AC0D-FB40224A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F2CD-4D83-48BB-9660-EF1321D7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C2C4-FD97-4687-9373-68C65299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2D18-1EB1-4E28-BD92-1705771C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B090-DFE4-4B69-A4B1-F3801674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4982-D13A-47AB-A532-D119A399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D9A8-BCDA-48CB-8D4D-FDD0C256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A9B8-E8C0-4DC5-A86B-62EC444F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6C83-7CBE-447D-A38F-C1DA0AB5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95D9-AAD6-4091-9833-BFC6AD21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AE1C-2E18-46C2-B085-752200D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551E-C9EB-4D11-ADF7-16BAE20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87D8-C90E-495B-92E5-A1C68C1E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AD10-9849-4B23-BFDF-808666AF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E758-B937-4C21-A3D3-A9219A95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642F-1879-49EE-9A63-B5B5F6F9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8C1C-941E-4D7C-BF9D-1713EDA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4D08-4C60-47F2-B0F7-E492523D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EA55-0CDE-4F3F-9081-EAB00BD9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C58C-0E1B-412E-BF29-7BCC6EF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5AA2-41E5-4F6C-8B5B-FA14731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0AFC-496C-43F0-825D-DB8FF10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5451-3EF7-40DE-A386-0143F17DE4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CD7E-F70D-46CE-AA3E-A890B439B4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oin.wav"/><Relationship Id="rId3" Type="http://schemas.openxmlformats.org/officeDocument/2006/relationships/audio" Target="../media/drumroll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oin.wav"/><Relationship Id="rId3" Type="http://schemas.openxmlformats.org/officeDocument/2006/relationships/audio" Target="../media/arrow.wav"/><Relationship Id="rId4" Type="http://schemas.openxmlformats.org/officeDocument/2006/relationships/audio" Target="../media/explod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oin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ELPHRG01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oin.wav"/><Relationship Id="rId3" Type="http://schemas.openxmlformats.org/officeDocument/2006/relationships/audio" Target="../media/drumroll.wav"/><Relationship Id="rId4" Type="http://schemas.openxmlformats.org/officeDocument/2006/relationships/audio" Target="../media/j0214098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drumroll.wav"/><Relationship Id="rId3" Type="http://schemas.openxmlformats.org/officeDocument/2006/relationships/audio" Target="../media/ELPHRG01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D7C0-2EAA-406F-B3DD-D0044E3FE1F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звитие логического мышления на уроках математи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делать учебную работу насколько возможно интересной для ребёнка и не превратить этой работы в забаву – это одна из труднейших и важнейших задач дидак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 : учитель математики и информатики Ушанкова А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81"/>
          <p:cNvSpPr/>
          <p:nvPr/>
        </p:nvSpPr>
        <p:spPr>
          <a:xfrm>
            <a:off x="3111480" y="419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1000">
    <p:zoom dir="out"/>
    <p:sndAc>
      <p:stSnd>
        <p:snd r:embed="rId1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CA12-38F0-422D-B265-4C9A934ACB9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ометрия в пространстве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в целом, как и её основные составляющие- фигуры, логика и практическая применимость- позволяют учителю гармонично развивать образное и логическое мышление ребёнка любого возраста, прививать ему навыки практи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6000">
    <p:zoom dir="out"/>
    <p:sndAc>
      <p:stSnd>
        <p:snd r:embed="rId1" name="coin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91B8-93CB-4BD4-A1EE-E2113E015E3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тереозрение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6" descr="027"/>
          <p:cNvPicPr/>
          <p:nvPr/>
        </p:nvPicPr>
        <p:blipFill>
          <a:blip r:embed="rId1"/>
          <a:stretch/>
        </p:blipFill>
        <p:spPr>
          <a:xfrm>
            <a:off x="539640" y="1700280"/>
            <a:ext cx="8207640" cy="4681440"/>
          </a:xfrm>
          <a:prstGeom prst="rect">
            <a:avLst/>
          </a:prstGeom>
          <a:ln w="0">
            <a:noFill/>
          </a:ln>
        </p:spPr>
      </p:pic>
    </p:spTree>
  </p:cSld>
  <p:transition spd="med" advTm="46000">
    <p:zoom dir="out"/>
    <p:sndAc>
      <p:stSnd>
        <p:snd r:embed="rId2" name="coin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1F96-F367-4CE7-A3FB-4305ACCC897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дачи – шутк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первый взгляд эти задачи очень простые, но нельзя спешить быстро дать ответ- он может оказаться неверным. Правильное решение таких задач чаще всего не требует никаких дополнительных знаний,- главное внимательно читать условие задачи и постараться миновать расставленные ловуш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zoom dir="out"/>
    <p:sndAc>
      <p:stSnd>
        <p:snd r:embed="rId1" name="coin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1BA-2931-4551-9B80-0B86EEC7D1B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Математик, который не является поэтом, никогда не достигнет совершенства в математике</a:t>
            </a: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382752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игр старше дикобраза в два с половиной раз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сведениям удода тому назад три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емь раз он старше бы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 дикобра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тите всё и взвесьт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лько же им вместе?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вольте мне спросить у ва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j0332364"/>
          <p:cNvPicPr/>
          <p:nvPr/>
        </p:nvPicPr>
        <p:blipFill>
          <a:blip r:embed="rId1"/>
          <a:stretch/>
        </p:blipFill>
        <p:spPr>
          <a:xfrm>
            <a:off x="4427640" y="2205000"/>
            <a:ext cx="3743280" cy="301932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zoom dir="out"/>
    <p:sndAc>
      <p:stSnd>
        <p:snd r:embed="rId2" name="coin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91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86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51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FBD2-8D20-4F9C-A04F-4A43285E53D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ключение в урок математических героев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рок вводится какой-либо математический герой, который или решает задание, или предлагает его для решения, или придумывает фокусы и т. д. Иногда вводятся два героя: один сообразительный, а другой невниматель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6000">
    <p:zoom dir="out"/>
    <p:sndAc>
      <p:stSnd>
        <p:snd r:embed="rId1" name="coin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3A7A-C7A4-465C-A99E-13454437935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Творческим считается любое действие, которое эффективно и вызывает удивление.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ка- это поэзия. Казалось бы сказка и математика- понятия не совместимые. Яркий сказочный образ и сухая абстрактная мысль! Но часто решать такие задачи очень увлекательно, хочется помочь попавшему в беду любимому герою. Красота решения, неожиданный поворот мысли, логика рассуждений- всё это усиливает интерес к этим задач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355640" y="1483920"/>
            <a:ext cx="4017960" cy="453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j0305493"/>
          <p:cNvPicPr/>
          <p:nvPr/>
        </p:nvPicPr>
        <p:blipFill>
          <a:blip r:embed="rId2"/>
          <a:stretch/>
        </p:blipFill>
        <p:spPr>
          <a:xfrm>
            <a:off x="4716360" y="1628640"/>
            <a:ext cx="1809720" cy="1486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j0332364"/>
          <p:cNvPicPr/>
          <p:nvPr/>
        </p:nvPicPr>
        <p:blipFill>
          <a:blip r:embed="rId3"/>
          <a:stretch/>
        </p:blipFill>
        <p:spPr>
          <a:xfrm>
            <a:off x="6156360" y="3933720"/>
            <a:ext cx="1830240" cy="1474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j0149481"/>
          <p:cNvPicPr/>
          <p:nvPr/>
        </p:nvPicPr>
        <p:blipFill>
          <a:blip r:embed="rId4"/>
          <a:stretch/>
        </p:blipFill>
        <p:spPr>
          <a:xfrm>
            <a:off x="4211640" y="3933720"/>
            <a:ext cx="2144880" cy="217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j0183290"/>
          <p:cNvPicPr/>
          <p:nvPr/>
        </p:nvPicPr>
        <p:blipFill>
          <a:blip r:embed="rId5"/>
          <a:stretch/>
        </p:blipFill>
        <p:spPr>
          <a:xfrm>
            <a:off x="5435640" y="2708280"/>
            <a:ext cx="1724040" cy="184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j0216588"/>
          <p:cNvPicPr/>
          <p:nvPr/>
        </p:nvPicPr>
        <p:blipFill>
          <a:blip r:embed="rId6"/>
          <a:stretch/>
        </p:blipFill>
        <p:spPr>
          <a:xfrm>
            <a:off x="6732720" y="1557360"/>
            <a:ext cx="1609560" cy="1808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j0299125"/>
          <p:cNvPicPr/>
          <p:nvPr/>
        </p:nvPicPr>
        <p:blipFill>
          <a:blip r:embed="rId7"/>
          <a:stretch/>
        </p:blipFill>
        <p:spPr>
          <a:xfrm>
            <a:off x="4284720" y="2205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zoom dir="out"/>
    <p:sndAc>
      <p:stSnd>
        <p:snd r:embed="rId8" name="coin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B46A-AE50-4767-A0D7-F837FB1D6F2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 процессе решения каждой задачи надо чётко различать четыре этап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84" name="Organization Chart 7"/>
          <p:cNvGrpSpPr/>
          <p:nvPr/>
        </p:nvGrpSpPr>
        <p:grpSpPr>
          <a:xfrm>
            <a:off x="1332000" y="1844640"/>
            <a:ext cx="6336360" cy="4462560"/>
            <a:chOff x="1332000" y="1844640"/>
            <a:chExt cx="6336360" cy="4462560"/>
          </a:xfrm>
        </p:grpSpPr>
        <p:cxnSp>
          <p:nvCxnSpPr>
            <p:cNvPr id="185" name="_s1028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162400" y="2966040"/>
              <a:ext cx="893160" cy="221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88" name="_s1029"/>
            <p:cNvCxnSpPr>
              <a:stCxn id="189" idx="0"/>
              <a:endCxn id="187" idx="2"/>
            </p:cNvCxnSpPr>
            <p:nvPr/>
          </p:nvCxnSpPr>
          <p:spPr>
            <a:xfrm flipV="1">
              <a:off x="4500000" y="3628800"/>
              <a:ext cx="2520" cy="893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0" name="_s1030"/>
            <p:cNvCxnSpPr>
              <a:stCxn id="191" idx="0"/>
              <a:endCxn id="187" idx="2"/>
            </p:cNvCxnSpPr>
            <p:nvPr/>
          </p:nvCxnSpPr>
          <p:spPr>
            <a:xfrm flipH="1" flipV="1" rot="5400000">
              <a:off x="2944800" y="2966400"/>
              <a:ext cx="893160" cy="22183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87" name="_s1031"/>
            <p:cNvSpPr/>
            <p:nvPr/>
          </p:nvSpPr>
          <p:spPr>
            <a:xfrm>
              <a:off x="3549600" y="184464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Изучен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Услов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задачи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_s1032"/>
            <p:cNvSpPr/>
            <p:nvPr/>
          </p:nvSpPr>
          <p:spPr>
            <a:xfrm>
              <a:off x="133200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оиск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лана реш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и ег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оставлен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_s1033"/>
            <p:cNvSpPr/>
            <p:nvPr/>
          </p:nvSpPr>
          <p:spPr>
            <a:xfrm>
              <a:off x="354960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форм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найденног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ш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>
              <a:off x="5767560" y="4522320"/>
              <a:ext cx="1900800" cy="17848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Критический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анализ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зульта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реше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med" advTm="27000">
    <p:zoom dir="out"/>
    <p:sndAc>
      <p:stSnd>
        <p:snd r:embed="rId1" name="coin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3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1E8A-9B3A-46D1-940B-2E3F7AA1EF2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ёмы логической мыслительной деятельности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ычный подход к рассмотрению вопро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иск ассоци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нос идеи из другой области зн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Игра» с объектами и иде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5000">
    <p:zoom dir="out"/>
    <p:sndAc>
      <p:stSnd>
        <p:snd r:embed="rId1" name="coin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3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3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3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3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8356-9075-4984-BE7B-55515A6BC1F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ёмы развития логического мышления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ие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матические головолом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вые ребус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в пространст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чи- шут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ение в урок математических геро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1000">
    <p:zoom dir="out"/>
    <p:sndAc>
      <p:stSnd>
        <p:snd r:embed="rId1" name="coin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3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3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3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3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234E-C550-48D3-BB5C-BCE1CAFD5DA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идактические игры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игре всегда содержится элемент неожиданности и необычности, решается какая-либо задача, проблема, т. е. игра выполняет на уроке те же функции, что и занимательная задача. Очень часто здесь присутствует соревновательный элемент и возможности для создания игровых ситуаций чрезвычайно вел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5000">
    <p:zoom dir="out"/>
    <p:sndAc>
      <p:stSnd>
        <p:snd r:embed="rId1" name="coin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4D01-E223-4426-ADFB-1AF63D15C75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гра в – 66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ют двое. Первый записывает любое целое отрицательное число, большее -10, второй, устно прибавив к нему целое отрицательное число, большее -10, записывает сумму, первый к этой сумме устно прибавляет целое отрицательное число, большее -10, и записывает сумму и т. д. Побеждает тот, кто запишет число -66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Безымянный2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med" advTm="31000">
    <p:zoom dir="out"/>
    <p:sndAc>
      <p:stSnd>
        <p:snd r:embed="rId2" name="coin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9A58-0CC5-4A9B-B412-6A59939A935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тематические головоломк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е достоинство подобных заданий- они требуют от ученика выделения существенных связей между компонентами заданий, при этом часто происходит смена хода мысли учеников на обратный, что увеличивает свободу действий ученика, которая в обычных условиях достигается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zoom dir="out"/>
    <p:sndAc>
      <p:stSnd>
        <p:snd r:embed="rId1" name="coin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7" presetSubtype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A722-EA05-4E39-9998-AEB1091893A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атематические головоломки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ежьте 16 одинаковых квадратов 4-х цветов – по 4 квадрата каждого цвета. На 4-х квадратах каждого цвета напишите цифры 1, 2, 3, 4. Сложите теперь квадрат так, чтобы одинаковые цифры и одинаковые цвета не повторялись ни в строках, ни в столбцах, ни на диагоналях квадр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1"/>
          <p:cNvPicPr/>
          <p:nvPr/>
        </p:nvPicPr>
        <p:blipFill>
          <a:blip r:embed="rId1"/>
          <a:stretch/>
        </p:blipFill>
        <p:spPr>
          <a:xfrm>
            <a:off x="4648320" y="1628640"/>
            <a:ext cx="4038480" cy="446436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zoom dir="out"/>
    <p:sndAc>
      <p:stSnd>
        <p:snd r:embed="rId2" name="coin.wav"/>
      </p:stSnd>
    </p:sndAc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9D6F-8739-4636-8647-2F7C248D9C2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Числовые ребусы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этом логическом приёме используются зашифрованные задания,  требующие рассуждений, обратных тем, к которым привыкли ученики. Фактически числовые ребусы есть ни что иное, как клубок логических связей, который надо распу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6000">
    <p:zoom dir="out"/>
    <p:sndAc>
      <p:stSnd>
        <p:snd r:embed="rId1" name="coin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LPHR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42EB-872C-47F7-B5EB-C33311C034C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усский язык + математика = логик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             вагон        дета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 один          + вагон     + дета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--------          ----------     -------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о            состав      издел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место одинаковых букв надо вставить одинаковые цифры так, чтобы получилось верное равен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1000">
    <p:zoom dir="out"/>
    <p:sndAc>
      <p:stSnd>
        <p:snd r:embed="rId1" name="coin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3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70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3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3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78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3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2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3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16:15:47Z</dcterms:created>
  <dc:creator>Ушанков </dc:creator>
  <dc:description/>
  <dc:language>en-US</dc:language>
  <cp:lastModifiedBy>Admin</cp:lastModifiedBy>
  <dcterms:modified xsi:type="dcterms:W3CDTF">2012-01-19T12:17:58Z</dcterms:modified>
  <cp:revision>5</cp:revision>
  <dc:subject/>
  <dc:title>Развитие логического мышления на уроках математики.</dc:title>
</cp:coreProperties>
</file>