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4.wmf" ContentType="image/x-wmf"/>
  <Override PartName="/ppt/media/camera.wav" ContentType="audio/x-wav"/>
  <Override PartName="/ppt/media/chimes.wav" ContentType="audio/x-wav"/>
  <Override PartName="/ppt/media/j0214098.wav" ContentType="audio/x-wav"/>
  <Override PartName="/ppt/media/wind.wav" ContentType="audio/x-wav"/>
  <Override PartName="/ppt/media/image1.jpeg" ContentType="image/jpeg"/>
  <Override PartName="/ppt/media/push.wav" ContentType="audio/x-wav"/>
  <Override PartName="/ppt/media/drumroll.wav" ContentType="audio/x-wav"/>
  <Override PartName="/ppt/media/image3.jpeg" ContentType="image/jpeg"/>
  <Override PartName="/ppt/media/applause.wav" ContentType="audio/x-wav"/>
  <Override PartName="/ppt/media/cashreg.wav" ContentType="audio/x-wav"/>
  <Override PartName="/ppt/media/hammer.wav" ContentType="audio/x-wav"/>
  <Override PartName="/ppt/media/image8.wmf" ContentType="image/x-wmf"/>
  <Override PartName="/ppt/media/type.wav" ContentType="audio/x-wav"/>
  <Override PartName="/ppt/media/laser.wav" ContentType="audio/x-wav"/>
  <Override PartName="/ppt/media/image9.wmf" ContentType="image/x-wmf"/>
  <Override PartName="/ppt/media/image7.wmf" ContentType="image/x-wmf"/>
  <Override PartName="/ppt/media/image6.wmf" ContentType="image/x-wmf"/>
  <Override PartName="/ppt/media/explode.wav" ContentType="audio/x-wav"/>
  <Override PartName="/ppt/media/voltage.wav" ContentType="audio/x-wav"/>
  <Override PartName="/ppt/media/coin.wav" ContentType="audio/x-wav"/>
  <Override PartName="/ppt/media/arrow.wav" ContentType="audio/x-wav"/>
  <Override PartName="/ppt/media/image5.png" ContentType="image/png"/>
  <Override PartName="/ppt/media/whoosh.wav" ContentType="audio/x-wav"/>
  <Override PartName="/ppt/media/image2.png" ContentType="image/png"/>
  <Override PartName="/ppt/media/image10.wmf" ContentType="image/x-wmf"/>
  <Override PartName="/ppt/media/ELPHRG0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AA61-DFFB-448F-B714-24B203E6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9A8D-BC96-4A62-97DD-A72CD874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5E3A-59F6-4E34-8B0D-75B5B467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C6F1-8F06-424A-85FA-818841A6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EAFE-48D1-47D5-8D69-A5C1B9F2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8581-6DC3-4AF5-AF3C-0BFC867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A50B-44ED-4C74-A1C1-61992F37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EA90-751C-49FB-862E-85A68381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8E7-B03E-43CF-88F8-13AD1FC7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B0B9-0534-4700-B294-A90C9271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E274-8102-4AE9-B8F0-A0EB306C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FD96-E716-4E2D-85B5-0447961F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CDD7-42E1-4718-A20A-E74D027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C98-ED24-466A-A547-A392E1A6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ACAD-3D47-4842-9B3F-B73F75A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F40A-9D4A-43A7-98E1-DD287C42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3E22-D173-409D-8EEC-D6098DAB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9750-324B-47D0-A3DA-A93E352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58F4-C023-4164-A29E-77368C15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C082-BD1F-4FE2-85B6-F6379851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C8B2-1F8D-4469-A977-25C08CAD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40FE-98E6-46D4-B2C5-23DD5874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B045-D3A4-4E6A-9C7E-1550250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2A2F-74AF-4A49-A218-40A2CDE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DFB9-138E-4FBD-AF06-E97BFA2639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6D8A-1F0F-461F-B56B-750BA9282F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oin.wav"/><Relationship Id="rId3" Type="http://schemas.openxmlformats.org/officeDocument/2006/relationships/audio" Target="../media/arrow.wav"/><Relationship Id="rId4" Type="http://schemas.openxmlformats.org/officeDocument/2006/relationships/audio" Target="../media/explod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oin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ELPHRG01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j0214098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FE12-6AF9-4CF6-8847-658423649D4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витие логического мышления на уроках математи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делать учебную работу насколько возможно интересной для ребёнка и не превратить этой работы в забаву – это одна из труднейших и важнейших задач дидак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 : учитель математики и информатики Ушанкова А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1"/>
          <p:cNvSpPr/>
          <p:nvPr/>
        </p:nvSpPr>
        <p:spPr>
          <a:xfrm>
            <a:off x="3111480" y="419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1000">
    <p:zoom dir="out"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28B-FECB-4082-8FF1-4F469D07B5C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ометрия в пространств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в целом, как и её основные составляющие- фигуры, логика и практическая применимость- позволяют учителю гармонично развивать образное и логическое мышление ребёнка любого возраста, прививать ему навыки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2D16-951A-4894-8CFA-4205378D58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ереозрени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6" descr="027"/>
          <p:cNvPicPr/>
          <p:nvPr/>
        </p:nvPicPr>
        <p:blipFill>
          <a:blip r:embed="rId1"/>
          <a:stretch/>
        </p:blipFill>
        <p:spPr>
          <a:xfrm>
            <a:off x="539640" y="1700280"/>
            <a:ext cx="8207640" cy="468144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zoom dir="out"/>
    <p:sndAc>
      <p:stSnd>
        <p:snd r:embed="rId2" name="coin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5FCD-19C0-4D4B-A928-01DEE81807A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 – шут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первый взгляд эти задачи очень простые, но нельзя спешить быстро дать ответ- он может оказаться неверным. Правильное решение таких задач чаще всего не требует никаких дополнительных знаний,- главное внимательно читать условие задачи и постараться миновать расставленные ловуш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zoom dir="out"/>
    <p:sndAc>
      <p:stSnd>
        <p:snd r:embed="rId1" name="coin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33BE-E997-4EAF-8B36-17903650346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Математик, который не является поэтом, никогда не достигнет совершенства в математике</a:t>
            </a: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82752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игр старше дикобраза в два с половиной ра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едениям удода тому назад три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мь раз он старше бы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дикобра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тите всё и взвесьт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же им вместе?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вольте мне спросить у в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j0332364"/>
          <p:cNvPicPr/>
          <p:nvPr/>
        </p:nvPicPr>
        <p:blipFill>
          <a:blip r:embed="rId1"/>
          <a:stretch/>
        </p:blipFill>
        <p:spPr>
          <a:xfrm>
            <a:off x="4427640" y="2205000"/>
            <a:ext cx="3743280" cy="301932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zoom dir="out"/>
    <p:sndAc>
      <p:stSnd>
        <p:snd r:embed="rId2" name="coin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91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86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51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7E6-ECFF-4B23-B9E8-A8834DDA12F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ключение в урок математических героев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рок вводится какой-либо математический герой, который или решает задание, или предлагает его для решения, или придумывает фокусы и т. д. Иногда вводятся два героя: один сообразительный, а другой невнимате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DB82-1894-48B7-AFF9-0D44FBCF4C1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ворческим считается любое действие, которое эффективно и вызывает удивление.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ка- это поэзия. Казалось бы сказка и математика- понятия не совместимые. Яркий сказочный образ и сухая абстрактная мысль! Но часто решать такие задачи очень увлекательно, хочется помочь попавшему в беду любимому герою. Красота решения, неожиданный поворот мысли, логика рассуждений- всё это усиливает интерес к этим задач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355640" y="1483920"/>
            <a:ext cx="401796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j0305493"/>
          <p:cNvPicPr/>
          <p:nvPr/>
        </p:nvPicPr>
        <p:blipFill>
          <a:blip r:embed="rId2"/>
          <a:stretch/>
        </p:blipFill>
        <p:spPr>
          <a:xfrm>
            <a:off x="4716360" y="162864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j0332364"/>
          <p:cNvPicPr/>
          <p:nvPr/>
        </p:nvPicPr>
        <p:blipFill>
          <a:blip r:embed="rId3"/>
          <a:stretch/>
        </p:blipFill>
        <p:spPr>
          <a:xfrm>
            <a:off x="6156360" y="393372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j0149481"/>
          <p:cNvPicPr/>
          <p:nvPr/>
        </p:nvPicPr>
        <p:blipFill>
          <a:blip r:embed="rId4"/>
          <a:stretch/>
        </p:blipFill>
        <p:spPr>
          <a:xfrm>
            <a:off x="4211640" y="3933720"/>
            <a:ext cx="2144880" cy="217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j0183290"/>
          <p:cNvPicPr/>
          <p:nvPr/>
        </p:nvPicPr>
        <p:blipFill>
          <a:blip r:embed="rId5"/>
          <a:stretch/>
        </p:blipFill>
        <p:spPr>
          <a:xfrm>
            <a:off x="5435640" y="2708280"/>
            <a:ext cx="1724040" cy="184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j0216588"/>
          <p:cNvPicPr/>
          <p:nvPr/>
        </p:nvPicPr>
        <p:blipFill>
          <a:blip r:embed="rId6"/>
          <a:stretch/>
        </p:blipFill>
        <p:spPr>
          <a:xfrm>
            <a:off x="6732720" y="1557360"/>
            <a:ext cx="1609560" cy="1808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j0299125"/>
          <p:cNvPicPr/>
          <p:nvPr/>
        </p:nvPicPr>
        <p:blipFill>
          <a:blip r:embed="rId7"/>
          <a:stretch/>
        </p:blipFill>
        <p:spPr>
          <a:xfrm>
            <a:off x="4284720" y="2205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zoom dir="out"/>
    <p:sndAc>
      <p:stSnd>
        <p:snd r:embed="rId8" name="coin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BCA-5DB6-4864-B0CE-FA0A685BE2E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 процессе решения каждой задачи надо чётко различать четыре этап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4" name="Organization Chart 7"/>
          <p:cNvGrpSpPr/>
          <p:nvPr/>
        </p:nvGrpSpPr>
        <p:grpSpPr>
          <a:xfrm>
            <a:off x="1332000" y="1844640"/>
            <a:ext cx="6336360" cy="4462560"/>
            <a:chOff x="1332000" y="1844640"/>
            <a:chExt cx="6336360" cy="4462560"/>
          </a:xfrm>
        </p:grpSpPr>
        <p:cxnSp>
          <p:nvCxnSpPr>
            <p:cNvPr id="185" name="_s1028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162400" y="296604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8" name="_s1029"/>
            <p:cNvCxnSpPr>
              <a:stCxn id="189" idx="0"/>
              <a:endCxn id="187" idx="2"/>
            </p:cNvCxnSpPr>
            <p:nvPr/>
          </p:nvCxnSpPr>
          <p:spPr>
            <a:xfrm flipV="1">
              <a:off x="4500000" y="3628800"/>
              <a:ext cx="252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0" name="_s1030"/>
            <p:cNvCxnSpPr>
              <a:stCxn id="191" idx="0"/>
              <a:endCxn id="187" idx="2"/>
            </p:cNvCxnSpPr>
            <p:nvPr/>
          </p:nvCxnSpPr>
          <p:spPr>
            <a:xfrm flipH="1" flipV="1" rot="5400000">
              <a:off x="2944800" y="296640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7" name="_s1031"/>
            <p:cNvSpPr/>
            <p:nvPr/>
          </p:nvSpPr>
          <p:spPr>
            <a:xfrm>
              <a:off x="3549600" y="184464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зучен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_s1032"/>
            <p:cNvSpPr/>
            <p:nvPr/>
          </p:nvSpPr>
          <p:spPr>
            <a:xfrm>
              <a:off x="133200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оиск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лана 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 ег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оставлен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_s1033"/>
            <p:cNvSpPr/>
            <p:nvPr/>
          </p:nvSpPr>
          <p:spPr>
            <a:xfrm>
              <a:off x="354960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форм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найденног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>
              <a:off x="576756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Критический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анализ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зульта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 advTm="27000">
    <p:zoom dir="out"/>
    <p:sndAc>
      <p:stSnd>
        <p:snd r:embed="rId1" name="coin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3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F16-5A3B-4D67-AAA3-39A09639F5D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ёмы логической мыслительной деятельности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ычный подход к рассмотрению вопр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иск ассоци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 идеи из другой области зн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Игра» с объектами и иде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5000">
    <p:zoom dir="out"/>
    <p:sndAc>
      <p:stSnd>
        <p:snd r:embed="rId1" name="coin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6153-83AE-4F48-9166-E089EC93835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ёмы развития логического мышления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ие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ческие голово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вые ребус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в пространст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и- шу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ение в урок математических геро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1000">
    <p:zoom dir="out"/>
    <p:sndAc>
      <p:stSnd>
        <p:snd r:embed="rId1" name="coin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3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3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3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3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CBFA-D237-4820-8CC8-633FDB9F21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идактические игр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гре всегда содержится элемент неожиданности и необычности, решается какая-либо задача, проблема, т. е. игра выполняет на уроке те же функции, что и занимательная задача. Очень часто здесь присутствует соревновательный элемент и возможности для создания игровых ситуаций чрезвычайно вел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5000">
    <p:zoom dir="out"/>
    <p:sndAc>
      <p:stSnd>
        <p:snd r:embed="rId1" name="coin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504-7AF1-4FC8-A61B-FFBD6E590C0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гра в – 66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ют двое. Первый записывает любое целое отрицательное число, большее -10, второй, устно прибавив к нему целое отрицательное число, большее -10, записывает сумму, первый к этой сумме устно прибавляет целое отрицательное число, большее -10, и записывает сумму и т. д. Побеждает тот, кто запишет число -6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Безымянный2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zoom dir="out"/>
    <p:sndAc>
      <p:stSnd>
        <p:snd r:embed="rId2" name="coin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81A-80F6-4A3A-AC2F-A37C04FB8B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тематические головолом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е достоинство подобных заданий- они требуют от ученика выделения существенных связей между компонентами заданий, при этом часто происходит смена хода мысли учеников на обратный, что увеличивает свободу действий ученика, которая в обычных условиях достигается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zoom dir="out"/>
    <p:sndAc>
      <p:stSnd>
        <p:snd r:embed="rId1" name="coin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7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8F35-C89F-442E-B09B-35CB8E464DB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тематические головолом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ежьте 16 одинаковых квадратов 4-х цветов – по 4 квадрата каждого цвета. На 4-х квадратах каждого цвета напишите цифры 1, 2, 3, 4. Сложите теперь квадрат так, чтобы одинаковые цифры и одинаковые цвета не повторялись ни в строках, ни в столбцах, ни на диагоналях квадр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1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zoom dir="out"/>
    <p:sndAc>
      <p:stSnd>
        <p:snd r:embed="rId2" name="coin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C10-DF8B-4DB6-AFDE-6F0037CC526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исловые ребус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том логическом приёме используются зашифрованные задания,  требующие рассуждений, обратных тем, к которым привыкли ученики. Фактически числовые ребусы есть ни что иное, как клубок логических связей, который надо распу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7579-C94C-4CA7-B81D-DD52D186724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усский язык + математика = логи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             вагон        дет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один          + вагон     + дет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--------          ----------     -------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            состав      издел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место одинаковых букв надо вставить одинаковые цифры так, чтобы получилось верное равен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1000">
    <p:zoom dir="out"/>
    <p:sndAc>
      <p:stSnd>
        <p:snd r:embed="rId1" name="coin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3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3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78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3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2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3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16:15:47Z</dcterms:created>
  <dc:creator>Ушанков </dc:creator>
  <dc:description/>
  <dc:language>en-US</dc:language>
  <cp:lastModifiedBy>Admin</cp:lastModifiedBy>
  <dcterms:modified xsi:type="dcterms:W3CDTF">2012-01-19T12:17:58Z</dcterms:modified>
  <cp:revision>5</cp:revision>
  <dc:subject/>
  <dc:title>Развитие логического мышления на уроках математики.</dc:title>
</cp:coreProperties>
</file>