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4.wmf" ContentType="image/x-wmf"/>
  <Override PartName="/ppt/media/camera.wav" ContentType="audio/x-wav"/>
  <Override PartName="/ppt/media/chimes.wav" ContentType="audio/x-wav"/>
  <Override PartName="/ppt/media/j0214098.wav" ContentType="audio/x-wav"/>
  <Override PartName="/ppt/media/wind.wav" ContentType="audio/x-wav"/>
  <Override PartName="/ppt/media/image1.jpeg" ContentType="image/jpeg"/>
  <Override PartName="/ppt/media/push.wav" ContentType="audio/x-wav"/>
  <Override PartName="/ppt/media/drumroll.wav" ContentType="audio/x-wav"/>
  <Override PartName="/ppt/media/image3.jpeg" ContentType="image/jpeg"/>
  <Override PartName="/ppt/media/applause.wav" ContentType="audio/x-wav"/>
  <Override PartName="/ppt/media/cashreg.wav" ContentType="audio/x-wav"/>
  <Override PartName="/ppt/media/hammer.wav" ContentType="audio/x-wav"/>
  <Override PartName="/ppt/media/image8.wmf" ContentType="image/x-wmf"/>
  <Override PartName="/ppt/media/type.wav" ContentType="audio/x-wav"/>
  <Override PartName="/ppt/media/laser.wav" ContentType="audio/x-wav"/>
  <Override PartName="/ppt/media/image9.wmf" ContentType="image/x-wmf"/>
  <Override PartName="/ppt/media/image7.wmf" ContentType="image/x-wmf"/>
  <Override PartName="/ppt/media/image6.wmf" ContentType="image/x-wmf"/>
  <Override PartName="/ppt/media/explode.wav" ContentType="audio/x-wav"/>
  <Override PartName="/ppt/media/voltage.wav" ContentType="audio/x-wav"/>
  <Override PartName="/ppt/media/coin.wav" ContentType="audio/x-wav"/>
  <Override PartName="/ppt/media/arrow.wav" ContentType="audio/x-wav"/>
  <Override PartName="/ppt/media/image5.png" ContentType="image/png"/>
  <Override PartName="/ppt/media/whoosh.wav" ContentType="audio/x-wav"/>
  <Override PartName="/ppt/media/image2.png" ContentType="image/png"/>
  <Override PartName="/ppt/media/image10.wmf" ContentType="image/x-wmf"/>
  <Override PartName="/ppt/media/ELPHRG0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AC11-43E5-4225-9142-83DE3A61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4C54-BB40-4841-9D0B-F78E4F3F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5DE8-0AE5-4278-9289-810A444E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98CC-1EC6-4323-B59B-BD5C89C0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F912-41DE-4743-860C-9DF45736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60F0-BE1C-44CA-8AA7-B3900E9A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FF53-0FF7-491E-B674-97FD2AD7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7C7-3FEE-497F-8B1A-34D3C22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D6CD-2E81-48F2-9614-5FEE1E1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E476-996E-4633-A691-A964976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02B-E0EA-405E-97E8-FFC614B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D53B-08AD-4363-8C72-C64899EE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EA6-6FD4-42A8-A12C-C81B4A3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677E-A326-4C5F-AE34-DFF42F0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D547-3BF4-45F1-B5CA-F472A87E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A92-F797-4C85-B9AF-AB0D0533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A8F6-8A9F-44D9-A6C2-6B3DEA25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F951-BCE8-4CE9-A769-18A37CA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9AD7-82B2-44D5-A7AE-AE312FA1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8A96-ABF5-45EE-A512-800EA584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597F-963F-4C8B-A170-759EA54E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E1DE-981D-4368-A7B7-1FB76C0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84B1-9EAE-4F85-8626-1492068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B682-E7A6-4FE7-97DB-3F32219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71ED-6E15-4421-89CD-6DB3F38309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2814-7D09-43B2-A9F6-BD7B786743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oin.wav"/><Relationship Id="rId3" Type="http://schemas.openxmlformats.org/officeDocument/2006/relationships/audio" Target="../media/arrow.wav"/><Relationship Id="rId4" Type="http://schemas.openxmlformats.org/officeDocument/2006/relationships/audio" Target="../media/explod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oin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ELPHRG01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j0214098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70E-7128-4D0D-B7F4-95C7DE5AC0B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витие логического мышления на уроках математи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делать учебную работу насколько возможно интересной для ребёнка и не превратить этой работы в забаву – это одна из труднейших и важнейших задач дидак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 : учитель математики и информатики Ушанкова А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3111480" y="419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1000">
    <p:zoom dir="out"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DA24-C960-4303-A67F-AE7998DB20B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ометрия в пространств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в целом, как и её основные составляющие- фигуры, логика и практическая применимость- позволяют учителю гармонично развивать образное и логическое мышление ребёнка любого возраста, прививать ему навык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EEF-BF83-44CF-AD5B-BC0C4E29474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ереозрени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6" descr="027"/>
          <p:cNvPicPr/>
          <p:nvPr/>
        </p:nvPicPr>
        <p:blipFill>
          <a:blip r:embed="rId1"/>
          <a:stretch/>
        </p:blipFill>
        <p:spPr>
          <a:xfrm>
            <a:off x="539640" y="1700280"/>
            <a:ext cx="8207640" cy="468144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zoom dir="out"/>
    <p:sndAc>
      <p:stSnd>
        <p:snd r:embed="rId2" name="coin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089-A75B-448F-B006-7FAC4C46EA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 – шут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ервый взгляд эти задачи очень простые, но нельзя спешить быстро дать ответ- он может оказаться неверным. Правильное решение таких задач чаще всего не требует никаких дополнительных знаний,- главное внимательно читать условие задачи и постараться миновать расставленные ловуш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zoom dir="out"/>
    <p:sndAc>
      <p:stSnd>
        <p:snd r:embed="rId1" name="coin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B46C-4FC0-4953-AC93-0B046FC9EBB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Математик, который не является поэтом, никогда не достигнет совершенства в математике</a:t>
            </a: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2752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игр старше дикобраза в два с половиной ра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едениям удода тому назад три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 раз он старше бы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дикобра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тите всё и взвесь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же им вместе?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вольте мне спросить у в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j0332364"/>
          <p:cNvPicPr/>
          <p:nvPr/>
        </p:nvPicPr>
        <p:blipFill>
          <a:blip r:embed="rId1"/>
          <a:stretch/>
        </p:blipFill>
        <p:spPr>
          <a:xfrm>
            <a:off x="4427640" y="2205000"/>
            <a:ext cx="3743280" cy="301932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zoom dir="out"/>
    <p:sndAc>
      <p:stSnd>
        <p:snd r:embed="rId2" name="coin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91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86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51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89ED-E06A-4256-B352-EB3ED462A8C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ключение в урок математических героев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рок вводится какой-либо математический герой, который или решает задание, или предлагает его для решения, или придумывает фокусы и т. д. Иногда вводятся два героя: один сообразительный, а другой невнимате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4AB-338A-4E0A-9167-21D8FA3C2D2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ворческим считается любое действие, которое эффективно и вызывает удивление.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ка- это поэзия. Казалось бы сказка и математика- понятия не совместимые. Яркий сказочный образ и сухая абстрактная мысль! Но часто решать такие задачи очень увлекательно, хочется помочь попавшему в беду любимому герою. Красота решения, неожиданный поворот мысли, логика рассуждений- всё это усиливает интерес к этим задач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355640" y="1483920"/>
            <a:ext cx="401796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j0305493"/>
          <p:cNvPicPr/>
          <p:nvPr/>
        </p:nvPicPr>
        <p:blipFill>
          <a:blip r:embed="rId2"/>
          <a:stretch/>
        </p:blipFill>
        <p:spPr>
          <a:xfrm>
            <a:off x="4716360" y="162864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j0332364"/>
          <p:cNvPicPr/>
          <p:nvPr/>
        </p:nvPicPr>
        <p:blipFill>
          <a:blip r:embed="rId3"/>
          <a:stretch/>
        </p:blipFill>
        <p:spPr>
          <a:xfrm>
            <a:off x="6156360" y="393372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j0149481"/>
          <p:cNvPicPr/>
          <p:nvPr/>
        </p:nvPicPr>
        <p:blipFill>
          <a:blip r:embed="rId4"/>
          <a:stretch/>
        </p:blipFill>
        <p:spPr>
          <a:xfrm>
            <a:off x="4211640" y="3933720"/>
            <a:ext cx="2144880" cy="217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j0183290"/>
          <p:cNvPicPr/>
          <p:nvPr/>
        </p:nvPicPr>
        <p:blipFill>
          <a:blip r:embed="rId5"/>
          <a:stretch/>
        </p:blipFill>
        <p:spPr>
          <a:xfrm>
            <a:off x="5435640" y="270828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j0216588"/>
          <p:cNvPicPr/>
          <p:nvPr/>
        </p:nvPicPr>
        <p:blipFill>
          <a:blip r:embed="rId6"/>
          <a:stretch/>
        </p:blipFill>
        <p:spPr>
          <a:xfrm>
            <a:off x="6732720" y="1557360"/>
            <a:ext cx="1609560" cy="1808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j0299125"/>
          <p:cNvPicPr/>
          <p:nvPr/>
        </p:nvPicPr>
        <p:blipFill>
          <a:blip r:embed="rId7"/>
          <a:stretch/>
        </p:blipFill>
        <p:spPr>
          <a:xfrm>
            <a:off x="4284720" y="2205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zoom dir="out"/>
    <p:sndAc>
      <p:stSnd>
        <p:snd r:embed="rId8" name="coin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FB5C-E77A-46AF-9111-92BEAC463E4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процессе решения каждой задачи надо чётко различать четыре этап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4" name="Organization Chart 7"/>
          <p:cNvGrpSpPr/>
          <p:nvPr/>
        </p:nvGrpSpPr>
        <p:grpSpPr>
          <a:xfrm>
            <a:off x="1332000" y="1844640"/>
            <a:ext cx="6336360" cy="4462560"/>
            <a:chOff x="1332000" y="1844640"/>
            <a:chExt cx="6336360" cy="4462560"/>
          </a:xfrm>
        </p:grpSpPr>
        <p:cxnSp>
          <p:nvCxnSpPr>
            <p:cNvPr id="185" name="_s1028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162400" y="296604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8" name="_s1029"/>
            <p:cNvCxnSpPr>
              <a:stCxn id="189" idx="0"/>
              <a:endCxn id="187" idx="2"/>
            </p:cNvCxnSpPr>
            <p:nvPr/>
          </p:nvCxnSpPr>
          <p:spPr>
            <a:xfrm flipV="1">
              <a:off x="4500000" y="3628800"/>
              <a:ext cx="252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0" name="_s1030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2944800" y="296640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7" name="_s1031"/>
            <p:cNvSpPr/>
            <p:nvPr/>
          </p:nvSpPr>
          <p:spPr>
            <a:xfrm>
              <a:off x="3549600" y="184464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зучен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_s1032"/>
            <p:cNvSpPr/>
            <p:nvPr/>
          </p:nvSpPr>
          <p:spPr>
            <a:xfrm>
              <a:off x="133200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оиск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лана 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 ег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оставлен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_s1033"/>
            <p:cNvSpPr/>
            <p:nvPr/>
          </p:nvSpPr>
          <p:spPr>
            <a:xfrm>
              <a:off x="354960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форм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найденног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>
              <a:off x="576756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Критический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анализ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зульта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 advTm="27000">
    <p:zoom dir="out"/>
    <p:sndAc>
      <p:stSnd>
        <p:snd r:embed="rId1" name="coin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3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3E25-E6CA-4040-A5FA-FDA39723714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ёмы логической мыслительной деятельности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ычный подход к рассмотрению вопр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иск ассо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 идеи из другой области зн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гра» с объектами и иде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zoom dir="out"/>
    <p:sndAc>
      <p:stSnd>
        <p:snd r:embed="rId1" name="coin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7F76-F4D6-408D-A863-4BD861DCAB5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ёмы развития логического мышления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ие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ческие голово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вые ребус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в пространст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и- шу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ение в урок математических геро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1000">
    <p:zoom dir="out"/>
    <p:sndAc>
      <p:stSnd>
        <p:snd r:embed="rId1" name="coin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3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3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3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3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CA15-B719-4FF5-A4B6-41C0C239B27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идактические игр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гре всегда содержится элемент неожиданности и необычности, решается какая-либо задача, проблема, т. е. игра выполняет на уроке те же функции, что и занимательная задача. Очень часто здесь присутствует соревновательный элемент и возможности для создания игровых ситуаций чрезвычайно вел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5000">
    <p:zoom dir="out"/>
    <p:sndAc>
      <p:stSnd>
        <p:snd r:embed="rId1" name="coin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4B91-BFA0-4DFA-8829-C101574AA9C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гра в – 66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ют двое. Первый записывает любое целое отрицательное число, большее -10, второй, устно прибавив к нему целое отрицательное число, большее -10, записывает сумму, первый к этой сумме устно прибавляет целое отрицательное число, большее -10, и записывает сумму и т. д. Побеждает тот, кто запишет число -6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Безымянный2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zoom dir="out"/>
    <p:sndAc>
      <p:stSnd>
        <p:snd r:embed="rId2" name="coin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4B79-AD8B-4B09-90EC-27ABFBAF02A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тематические головолом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е достоинство подобных заданий- они требуют от ученика выделения существенных связей между компонентами заданий, при этом часто происходит смена хода мысли учеников на обратный, что увеличивает свободу действий ученика, которая в обычных условиях достигается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zoom dir="out"/>
    <p:sndAc>
      <p:stSnd>
        <p:snd r:embed="rId1" name="coin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7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4DF-B976-4803-99D2-344DDBF0260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тематические головолом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ежьте 16 одинаковых квадратов 4-х цветов – по 4 квадрата каждого цвета. На 4-х квадратах каждого цвета напишите цифры 1, 2, 3, 4. Сложите теперь квадрат так, чтобы одинаковые цифры и одинаковые цвета не повторялись ни в строках, ни в столбцах, ни на диагоналях квадр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1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zoom dir="out"/>
    <p:sndAc>
      <p:stSnd>
        <p:snd r:embed="rId2" name="coin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AC56-92EE-42CC-BAF3-243EF316C9F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исловые ребус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ом логическом приёме используются зашифрованные задания,  требующие рассуждений, обратных тем, к которым привыкли ученики. Фактически числовые ребусы есть ни что иное, как клубок логических связей, который надо распу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C935-3E7D-479D-822C-CD1E98609E1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усский язык + математика = логи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             вагон        дет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один          + вагон     + дет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--------          ----------     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           состав      издел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место одинаковых букв надо вставить одинаковые цифры так, чтобы получилось верное равен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1000">
    <p:zoom dir="out"/>
    <p:sndAc>
      <p:stSnd>
        <p:snd r:embed="rId1" name="coin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3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3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2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3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6:15:47Z</dcterms:created>
  <dc:creator>Ушанков </dc:creator>
  <dc:description/>
  <dc:language>en-US</dc:language>
  <cp:lastModifiedBy>Admin</cp:lastModifiedBy>
  <dcterms:modified xsi:type="dcterms:W3CDTF">2012-01-19T12:17:58Z</dcterms:modified>
  <cp:revision>5</cp:revision>
  <dc:subject/>
  <dc:title>Развитие логического мышления на уроках математики.</dc:title>
</cp:coreProperties>
</file>